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F6D-1214-4982-AB5C-BD861E59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F32-FED6-4746-8E84-EF89BFFE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FF9-8F74-4503-8E8D-06B009AD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0F9-46F7-4CDA-866E-17DBB72C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301-6F52-4CE9-9678-6A1C1D6D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8E4-85E5-47BF-AB03-A85ABEFA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99E-D874-49EA-A22C-E17AE6C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C78-23CF-47B1-999F-1085596E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2C1-516E-4A7A-B58C-997FFD4C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268-52A6-4E28-8579-EC9A35D7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79D-3890-4DB5-AC2C-4E617FFD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FD5-CC6B-4623-849B-10406E8C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B6DA-78D8-4576-80B2-23953D21C0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33240" y="165240"/>
            <a:ext cx="7785360" cy="1487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692360" y="1916280"/>
            <a:ext cx="71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332000" y="1844640"/>
            <a:ext cx="7500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Церемония награжд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победителей и участников творческого  конкур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«Эмблема информационно-библиотеч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центра «Читай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202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5400" spc="-1" strike="noStrike">
                <a:solidFill>
                  <a:srgbClr val="660033"/>
                </a:solidFill>
                <a:latin typeface="Arial"/>
                <a:ea typeface="Arial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:\Users\Учитель\Documents\2019-2020 гг\конкурс_эмблема ИБЦ Читай\эмблема ИБЦ Читай.jpg"/>
          <p:cNvPicPr/>
          <p:nvPr/>
        </p:nvPicPr>
        <p:blipFill>
          <a:blip r:embed="rId2"/>
          <a:stretch/>
        </p:blipFill>
        <p:spPr>
          <a:xfrm>
            <a:off x="1042920" y="1085760"/>
            <a:ext cx="6554880" cy="5772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9" descr="C:\Users\Учитель\Documents\фото мероприятий\2018-2019\открытие ИБЦ_14.05.2019\p283_14-05-2019-clip_image003.jpg"/>
          <p:cNvPicPr/>
          <p:nvPr/>
        </p:nvPicPr>
        <p:blipFill>
          <a:blip r:embed="rId2"/>
          <a:srcRect l="0" t="0" r="10236" b="0"/>
          <a:stretch/>
        </p:blipFill>
        <p:spPr>
          <a:xfrm>
            <a:off x="0" y="692280"/>
            <a:ext cx="4060800" cy="300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C:\Users\Учитель\Documents\фото мероприятий\2018-2019\открытие ИБЦ_14.05.2019\p283_14-05-2019-clip_image007.jpg"/>
          <p:cNvPicPr/>
          <p:nvPr/>
        </p:nvPicPr>
        <p:blipFill>
          <a:blip r:embed="rId3"/>
          <a:stretch/>
        </p:blipFill>
        <p:spPr>
          <a:xfrm>
            <a:off x="1042920" y="4011480"/>
            <a:ext cx="4286160" cy="284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:\Users\Учитель\Documents\фото мероприятий\2018-2019\открытие ИБЦ_14.05.2019\p283_14-05-2019-clip_image005.jpg"/>
          <p:cNvPicPr/>
          <p:nvPr/>
        </p:nvPicPr>
        <p:blipFill>
          <a:blip r:embed="rId4"/>
          <a:srcRect l="0" t="0" r="5654" b="0"/>
          <a:stretch/>
        </p:blipFill>
        <p:spPr>
          <a:xfrm>
            <a:off x="4067280" y="981000"/>
            <a:ext cx="4860720" cy="34257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4"/>
          <p:cNvSpPr/>
          <p:nvPr/>
        </p:nvSpPr>
        <p:spPr>
          <a:xfrm>
            <a:off x="971640" y="189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Arial"/>
              </a:rPr>
              <a:t>14 мая 201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3"/>
          <p:cNvSpPr/>
          <p:nvPr/>
        </p:nvSpPr>
        <p:spPr>
          <a:xfrm>
            <a:off x="0" y="692280"/>
            <a:ext cx="9468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Конструктивная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эмблема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3"/>
          <p:cNvSpPr/>
          <p:nvPr/>
        </p:nvSpPr>
        <p:spPr>
          <a:xfrm>
            <a:off x="0" y="836640"/>
            <a:ext cx="9468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Самый   юны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участ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конкурса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3"/>
          <p:cNvSpPr/>
          <p:nvPr/>
        </p:nvSpPr>
        <p:spPr>
          <a:xfrm>
            <a:off x="0" y="549360"/>
            <a:ext cx="9468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Эмблема       библиотеки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будущего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3"/>
          <p:cNvSpPr/>
          <p:nvPr/>
        </p:nvSpPr>
        <p:spPr>
          <a:xfrm>
            <a:off x="0" y="620640"/>
            <a:ext cx="94680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Оригинальный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логотип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3"/>
          <p:cNvSpPr/>
          <p:nvPr/>
        </p:nvSpPr>
        <p:spPr>
          <a:xfrm>
            <a:off x="0" y="620640"/>
            <a:ext cx="94680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Современный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логотип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3"/>
          <p:cNvSpPr/>
          <p:nvPr/>
        </p:nvSpPr>
        <p:spPr>
          <a:xfrm>
            <a:off x="0" y="620640"/>
            <a:ext cx="94680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Изобретательный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логотип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C:\Users\Учитель\Documents\2019-2020 гг\конкурс_эмблема ИБЦ Читай\i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19:07:43Z</dcterms:created>
  <dc:creator>Кузнецова Л.А.</dc:creator>
  <dc:description/>
  <dc:language>en-US</dc:language>
  <cp:lastModifiedBy>Библиотека</cp:lastModifiedBy>
  <dcterms:modified xsi:type="dcterms:W3CDTF">2020-02-06T05:03:12Z</dcterms:modified>
  <cp:revision>74</cp:revision>
  <dc:subject/>
  <dc:title>Слайд 1</dc:title>
</cp:coreProperties>
</file>