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0C9-3A6A-4784-A314-ABBE78E2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916-4A38-4DAB-8D58-0C5370EB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48A-3699-4715-B013-0EB6759A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068-CDD8-44C2-B491-C3979280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F59-90B4-4971-8D44-A0D21064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CC8-D00A-409D-8C5F-2AF4BBD6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456-152F-47CD-8A27-C8D8C6E3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C80-7BE4-4D0A-A9CE-57795253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8BD-E12A-49CB-A8BB-34BAE85D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636-F5A7-4D8B-BCA9-5012AB1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37E-2A0F-4436-B9C7-603DD14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F20-7AD3-44BB-AAEB-70209CF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890F-288A-49C0-9589-A52E6F4319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633240" y="165240"/>
            <a:ext cx="7785360" cy="1487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692360" y="1916280"/>
            <a:ext cx="71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332000" y="1844640"/>
            <a:ext cx="7500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Церемония награжд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победителей и участников творческого  конкур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«Эмблема информационно-библиотеч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центра «Читай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202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5400" spc="-1" strike="noStrike">
                <a:solidFill>
                  <a:srgbClr val="660033"/>
                </a:solidFill>
                <a:latin typeface="Arial"/>
                <a:ea typeface="Arial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:\Users\Учитель\Documents\2019-2020 гг\конкурс_эмблема ИБЦ Читай\эмблема ИБЦ Читай.jpg"/>
          <p:cNvPicPr/>
          <p:nvPr/>
        </p:nvPicPr>
        <p:blipFill>
          <a:blip r:embed="rId2"/>
          <a:stretch/>
        </p:blipFill>
        <p:spPr>
          <a:xfrm>
            <a:off x="1042920" y="1085760"/>
            <a:ext cx="6554880" cy="5772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9" descr="C:\Users\Учитель\Documents\фото мероприятий\2018-2019\открытие ИБЦ_14.05.2019\p283_14-05-2019-clip_image003.jpg"/>
          <p:cNvPicPr/>
          <p:nvPr/>
        </p:nvPicPr>
        <p:blipFill>
          <a:blip r:embed="rId2"/>
          <a:srcRect l="0" t="0" r="10236" b="0"/>
          <a:stretch/>
        </p:blipFill>
        <p:spPr>
          <a:xfrm>
            <a:off x="0" y="692280"/>
            <a:ext cx="4060800" cy="3008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C:\Users\Учитель\Documents\фото мероприятий\2018-2019\открытие ИБЦ_14.05.2019\p283_14-05-2019-clip_image007.jpg"/>
          <p:cNvPicPr/>
          <p:nvPr/>
        </p:nvPicPr>
        <p:blipFill>
          <a:blip r:embed="rId3"/>
          <a:stretch/>
        </p:blipFill>
        <p:spPr>
          <a:xfrm>
            <a:off x="1042920" y="4011480"/>
            <a:ext cx="4286160" cy="284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:\Users\Учитель\Documents\фото мероприятий\2018-2019\открытие ИБЦ_14.05.2019\p283_14-05-2019-clip_image005.jpg"/>
          <p:cNvPicPr/>
          <p:nvPr/>
        </p:nvPicPr>
        <p:blipFill>
          <a:blip r:embed="rId4"/>
          <a:srcRect l="0" t="0" r="5654" b="0"/>
          <a:stretch/>
        </p:blipFill>
        <p:spPr>
          <a:xfrm>
            <a:off x="4067280" y="981000"/>
            <a:ext cx="4860720" cy="34257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4"/>
          <p:cNvSpPr/>
          <p:nvPr/>
        </p:nvSpPr>
        <p:spPr>
          <a:xfrm>
            <a:off x="971640" y="18900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  <a:ea typeface="Arial"/>
              </a:rPr>
              <a:t>14 мая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3"/>
          <p:cNvSpPr/>
          <p:nvPr/>
        </p:nvSpPr>
        <p:spPr>
          <a:xfrm>
            <a:off x="0" y="692280"/>
            <a:ext cx="9468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Конструктивная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эмблема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3"/>
          <p:cNvSpPr/>
          <p:nvPr/>
        </p:nvSpPr>
        <p:spPr>
          <a:xfrm>
            <a:off x="0" y="836640"/>
            <a:ext cx="9468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Самый   юны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участн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конкурса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Заголовок 3"/>
          <p:cNvSpPr/>
          <p:nvPr/>
        </p:nvSpPr>
        <p:spPr>
          <a:xfrm>
            <a:off x="0" y="549360"/>
            <a:ext cx="9468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Эмблема       библиотеки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будущего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3"/>
          <p:cNvSpPr/>
          <p:nvPr/>
        </p:nvSpPr>
        <p:spPr>
          <a:xfrm>
            <a:off x="0" y="620640"/>
            <a:ext cx="9468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Оригинальный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логотип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3"/>
          <p:cNvSpPr/>
          <p:nvPr/>
        </p:nvSpPr>
        <p:spPr>
          <a:xfrm>
            <a:off x="0" y="620640"/>
            <a:ext cx="9468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Современный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логотип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3"/>
          <p:cNvSpPr/>
          <p:nvPr/>
        </p:nvSpPr>
        <p:spPr>
          <a:xfrm>
            <a:off x="0" y="620640"/>
            <a:ext cx="9468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Номинация</a:t>
            </a:r>
            <a:br>
              <a:rPr sz="4800"/>
            </a:b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«Изобретательный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                     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  <a:ea typeface="Arial"/>
              </a:rPr>
              <a:t>логотип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C:\Users\Учитель\Documents\2019-2020 гг\конкурс_эмблема ИБЦ Читай\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9:07:43Z</dcterms:created>
  <dc:creator>Кузнецова Л.А.</dc:creator>
  <dc:description/>
  <dc:language>en-US</dc:language>
  <cp:lastModifiedBy>Библиотека</cp:lastModifiedBy>
  <dcterms:modified xsi:type="dcterms:W3CDTF">2020-02-06T05:03:12Z</dcterms:modified>
  <cp:revision>74</cp:revision>
  <dc:subject/>
  <dc:title>Слайд 1</dc:title>
</cp:coreProperties>
</file>