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A4B-C883-4CA3-AFBE-E2FB9F90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B1F-A75F-4263-82B1-05409A59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8C7A-E57D-4B8D-BEA3-9D935FD3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02F-9CD8-45AC-AA6A-5AC74C6A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3FBE-05EF-4D56-8B57-F3CEAE35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40E9-9BAA-4AB0-A5F1-2256A031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3A5C-F516-4F5A-9DE0-8DB8DE32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7042-35A1-4EBB-81E8-1687BA41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9F15-BA7E-4862-B5E6-E539C03C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CA1F-B054-493B-8615-7EAFDAEE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D759-6E35-4A4E-B26C-429E06D9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8997-5915-40BF-8BD6-0739F173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42CE-0147-4002-B2DD-B6877C8F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7923-0008-4062-B67F-948BD64C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D77F-41FF-4AFA-BFCF-097542C6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261A-FDF8-483F-99D0-EE34F212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D629-3ECE-4DC1-8633-15A5DC74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B69-5A39-4919-96CE-4B807AEE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E795-7CEB-4E81-A4AD-BF53B3D9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75DF-35F7-4FF5-B4AD-D47EB9B5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0CE-D7B6-4B5C-9FC0-D90A3E93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7132-3211-42C2-9EA7-08562097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6F9-43B8-4E7E-ADA7-725F6245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84D-4B00-4B6A-8A70-FA35737E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804A-F567-4A7C-B19B-28E39DD3B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99F0-EF07-4984-95BA-88E01BC48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77520" y="1595160"/>
            <a:ext cx="5924520" cy="20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научной деятельности в школе.</a:t>
            </a:r>
            <a:br>
              <a:rPr sz="48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ращивание деревьев из семя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467160" y="3886200"/>
            <a:ext cx="4667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Бачурина Н.В., учитель биологии МБОУ «ЦО №24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Тула,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14240" y="560520"/>
            <a:ext cx="7772400" cy="199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учащиеся с интересом сажали семена деревьев , используя принесенные из дома материалы: семена, грунт, дренаж, цветочные горшки, лей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F:\Users\ADMIN\Desktop\втоое.jpg"/>
          <p:cNvPicPr/>
          <p:nvPr/>
        </p:nvPicPr>
        <p:blipFill>
          <a:blip r:embed="rId1"/>
          <a:stretch/>
        </p:blipFill>
        <p:spPr>
          <a:xfrm>
            <a:off x="120600" y="-361800"/>
            <a:ext cx="9023400" cy="70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2840" y="276120"/>
            <a:ext cx="7893000" cy="43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кончании практической части учащиеся записали план дальнейшей работы по выращиванию дерева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Изучить литературу по выращиванию своего дерев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ыявить и создать условия для роста и жизнедеятельности своего  растения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ыработать рекомендации по выращиванию растения в домашних условиях из семен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ести дневник наблюдений в виде табл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42880" y="4943520"/>
            <a:ext cx="819648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0200" y="4822920"/>
          <a:ext cx="8318520" cy="1738080"/>
        </p:xfrm>
        <a:graphic>
          <a:graphicData uri="http://schemas.openxmlformats.org/drawingml/2006/table">
            <a:tbl>
              <a:tblPr/>
              <a:tblGrid>
                <a:gridCol w="920880"/>
                <a:gridCol w="2693880"/>
                <a:gridCol w="2535120"/>
                <a:gridCol w="2168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ddbe"/>
                      </a:solidFill>
                    </a:lnL>
                    <a:lnR w="5760">
                      <a:solidFill>
                        <a:srgbClr val="c0ddbe"/>
                      </a:solidFill>
                    </a:lnR>
                    <a:lnT w="5760">
                      <a:solidFill>
                        <a:srgbClr val="c0ddbe"/>
                      </a:solidFill>
                    </a:lnT>
                    <a:lnB w="18720">
                      <a:solidFill>
                        <a:srgbClr val="c0ddbe"/>
                      </a:solidFill>
                    </a:lnB>
                    <a:solidFill>
                      <a:srgbClr val="d5ff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Наблюдаемые из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ddbe"/>
                      </a:solidFill>
                    </a:lnL>
                    <a:lnR w="5760">
                      <a:solidFill>
                        <a:srgbClr val="c0ddbe"/>
                      </a:solidFill>
                    </a:lnR>
                    <a:lnT w="5760">
                      <a:solidFill>
                        <a:srgbClr val="c0ddbe"/>
                      </a:solidFill>
                    </a:lnT>
                    <a:lnB w="18720">
                      <a:solidFill>
                        <a:srgbClr val="c0ddbe"/>
                      </a:solidFill>
                    </a:lnB>
                    <a:solidFill>
                      <a:srgbClr val="d5ff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У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ddbe"/>
                      </a:solidFill>
                    </a:lnL>
                    <a:lnR w="5760">
                      <a:solidFill>
                        <a:srgbClr val="c0ddbe"/>
                      </a:solidFill>
                    </a:lnR>
                    <a:lnT w="5760">
                      <a:solidFill>
                        <a:srgbClr val="c0ddbe"/>
                      </a:solidFill>
                    </a:lnT>
                    <a:lnB w="18720">
                      <a:solidFill>
                        <a:srgbClr val="c0ddbe"/>
                      </a:solidFill>
                    </a:lnB>
                    <a:solidFill>
                      <a:srgbClr val="d5ff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Фо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ddbe"/>
                      </a:solidFill>
                    </a:lnL>
                    <a:lnR w="5760">
                      <a:solidFill>
                        <a:srgbClr val="c0ddbe"/>
                      </a:solidFill>
                    </a:lnR>
                    <a:lnT w="5760">
                      <a:solidFill>
                        <a:srgbClr val="c0ddbe"/>
                      </a:solidFill>
                    </a:lnT>
                    <a:lnB w="18720">
                      <a:solidFill>
                        <a:srgbClr val="c0ddbe"/>
                      </a:solidFill>
                    </a:lnB>
                    <a:solidFill>
                      <a:srgbClr val="d5ffd1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ddbe"/>
                      </a:solidFill>
                    </a:lnL>
                    <a:lnR w="5760">
                      <a:solidFill>
                        <a:srgbClr val="c0ddbe"/>
                      </a:solidFill>
                    </a:lnR>
                    <a:lnT w="18720">
                      <a:solidFill>
                        <a:srgbClr val="c0ddbe"/>
                      </a:solidFill>
                    </a:lnT>
                    <a:lnB w="5760">
                      <a:solidFill>
                        <a:srgbClr val="c0ddbe"/>
                      </a:solidFill>
                    </a:lnB>
                    <a:solidFill>
                      <a:srgbClr val="efff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ddbe"/>
                      </a:solidFill>
                    </a:lnL>
                    <a:lnR w="5760">
                      <a:solidFill>
                        <a:srgbClr val="c0ddbe"/>
                      </a:solidFill>
                    </a:lnR>
                    <a:lnT w="18720">
                      <a:solidFill>
                        <a:srgbClr val="c0ddbe"/>
                      </a:solidFill>
                    </a:lnT>
                    <a:lnB w="5760">
                      <a:solidFill>
                        <a:srgbClr val="c0ddbe"/>
                      </a:solidFill>
                    </a:lnB>
                    <a:solidFill>
                      <a:srgbClr val="efff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ddbe"/>
                      </a:solidFill>
                    </a:lnL>
                    <a:lnR w="5760">
                      <a:solidFill>
                        <a:srgbClr val="c0ddbe"/>
                      </a:solidFill>
                    </a:lnR>
                    <a:lnT w="18720">
                      <a:solidFill>
                        <a:srgbClr val="c0ddbe"/>
                      </a:solidFill>
                    </a:lnT>
                    <a:lnB w="5760">
                      <a:solidFill>
                        <a:srgbClr val="c0ddbe"/>
                      </a:solidFill>
                    </a:lnB>
                    <a:solidFill>
                      <a:srgbClr val="efff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ddbe"/>
                      </a:solidFill>
                    </a:lnL>
                    <a:lnR w="5760">
                      <a:solidFill>
                        <a:srgbClr val="c0ddbe"/>
                      </a:solidFill>
                    </a:lnR>
                    <a:lnT w="18720">
                      <a:solidFill>
                        <a:srgbClr val="c0ddbe"/>
                      </a:solidFill>
                    </a:lnT>
                    <a:lnB w="5760">
                      <a:solidFill>
                        <a:srgbClr val="c0ddbe"/>
                      </a:solidFill>
                    </a:lnB>
                    <a:solidFill>
                      <a:srgbClr val="efffee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ddbe"/>
                      </a:solidFill>
                    </a:lnL>
                    <a:lnR w="5760">
                      <a:solidFill>
                        <a:srgbClr val="c0ddbe"/>
                      </a:solidFill>
                    </a:lnR>
                    <a:lnT w="5760">
                      <a:solidFill>
                        <a:srgbClr val="c0ddbe"/>
                      </a:solidFill>
                    </a:lnT>
                    <a:lnB w="5760">
                      <a:solidFill>
                        <a:srgbClr val="c0ddbe"/>
                      </a:solidFill>
                    </a:lnB>
                    <a:solidFill>
                      <a:srgbClr val="f7f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ddbe"/>
                      </a:solidFill>
                    </a:lnL>
                    <a:lnR w="5760">
                      <a:solidFill>
                        <a:srgbClr val="c0ddbe"/>
                      </a:solidFill>
                    </a:lnR>
                    <a:lnT w="5760">
                      <a:solidFill>
                        <a:srgbClr val="c0ddbe"/>
                      </a:solidFill>
                    </a:lnT>
                    <a:lnB w="5760">
                      <a:solidFill>
                        <a:srgbClr val="c0ddbe"/>
                      </a:solidFill>
                    </a:lnB>
                    <a:solidFill>
                      <a:srgbClr val="f7f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ddbe"/>
                      </a:solidFill>
                    </a:lnL>
                    <a:lnR w="5760">
                      <a:solidFill>
                        <a:srgbClr val="c0ddbe"/>
                      </a:solidFill>
                    </a:lnR>
                    <a:lnT w="5760">
                      <a:solidFill>
                        <a:srgbClr val="c0ddbe"/>
                      </a:solidFill>
                    </a:lnT>
                    <a:lnB w="5760">
                      <a:solidFill>
                        <a:srgbClr val="c0ddbe"/>
                      </a:solidFill>
                    </a:lnB>
                    <a:solidFill>
                      <a:srgbClr val="f7f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ddbe"/>
                      </a:solidFill>
                    </a:lnL>
                    <a:lnR w="5760">
                      <a:solidFill>
                        <a:srgbClr val="c0ddbe"/>
                      </a:solidFill>
                    </a:lnR>
                    <a:lnT w="5760">
                      <a:solidFill>
                        <a:srgbClr val="c0ddbe"/>
                      </a:solidFill>
                    </a:lnT>
                    <a:lnB w="5760">
                      <a:solidFill>
                        <a:srgbClr val="c0ddbe"/>
                      </a:solidFill>
                    </a:lnB>
                    <a:solidFill>
                      <a:srgbClr val="f7f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9200" y="301320"/>
            <a:ext cx="7842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пять месяцев исследования группе учащихся удалось вырастить молодые деревца. С остальными учащимися проведен анализ причин отрицательного результата эксперимент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96720" y="1949400"/>
            <a:ext cx="767736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н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" descr="F:\Users\ADMIN\Desktop\пятое.jpg"/>
          <p:cNvPicPr/>
          <p:nvPr/>
        </p:nvPicPr>
        <p:blipFill>
          <a:blip r:embed="rId1"/>
          <a:stretch/>
        </p:blipFill>
        <p:spPr>
          <a:xfrm>
            <a:off x="601560" y="2502000"/>
            <a:ext cx="3229200" cy="3933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F:\Users\ADMIN\Desktop\шестое.jpg"/>
          <p:cNvPicPr/>
          <p:nvPr/>
        </p:nvPicPr>
        <p:blipFill>
          <a:blip r:embed="rId2"/>
          <a:stretch/>
        </p:blipFill>
        <p:spPr>
          <a:xfrm>
            <a:off x="4581360" y="2871720"/>
            <a:ext cx="40528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F:\Users\ADMIN\Desktop\елочка.JPG"/>
          <p:cNvPicPr/>
          <p:nvPr/>
        </p:nvPicPr>
        <p:blipFill>
          <a:blip r:embed="rId1"/>
          <a:stretch/>
        </p:blipFill>
        <p:spPr>
          <a:xfrm>
            <a:off x="733320" y="1622520"/>
            <a:ext cx="2924280" cy="4157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6720" y="274320"/>
            <a:ext cx="8623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иковая паль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F:\Users\ADMIN\Desktop\финик.JPG"/>
          <p:cNvPicPr/>
          <p:nvPr/>
        </p:nvPicPr>
        <p:blipFill>
          <a:blip r:embed="rId2"/>
          <a:stretch/>
        </p:blipFill>
        <p:spPr>
          <a:xfrm>
            <a:off x="4873680" y="1562040"/>
            <a:ext cx="34862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6880" y="274320"/>
            <a:ext cx="8693280" cy="25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эксперимент был предложен учащимся в ходе проводимой акции «Посади дерево!», в которой наша школа приняла участие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 задействованы учащиеся 7а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F:\Users\ADMIN\Desktop\ещё первое.jpg"/>
          <p:cNvPicPr/>
          <p:nvPr/>
        </p:nvPicPr>
        <p:blipFill>
          <a:blip r:embed="rId1"/>
          <a:stretch/>
        </p:blipFill>
        <p:spPr>
          <a:xfrm>
            <a:off x="1603440" y="2806560"/>
            <a:ext cx="534204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9520" y="274320"/>
            <a:ext cx="8450280" cy="611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а поставле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растить дерево  из семени (ель, яблоня, лимон,  финиковая пальма и другое по выбору учащегося)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литературу по выращиванию своего дерев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явить и создать условия для роста и жизнедеятельности своего  растения. 3.Учиться  самостоятельно  ухаживать за растениям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Развивать трудолюбие, выдержк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Формировать умения наблюдать, сравнивать, анализирова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оспитывать ответственное отношение и интерес к растениям как объектам окружающего мира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1680" y="-252360"/>
            <a:ext cx="7939080" cy="858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работы</a:t>
            </a:r>
            <a:br>
              <a:rPr sz="24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работа  направлена на формирование экологической культуры учащихся.  Вид проекта: исследовательский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тяжении многих веков человечество живет рядом с удивительными живыми существами - деревьями. Состояние этих растений, внешний облик отражают экологическую обстановку, в которой они обитают. Мы так привыкли к их соседству, что редко задумываемся о том, насколько они важны для жизни людей и всего живого на Земле. Каждый знает, что деревья - это легкие Земли, источник кислорода воздуха, а значит, источник здоровья людей. Важно не только знать и уметь использовать эти чудесные свойства деревьев, но и необходимо научиться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ять  и преумножать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, что нам дает природа.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93440" y="336600"/>
            <a:ext cx="781524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аиваемые термины и понят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нные форм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орастания семя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ост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ухода (полив, рыхление, подкормка, освещенность и т. 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79440" y="336600"/>
            <a:ext cx="876456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мые навы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работа с различными источниками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наблюдение, сравнение, анализ, умение делать    выводы по выявлению  условий для роста и  жизнедеятельности раст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посадка,  навыки  научно обоснованного ухода  за растени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любие, выдерж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навы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3360" y="240840"/>
            <a:ext cx="8238960" cy="64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ланирован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формулировать цель и задачи эксперим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авыков в работе с различными источниками информации, систематизации и обобщении полученных дан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ыявлять и создавать условия для роста и жизнедеятельности раст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делать аргументированные выводы, соответствующие поставленной цели и решаемым задач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формлять полученные результа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одноклассниками, обмениваться информац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пособностей к самостоятельной рабо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экологической культуры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33680" y="2176200"/>
            <a:ext cx="7772400" cy="34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622440"/>
            <a:ext cx="7772400" cy="16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нуне учащимся было объявлено об участии в акции «Посади дерево» и дано задание: принести все необходимые для посадки материа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F:\Users\ADMIN\Desktop\гунт.jpg"/>
          <p:cNvPicPr/>
          <p:nvPr/>
        </p:nvPicPr>
        <p:blipFill>
          <a:blip r:embed="rId1"/>
          <a:stretch/>
        </p:blipFill>
        <p:spPr>
          <a:xfrm>
            <a:off x="162000" y="2236680"/>
            <a:ext cx="2235240" cy="2344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F:\Users\ADMIN\Desktop\дренаж.jpg"/>
          <p:cNvPicPr/>
          <p:nvPr/>
        </p:nvPicPr>
        <p:blipFill>
          <a:blip r:embed="rId2"/>
          <a:stretch/>
        </p:blipFill>
        <p:spPr>
          <a:xfrm>
            <a:off x="5845320" y="3983040"/>
            <a:ext cx="1854000" cy="2649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F:\Users\ADMIN\Desktop\горшок.jpg"/>
          <p:cNvPicPr/>
          <p:nvPr/>
        </p:nvPicPr>
        <p:blipFill>
          <a:blip r:embed="rId3"/>
          <a:stretch/>
        </p:blipFill>
        <p:spPr>
          <a:xfrm>
            <a:off x="3567240" y="1992240"/>
            <a:ext cx="2074680" cy="2795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F:\Users\ADMIN\Desktop\лейка.jpg"/>
          <p:cNvPicPr/>
          <p:nvPr/>
        </p:nvPicPr>
        <p:blipFill>
          <a:blip r:embed="rId4"/>
          <a:stretch/>
        </p:blipFill>
        <p:spPr>
          <a:xfrm>
            <a:off x="1836720" y="4476600"/>
            <a:ext cx="2865600" cy="1947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:\Users\ADMIN\Desktop\семена.jpg"/>
          <p:cNvPicPr/>
          <p:nvPr/>
        </p:nvPicPr>
        <p:blipFill>
          <a:blip r:embed="rId5"/>
          <a:stretch/>
        </p:blipFill>
        <p:spPr>
          <a:xfrm>
            <a:off x="6927840" y="2043000"/>
            <a:ext cx="1895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439560"/>
            <a:ext cx="358452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с интересом сажали семена деревьев, используя принесенные материалы: семена различных деревьев, грунт универсальный, керамзит для дренажа, цветочные горшки среднего размера, лей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F:\Users\ADMIN\Desktop\четвертое.jpg"/>
          <p:cNvPicPr/>
          <p:nvPr/>
        </p:nvPicPr>
        <p:blipFill>
          <a:blip r:embed="rId1"/>
          <a:stretch/>
        </p:blipFill>
        <p:spPr>
          <a:xfrm>
            <a:off x="4011480" y="750960"/>
            <a:ext cx="439128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09:30:09Z</dcterms:created>
  <dc:creator>ppsworld.ru</dc:creator>
  <dc:description/>
  <dc:language>en-US</dc:language>
  <cp:lastModifiedBy>Пользователь</cp:lastModifiedBy>
  <dcterms:modified xsi:type="dcterms:W3CDTF">2020-11-20T15:33:47Z</dcterms:modified>
  <cp:revision>34</cp:revision>
  <dc:subject/>
  <dc:title>Слайд 1</dc:title>
</cp:coreProperties>
</file>