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086-9D2C-40EF-8E6F-5F089A35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131-6132-49A7-B7E7-69EA48B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00E-36C4-4904-AD3B-42960E51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0C2-A415-4CA6-BD30-4247F271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EA5C-E485-4254-A4C7-F1DD6950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3BF9-AC91-4841-B6BE-91E67666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1C8B-E6C8-4000-8229-5E545DAD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D72-2256-48E3-8C4F-2702E8F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C665-C9D9-4A7D-807A-BD423CEF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11A9-2619-48BA-940B-4A9E9EE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CAD-E511-42D3-B601-973B053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1ED-FA0B-4EA1-B6BB-DE20533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C077-BC8C-4D9D-BB5A-2742077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708A-3605-4016-8D66-B0D71E4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2662-0B8A-4AA7-AC7C-0DBE86D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156-6982-4CB4-8840-49EFE1A0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C8C0-B0B6-4B22-B5A4-0FB61A60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EB9-FCE7-4C47-9876-A6DA702C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496-1AF3-44E9-97D0-FF1FB63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A64-E0D8-46DE-9D10-B2121CB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F45-56B0-47D8-80B7-8CBF7AD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D35-CFAD-4875-911B-26CB806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EA6-BE74-40BA-AB95-042BB741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6EA-1FB1-46B5-88CE-2BC2A80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A40B-529C-4B64-9AC0-7671F7F5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2362-5FE1-49AE-A46A-3D7E7B14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7520" y="1595160"/>
            <a:ext cx="5924520" cy="20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учной деятельности в школе.</a:t>
            </a:r>
            <a:br>
              <a:rPr sz="4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ращивание деревьев из семя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67160" y="3886200"/>
            <a:ext cx="4667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Бачурина Н.В., учитель биологии МБОУ «ЦО №24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ула,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4240" y="560520"/>
            <a:ext cx="7772400" cy="19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учащиеся с интересом сажали семена деревьев , используя принесенные из дома материалы: семена, грунт, дренаж, цветочные горшки, л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F:\Users\ADMIN\Desktop\втоое.jpg"/>
          <p:cNvPicPr/>
          <p:nvPr/>
        </p:nvPicPr>
        <p:blipFill>
          <a:blip r:embed="rId1"/>
          <a:stretch/>
        </p:blipFill>
        <p:spPr>
          <a:xfrm>
            <a:off x="120600" y="-361800"/>
            <a:ext cx="90234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2840" y="276120"/>
            <a:ext cx="7893000" cy="43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практической части учащиеся записали план дальнейшей работы по выращиванию дерев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учить литературу по выращиванию своего дере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ыявить и создать условия для роста и жизнедеятельности своего  растени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ыработать рекомендации по выращиванию растения в домашних условиях из семен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ести дневник наблюдений в вид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42880" y="4943520"/>
            <a:ext cx="819648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0200" y="4822920"/>
          <a:ext cx="8318520" cy="1738080"/>
        </p:xfrm>
        <a:graphic>
          <a:graphicData uri="http://schemas.openxmlformats.org/drawingml/2006/table">
            <a:tbl>
              <a:tblPr/>
              <a:tblGrid>
                <a:gridCol w="920880"/>
                <a:gridCol w="2693880"/>
                <a:gridCol w="2535120"/>
                <a:gridCol w="2168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Наблюдаемые изм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У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Ф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18720">
                      <a:solidFill>
                        <a:srgbClr val="c0ddbe"/>
                      </a:solidFill>
                    </a:lnB>
                    <a:solidFill>
                      <a:srgbClr val="d5ffd1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1872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efffee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ddbe"/>
                      </a:solidFill>
                    </a:lnL>
                    <a:lnR w="5760">
                      <a:solidFill>
                        <a:srgbClr val="c0ddbe"/>
                      </a:solidFill>
                    </a:lnR>
                    <a:lnT w="5760">
                      <a:solidFill>
                        <a:srgbClr val="c0ddbe"/>
                      </a:solidFill>
                    </a:lnT>
                    <a:lnB w="5760">
                      <a:solidFill>
                        <a:srgbClr val="c0ddbe"/>
                      </a:solidFill>
                    </a:lnB>
                    <a:solidFill>
                      <a:srgbClr val="f7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9200" y="301320"/>
            <a:ext cx="7842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ять месяцев исследования группе учащихся удалось вырастить молодые деревца. С остальными учащимися проведен анализ причин отрицательного результата эксперимен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96720" y="1949400"/>
            <a:ext cx="767736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н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F:\Users\ADMIN\Desktop\пятое.jpg"/>
          <p:cNvPicPr/>
          <p:nvPr/>
        </p:nvPicPr>
        <p:blipFill>
          <a:blip r:embed="rId1"/>
          <a:stretch/>
        </p:blipFill>
        <p:spPr>
          <a:xfrm>
            <a:off x="601560" y="2502000"/>
            <a:ext cx="3229200" cy="3933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F:\Users\ADMIN\Desktop\шестое.jpg"/>
          <p:cNvPicPr/>
          <p:nvPr/>
        </p:nvPicPr>
        <p:blipFill>
          <a:blip r:embed="rId2"/>
          <a:stretch/>
        </p:blipFill>
        <p:spPr>
          <a:xfrm>
            <a:off x="4581360" y="2871720"/>
            <a:ext cx="405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Users\ADMIN\Desktop\елочка.JPG"/>
          <p:cNvPicPr/>
          <p:nvPr/>
        </p:nvPicPr>
        <p:blipFill>
          <a:blip r:embed="rId1"/>
          <a:stretch/>
        </p:blipFill>
        <p:spPr>
          <a:xfrm>
            <a:off x="733320" y="1622520"/>
            <a:ext cx="2924280" cy="415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6720" y="274320"/>
            <a:ext cx="862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ковая паль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F:\Users\ADMIN\Desktop\финик.JPG"/>
          <p:cNvPicPr/>
          <p:nvPr/>
        </p:nvPicPr>
        <p:blipFill>
          <a:blip r:embed="rId2"/>
          <a:stretch/>
        </p:blipFill>
        <p:spPr>
          <a:xfrm>
            <a:off x="4873680" y="1562040"/>
            <a:ext cx="3486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6880" y="274320"/>
            <a:ext cx="8693280" cy="25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эксперимент был предложен учащимся в ходе проводимой акции «Посади дерево!», в которой наша школа приняла участи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задействованы учащиеся 7а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:\Users\ADMIN\Desktop\ещё первое.jpg"/>
          <p:cNvPicPr/>
          <p:nvPr/>
        </p:nvPicPr>
        <p:blipFill>
          <a:blip r:embed="rId1"/>
          <a:stretch/>
        </p:blipFill>
        <p:spPr>
          <a:xfrm>
            <a:off x="1603440" y="2806560"/>
            <a:ext cx="534204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9520" y="274320"/>
            <a:ext cx="8450280" cy="611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поставле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растить дерево  из семени (ель, яблоня, лимон,  финиковая пальма и другое по выбору учащегося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литературу по выращиванию своего дерев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и создать условия для роста и жизнедеятельности своего  растения. 3.Учиться  самостоятельно  ухаживать за растения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вивать трудолюбие, выдержк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Формировать умения наблюдать, сравнивать, анализиро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оспитывать ответственное отношение и интерес к растениям как объектам окружающего мира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1680" y="-252360"/>
            <a:ext cx="7939080" cy="858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работы</a:t>
            </a:r>
            <a:br>
              <a:rPr sz="24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работа  направлена на формирование экологической культуры учащихся.  Вид проекта: исследовательский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 многих веков человечество живет рядом с удивительными живыми существами - деревьями. Состояние этих растений, внешний облик отражают экологическую обстановку, в которой они обитают. Мы так привыкли к их соседству, что редко задумываемся о том, насколько они важны для жизни людей и всего живого на Земле. Каждый знает, что деревья - это легкие Земли, источник кислорода воздуха, а значит, источник здоровья людей. Важно не только знать и уметь использовать эти чудесные свойства деревьев, но и необходимо научить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ть  и преумножать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ам дает природа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93440" y="336600"/>
            <a:ext cx="781524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аиваемые термины и понят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е форм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орастания семя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ст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хода (полив, рыхление, подкормка, освещенность и т. 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79440" y="336600"/>
            <a:ext cx="87645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мые навы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работа с различными источниками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наблюдение, сравнение, анализ, умение делать    выводы по выявлению  условий для роста и  жизнедеятельности раст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посадка,  навыки  научно обоснованного ухода  за растени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любие, выдерж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нав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3360" y="240840"/>
            <a:ext cx="8238960" cy="64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ланированн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формулировать цель и задачи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в работе с различными источниками информации, систематизации и обобщении полученных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являть и создавать условия для роста и жизнедеятельности раст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аргументированные выводы, соответствующие поставленной цели и решаемым задач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формлять полученны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одноклассниками, обмениваться информ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пособностей к самостоятельной раб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33680" y="2176200"/>
            <a:ext cx="777240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622440"/>
            <a:ext cx="7772400" cy="16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нуне учащимся было объявлено об участии в акции «Посади дерево» и дано задание: принести все необходимые для посадки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Users\ADMIN\Desktop\гунт.jpg"/>
          <p:cNvPicPr/>
          <p:nvPr/>
        </p:nvPicPr>
        <p:blipFill>
          <a:blip r:embed="rId1"/>
          <a:stretch/>
        </p:blipFill>
        <p:spPr>
          <a:xfrm>
            <a:off x="162000" y="2236680"/>
            <a:ext cx="223524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Users\ADMIN\Desktop\дренаж.jpg"/>
          <p:cNvPicPr/>
          <p:nvPr/>
        </p:nvPicPr>
        <p:blipFill>
          <a:blip r:embed="rId2"/>
          <a:stretch/>
        </p:blipFill>
        <p:spPr>
          <a:xfrm>
            <a:off x="5845320" y="3983040"/>
            <a:ext cx="1854000" cy="2649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F:\Users\ADMIN\Desktop\горшок.jpg"/>
          <p:cNvPicPr/>
          <p:nvPr/>
        </p:nvPicPr>
        <p:blipFill>
          <a:blip r:embed="rId3"/>
          <a:stretch/>
        </p:blipFill>
        <p:spPr>
          <a:xfrm>
            <a:off x="3567240" y="1992240"/>
            <a:ext cx="2074680" cy="2795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:\Users\ADMIN\Desktop\лейка.jpg"/>
          <p:cNvPicPr/>
          <p:nvPr/>
        </p:nvPicPr>
        <p:blipFill>
          <a:blip r:embed="rId4"/>
          <a:stretch/>
        </p:blipFill>
        <p:spPr>
          <a:xfrm>
            <a:off x="1836720" y="4476600"/>
            <a:ext cx="2865600" cy="1947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:\Users\ADMIN\Desktop\семена.jpg"/>
          <p:cNvPicPr/>
          <p:nvPr/>
        </p:nvPicPr>
        <p:blipFill>
          <a:blip r:embed="rId5"/>
          <a:stretch/>
        </p:blipFill>
        <p:spPr>
          <a:xfrm>
            <a:off x="6927840" y="2043000"/>
            <a:ext cx="1895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439560"/>
            <a:ext cx="35845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с интересом сажали семена деревьев, используя принесенные материалы: семена различных деревьев, грунт универсальный, керамзит для дренажа, цветочные горшки среднего размера, лей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:\Users\ADMIN\Desktop\четвертое.jpg"/>
          <p:cNvPicPr/>
          <p:nvPr/>
        </p:nvPicPr>
        <p:blipFill>
          <a:blip r:embed="rId1"/>
          <a:stretch/>
        </p:blipFill>
        <p:spPr>
          <a:xfrm>
            <a:off x="4011480" y="750960"/>
            <a:ext cx="439128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09:30:09Z</dcterms:created>
  <dc:creator>ppsworld.ru</dc:creator>
  <dc:description/>
  <dc:language>en-US</dc:language>
  <cp:lastModifiedBy>Пользователь</cp:lastModifiedBy>
  <dcterms:modified xsi:type="dcterms:W3CDTF">2020-11-20T15:33:47Z</dcterms:modified>
  <cp:revision>34</cp:revision>
  <dc:subject/>
  <dc:title>Слайд 1</dc:title>
</cp:coreProperties>
</file>