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887-D548-44B6-BB43-C55EF78F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0A6-5BA2-4F41-A42E-D44A01E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2B8D6-8FEA-4C75-99A4-793EF2AD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B1191-59D8-4D32-8FA2-DEF4AD1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533DD-C819-4CE8-8C73-EDBC4011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FF1A3-AAE6-407D-8483-7FB1D63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58A43-96C4-43ED-8642-316A236F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27F39-2680-43AF-B944-6A9394C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D87E-AD45-409B-948E-6BD8E5C7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D42CE-6A36-4018-A8EB-3689BBFA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E17E6-5571-4D26-8AD5-6C31E26F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D6D-8ACA-4E2D-B87D-48D8FC0A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DD1-3E06-4ACC-8E4B-B686E4F2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B203-4DDE-49E1-A0E3-C8F0DAA0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9B6F-6644-48B0-BE91-5EC695B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88E-3FED-422B-9A52-939BFA7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F937-4D67-40E3-86FB-BC6DE3A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D5C3-BE87-4DDC-94C8-2DE9FD6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84D6-1A1E-47BE-A71E-A4D0309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2A26-D294-43E1-ABE5-90F3188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705-AA28-4712-9E53-1D1A863F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E354-3682-47E3-B37D-4EA9321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9DD-283F-4B3F-AC69-21BBA152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8BC1-E79B-43B5-8B1F-84CB63EB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1A78-8496-4C05-9C5F-5A3FBB1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B671-6AF3-4E91-A609-AC530A2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7EBA-7CD5-4D4C-B034-8855EE58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4773-D141-4F04-8B36-22FE308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7A62-B25A-426D-8F71-0642C1C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376A-E9FF-4D63-A5C4-2B542E5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7314-F374-4998-97BD-50839482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2DA-05C6-4092-AB5A-25A34036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F955-0542-4BCA-A10B-02BCA5C2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D665-AE4B-4E00-8FB5-50DE920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4D67-5B2B-484D-A52F-3E59956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0637-3548-4565-8053-B20E0F9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01AE7-FE46-4B1E-82EF-494A4A33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3752-DBBD-4743-8013-0BD1F513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483E0-2BAB-4549-BA81-E4ACCAD1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25A2-D8A4-474D-AF2E-A209D778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6BD4-F354-498A-8488-A5A3F66E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A422-A6F2-491B-8698-125CF83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9BE-2F73-43B8-AE29-4E8320D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D0C9-4238-464A-AA45-30A4280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1599-5747-428B-A60C-A59B022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E72D-EB41-4D10-A1DA-F2FC2E3F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48A8-7F08-44A6-A6B7-86B37C07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D278-257D-410A-AF12-52C6663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AC55-1C72-4717-9A11-7C9665A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8B66-1561-4A7E-A495-2598E20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3571-9EA7-4B74-BAC0-5D2EF965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9429-2CC2-4C45-82A7-3CD38EF5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4671D-8DB3-44E4-B17D-AB709E09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937-E43E-4B94-A04E-F0B95BDB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5B2B-C524-4E56-8735-DDBB153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98D5-35C2-41FE-9BDD-41FDF26A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9DE0-7E19-4611-BD9A-FA71F313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C952-B61D-49B9-97C9-102BC0E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6492-62F3-4D8C-B946-C1411D2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C399-BC67-421F-B2CD-EC0158F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6847-5F8F-42DC-AB9C-D8B17F9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3A7AB-B19C-4229-9633-5A9258F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F708-4B10-4807-8214-D730DC9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1265-F752-4837-ACB7-4446CCCF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A2A-E314-4940-AE2F-58B87F60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193D7-14FA-461B-A07C-B3469EF5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D14F-66FC-4202-81BB-A87ADD87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FD2A-5052-4576-8998-9EBF208D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2804-32EE-46A9-A1C5-213AE095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66D5-23E0-4181-B031-FEEEE5CE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AD97-00AE-4CDC-9A4F-B106A16B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8934-1EEB-4E5F-A3B3-CF7D6D13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8DBE-42C1-46D3-AD69-B23BD73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B024D-740B-46AD-ACF8-CCF423C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2CC59-BFAA-4E13-9E30-13DDE60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DF1-4764-4710-8693-DE74B0E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13FE-A4F7-4482-A85F-BC363F2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64C33-8F4D-45E7-AF6B-06B05DF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E51E3-E780-47CB-88EF-30F61B9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7358-2BE8-4764-BAFF-A8550A62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3206D-CEEF-4DFC-B76F-4DF13DB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B716-B1D1-450C-BE8F-1916FBF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F4692-4C17-4781-AEF8-31AE205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C728-3489-4A5D-9740-191C6B2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2B20-84C1-4CDC-A21E-94B781B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08B0E-FB30-4BB5-81A4-247580E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B1A-BD03-432E-9615-877FED62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A5CE-EAAE-4709-B0F9-276986C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CCD6-0B11-4E77-ACE1-E91A8DB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6358-9BE4-4B7F-95C2-A3352532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B194-2662-4956-8E90-561324FC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AC151-F1BC-47FD-A990-19B4C08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5140-9962-4034-83FB-8F2CCD97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E734A-EC86-4CD3-8298-61D2473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CB5AC-5748-4BBE-8EB8-80559CCC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7436-72E8-4656-8691-79BA297E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5465C-1204-414E-B96D-5184D79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30F-F143-4DE4-B4BE-31679916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8BB1-A40F-44A7-8F2D-F271E37F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BBD5A-BEFE-449F-B221-16D75022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43D6-191D-4554-95F5-A990FB1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A632-48FD-4D29-AFCB-EC0EBEE4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9A32-20C4-46D4-9A48-D28156ED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A13C-90C2-4C68-AEFD-B90CB1AE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D88F-CEA1-4EE0-8663-68F1FDEA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B1363-CADC-42C0-AEBD-7DF91081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439ED-C069-4659-9669-4FB68EC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10335-68A9-483D-8BBE-78564AA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230-DF8E-4A06-8E40-D2C218B0A4D2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DDD-A61D-4308-A363-B20B6CFC5203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70D-25CE-41F2-99BD-781907C3886B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372-4EC8-4807-9728-6443283F6492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0EE4-5603-4294-A592-110EEB12EEB2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57A-9795-41BB-8756-8FFCF0337C2D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04B-1935-4327-8730-06B100975337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E5F-51A8-488D-8C12-15120B2EE88C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314F-75B8-4594-A1EB-F4FC4AA3B403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84160" y="457200"/>
            <a:ext cx="7790040" cy="5205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736600" y="5300640"/>
            <a:ext cx="2623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или ученицы 9 Б кла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 Агафонова, О. Мельничу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158760" y="457200"/>
            <a:ext cx="9150480" cy="92700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3" descr="Крещение князя Владимира--1893.jpg"/>
          <p:cNvPicPr/>
          <p:nvPr/>
        </p:nvPicPr>
        <p:blipFill>
          <a:blip r:embed="rId2"/>
          <a:stretch/>
        </p:blipFill>
        <p:spPr>
          <a:xfrm>
            <a:off x="1550880" y="1554120"/>
            <a:ext cx="619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103320" y="457200"/>
            <a:ext cx="9191880" cy="9270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kreshenie.jpg"/>
          <p:cNvPicPr/>
          <p:nvPr/>
        </p:nvPicPr>
        <p:blipFill>
          <a:blip r:embed="rId2"/>
          <a:stretch/>
        </p:blipFill>
        <p:spPr>
          <a:xfrm>
            <a:off x="2303640" y="1249200"/>
            <a:ext cx="4356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8991720" cy="141444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3" descr="7-iBOKhfg5rnj8E0IItv2AFjm2wRT4sDrAaNHVMGo5N9KEnBitKnV3Zl4YmkBfYkziOShk16hvEo8CWC_bRdluMywMM8iiDdMwt2tVE4-hQ.jpg"/>
          <p:cNvPicPr/>
          <p:nvPr/>
        </p:nvPicPr>
        <p:blipFill>
          <a:blip r:embed="rId2"/>
          <a:stretch/>
        </p:blipFill>
        <p:spPr>
          <a:xfrm>
            <a:off x="1692360" y="1844640"/>
            <a:ext cx="590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Ayvaz_Kreshenie.jpg"/>
          <p:cNvPicPr/>
          <p:nvPr/>
        </p:nvPicPr>
        <p:blipFill>
          <a:blip r:embed="rId2"/>
          <a:stretch/>
        </p:blipFill>
        <p:spPr>
          <a:xfrm>
            <a:off x="1042920" y="1413000"/>
            <a:ext cx="6877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3efe2470bfc7.jpg"/>
          <p:cNvPicPr/>
          <p:nvPr/>
        </p:nvPicPr>
        <p:blipFill>
          <a:blip r:embed="rId2"/>
          <a:stretch/>
        </p:blipFill>
        <p:spPr>
          <a:xfrm>
            <a:off x="1647720" y="1484280"/>
            <a:ext cx="6400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48.png"/>
          <p:cNvPicPr/>
          <p:nvPr/>
        </p:nvPicPr>
        <p:blipFill>
          <a:blip r:embed="rId1"/>
          <a:stretch/>
        </p:blipFill>
        <p:spPr>
          <a:xfrm>
            <a:off x="1332000" y="1484280"/>
            <a:ext cx="6346800" cy="424836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5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68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7-iBOKhfg5rnj8E0IItv2PXOQ_k42YYu0FN-K5CY8_co0m9ZN8UxBXcyVq7UN7C30QmPmpoZw842rLRTFXItZNPl2cBeXZ5o1Iu9-S6ZVBg.jpg"/>
          <p:cNvPicPr/>
          <p:nvPr/>
        </p:nvPicPr>
        <p:blipFill>
          <a:blip r:embed="rId2"/>
          <a:stretch/>
        </p:blipFill>
        <p:spPr>
          <a:xfrm>
            <a:off x="2556000" y="1413000"/>
            <a:ext cx="4295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8:39Z</dcterms:created>
  <dc:creator>аня</dc:creator>
  <dc:description/>
  <dc:language>en-US</dc:language>
  <cp:lastModifiedBy>Директор</cp:lastModifiedBy>
  <dcterms:modified xsi:type="dcterms:W3CDTF">2020-11-20T09:14:42Z</dcterms:modified>
  <cp:revision>796</cp:revision>
  <dc:subject/>
  <dc:title>ппаа</dc:title>
</cp:coreProperties>
</file>