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F6D-FAB0-4CA0-AFB8-47DE0D61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7DD3-3C31-47A5-9231-D0B996D6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C6270-D7E5-47D2-AFE5-7A6E6900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2A915-233B-4914-9937-4C068C96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0F8BF-218C-45BC-BDE8-5D3D5576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E75F6-8F4A-4B45-BE7B-E2715836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840B4-C072-42ED-8450-33BFCCAC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9EB7D-CACB-48E5-A70D-A491AADD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6F6EF-31D4-49D4-9D6E-581A62F8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67380-E1E0-450F-91D4-DE282058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F3065-EA37-460D-A80B-1E571F3E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A045-F10B-4E53-A558-9BA8A8D9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180C-C4F6-4FA8-A907-26A16DA0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FA8F-45B6-4BFD-B89F-3743D71E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58C4-C30F-4744-86E8-00670476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6622-45FA-4419-A681-155EBF35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CA58-F2EA-4993-AA14-4A9744A8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B8AB-F924-4F8D-ADF3-E913DAC3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8F14-AB40-4892-8542-F1F488B8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A6F1-7EA6-46AA-97E4-9CDBF3B2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A93D-C6DD-4F63-958E-F1FFDDA8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D1B2-3DC5-4354-B25D-189B2F22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2368-83F5-4E38-BE46-23EB16CD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75DC-2D7E-4FF6-9392-A510CD3C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B941-F9D1-4D0E-92B2-A78F790F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EF72-79D3-46A0-99AD-A2FCAC5E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B452B-85A8-445D-BA3D-E8E217B5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CD1A3-2393-4BB6-B375-E06CDD23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B5167-C04D-4BAD-8C9D-4E7BBAC8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DBD8E-F670-404C-9825-35EA7507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C82A7-2BD6-499F-B340-C2BA0BBC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C7B9-E035-4947-91E2-D6FB7F6C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41074-98E2-487E-957F-64A3F58D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CB426-BEBC-48A4-821D-35FA34C6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CD719-5336-4DD3-AF56-C0D00EA3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4FCD2-973F-419C-9CCE-28F54177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B4F5F-9579-4DBC-A4BC-0F7497E1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0D4AA-4770-4FD4-937D-537FF3BB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81BF6-CE44-4DAD-81B2-07FA7E10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5CB4F-F4D5-481D-AFA5-1BB579B8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A0FF4-39CF-47DC-B4A6-5AF993E9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277EC-FBCD-47C1-9994-9A4674F9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D236-CEDD-4EA8-873A-76C887FD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DF1AA-B255-4CF8-B234-8B80C3BE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1DCF1-8B9A-4D0E-B158-32C69DF6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65873-A7ED-43FE-AE48-9B1B0DD5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09233-9158-44FE-BB8B-FFC55EA2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51176-BBCF-4C23-BA13-E7FDBDE3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55ABC-333F-472D-9E98-EC385399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04827-0D98-4BB3-A234-799B3183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8A919-8646-4835-83F0-6C6545F3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8BF7F-51C3-4B3B-82F5-A3672296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42E36-B780-405F-9809-4D1C8AD2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8F0E-FCBB-4E85-AF29-6A64D334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72884-97C4-4F24-AD3F-C008921E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6D6BA-5893-45A9-AB14-251BA378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D3938-0FDC-4D8A-9F40-053799A0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C4949-6111-465C-B5DD-F643EB6D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D0FC6-41E3-4B9C-AB77-9FA560BD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B4256-8454-499B-93F5-14E492D9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8592B-4947-4881-9C43-ED8AD9AA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62790-90E9-4CED-A346-8114C9E1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EE7AA-47A3-4E63-A359-9063022B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3E4A5-E7F3-47A2-B66E-C49789D0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F012-35D9-43F0-8B45-5767DCB6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551D7-0FBD-4213-B9CC-D7B96063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52C96-1558-455C-A1FD-3EE407AC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2BC9F-D3CD-46C5-ADCE-DBBC86C5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B1EC2-AF70-40C1-B58D-2429A2FA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76E64-0A30-45C8-AA89-BC2ADBA1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450FA-3D82-4D65-A702-BA2047EA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595B1-D0B6-4041-B824-12FB6F16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9D757-EF18-4186-AFF5-3A1EB861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2C3AA-8E9F-45DF-8CA5-C30BED2B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94640-DFBF-4E36-ABB2-61B498C0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D309-5E80-4557-8F6D-8A222794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1493E-8723-46DA-AED4-5740B14C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79184-17BC-45B2-84D7-6E5C70AB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9DC8E-B9ED-4864-AA65-0DCEF5F2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82D37-A8AD-4D26-9BC0-08D4AAED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878A8-5127-4636-89D0-12A77BDF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D6061-5ABD-4DD7-A0F1-7F988BD9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866B1-5B63-40B4-8842-61C397C6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BF6ED-54EF-4299-A092-EE185262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3DC32-B59A-4725-8AB4-7D550F50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6CC15-BFA2-45EB-A353-65E95182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A6B8-9C21-4DD6-BB82-AD8E0489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99BD7-A6B6-4B2D-95FD-9AC16E02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C2F9B-CEB7-4DB3-9F83-FEF8473B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ED438-5860-42C4-9AA7-5E1D74FE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059D7-2C0A-4C99-9C35-C25DB344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999B0-D325-4DA8-974D-B7FBED0B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9B1B5-E583-4C2C-B66A-722C3DF1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D6DA3-C066-47B8-A530-A0E4F772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8BCA9-D9A5-442A-9B9F-F53545B4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B46B7-5919-445B-BC18-5EE304D2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F7273-4DE2-45EB-82F9-AC9A7724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B478-0CF9-441C-A41C-35765F92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F7798-FE7B-42E2-9B37-C10F013D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22257-1C10-4A53-8853-D7B0CD58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4A55E-F50A-4029-AA50-F2C39AF0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B324B-CCD4-464C-9815-1EE43E7C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28B55-5F18-4C1C-87C9-7ACD51E6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C10D8-31C7-4101-8A31-8741AC3C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1A9A1-F6CD-4202-9F38-3C6AF4C3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2F539-3925-48C0-8DDC-EF681F40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CCBA1-8C5B-4E8B-B5CC-6947D199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A8FB2-D8F7-4924-B579-B6A8EFDE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60AE-393D-4DE8-AB6B-2AF007B6F07E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390D-39BD-4DD7-9BB6-C89A577B4ABC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8903-62C4-4D19-A931-856648257E12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9ACD-DD69-4E54-A103-0393D97A1CB2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5B4B-0BFA-4568-ACEF-0E2F64196ABE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CB2D-BB6A-438C-AD02-98723FC23F83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912A-E881-40A5-ABB9-EBAB680B924F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409B-3100-448D-BFD4-13AC663D4E84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A4D0-4ECB-40C9-AF14-7509A31A9D84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884160" y="457200"/>
            <a:ext cx="7790040" cy="5205240"/>
          </a:xfrm>
          <a:prstGeom prst="rect">
            <a:avLst/>
          </a:prstGeom>
          <a:ln w="0">
            <a:noFill/>
          </a:ln>
        </p:spPr>
      </p:pic>
      <p:sp>
        <p:nvSpPr>
          <p:cNvPr id="400" name="TextBox 3"/>
          <p:cNvSpPr/>
          <p:nvPr/>
        </p:nvSpPr>
        <p:spPr>
          <a:xfrm>
            <a:off x="5736600" y="5300640"/>
            <a:ext cx="26236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или ученицы 9 Б класс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. Агафонова, О. Мельничу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-158760" y="457200"/>
            <a:ext cx="9150480" cy="927000"/>
          </a:xfrm>
          <a:prstGeom prst="rect">
            <a:avLst/>
          </a:prstGeom>
          <a:ln w="0">
            <a:noFill/>
          </a:ln>
        </p:spPr>
      </p:pic>
      <p:pic>
        <p:nvPicPr>
          <p:cNvPr id="402" name="Содержимое 3" descr="Крещение князя Владимира--1893.jpg"/>
          <p:cNvPicPr/>
          <p:nvPr/>
        </p:nvPicPr>
        <p:blipFill>
          <a:blip r:embed="rId2"/>
          <a:stretch/>
        </p:blipFill>
        <p:spPr>
          <a:xfrm>
            <a:off x="1550880" y="1554120"/>
            <a:ext cx="6194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-103320" y="457200"/>
            <a:ext cx="9191880" cy="927000"/>
          </a:xfrm>
          <a:prstGeom prst="rect">
            <a:avLst/>
          </a:prstGeom>
          <a:ln w="0">
            <a:noFill/>
          </a:ln>
        </p:spPr>
      </p:pic>
      <p:pic>
        <p:nvPicPr>
          <p:cNvPr id="404" name="Содержимое 3" descr="kreshenie.jpg"/>
          <p:cNvPicPr/>
          <p:nvPr/>
        </p:nvPicPr>
        <p:blipFill>
          <a:blip r:embed="rId2"/>
          <a:stretch/>
        </p:blipFill>
        <p:spPr>
          <a:xfrm>
            <a:off x="2303640" y="1249200"/>
            <a:ext cx="435600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95120" y="457200"/>
            <a:ext cx="8991720" cy="1414440"/>
          </a:xfrm>
          <a:prstGeom prst="rect">
            <a:avLst/>
          </a:prstGeom>
          <a:ln w="0">
            <a:noFill/>
          </a:ln>
        </p:spPr>
      </p:pic>
      <p:pic>
        <p:nvPicPr>
          <p:cNvPr id="406" name="Содержимое 3" descr="7-iBOKhfg5rnj8E0IItv2AFjm2wRT4sDrAaNHVMGo5N9KEnBitKnV3Zl4YmkBfYkziOShk16hvEo8CWC_bRdluMywMM8iiDdMwt2tVE4-hQ.jpg"/>
          <p:cNvPicPr/>
          <p:nvPr/>
        </p:nvPicPr>
        <p:blipFill>
          <a:blip r:embed="rId2"/>
          <a:stretch/>
        </p:blipFill>
        <p:spPr>
          <a:xfrm>
            <a:off x="1692360" y="1844640"/>
            <a:ext cx="59040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27000"/>
          </a:xfrm>
          <a:prstGeom prst="rect">
            <a:avLst/>
          </a:prstGeom>
          <a:ln w="0">
            <a:noFill/>
          </a:ln>
        </p:spPr>
      </p:pic>
      <p:pic>
        <p:nvPicPr>
          <p:cNvPr id="408" name="Содержимое 3" descr="Ayvaz_Kreshenie.jpg"/>
          <p:cNvPicPr/>
          <p:nvPr/>
        </p:nvPicPr>
        <p:blipFill>
          <a:blip r:embed="rId2"/>
          <a:stretch/>
        </p:blipFill>
        <p:spPr>
          <a:xfrm>
            <a:off x="1042920" y="1413000"/>
            <a:ext cx="68770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pic>
        <p:nvPicPr>
          <p:cNvPr id="410" name="Содержимое 4" descr="3efe2470bfc7.jpg"/>
          <p:cNvPicPr/>
          <p:nvPr/>
        </p:nvPicPr>
        <p:blipFill>
          <a:blip r:embed="rId2"/>
          <a:stretch/>
        </p:blipFill>
        <p:spPr>
          <a:xfrm>
            <a:off x="1647720" y="1484280"/>
            <a:ext cx="64008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4" descr="48.png"/>
          <p:cNvPicPr/>
          <p:nvPr/>
        </p:nvPicPr>
        <p:blipFill>
          <a:blip r:embed="rId1"/>
          <a:stretch/>
        </p:blipFill>
        <p:spPr>
          <a:xfrm>
            <a:off x="1332000" y="1484280"/>
            <a:ext cx="6346800" cy="4248360"/>
          </a:xfrm>
          <a:prstGeom prst="rect">
            <a:avLst/>
          </a:prstGeom>
          <a:ln w="0">
            <a:noFill/>
          </a:ln>
        </p:spPr>
      </p:pic>
      <p:pic>
        <p:nvPicPr>
          <p:cNvPr id="412" name="Заголовок 5" descr=""/>
          <p:cNvPicPr/>
          <p:nvPr/>
        </p:nvPicPr>
        <p:blipFill>
          <a:blip r:embed="rId2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6840" y="14842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pic>
        <p:nvPicPr>
          <p:cNvPr id="415" name="Содержимое 3" descr="7-iBOKhfg5rnj8E0IItv2PXOQ_k42YYu0FN-K5CY8_co0m9ZN8UxBXcyVq7UN7C30QmPmpoZw842rLRTFXItZNPl2cBeXZ5o1Iu9-S6ZVBg.jpg"/>
          <p:cNvPicPr/>
          <p:nvPr/>
        </p:nvPicPr>
        <p:blipFill>
          <a:blip r:embed="rId2"/>
          <a:stretch/>
        </p:blipFill>
        <p:spPr>
          <a:xfrm>
            <a:off x="2556000" y="1413000"/>
            <a:ext cx="429552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8:58:39Z</dcterms:created>
  <dc:creator>аня</dc:creator>
  <dc:description/>
  <dc:language>en-US</dc:language>
  <cp:lastModifiedBy>Директор</cp:lastModifiedBy>
  <dcterms:modified xsi:type="dcterms:W3CDTF">2020-11-20T09:14:42Z</dcterms:modified>
  <cp:revision>796</cp:revision>
  <dc:subject/>
  <dc:title>ппаа</dc:title>
</cp:coreProperties>
</file>