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345-591D-4252-AEB4-FA1D21EA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93B-2F61-418B-AD50-75F777ED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FB9ED-D177-4728-8925-E9DD2053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977C9-D291-40CC-971F-398ABC34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C4625-C935-4A44-A899-C5A9A7E6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5F60F-9F2F-4EE4-8C53-A35B5A35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95C50-B20B-4488-B9CC-D1466835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A70B8-2137-46CC-BC1A-49B560A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E246C-2ED1-4BD5-AC96-442836B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AE488-5722-4C6D-B392-259969E5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89909-E43C-42AF-B335-FA966162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E3F-7DAE-4C4E-BA3F-04B7B188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F9C-2967-442F-A6DA-E0EABDD2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BC6F-1A92-45EB-8D8F-FECE386B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2CB2-BF43-4B80-8441-F15FA1BE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74CC-C236-4A59-97DD-B9699725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4338-3A02-4FC0-B302-6850957F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CA24-8BE7-4305-A06C-C189C10B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6BDE-0FAB-406C-92D4-A9D89AF6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2702-6058-4771-AC5D-05296CC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BD7-DB98-4E9A-89BF-10C53538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2EFE-06C2-4CAB-AA79-176542D1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3955-389C-49CB-AA04-2E8B9E2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57A6-E2F6-4BD6-B348-9C8C225A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F3EE-49D4-4E86-948B-C093C358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6AA6-9FC1-42D4-AB79-429BD512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E5F7-E848-471D-90CF-D9074DD0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0DF8-F33F-4DED-9B8B-1EFA56F7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061D-FA68-40CC-B1FA-89D26644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964F-3E7A-4D44-B9C2-336DE739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94C0-5621-48A8-B3D5-86AB1B25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904-E9AD-49D5-8C87-170A0A6A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EB793-BD5C-4B02-B3CA-4141BEC0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11CD-B196-49EC-93C9-E3D86858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F471B-95B0-4D52-B31C-89970E68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12D0D-0B9B-4B24-8B66-A4479E42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8EA7-0D5C-4824-90C4-1475D28F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6B67-C7CC-4968-BDDB-D7776F00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74B7-C73D-4EB1-BA89-D2810C90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A837A-5BDE-49D1-AEBA-7C5AB226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A18E-008F-4455-BE2F-AF44F0DC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DCBF-AB80-4C2F-8BE5-3BDBF739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DA5-A590-4009-BC43-7B357B53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AE74E-053B-4433-BF90-DD3FE7CB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5143-6C8C-46FF-B3AA-52BF930E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3DA1-80EA-41E0-B8CB-22F8353C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F788-3F74-4EBF-884B-32C1CF7F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5422-D5B6-4798-AB4C-E2947A6E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80CE-2428-48BA-AC43-9348E8C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1C84-FBC5-4486-9B7F-3D85FB6C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C09A2-80BB-4DCD-91C1-8124455B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D4E39-793B-452E-A63D-42E8AB1F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27F6-1DA7-43E6-A806-2DD91178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C07-06B5-4D15-BA95-EB7B5D48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7659-D460-45EA-AF47-533874AD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E163-DA0A-47CF-B5AE-651A4A6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D9EB-24F8-4847-80DE-81CF4846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4003E-33AC-4973-A1BC-BEE182C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28A06-4F77-4BC8-9DE3-FAE1F1AF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0749B-64F6-47B5-9C20-604BFF9A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E737-6D2A-47A3-BCCD-02E20141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08905-00BD-44B6-806A-46A274E3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BB590-9E18-4224-8963-19AA0C20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BF39-7519-4BAC-95FF-5DED5AB2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C6A-4901-40D5-A314-60262EE6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7707-1960-4808-81B0-939CF6F9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46ED8-F3AA-4099-B72B-3625457F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5B121-8CCF-490E-95D5-9C1EE135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0F7EF-A930-4EE3-B35F-E8E499AE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83D0-8AD1-4B8F-B6BF-90A6D0C0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E4DAC-BA51-4C87-9698-C5D400E6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2C51B-F731-426A-BA0B-36EE601F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E611-7747-4182-8ADB-5E0E969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09853-5F2F-4BCB-A0C2-BF96635E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9897-40AB-4D6E-8801-D67C311D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49F-4403-48B9-8C21-54ADFE9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27BC1-35E3-4BD8-A568-0B1FC5E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ADB3-0A7B-4C79-87E3-7CBE7816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4CB1-728E-4F45-945F-ABF1D78C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DD228-1915-43A0-9B3A-C600D634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C26A5-E9EA-4D02-9503-7C86923B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EBDD9-92F5-412D-B0B1-F35F5E9F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2733B-77D8-4199-947B-A5242EE9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9613B-5F84-4376-8CB0-4DD137D5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0C884-FDDF-4C06-884F-D8E9AB7D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347F1-5AFD-4A04-A3FD-F69A9F7A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92A-EB43-4EEC-A660-F2D9BDA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8936-0A12-466E-B2EE-D7A337DE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DCB15-44A9-4F33-9F4C-332B2103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74BF1-DA6C-4C35-A59C-7B68271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F6CE7-091A-40A8-AFEC-A18856A1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38A67-67FE-4511-8C98-C10EAF87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DD38B-4507-4DCA-8B1B-02F68281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6E92-0D7B-4A2F-B347-CB5DAC88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F6925-EE06-4CDB-8327-45BE34D4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11F7F-52E0-496D-855F-E9889E75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B65CD-8ABC-4D5D-90E8-27F4D409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086-67CE-4F41-AEE7-C6225058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CBF85-FD6D-49F6-8F45-06B37B28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C04E6-B698-4B9F-B720-16A1F748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0A187-9E8D-43AC-8D21-2010394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CE8A-21F9-449A-9D3F-82C36988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1EF24-B19E-4D33-8D07-652A44C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C3094-1D16-454A-934E-BCD5B3EF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881DA-0405-4AF5-9DDB-70C0E35B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EDF00-60B2-4324-822E-AFAEB139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4E00C-FA43-4D3A-8504-1151FA46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8333F-1C86-4D0B-8BFF-2FB0EB19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D24F-DA52-4037-97E5-B5F635612B07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21ED-5EE4-4C98-9463-498E0626F65C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7BD4-E54D-4BC6-A75D-F37092014DFB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4C00-7A0A-4C64-BE0E-6046DD7F8257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B69-4A8F-441F-A7DF-B8927EF0E20B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C553-CABE-450D-9188-21EC2926872A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8439-122B-4702-82EB-8BD6F06CF0DF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5105-23CE-4B63-9E51-4C4D95F33E79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D320-28E2-4E19-97D6-9F629A6A99C4}" type="slidenum">
              <a:rPr b="0" lang="ru-RU" sz="24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884160" y="457200"/>
            <a:ext cx="7790040" cy="52052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"/>
          <p:cNvSpPr/>
          <p:nvPr/>
        </p:nvSpPr>
        <p:spPr>
          <a:xfrm>
            <a:off x="5736600" y="5300640"/>
            <a:ext cx="26236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или ученицы 9 Б кла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. Агафонова, О. Мельничу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158760" y="457200"/>
            <a:ext cx="9150480" cy="927000"/>
          </a:xfrm>
          <a:prstGeom prst="rect">
            <a:avLst/>
          </a:prstGeom>
          <a:ln w="0">
            <a:noFill/>
          </a:ln>
        </p:spPr>
      </p:pic>
      <p:pic>
        <p:nvPicPr>
          <p:cNvPr id="402" name="Содержимое 3" descr="Крещение князя Владимира--1893.jpg"/>
          <p:cNvPicPr/>
          <p:nvPr/>
        </p:nvPicPr>
        <p:blipFill>
          <a:blip r:embed="rId2"/>
          <a:stretch/>
        </p:blipFill>
        <p:spPr>
          <a:xfrm>
            <a:off x="1550880" y="1554120"/>
            <a:ext cx="6194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-103320" y="457200"/>
            <a:ext cx="9191880" cy="92700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kreshenie.jpg"/>
          <p:cNvPicPr/>
          <p:nvPr/>
        </p:nvPicPr>
        <p:blipFill>
          <a:blip r:embed="rId2"/>
          <a:stretch/>
        </p:blipFill>
        <p:spPr>
          <a:xfrm>
            <a:off x="2303640" y="1249200"/>
            <a:ext cx="43560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95120" y="457200"/>
            <a:ext cx="8991720" cy="1414440"/>
          </a:xfrm>
          <a:prstGeom prst="rect">
            <a:avLst/>
          </a:prstGeom>
          <a:ln w="0">
            <a:noFill/>
          </a:ln>
        </p:spPr>
      </p:pic>
      <p:pic>
        <p:nvPicPr>
          <p:cNvPr id="406" name="Содержимое 3" descr="7-iBOKhfg5rnj8E0IItv2AFjm2wRT4sDrAaNHVMGo5N9KEnBitKnV3Zl4YmkBfYkziOShk16hvEo8CWC_bRdluMywMM8iiDdMwt2tVE4-hQ.jpg"/>
          <p:cNvPicPr/>
          <p:nvPr/>
        </p:nvPicPr>
        <p:blipFill>
          <a:blip r:embed="rId2"/>
          <a:stretch/>
        </p:blipFill>
        <p:spPr>
          <a:xfrm>
            <a:off x="1692360" y="1844640"/>
            <a:ext cx="59040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927000"/>
          </a:xfrm>
          <a:prstGeom prst="rect">
            <a:avLst/>
          </a:prstGeom>
          <a:ln w="0">
            <a:noFill/>
          </a:ln>
        </p:spPr>
      </p:pic>
      <p:pic>
        <p:nvPicPr>
          <p:cNvPr id="408" name="Содержимое 3" descr="Ayvaz_Kreshenie.jpg"/>
          <p:cNvPicPr/>
          <p:nvPr/>
        </p:nvPicPr>
        <p:blipFill>
          <a:blip r:embed="rId2"/>
          <a:stretch/>
        </p:blipFill>
        <p:spPr>
          <a:xfrm>
            <a:off x="1042920" y="1413000"/>
            <a:ext cx="68770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3efe2470bfc7.jpg"/>
          <p:cNvPicPr/>
          <p:nvPr/>
        </p:nvPicPr>
        <p:blipFill>
          <a:blip r:embed="rId2"/>
          <a:stretch/>
        </p:blipFill>
        <p:spPr>
          <a:xfrm>
            <a:off x="1647720" y="1484280"/>
            <a:ext cx="64008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4" descr="48.png"/>
          <p:cNvPicPr/>
          <p:nvPr/>
        </p:nvPicPr>
        <p:blipFill>
          <a:blip r:embed="rId1"/>
          <a:stretch/>
        </p:blipFill>
        <p:spPr>
          <a:xfrm>
            <a:off x="1332000" y="1484280"/>
            <a:ext cx="6346800" cy="4248360"/>
          </a:xfrm>
          <a:prstGeom prst="rect">
            <a:avLst/>
          </a:prstGeom>
          <a:ln w="0">
            <a:noFill/>
          </a:ln>
        </p:spPr>
      </p:pic>
      <p:pic>
        <p:nvPicPr>
          <p:cNvPr id="412" name="Заголовок 5" descr=""/>
          <p:cNvPicPr/>
          <p:nvPr/>
        </p:nvPicPr>
        <p:blipFill>
          <a:blip r:embed="rId2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6840" y="14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3" descr="7-iBOKhfg5rnj8E0IItv2PXOQ_k42YYu0FN-K5CY8_co0m9ZN8UxBXcyVq7UN7C30QmPmpoZw842rLRTFXItZNPl2cBeXZ5o1Iu9-S6ZVBg.jpg"/>
          <p:cNvPicPr/>
          <p:nvPr/>
        </p:nvPicPr>
        <p:blipFill>
          <a:blip r:embed="rId2"/>
          <a:stretch/>
        </p:blipFill>
        <p:spPr>
          <a:xfrm>
            <a:off x="2556000" y="1413000"/>
            <a:ext cx="42955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58:39Z</dcterms:created>
  <dc:creator>аня</dc:creator>
  <dc:description/>
  <dc:language>en-US</dc:language>
  <cp:lastModifiedBy>Директор</cp:lastModifiedBy>
  <dcterms:modified xsi:type="dcterms:W3CDTF">2020-11-20T09:14:42Z</dcterms:modified>
  <cp:revision>796</cp:revision>
  <dc:subject/>
  <dc:title>ппаа</dc:title>
</cp:coreProperties>
</file>