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250-AAC5-46E1-BD19-2A97C77F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EA4-2B26-46F8-A661-A3BAC4E2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D2A4B-8341-48A5-A200-36AFE0F0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AAF4F-6CC4-4035-B106-9EA8F7AE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62A37-B51E-4D8F-9AA3-88F7A50B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6089C-2335-4052-9283-C6B22BB1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04E33-9FC6-4B6B-AFB2-58522417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A2850-8096-4A8B-971D-F5F0E08D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A53ED-8EEA-48CF-BAC7-96D909D5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8050E-7787-4A81-87B4-F7713C8A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6D8AA-077E-411D-AB59-BF4036BB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1C7-41D7-4DDD-9972-D501820A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1B7-B5B3-4128-90FD-46626D08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C10B-A627-4691-8B5D-53A4AC23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8EDE-A899-457D-82BE-98C9422E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6E62-73A1-4921-98AF-87379947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CD09-D120-4776-81BA-D79D16DC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BDB4-38CA-46D9-AEC8-E9ABB2A1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6D86-1AD3-4981-807F-C5F1AAF1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29A6-1A3A-41B7-B36D-D0CDECBF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308E-84DD-4AF1-8D0E-0C23DF25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D326-101A-472A-9C24-6EE35248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A12D-3795-49DE-B94A-B79A1BA9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88E1-AF36-4840-930A-14829D5E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F498-0CC9-452A-B707-9BB120A7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9A00-865F-46B8-8769-C56EF972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49194-E4DF-4A14-86A3-7464D45D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6CBA5-AEAD-4A2C-994B-F773784C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570EE-3EFF-400E-BD94-79818D76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6C50E-9548-4ED2-91B9-D441A960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B40DC-7E1E-4C0B-8275-CFC53B92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3346-906D-4B31-815D-56AFBD91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E0E50-53D6-46FE-B1A8-DC2201DD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67CB9-6B1D-439F-9605-52A14E3A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89D5D-D055-4716-AD0A-3D02FB12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20CD6-48AD-4BCB-908F-41721A6C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D9C67-7B3E-44B4-AFB8-F9FB18AD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DA883-CF97-4D43-83FE-655C1E03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A7001-D469-47AF-9FE0-E7C6954B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EDDB8-7271-45C6-8111-92FE04EF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904FC-1399-4816-AA2D-545AA9D5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92600-22E8-42CC-8F14-3B1727F0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D4AF-0AF7-4FB5-9100-FA5957D0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FB6CA-688D-447C-8610-98FBC7DF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2B323-ED2F-4EAA-948C-731C432F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338AB-A6D5-47C1-A0D8-A603902B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8CB85-1CC9-4422-B181-4CA3E2FC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044FA-FE1B-4609-8357-22C76121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F6F65-146B-4E5C-AE94-8D00C50A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2F29F-EC65-45C7-9815-A89026A6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785CE-0B18-406B-8DC7-26EDFFC8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5CE7B-C1F9-497F-B318-9991DBB8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350E6-E29B-46A7-9FF7-8252923C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7B8-04CE-40E5-8ECB-39FBD9F9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A8F64-8C4F-4255-889F-12C78649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6A9D1-0E13-4D34-9774-1A36235E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07A2C-F17E-4A86-BFC3-A1631CE4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19B97-F5B2-4BDA-B66A-D7AFFF4D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016B8-130A-4853-B59F-9E32D1E5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9A78F-A877-4F88-A6E5-A1FBD868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90A0B-E2E2-4DB9-A0BB-1062C702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F2071-21F4-4C18-A22E-7072BA8F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E9AB1-3337-463C-93FD-B6F0BA0E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6E03D-28D7-4C1F-9A9E-D34B4290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31B-BFB3-4AAA-9444-7620EB90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10D74-5B78-4AFA-81C6-F9AD4F89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092F8-B224-43A7-9851-90E0716F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44BCF-4AAC-4395-8EB8-601615E2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9F4AF-30C8-41C4-988F-7E58877C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FD0DD-0E1A-4A73-BF65-30B1CF6F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BE96C-4A18-4187-A755-8F7A98EE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137ED-235D-4CB6-8737-7CA9D95C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B9A1D-AEAB-4C0B-B88E-F6EF16BA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2C49C-ADBF-4869-836F-1245C579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DF207-D760-49A5-BA4A-2E7358B5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2CA4-DD30-4859-9AF8-FC00B2C8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89514-72BD-453D-89AC-AE209FF8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A76AE-EF8E-4F42-B37B-04EA6CB3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818C6-D8D7-4F7D-BA64-11A48D13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EC8E9-0015-4E65-857E-2C32780A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D7DB4-60A1-40F8-9C2A-B6780806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7F7E2-8149-4F57-BFE8-B406FDB8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81E48-304F-47C9-915A-5C763FFE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8C306-9BE8-46E1-82F3-69F7AA21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5AD7A-2A91-41F2-AF21-ACEF2BC2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77485-DFB9-4E99-95CF-EFF245E5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CFD-0159-415C-A3D8-93F3AF2C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D5844-263A-4325-AF1D-B0B54FD5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6CBD9-4040-483B-85D4-FA8E58B4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AB075-E60A-4B95-9C18-3A730913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3D3F2-06D2-44E6-B3BC-5542E7A0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6E376-81BB-4455-B2D2-284FD272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06743-6A34-4D04-B9C2-3A114886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6F6C4-A671-4948-8782-7A97E488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731C3-9FA4-4A91-87EE-ED3E7C13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6B52A-FD00-4408-A436-8D38107E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96780-E401-46AF-A69E-A50A72FD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1A1-E8FF-4163-8EC9-0ED4E404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88ABF-9C13-46BC-AA96-BA49DC81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78B15-BD1A-4910-8CB1-119D4510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0EFA7-86A8-44A0-987C-2E5A474D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CA036-ED37-4662-885F-B470EDAB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E3413-CA41-4A5F-8265-AF9E14CC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CED89-744F-4B24-9C7C-58E81E32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5BB09-4FB0-424C-A65E-A57EE0C0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702DF-0A6F-466E-A435-EB727263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12620-0EAA-4F82-975D-E02BB7E0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0F40A-185A-4D9B-B367-207E47A7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66C9-6E41-478B-B6C6-1C4DDD5A08E4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7AB2-7E59-4BD6-AF93-C4D96EC69054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DB1C-3AF8-4D3E-80F5-81552423437D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E353-9826-4C23-8B2C-82E6A94549B5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61D2-9090-49FD-B625-F3752ED71E8A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2952-A082-4936-AD18-0A0AF8B32364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5FD2-AE2B-4071-B2C7-789417572384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E23F-9EF7-4186-B929-E9C056BA73EC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4CF9-9F4F-48E1-B9A4-B49422E015E4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884160" y="457200"/>
            <a:ext cx="7790040" cy="5205240"/>
          </a:xfrm>
          <a:prstGeom prst="rect">
            <a:avLst/>
          </a:prstGeom>
          <a:ln w="0">
            <a:noFill/>
          </a:ln>
        </p:spPr>
      </p:pic>
      <p:sp>
        <p:nvSpPr>
          <p:cNvPr id="400" name="TextBox 3"/>
          <p:cNvSpPr/>
          <p:nvPr/>
        </p:nvSpPr>
        <p:spPr>
          <a:xfrm>
            <a:off x="5736600" y="5300640"/>
            <a:ext cx="26236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или ученицы 9 Б класс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. Агафонова, О. Мельничу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-158760" y="457200"/>
            <a:ext cx="9150480" cy="927000"/>
          </a:xfrm>
          <a:prstGeom prst="rect">
            <a:avLst/>
          </a:prstGeom>
          <a:ln w="0">
            <a:noFill/>
          </a:ln>
        </p:spPr>
      </p:pic>
      <p:pic>
        <p:nvPicPr>
          <p:cNvPr id="402" name="Содержимое 3" descr="Крещение князя Владимира--1893.jpg"/>
          <p:cNvPicPr/>
          <p:nvPr/>
        </p:nvPicPr>
        <p:blipFill>
          <a:blip r:embed="rId2"/>
          <a:stretch/>
        </p:blipFill>
        <p:spPr>
          <a:xfrm>
            <a:off x="1550880" y="1554120"/>
            <a:ext cx="6194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-103320" y="457200"/>
            <a:ext cx="9191880" cy="927000"/>
          </a:xfrm>
          <a:prstGeom prst="rect">
            <a:avLst/>
          </a:prstGeom>
          <a:ln w="0">
            <a:noFill/>
          </a:ln>
        </p:spPr>
      </p:pic>
      <p:pic>
        <p:nvPicPr>
          <p:cNvPr id="404" name="Содержимое 3" descr="kreshenie.jpg"/>
          <p:cNvPicPr/>
          <p:nvPr/>
        </p:nvPicPr>
        <p:blipFill>
          <a:blip r:embed="rId2"/>
          <a:stretch/>
        </p:blipFill>
        <p:spPr>
          <a:xfrm>
            <a:off x="2303640" y="1249200"/>
            <a:ext cx="43560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95120" y="457200"/>
            <a:ext cx="8991720" cy="1414440"/>
          </a:xfrm>
          <a:prstGeom prst="rect">
            <a:avLst/>
          </a:prstGeom>
          <a:ln w="0">
            <a:noFill/>
          </a:ln>
        </p:spPr>
      </p:pic>
      <p:pic>
        <p:nvPicPr>
          <p:cNvPr id="406" name="Содержимое 3" descr="7-iBOKhfg5rnj8E0IItv2AFjm2wRT4sDrAaNHVMGo5N9KEnBitKnV3Zl4YmkBfYkziOShk16hvEo8CWC_bRdluMywMM8iiDdMwt2tVE4-hQ.jpg"/>
          <p:cNvPicPr/>
          <p:nvPr/>
        </p:nvPicPr>
        <p:blipFill>
          <a:blip r:embed="rId2"/>
          <a:stretch/>
        </p:blipFill>
        <p:spPr>
          <a:xfrm>
            <a:off x="1692360" y="1844640"/>
            <a:ext cx="59040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27000"/>
          </a:xfrm>
          <a:prstGeom prst="rect">
            <a:avLst/>
          </a:prstGeom>
          <a:ln w="0">
            <a:noFill/>
          </a:ln>
        </p:spPr>
      </p:pic>
      <p:pic>
        <p:nvPicPr>
          <p:cNvPr id="408" name="Содержимое 3" descr="Ayvaz_Kreshenie.jpg"/>
          <p:cNvPicPr/>
          <p:nvPr/>
        </p:nvPicPr>
        <p:blipFill>
          <a:blip r:embed="rId2"/>
          <a:stretch/>
        </p:blipFill>
        <p:spPr>
          <a:xfrm>
            <a:off x="1042920" y="1413000"/>
            <a:ext cx="68770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4" descr="3efe2470bfc7.jpg"/>
          <p:cNvPicPr/>
          <p:nvPr/>
        </p:nvPicPr>
        <p:blipFill>
          <a:blip r:embed="rId2"/>
          <a:stretch/>
        </p:blipFill>
        <p:spPr>
          <a:xfrm>
            <a:off x="1647720" y="1484280"/>
            <a:ext cx="64008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4" descr="48.png"/>
          <p:cNvPicPr/>
          <p:nvPr/>
        </p:nvPicPr>
        <p:blipFill>
          <a:blip r:embed="rId1"/>
          <a:stretch/>
        </p:blipFill>
        <p:spPr>
          <a:xfrm>
            <a:off x="1332000" y="1484280"/>
            <a:ext cx="6346800" cy="4248360"/>
          </a:xfrm>
          <a:prstGeom prst="rect">
            <a:avLst/>
          </a:prstGeom>
          <a:ln w="0">
            <a:noFill/>
          </a:ln>
        </p:spPr>
      </p:pic>
      <p:pic>
        <p:nvPicPr>
          <p:cNvPr id="412" name="Заголовок 5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6840" y="14842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3" descr="7-iBOKhfg5rnj8E0IItv2PXOQ_k42YYu0FN-K5CY8_co0m9ZN8UxBXcyVq7UN7C30QmPmpoZw842rLRTFXItZNPl2cBeXZ5o1Iu9-S6ZVBg.jpg"/>
          <p:cNvPicPr/>
          <p:nvPr/>
        </p:nvPicPr>
        <p:blipFill>
          <a:blip r:embed="rId2"/>
          <a:stretch/>
        </p:blipFill>
        <p:spPr>
          <a:xfrm>
            <a:off x="2556000" y="1413000"/>
            <a:ext cx="429552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8:58:39Z</dcterms:created>
  <dc:creator>аня</dc:creator>
  <dc:description/>
  <dc:language>en-US</dc:language>
  <cp:lastModifiedBy>Директор</cp:lastModifiedBy>
  <dcterms:modified xsi:type="dcterms:W3CDTF">2020-11-20T09:14:42Z</dcterms:modified>
  <cp:revision>796</cp:revision>
  <dc:subject/>
  <dc:title>ппаа</dc:title>
</cp:coreProperties>
</file>