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737-8063-4470-B1C1-2E277651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620-586A-4705-9544-F387D744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21F-2AE1-4423-B72B-3B079726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648-569A-4C0F-8E4F-ABAD085B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DA95-10D9-47BC-A3DF-11B59D9D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5297-B2CB-400D-9C02-1C5AAD51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259E-7877-4A4B-9AC1-865F75D0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B3EB-F397-4AE1-8F6A-D0345B16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0AC7-2B02-4518-BF77-9E87DF71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230B-2FE0-4391-BDCA-73F78B43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D98E-3FD2-42C0-9841-72FA1485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075-D206-4DC2-8494-33165FDE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6A56-84E5-4342-8EF1-B884C37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44A2-8C5C-4A40-B642-43488BC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7FFB-D7AC-463C-A568-3FA35B77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8495-7DBA-44DA-98AA-E733C93A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1F38-FF07-4F5C-A1CE-F790ADD2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722A1-B97E-4ECB-8F34-31EA17AA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F8B40-45E3-41CD-A575-B15EF4DC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8C178-C4E5-47A6-B328-40ECB618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124AF-C212-440F-90B9-7537A3C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704D1-EF76-42D2-B40F-2380F4E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E70-F3EA-4D1B-BE3B-6E9CA04E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69353-9D72-4584-9A63-5DE1FE7D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B3ED7-27C5-4E59-A0B2-9204995B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B8C9E-D5B0-4CD3-B4E8-42966147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BEDCE-7E1E-4FE8-8699-4331D0AE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8F4A2-5CFC-4ED6-9687-C980D071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D51A6-9BAE-4993-A00B-D3415B39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4BA83-4004-4899-AF56-E4A7EAE8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DBDAC-441A-4FB7-BC5D-B0DEEE16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FDE9-2329-4A14-8BF5-3F6D7A34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B362E-34CA-4CE0-90AC-5FF1C93B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79E-B4D3-4DE9-A78A-F4F438B5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EEB0-5765-47D1-8B81-0C99909D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BF6C-A2BF-452D-95C6-3CF4B3CE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65432-FE23-4C44-8648-15392221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1BC19-43E2-40C4-9159-E1808E97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B35C8-3E2B-43A7-833F-94763A02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DAEB1-300B-4E64-84C0-7DC2116D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BA0E0-E205-43D2-B747-0053934C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F55D-6A0D-416E-9F4F-1CF05D7E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18DE-5857-4103-9C9D-7613775A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B5823-45C5-4214-B476-F928D2AA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589-6748-46FD-A46F-1E4EEE55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993CC6-44CF-4200-8ECB-470549C4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DF7CD-ECFF-46FD-97CA-5D518CDA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9A568-5600-4858-A315-C00BC48A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F8794B-2275-4275-BBDE-BBF6ED66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27072-0F0F-4FF3-9738-DAB64D17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A58162-4E71-43FF-8763-E4192857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0AB82-060F-4485-8F9E-BC502AD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A8CAB-D42C-4CD5-AED6-3108C02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4CB89-25B0-4A52-8CA6-D104DF6E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11EA2-903F-4128-A355-BF55EEAF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A69-25C7-4BCB-BFAC-706A3524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A44D6A-27F7-4C1B-A8E5-5A2A340A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5A1AC-79CF-4212-8125-A4F0D7FF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AFA0D-F58C-470D-AF06-46FA3912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F897F-FED5-4988-9700-9A36063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B981D-9D7F-42D4-B6D2-982738C5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5CD1C-A646-4155-8000-81B3A3A6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D63B7-77AA-4EAB-BFEA-831E9DE6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68D88-0185-48CC-B51B-4CE192DB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8A5BF-93C2-4F25-927E-C2ED22C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9D192-B118-44FE-A09E-D8D6A77F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FD4-FB41-45BD-810A-9C50994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F2832-4FF5-4CD9-8800-8C9C008C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FF2BF0-F416-4D2C-A28A-0D6432EA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4CF3D3-46F8-4286-9DC3-E6679E11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AD0BC9-1239-4C6B-AE5B-A296A27B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55305-CC42-41DC-8DBD-44FEBA20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7B28B-1BFA-4F38-B6D0-35D57141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F6088-32A0-406F-A03C-4E8AD9D1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C9386-C4DA-493B-8CDF-48A69DB3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50B63-E463-4566-A82F-269B0051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22735-07D1-45A2-95BB-AE2AC8A5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9AB-2EF2-4828-A881-480A3B11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19EDC-5AD4-43D7-AAB1-EB0C917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13693-23DD-47A8-BE87-216B340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2EEA4-03E8-4E8F-9C05-15BA2CFB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CA910-6EA7-45AB-87B3-451FCE45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F7804-C103-460E-90E9-A8CFEA62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08D-6F42-4737-85AD-7A78384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0A30-CD59-436A-B928-099CBC1055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201B-4440-4484-BCE9-F828517E03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2817-DC81-43DA-988D-7C99F049EB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02F2-AA3F-42B4-935F-49E63F536D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8BFA-DCB3-4E23-A908-B35858175F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277-7668-400F-9D78-D7EF7AE268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DF0A-EE92-4BF2-B655-126011B219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ДИФФЕРЕНЦИАЦИЯ</a:t>
            </a:r>
            <a:br>
              <a:rPr sz="4800"/>
            </a:br>
            <a:br>
              <a:rPr sz="4800"/>
            </a:br>
            <a:r>
              <a:rPr b="1" lang="ru-RU" sz="7200" spc="-1" strike="noStrike">
                <a:solidFill>
                  <a:srgbClr val="575f6d"/>
                </a:solidFill>
                <a:latin typeface="Century Schoolbook"/>
              </a:rPr>
              <a:t> З-Ж</a:t>
            </a:r>
            <a:br>
              <a:rPr sz="7200"/>
            </a:br>
            <a:br>
              <a:rPr sz="7200"/>
            </a:b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ЛОГОПЕДИЧЕСКОЕ ЗАНЯТИЕ ДЛЯ ДЕТЕЙ ПОДГОТОВИТЕЛЬНОЙ ГРУППЫ УЧИТЕЛЬ – ЛОГОПЕД: МИХАЙЛОВА Н.Ю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НАЙДИТЕ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ЛИШНЮЮ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АРТИНКУ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Рисунок 2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743120" cy="172872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" descr=""/>
          <p:cNvPicPr/>
          <p:nvPr/>
        </p:nvPicPr>
        <p:blipFill>
          <a:blip r:embed="rId2"/>
          <a:stretch/>
        </p:blipFill>
        <p:spPr>
          <a:xfrm>
            <a:off x="2700360" y="4433760"/>
            <a:ext cx="1371600" cy="152568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4" descr=""/>
          <p:cNvPicPr/>
          <p:nvPr/>
        </p:nvPicPr>
        <p:blipFill>
          <a:blip r:embed="rId3"/>
          <a:stretch/>
        </p:blipFill>
        <p:spPr>
          <a:xfrm>
            <a:off x="4562640" y="1700280"/>
            <a:ext cx="1504800" cy="172872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5" descr=""/>
          <p:cNvPicPr/>
          <p:nvPr/>
        </p:nvPicPr>
        <p:blipFill>
          <a:blip r:embed="rId4"/>
          <a:stretch/>
        </p:blipFill>
        <p:spPr>
          <a:xfrm>
            <a:off x="6516720" y="1700280"/>
            <a:ext cx="1654200" cy="172872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6" descr=""/>
          <p:cNvPicPr/>
          <p:nvPr/>
        </p:nvPicPr>
        <p:blipFill>
          <a:blip r:embed="rId5"/>
          <a:stretch/>
        </p:blipFill>
        <p:spPr>
          <a:xfrm>
            <a:off x="395280" y="4292640"/>
            <a:ext cx="1743120" cy="16668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7" descr=""/>
          <p:cNvPicPr/>
          <p:nvPr/>
        </p:nvPicPr>
        <p:blipFill>
          <a:blip r:embed="rId6"/>
          <a:stretch/>
        </p:blipFill>
        <p:spPr>
          <a:xfrm>
            <a:off x="2700360" y="1700280"/>
            <a:ext cx="1371600" cy="172872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8" descr=""/>
          <p:cNvPicPr/>
          <p:nvPr/>
        </p:nvPicPr>
        <p:blipFill>
          <a:blip r:embed="rId7"/>
          <a:stretch/>
        </p:blipFill>
        <p:spPr>
          <a:xfrm>
            <a:off x="4562640" y="4292640"/>
            <a:ext cx="1504800" cy="1666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Users\Computer\Desktop\ее.png"/>
          <p:cNvPicPr/>
          <p:nvPr/>
        </p:nvPicPr>
        <p:blipFill>
          <a:blip r:embed="rId8"/>
          <a:stretch/>
        </p:blipFill>
        <p:spPr>
          <a:xfrm>
            <a:off x="6669000" y="4433760"/>
            <a:ext cx="150192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У ЛИ…Ы НОВЫЕ ЛЫ…И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В …ООПАРКЕ  …ИВЁТ ПОЛОСАТАЯ  …ЕБРА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ВО МХУ   …ИВУТ У…И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НЕ…ИНКИ ПАДАЮТ НА …ЕМЛЮ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У ДОМА …ЕЛЁНАЯ ЛУ…АЙКА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Прямоугольник 2"/>
          <p:cNvSpPr/>
          <p:nvPr/>
        </p:nvSpPr>
        <p:spPr>
          <a:xfrm>
            <a:off x="1547640" y="28116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Вставить буквы З – Ж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670572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ПРОВЕРЯЕМ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Прямоугольник 2"/>
          <p:cNvSpPr/>
          <p:nvPr/>
        </p:nvSpPr>
        <p:spPr>
          <a:xfrm>
            <a:off x="343080" y="1052640"/>
            <a:ext cx="835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У Лизы новые лыж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 зоопарке живёт полосатая зебр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о мху живут уж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нежинки падают на землю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У дома зелёная лужайк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072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5f6d"/>
                </a:solidFill>
                <a:latin typeface="Century Schoolbook"/>
              </a:rPr>
              <a:t>ИТОГ: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-ЧТО МЫ СЕГОДНЯ РАЗЛИЧАЛИ НА ЗАНЯТИИ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5f6d"/>
                </a:solidFill>
                <a:latin typeface="Century Schoolbook"/>
              </a:rPr>
              <a:t>МОЛОДЦЫ!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0840" y="313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РЕНИРУЕМ ПАМЯТЬ И ВНИМ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Объект 3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1917720" cy="13032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3" descr=""/>
          <p:cNvPicPr/>
          <p:nvPr/>
        </p:nvPicPr>
        <p:blipFill>
          <a:blip r:embed="rId2"/>
          <a:stretch/>
        </p:blipFill>
        <p:spPr>
          <a:xfrm>
            <a:off x="2843280" y="1773360"/>
            <a:ext cx="1638360" cy="13809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1076400" cy="137952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5" descr=""/>
          <p:cNvPicPr/>
          <p:nvPr/>
        </p:nvPicPr>
        <p:blipFill>
          <a:blip r:embed="rId4"/>
          <a:stretch/>
        </p:blipFill>
        <p:spPr>
          <a:xfrm>
            <a:off x="6948360" y="1773360"/>
            <a:ext cx="1495440" cy="14284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C:\Users\Computer\Desktop\0013-013-Lisitsa.jpg"/>
          <p:cNvPicPr/>
          <p:nvPr/>
        </p:nvPicPr>
        <p:blipFill>
          <a:blip r:embed="rId5"/>
          <a:stretch/>
        </p:blipFill>
        <p:spPr>
          <a:xfrm>
            <a:off x="684360" y="3500280"/>
            <a:ext cx="1871640" cy="162576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7" descr=""/>
          <p:cNvPicPr/>
          <p:nvPr/>
        </p:nvPicPr>
        <p:blipFill>
          <a:blip r:embed="rId6"/>
          <a:stretch/>
        </p:blipFill>
        <p:spPr>
          <a:xfrm>
            <a:off x="2916360" y="3387600"/>
            <a:ext cx="1638000" cy="1625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C:\Users\Computer\Desktop\контакт\i.jpg"/>
          <p:cNvPicPr/>
          <p:nvPr/>
        </p:nvPicPr>
        <p:blipFill>
          <a:blip r:embed="rId7"/>
          <a:stretch/>
        </p:blipFill>
        <p:spPr>
          <a:xfrm>
            <a:off x="5356080" y="3387600"/>
            <a:ext cx="1076400" cy="1625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Users\Computer\Desktop\контакт\уу.jpg"/>
          <p:cNvPicPr/>
          <p:nvPr/>
        </p:nvPicPr>
        <p:blipFill>
          <a:blip r:embed="rId8"/>
          <a:stretch/>
        </p:blipFill>
        <p:spPr>
          <a:xfrm>
            <a:off x="6948360" y="3478320"/>
            <a:ext cx="149544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ТЕМА ЗАНЯТИЯ:</a:t>
            </a:r>
            <a:br>
              <a:rPr sz="4000"/>
            </a:br>
            <a:br>
              <a:rPr sz="4000"/>
            </a:br>
            <a:r>
              <a:rPr b="0" lang="ru-RU" sz="7900" spc="-1" strike="noStrike">
                <a:solidFill>
                  <a:srgbClr val="575f6d"/>
                </a:solidFill>
                <a:latin typeface="Century Schoolbook"/>
              </a:rPr>
              <a:t>З - Ж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ЗВУК </a:t>
            </a:r>
            <a:r>
              <a:rPr b="1" i="1" lang="en-US" sz="3000" spc="-1" strike="noStrike">
                <a:solidFill>
                  <a:srgbClr val="575f6d"/>
                </a:solidFill>
                <a:latin typeface="Century Schoolbook"/>
              </a:rPr>
              <a:t>[</a:t>
            </a: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З</a:t>
            </a:r>
            <a:r>
              <a:rPr b="1" i="1" lang="en-US" sz="3000" spc="-1" strike="noStrike">
                <a:solidFill>
                  <a:srgbClr val="575f6d"/>
                </a:solidFill>
                <a:latin typeface="Century Schoolbook"/>
              </a:rPr>
              <a:t>]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гласный, звонкий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ывает твердый, бывает мягк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убы растянуты в улыбке, языч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жит за нижними зубам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душная струя холодна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"/>
          <a:stretch/>
        </p:blipFill>
        <p:spPr>
          <a:xfrm>
            <a:off x="6012000" y="271476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ЗВУК </a:t>
            </a:r>
            <a:r>
              <a:rPr b="1" i="1" lang="en-US" sz="3000" spc="-1" strike="noStrike">
                <a:solidFill>
                  <a:srgbClr val="575f6d"/>
                </a:solidFill>
                <a:latin typeface="Century Schoolbook"/>
              </a:rPr>
              <a:t>[</a:t>
            </a:r>
            <a:r>
              <a:rPr b="1" i="1" lang="ru-RU" sz="3000" spc="-1" strike="noStrike">
                <a:solidFill>
                  <a:srgbClr val="575f6d"/>
                </a:solidFill>
                <a:latin typeface="Century Schoolbook"/>
              </a:rPr>
              <a:t>Ж</a:t>
            </a:r>
            <a:r>
              <a:rPr b="1" i="1" lang="en-US" sz="3000" spc="-1" strike="noStrike">
                <a:solidFill>
                  <a:srgbClr val="575f6d"/>
                </a:solidFill>
                <a:latin typeface="Century Schoolbook"/>
              </a:rPr>
              <a:t>]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гласный, звонкий, твёрды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убы округлены, язычок поднят вверх, воздушная струя тёпла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Объект 6" descr=""/>
          <p:cNvPicPr/>
          <p:nvPr/>
        </p:nvPicPr>
        <p:blipFill>
          <a:blip r:embed="rId1"/>
          <a:stretch/>
        </p:blipFill>
        <p:spPr>
          <a:xfrm>
            <a:off x="5867280" y="2565360"/>
            <a:ext cx="129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ОБОЗНАЧАЕМ ЗВУК </a:t>
            </a: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[</a:t>
            </a: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З</a:t>
            </a: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]</a:t>
            </a: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 БУКВОЙ</a:t>
            </a:r>
            <a:br>
              <a:rPr sz="2900"/>
            </a:br>
            <a:br>
              <a:rPr sz="2900"/>
            </a:br>
            <a:r>
              <a:rPr b="0" i="1" lang="ru-RU" sz="8800" spc="-1" strike="noStrike">
                <a:solidFill>
                  <a:srgbClr val="575f6d"/>
                </a:solidFill>
                <a:latin typeface="Century Schoolbook"/>
              </a:rPr>
              <a:t>З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ОБОЗНАЧАЕМ ЗВУК </a:t>
            </a: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[</a:t>
            </a: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Ж</a:t>
            </a:r>
            <a:r>
              <a:rPr b="1" lang="en-US" sz="2900" spc="-1" strike="noStrike">
                <a:solidFill>
                  <a:srgbClr val="575f6d"/>
                </a:solidFill>
                <a:latin typeface="Century Schoolbook"/>
              </a:rPr>
              <a:t>]</a:t>
            </a: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 БУКВОЙ</a:t>
            </a:r>
            <a:br>
              <a:rPr sz="2900"/>
            </a:br>
            <a:br>
              <a:rPr sz="2900"/>
            </a:br>
            <a:r>
              <a:rPr b="0" i="1" lang="ru-RU" sz="8800" spc="-1" strike="noStrike">
                <a:solidFill>
                  <a:srgbClr val="575f6d"/>
                </a:solidFill>
                <a:latin typeface="Century Schoolbook"/>
              </a:rPr>
              <a:t>Ж</a:t>
            </a:r>
            <a:br>
              <a:rPr sz="2900"/>
            </a:b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ЧИТАЕМ СЛОГ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2484360" y="1557360"/>
            <a:ext cx="3382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а – ж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у – жу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ы – ж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жа- за – ж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ы – зы – жи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за – жа - з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4920" y="761760"/>
            <a:ext cx="74674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Рисунок 2" descr=""/>
          <p:cNvPicPr/>
          <p:nvPr/>
        </p:nvPicPr>
        <p:blipFill>
          <a:blip r:embed="rId1"/>
          <a:stretch/>
        </p:blipFill>
        <p:spPr>
          <a:xfrm>
            <a:off x="2627280" y="7621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3" descr=""/>
          <p:cNvPicPr/>
          <p:nvPr/>
        </p:nvPicPr>
        <p:blipFill>
          <a:blip r:embed="rId2"/>
          <a:stretch/>
        </p:blipFill>
        <p:spPr>
          <a:xfrm>
            <a:off x="5273640" y="762120"/>
            <a:ext cx="1962360" cy="141120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4" descr=""/>
          <p:cNvPicPr/>
          <p:nvPr/>
        </p:nvPicPr>
        <p:blipFill>
          <a:blip r:embed="rId3"/>
          <a:stretch/>
        </p:blipFill>
        <p:spPr>
          <a:xfrm>
            <a:off x="684360" y="744480"/>
            <a:ext cx="1438200" cy="142884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5"/>
          <p:cNvSpPr/>
          <p:nvPr/>
        </p:nvSpPr>
        <p:spPr>
          <a:xfrm>
            <a:off x="539640" y="3105000"/>
            <a:ext cx="631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Солнце (какое?)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Лес (какой?)…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Трава (какая?)…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196640"/>
            <a:ext cx="7467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5f6d"/>
                </a:solidFill>
                <a:latin typeface="Century Schoolbook"/>
              </a:rPr>
              <a:t>КОЗА - КОЖА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5:42:58Z</dcterms:created>
  <dc:creator>Computer</dc:creator>
  <dc:description/>
  <dc:language>en-US</dc:language>
  <cp:lastModifiedBy>Натуля</cp:lastModifiedBy>
  <dcterms:modified xsi:type="dcterms:W3CDTF">2020-11-20T15:55:25Z</dcterms:modified>
  <cp:revision>18</cp:revision>
  <dc:subject/>
  <dc:title>Дифференциация  З-Ж  Логопедическое занятие для начальной школы  Учитель – логопед:Копрова Т.П.</dc:title>
</cp:coreProperties>
</file>