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0.gif" ContentType="image/gif"/>
  <Override PartName="/ppt/media/image11.gif" ContentType="image/gif"/>
  <Override PartName="/ppt/media/image12.gif" ContentType="image/gif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505CD3-313A-4D96-83B3-4D188972E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B87F82-3370-43F8-8E99-D5BD0C5F5DD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E3E38B-45FD-49E5-8C64-B43759AA1ED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243D76-5690-4812-9248-EA3346982EA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CEBB0C-86DE-4AD6-9F44-ED5290AAB5C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00EBB8-B996-4559-93BF-A33C7EF1B45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CEC567-B01E-4749-AE21-AC9CA6F5099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F544C3-0503-4EE2-98E5-D1589F1622F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B09010-DDA3-4A4D-B622-03E88D3CC46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7E4CEE-8A6A-45C2-9428-441AF00D5EC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E68223-A20F-4FC7-B3FD-452291F4095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D1768B-C116-464D-9D51-547A4BA6397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2ECB4F-697D-4398-A118-EECA5A1C97B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EF7CD1-592E-4409-ABF2-CFCF88F564B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8BD491-358B-45B5-8932-8F67ACCB3F4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6F8F95-6464-42C3-AF74-6D1F1CFDD0D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D1C57B-83B0-44BE-98C9-809468B922C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4072F5-F5FB-4ED4-93FF-5C643AC70EE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11D7AB-242C-46A8-BDEB-62942CF3B50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2834EC-0C8D-48FF-A663-32B6E30AB6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9D61E2-F784-47EF-BCAF-5D125D7A652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CF9DF2-F6D4-4DA3-B16E-796B770F69C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EDCCAA-4EAE-4A09-ACD6-15ADA6225DA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FB8160-C584-492A-955D-12CB7B142B5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55A81B-1574-42C1-BD79-302D6BC939D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9D635F-31D6-4831-B31C-CDB9943F921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2EF98B-7144-482D-B86A-2B6ED3EEF94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E54EAE-5B7E-4345-811D-F9802FD96F2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9B39CD-53ED-49A0-8D30-595E23BAB33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753D4C-1BD2-4756-A591-D2A84CA9D21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807B0D-FEC0-4AA2-A482-02B84415753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18B055-175F-4BC7-AEF3-ACA1E3904EF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48036B-B89A-46F0-BE9C-8F5259F6A38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813BA-4BF4-4301-BE6E-7C1BAE71CFB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C86E10-7F61-47B2-A2C3-FE0B716879F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6F8-5AC0-4C5E-B418-1E1A86BF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929-C96B-4784-928F-599D5B89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5CD-0E64-46A1-96E1-377B0099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FA0-7D59-4053-A72D-7D661A30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3E65-9F87-466A-8B91-1646B71A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6D2-A1C8-4E89-ABCA-E4B4400F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BC48-4A13-4015-8ABC-148DEEF2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64E5-6DC7-4FD5-84A4-98D6FE68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6519-3643-471C-98CA-8B552CF8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0D23-16B7-4A65-BD0F-91326527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0E9F-B4E0-4BA1-8E10-00E4757C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226-CCF9-4E24-9F62-9131CF15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6975-3AD7-4D02-9D44-0972D902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063F-9417-45F1-BBD0-4A42DE2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85F5-0447-40D2-9209-4055ECE1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8733-F603-4AA6-B7D2-ADB30925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C6D2-2945-4E61-8ACA-2989D8C3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C4D8-EA00-40A3-9996-477209A3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8BD4-DBF4-45FE-8456-C51B58D6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A6E5-C045-4DC0-9039-C62CED1D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F892-8BF2-4451-9F4A-392CDED7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D6AB-5A98-4848-8643-276A3209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13B-4CCD-430F-9375-729A8824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BF1F-476F-4340-94CD-48150F67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156F6-3B71-4317-A505-A430B348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0F74-B089-4622-9F83-8E654B93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AB51-CDC3-4722-8799-FE6AE31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F096-E396-4AEA-9A81-71791469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20F8-8AC7-49A1-9D8A-B126A185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94B9-033A-4760-A916-A2ECADC4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590D-28CD-4540-8D9A-3D831C9D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C26B-9E6A-4CA1-A2B0-C112D962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CEF1-E08F-4804-870B-10B90A65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A57-B4CF-43E7-BCC1-B7A2E0C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880A-685B-48D5-A7BF-01BB60E7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A0F1-958F-49F4-856C-03FB7CB8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C613-A3BA-4C84-B274-A9CB9531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06C8E-55CB-4BAD-8FAE-D0B5688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57F7-EDA0-4DF4-8DB2-E6A51A3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245A-E1A2-4B1D-AF75-F4CEB4F2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8CE2-157D-48CF-B2B4-4C944C42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3006-6BC0-4EA5-BB6C-FF88BA7A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9C7C-E8B9-454A-928C-2F6797C6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897B5-29A9-4A22-88B5-65837B69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932-A64B-4C7D-8DC1-70964C4B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E80E-B72A-4FDB-B218-CC8DBD45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9109-6071-4390-A0BC-474C7FA3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63D5-AF40-443F-AF5A-2267CB1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4E6C-991E-4197-A4F2-2C3A41C1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32109-28B6-494F-B58C-47934D9E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5CE5-DF51-4A8B-BE7D-12E831B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27FBF-1E6C-43CD-AF62-1157554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2B12-2305-48BE-8C82-49978C23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2064-485F-4FB3-9DE0-8426C1A7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EAE64-EC18-4E16-BC32-91FDF2B5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8E3-037E-4352-91AE-277B4F12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CB1BD-64F8-4DE5-B69F-58D72C43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197-09AA-4AA2-8094-736956A8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5CF-FDA8-4519-836F-77AAE442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BE3-65D5-461B-827B-1BC15E7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811B42-338F-449C-852E-990C6826021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F655D9-2C84-412D-8E11-5A1858C86E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59ED80-EFF3-4CB7-88A2-53A2CC7EB81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5C19D9-E6E7-496F-8EC9-C4DAB6EC38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C0F357-86D8-422E-82FD-2099E710D9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G:/&#1055;&#1091;&#1090;&#1077;&#1096;&#1077;&#1089;&#1090;&#1074;&#1080;&#1077;/dzink.ru-fizkultura_witch_doctor.mp3" TargetMode="External"/><Relationship Id="rId2" Type="http://schemas.microsoft.com/office/2007/relationships/media" Target="file:///G:/&#1055;&#1091;&#1090;&#1077;&#1096;&#1077;&#1089;&#1090;&#1074;&#1080;&#1077;/dzink.ru-fizkultura_witch_doctor.mp3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8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audio" Target="file:///G:/&#1055;&#1091;&#1090;&#1077;&#1096;&#1077;&#1089;&#1090;&#1074;&#1080;&#1077;/dzink.ru-fizkultura_witch_doctor.mp3" TargetMode="External"/><Relationship Id="rId6" Type="http://schemas.microsoft.com/office/2007/relationships/media" Target="file:///G:/&#1055;&#1091;&#1090;&#1077;&#1096;&#1077;&#1089;&#1090;&#1074;&#1080;&#1077;/dzink.ru-fizkultura_witch_doctor.mp3" TargetMode="External"/><Relationship Id="rId7" Type="http://schemas.openxmlformats.org/officeDocument/2006/relationships/image" Target="../media/image8.png"/><Relationship Id="rId8" Type="http://schemas.openxmlformats.org/officeDocument/2006/relationships/audio" Target="file:///G:/&#1055;&#1091;&#1090;&#1077;&#1096;&#1077;&#1089;&#1090;&#1074;&#1080;&#1077;/dzink.ru-fizkultura_witch_doctor.mp3" TargetMode="External"/><Relationship Id="rId9" Type="http://schemas.microsoft.com/office/2007/relationships/media" Target="file:///G:/&#1055;&#1091;&#1090;&#1077;&#1096;&#1077;&#1089;&#1090;&#1074;&#1080;&#1077;/dzink.ru-fizkultura_witch_doctor.mp3" TargetMode="Externa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6" descr="bereza_belai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3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1" i="1" lang="ru-RU" sz="6000" spc="-1" strike="noStrike">
                <a:solidFill>
                  <a:srgbClr val="ff9f5c"/>
                </a:solidFill>
                <a:latin typeface="Calibri"/>
              </a:rPr>
              <a:t>В гостях у Звуков речи</a:t>
            </a:r>
            <a:br>
              <a:rPr sz="6000"/>
            </a:b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Picture 6" descr="AN00790_"/>
          <p:cNvPicPr/>
          <p:nvPr/>
        </p:nvPicPr>
        <p:blipFill>
          <a:blip r:embed="rId2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BL00122_"/>
          <p:cNvPicPr/>
          <p:nvPr/>
        </p:nvPicPr>
        <p:blipFill>
          <a:blip r:embed="rId3"/>
          <a:stretch/>
        </p:blipFill>
        <p:spPr>
          <a:xfrm>
            <a:off x="2571840" y="1500120"/>
            <a:ext cx="3601080" cy="314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8" descr="BL00526_"/>
          <p:cNvPicPr/>
          <p:nvPr/>
        </p:nvPicPr>
        <p:blipFill>
          <a:blip r:embed="rId4"/>
          <a:stretch/>
        </p:blipFill>
        <p:spPr>
          <a:xfrm>
            <a:off x="4891320" y="3786120"/>
            <a:ext cx="4252320" cy="27633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299160" y="1571760"/>
            <a:ext cx="2332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chemeClr val="accent3"/>
                </a:solidFill>
                <a:latin typeface="Calibri"/>
              </a:rPr>
              <a:t>Гла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6156360" y="2928960"/>
            <a:ext cx="2742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fff1ec"/>
                </a:solidFill>
                <a:latin typeface="Calibri"/>
              </a:rPr>
              <a:t>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8"/>
          <p:cNvCxnSpPr/>
          <p:nvPr/>
        </p:nvCxnSpPr>
        <p:spPr>
          <a:xfrm>
            <a:off x="1643040" y="2285640"/>
            <a:ext cx="1214640" cy="12150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20" name="Прямая со стрелкой 11"/>
          <p:cNvCxnSpPr/>
          <p:nvPr/>
        </p:nvCxnSpPr>
        <p:spPr>
          <a:xfrm flipH="1">
            <a:off x="7358040" y="3643200"/>
            <a:ext cx="785880" cy="12862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Двойная роль букв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5" name="Рисунок 2" descr="D:\Мои документы со старого диска\Мои рисунки\Алфавит\E.WMF"/>
          <p:cNvPicPr/>
          <p:nvPr/>
        </p:nvPicPr>
        <p:blipFill>
          <a:blip r:embed="rId1"/>
          <a:stretch/>
        </p:blipFill>
        <p:spPr>
          <a:xfrm>
            <a:off x="857160" y="2786040"/>
            <a:ext cx="1499760" cy="1856880"/>
          </a:xfrm>
          <a:prstGeom prst="rect">
            <a:avLst/>
          </a:prstGeom>
          <a:ln w="9525">
            <a:noFill/>
          </a:ln>
        </p:spPr>
      </p:pic>
      <p:pic>
        <p:nvPicPr>
          <p:cNvPr id="256" name="Рисунок 3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2643120" y="2786040"/>
            <a:ext cx="1571400" cy="1856880"/>
          </a:xfrm>
          <a:prstGeom prst="rect">
            <a:avLst/>
          </a:prstGeom>
          <a:ln w="9525">
            <a:noFill/>
          </a:ln>
        </p:spPr>
      </p:pic>
      <p:sp>
        <p:nvSpPr>
          <p:cNvPr id="257" name="Блок-схема: узел 4"/>
          <p:cNvSpPr/>
          <p:nvPr/>
        </p:nvSpPr>
        <p:spPr>
          <a:xfrm>
            <a:off x="3071880" y="21430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58" name="Блок-схема: узел 5"/>
          <p:cNvSpPr/>
          <p:nvPr/>
        </p:nvSpPr>
        <p:spPr>
          <a:xfrm>
            <a:off x="3786120" y="21430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Прямоугольник 6"/>
          <p:cNvSpPr/>
          <p:nvPr/>
        </p:nvSpPr>
        <p:spPr>
          <a:xfrm>
            <a:off x="4429080" y="2643120"/>
            <a:ext cx="22219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ffff00"/>
                </a:solidFill>
                <a:latin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7" descr="D:\Мои документы со старого диска\Мои рисунки\Алфавит\R.WMF"/>
          <p:cNvPicPr/>
          <p:nvPr/>
        </p:nvPicPr>
        <p:blipFill>
          <a:blip r:embed="rId3"/>
          <a:stretch/>
        </p:blipFill>
        <p:spPr>
          <a:xfrm flipH="1">
            <a:off x="7144200" y="2571840"/>
            <a:ext cx="149976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bfcfe"/>
                </a:solidFill>
                <a:latin typeface="Calibri"/>
              </a:rPr>
              <a:t>Какие звуки слышатся?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Е  – [          ] 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Ё  – [          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Ю –[          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Я  – [          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solidFill>
            <a:schemeClr val="lt1"/>
          </a:solidFill>
          <a:ln w="25560">
            <a:solidFill>
              <a:srgbClr val="4f81bd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 - [й'э] 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Ё  - [й'о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  - [й'у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 - [й'а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згад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7120" y="1714320"/>
            <a:ext cx="4038120" cy="2999880"/>
          </a:xfrm>
          <a:prstGeom prst="rect">
            <a:avLst/>
          </a:prstGeom>
          <a:solidFill>
            <a:schemeClr val="lt1"/>
          </a:solidFill>
          <a:ln w="25560">
            <a:solidFill>
              <a:srgbClr val="4f81bd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м</a:t>
            </a:r>
            <a:r>
              <a:rPr b="0" lang="ru-RU" sz="3600" spc="-1" strike="noStrike" u="sng">
                <a:solidFill>
                  <a:schemeClr val="dk1"/>
                </a:solidFill>
                <a:uFillTx/>
                <a:latin typeface="Times New Roman"/>
              </a:rPr>
              <a:t>е</a:t>
            </a: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л   [                  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м</a:t>
            </a:r>
            <a:r>
              <a:rPr b="0" lang="ru-RU" sz="3600" spc="-1" strike="noStrike" u="sng">
                <a:solidFill>
                  <a:schemeClr val="dk1"/>
                </a:solidFill>
                <a:uFillTx/>
                <a:latin typeface="Times New Roman"/>
              </a:rPr>
              <a:t>ё</a:t>
            </a: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д   [                  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л</a:t>
            </a:r>
            <a:r>
              <a:rPr b="0" lang="ru-RU" sz="3600" spc="-1" strike="noStrike" u="sng">
                <a:solidFill>
                  <a:schemeClr val="dk1"/>
                </a:solidFill>
                <a:uFillTx/>
                <a:latin typeface="Times New Roman"/>
              </a:rPr>
              <a:t>ю</a:t>
            </a: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к   [                  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р</a:t>
            </a:r>
            <a:r>
              <a:rPr b="0" lang="ru-RU" sz="3600" spc="-1" strike="noStrike" u="sng">
                <a:solidFill>
                  <a:schemeClr val="dk1"/>
                </a:solidFill>
                <a:uFillTx/>
                <a:latin typeface="Times New Roman"/>
              </a:rPr>
              <a:t>я</a:t>
            </a: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д    [                  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304272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   [м'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э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ё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   [м'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ю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[л'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    [р'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285840" y="4928400"/>
            <a:ext cx="864360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Times New Roman"/>
              </a:rPr>
              <a:t>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буквы е ё ю я стоят после согласной , то они обозначают один звук  и смягчают предыдущий согл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ак,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роль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укв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ё ю я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это  обозначение одного звука и смягчение предыдущей согла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C:\Users\user\Pictures\1242389045_warning_image.png"/>
          <p:cNvPicPr/>
          <p:nvPr/>
        </p:nvPicPr>
        <p:blipFill>
          <a:blip r:embed="rId1"/>
          <a:stretch/>
        </p:blipFill>
        <p:spPr>
          <a:xfrm>
            <a:off x="7409880" y="3857760"/>
            <a:ext cx="1733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згад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001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ь [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э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'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ка [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к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 [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 [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714760" y="1571760"/>
            <a:ext cx="2928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ъ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 [с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э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ъ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ка [с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к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ь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 [в'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 u="dbl">
                <a:solidFill>
                  <a:srgbClr val="ffffff"/>
                </a:solidFill>
                <a:uFillTx/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ъ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[об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‘а</a:t>
            </a:r>
            <a:r>
              <a:rPr b="0" lang="ru-RU" sz="2400" spc="-1" strike="noStrike" u="dbl">
                <a:solidFill>
                  <a:srgbClr val="ffffff"/>
                </a:solidFill>
                <a:uFillTx/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Прямоугольник 4"/>
          <p:cNvSpPr/>
          <p:nvPr/>
        </p:nvSpPr>
        <p:spPr>
          <a:xfrm>
            <a:off x="5929200" y="1643040"/>
            <a:ext cx="292860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 [ба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э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 [па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 [ка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й’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ь [ра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й’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3854880" y="4214880"/>
            <a:ext cx="419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уквы Е Ё Ю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ачале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глас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ъ и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бозначают два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user\Pictures\1242389045_warning_image.png"/>
          <p:cNvPicPr/>
          <p:nvPr/>
        </p:nvPicPr>
        <p:blipFill>
          <a:blip r:embed="rId1"/>
          <a:stretch/>
        </p:blipFill>
        <p:spPr>
          <a:xfrm>
            <a:off x="1143000" y="4214880"/>
            <a:ext cx="22856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Какую же двойную роль выполняют буквы е ё ю я? </a:t>
            </a:r>
            <a:br>
              <a:rPr sz="4400"/>
            </a:b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6" name="Рисунок 2" descr="D:\Мои документы со старого диска\Мои рисунки\Алфавит\E.WMF"/>
          <p:cNvPicPr/>
          <p:nvPr/>
        </p:nvPicPr>
        <p:blipFill>
          <a:blip r:embed="rId1"/>
          <a:stretch/>
        </p:blipFill>
        <p:spPr>
          <a:xfrm>
            <a:off x="857160" y="2786040"/>
            <a:ext cx="1499760" cy="1856880"/>
          </a:xfrm>
          <a:prstGeom prst="rect">
            <a:avLst/>
          </a:prstGeom>
          <a:ln w="9525">
            <a:noFill/>
          </a:ln>
        </p:spPr>
      </p:pic>
      <p:pic>
        <p:nvPicPr>
          <p:cNvPr id="277" name="Рисунок 3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2643120" y="2714760"/>
            <a:ext cx="1571400" cy="1856880"/>
          </a:xfrm>
          <a:prstGeom prst="rect">
            <a:avLst/>
          </a:prstGeom>
          <a:ln w="9525">
            <a:noFill/>
          </a:ln>
        </p:spPr>
      </p:pic>
      <p:sp>
        <p:nvSpPr>
          <p:cNvPr id="278" name="Блок-схема: узел 4"/>
          <p:cNvSpPr/>
          <p:nvPr/>
        </p:nvSpPr>
        <p:spPr>
          <a:xfrm>
            <a:off x="3071880" y="21430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9" name="Блок-схема: узел 5"/>
          <p:cNvSpPr/>
          <p:nvPr/>
        </p:nvSpPr>
        <p:spPr>
          <a:xfrm>
            <a:off x="3786120" y="21430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4286160" y="2428920"/>
            <a:ext cx="242856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ffff00"/>
                </a:solidFill>
                <a:latin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7" descr="D:\Мои документы со старого диска\Мои рисунки\Алфавит\R.WMF"/>
          <p:cNvPicPr/>
          <p:nvPr/>
        </p:nvPicPr>
        <p:blipFill>
          <a:blip r:embed="rId3"/>
          <a:stretch/>
        </p:blipFill>
        <p:spPr>
          <a:xfrm flipH="1">
            <a:off x="7144200" y="2571840"/>
            <a:ext cx="149976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484360" y="45813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6836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4" name="WordArt 7"/>
          <p:cNvSpPr txBox="1"/>
          <p:nvPr/>
        </p:nvSpPr>
        <p:spPr>
          <a:xfrm>
            <a:off x="971640" y="1197000"/>
            <a:ext cx="7561080" cy="1655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Звездочёт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2987640" y="2637000"/>
            <a:ext cx="3166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нная физмину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8"/>
          <p:cNvSpPr/>
          <p:nvPr/>
        </p:nvSpPr>
        <p:spPr>
          <a:xfrm>
            <a:off x="8243640" y="1125360"/>
            <a:ext cx="360" cy="475128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1258560" y="5949720"/>
            <a:ext cx="6985080" cy="36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258560" y="1125360"/>
            <a:ext cx="360" cy="475128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1331640" y="1125360"/>
            <a:ext cx="3311640" cy="201600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4643280" y="1196640"/>
            <a:ext cx="3529080" cy="194472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258560" y="1125360"/>
            <a:ext cx="6985080" cy="36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1547640" y="4076640"/>
            <a:ext cx="640836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3780000" y="2421000"/>
            <a:ext cx="2015640" cy="1439640"/>
          </a:xfrm>
          <a:prstGeom prst="star32">
            <a:avLst>
              <a:gd name="adj" fmla="val 37500"/>
            </a:avLst>
          </a:prstGeom>
          <a:gradFill rotWithShape="0">
            <a:gsLst>
              <a:gs pos="0">
                <a:srgbClr val="33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4" name="Group 17"/>
          <p:cNvGrpSpPr/>
          <p:nvPr/>
        </p:nvGrpSpPr>
        <p:grpSpPr>
          <a:xfrm>
            <a:off x="4104000" y="2498400"/>
            <a:ext cx="1369080" cy="1355760"/>
            <a:chOff x="4104000" y="2498400"/>
            <a:chExt cx="1369080" cy="1355760"/>
          </a:xfrm>
        </p:grpSpPr>
        <p:sp>
          <p:nvSpPr>
            <p:cNvPr id="295" name="AutoShape 18"/>
            <p:cNvSpPr/>
            <p:nvPr/>
          </p:nvSpPr>
          <p:spPr>
            <a:xfrm>
              <a:off x="4284720" y="2708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6" name="AutoShape 19"/>
            <p:cNvSpPr/>
            <p:nvPr/>
          </p:nvSpPr>
          <p:spPr>
            <a:xfrm rot="2241600">
              <a:off x="4284360" y="270792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468360" y="260280"/>
            <a:ext cx="8281800" cy="619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826920" y="333360"/>
            <a:ext cx="7703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1331640" y="1484280"/>
            <a:ext cx="6912000" cy="360"/>
          </a:xfrm>
          <a:prstGeom prst="line">
            <a:avLst/>
          </a:prstGeom>
          <a:ln w="381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Line 8"/>
          <p:cNvSpPr/>
          <p:nvPr/>
        </p:nvSpPr>
        <p:spPr>
          <a:xfrm flipH="1">
            <a:off x="1547640" y="1484280"/>
            <a:ext cx="6696000" cy="1800000"/>
          </a:xfrm>
          <a:prstGeom prst="line">
            <a:avLst/>
          </a:prstGeom>
          <a:ln w="381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1547640" y="3284280"/>
            <a:ext cx="6696000" cy="792360"/>
          </a:xfrm>
          <a:prstGeom prst="line">
            <a:avLst/>
          </a:prstGeom>
          <a:ln w="381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Line 10"/>
          <p:cNvSpPr/>
          <p:nvPr/>
        </p:nvSpPr>
        <p:spPr>
          <a:xfrm flipH="1">
            <a:off x="1187280" y="4076640"/>
            <a:ext cx="7058160" cy="1295280"/>
          </a:xfrm>
          <a:prstGeom prst="line">
            <a:avLst/>
          </a:prstGeom>
          <a:ln w="381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1258560" y="1268280"/>
            <a:ext cx="433440" cy="360"/>
          </a:xfrm>
          <a:prstGeom prst="line">
            <a:avLst/>
          </a:prstGeom>
          <a:ln w="762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5"/>
          <p:cNvSpPr/>
          <p:nvPr/>
        </p:nvSpPr>
        <p:spPr>
          <a:xfrm flipH="1">
            <a:off x="7885080" y="1557000"/>
            <a:ext cx="433080" cy="144720"/>
          </a:xfrm>
          <a:prstGeom prst="line">
            <a:avLst/>
          </a:prstGeom>
          <a:ln w="762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1476360" y="3500280"/>
            <a:ext cx="431640" cy="71280"/>
          </a:xfrm>
          <a:prstGeom prst="line">
            <a:avLst/>
          </a:prstGeom>
          <a:ln w="762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Line 22"/>
          <p:cNvSpPr/>
          <p:nvPr/>
        </p:nvSpPr>
        <p:spPr>
          <a:xfrm flipH="1">
            <a:off x="7812000" y="4365360"/>
            <a:ext cx="504720" cy="142920"/>
          </a:xfrm>
          <a:prstGeom prst="line">
            <a:avLst/>
          </a:prstGeom>
          <a:ln w="762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2250"/>
                            </p:stCondLst>
                            <p:childTnLst>
                              <p:par>
                                <p:cTn id="469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100"/>
                            </p:stCondLst>
                            <p:childTnLst>
                              <p:par>
                                <p:cTn id="4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47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1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100"/>
                            </p:stCondLst>
                            <p:childTnLst>
                              <p:par>
                                <p:cTn id="4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48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1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100"/>
                            </p:stCondLst>
                            <p:childTnLst>
                              <p:par>
                                <p:cTn id="4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48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9100"/>
                            </p:stCondLst>
                            <p:childTnLst>
                              <p:par>
                                <p:cTn id="4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100"/>
                            </p:stCondLst>
                            <p:childTnLst>
                              <p:par>
                                <p:cTn id="49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49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10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2"/>
          <p:cNvSpPr/>
          <p:nvPr/>
        </p:nvSpPr>
        <p:spPr>
          <a:xfrm>
            <a:off x="2050920" y="692280"/>
            <a:ext cx="4824000" cy="4752720"/>
          </a:xfrm>
          <a:prstGeom prst="ellipse">
            <a:avLst/>
          </a:prstGeom>
          <a:noFill/>
          <a:ln w="5715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7020000" y="2205000"/>
            <a:ext cx="431280" cy="43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50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50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Oval 6"/>
          <p:cNvSpPr/>
          <p:nvPr/>
        </p:nvSpPr>
        <p:spPr>
          <a:xfrm rot="16200000">
            <a:off x="468360" y="342936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51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3214800"/>
            <a:ext cx="8229240" cy="27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емлю, всё, на, покрывалом, белые, падают, мягким, и, вокруг, застилается, снежинки 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500040" y="3714840"/>
            <a:ext cx="8216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682920" y="1152000"/>
            <a:ext cx="7795800" cy="179712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разрозненных слов собрать предлож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те синтаксический разбор предло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йте его устную  характеристи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ертите схему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2214720" y="214200"/>
            <a:ext cx="3946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ff9f5c"/>
                </a:solidFill>
                <a:latin typeface="Times New Roman"/>
              </a:rPr>
              <a:t>Задание №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38"/>
          <p:cNvGrpSpPr/>
          <p:nvPr/>
        </p:nvGrpSpPr>
        <p:grpSpPr>
          <a:xfrm>
            <a:off x="646560" y="50760"/>
            <a:ext cx="1369080" cy="1355760"/>
            <a:chOff x="646560" y="50760"/>
            <a:chExt cx="1369080" cy="1355760"/>
          </a:xfrm>
        </p:grpSpPr>
        <p:sp>
          <p:nvSpPr>
            <p:cNvPr id="311" name="AutoShape 28"/>
            <p:cNvSpPr/>
            <p:nvPr/>
          </p:nvSpPr>
          <p:spPr>
            <a:xfrm>
              <a:off x="82692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2241600">
              <a:off x="82692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3" name="Group 42"/>
          <p:cNvGrpSpPr/>
          <p:nvPr/>
        </p:nvGrpSpPr>
        <p:grpSpPr>
          <a:xfrm>
            <a:off x="6984000" y="3363840"/>
            <a:ext cx="1369080" cy="1355760"/>
            <a:chOff x="6984000" y="3363840"/>
            <a:chExt cx="1369080" cy="1355760"/>
          </a:xfrm>
        </p:grpSpPr>
        <p:sp>
          <p:nvSpPr>
            <p:cNvPr id="314" name="AutoShape 43"/>
            <p:cNvSpPr/>
            <p:nvPr/>
          </p:nvSpPr>
          <p:spPr>
            <a:xfrm>
              <a:off x="7164360" y="3573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AutoShape 44"/>
            <p:cNvSpPr/>
            <p:nvPr/>
          </p:nvSpPr>
          <p:spPr>
            <a:xfrm rot="2241600">
              <a:off x="7164360" y="3573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6" name="Group 48"/>
          <p:cNvGrpSpPr/>
          <p:nvPr/>
        </p:nvGrpSpPr>
        <p:grpSpPr>
          <a:xfrm>
            <a:off x="4678920" y="2858760"/>
            <a:ext cx="1369080" cy="1355760"/>
            <a:chOff x="4678920" y="2858760"/>
            <a:chExt cx="1369080" cy="1355760"/>
          </a:xfrm>
        </p:grpSpPr>
        <p:sp>
          <p:nvSpPr>
            <p:cNvPr id="317" name="AutoShape 49"/>
            <p:cNvSpPr/>
            <p:nvPr/>
          </p:nvSpPr>
          <p:spPr>
            <a:xfrm>
              <a:off x="4859280" y="306864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AutoShape 50"/>
            <p:cNvSpPr/>
            <p:nvPr/>
          </p:nvSpPr>
          <p:spPr>
            <a:xfrm rot="2241600">
              <a:off x="4859280" y="3068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9" name="Group 51"/>
          <p:cNvGrpSpPr/>
          <p:nvPr/>
        </p:nvGrpSpPr>
        <p:grpSpPr>
          <a:xfrm>
            <a:off x="1870560" y="2282760"/>
            <a:ext cx="1369080" cy="1355760"/>
            <a:chOff x="1870560" y="2282760"/>
            <a:chExt cx="1369080" cy="1355760"/>
          </a:xfrm>
        </p:grpSpPr>
        <p:sp>
          <p:nvSpPr>
            <p:cNvPr id="320" name="AutoShape 52"/>
            <p:cNvSpPr/>
            <p:nvPr/>
          </p:nvSpPr>
          <p:spPr>
            <a:xfrm>
              <a:off x="2050920" y="2492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 rot="2241600">
              <a:off x="2050920" y="2492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719640" y="5235480"/>
            <a:ext cx="1369080" cy="1355760"/>
            <a:chOff x="719640" y="5235480"/>
            <a:chExt cx="1369080" cy="1355760"/>
          </a:xfrm>
        </p:grpSpPr>
        <p:sp>
          <p:nvSpPr>
            <p:cNvPr id="323" name="AutoShape 58"/>
            <p:cNvSpPr/>
            <p:nvPr/>
          </p:nvSpPr>
          <p:spPr>
            <a:xfrm>
              <a:off x="900000" y="544500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AutoShape 59"/>
            <p:cNvSpPr/>
            <p:nvPr/>
          </p:nvSpPr>
          <p:spPr>
            <a:xfrm rot="2241600">
              <a:off x="900000" y="544500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5" name="Group 60"/>
          <p:cNvGrpSpPr/>
          <p:nvPr/>
        </p:nvGrpSpPr>
        <p:grpSpPr>
          <a:xfrm>
            <a:off x="4175640" y="4732200"/>
            <a:ext cx="1369080" cy="1355760"/>
            <a:chOff x="4175640" y="4732200"/>
            <a:chExt cx="1369080" cy="1355760"/>
          </a:xfrm>
        </p:grpSpPr>
        <p:sp>
          <p:nvSpPr>
            <p:cNvPr id="326" name="AutoShape 61"/>
            <p:cNvSpPr/>
            <p:nvPr/>
          </p:nvSpPr>
          <p:spPr>
            <a:xfrm>
              <a:off x="4356000" y="494172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AutoShape 62"/>
            <p:cNvSpPr/>
            <p:nvPr/>
          </p:nvSpPr>
          <p:spPr>
            <a:xfrm rot="2241600">
              <a:off x="4356000" y="494172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8" name="Group 63"/>
          <p:cNvGrpSpPr/>
          <p:nvPr/>
        </p:nvGrpSpPr>
        <p:grpSpPr>
          <a:xfrm>
            <a:off x="5112360" y="1131840"/>
            <a:ext cx="1369080" cy="1355760"/>
            <a:chOff x="5112360" y="1131840"/>
            <a:chExt cx="1369080" cy="1355760"/>
          </a:xfrm>
        </p:grpSpPr>
        <p:sp>
          <p:nvSpPr>
            <p:cNvPr id="329" name="AutoShape 64"/>
            <p:cNvSpPr/>
            <p:nvPr/>
          </p:nvSpPr>
          <p:spPr>
            <a:xfrm>
              <a:off x="5292720" y="1341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AutoShape 65"/>
            <p:cNvSpPr/>
            <p:nvPr/>
          </p:nvSpPr>
          <p:spPr>
            <a:xfrm rot="2241600">
              <a:off x="5292720" y="1341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1" name="Group 66"/>
          <p:cNvGrpSpPr/>
          <p:nvPr/>
        </p:nvGrpSpPr>
        <p:grpSpPr>
          <a:xfrm>
            <a:off x="3743640" y="50760"/>
            <a:ext cx="1369080" cy="1355760"/>
            <a:chOff x="3743640" y="50760"/>
            <a:chExt cx="1369080" cy="1355760"/>
          </a:xfrm>
        </p:grpSpPr>
        <p:sp>
          <p:nvSpPr>
            <p:cNvPr id="332" name="AutoShape 67"/>
            <p:cNvSpPr/>
            <p:nvPr/>
          </p:nvSpPr>
          <p:spPr>
            <a:xfrm>
              <a:off x="392436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AutoShape 68"/>
            <p:cNvSpPr/>
            <p:nvPr/>
          </p:nvSpPr>
          <p:spPr>
            <a:xfrm rot="2241600">
              <a:off x="392400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4" name="Group 72"/>
          <p:cNvGrpSpPr/>
          <p:nvPr/>
        </p:nvGrpSpPr>
        <p:grpSpPr>
          <a:xfrm>
            <a:off x="7271280" y="50760"/>
            <a:ext cx="1369080" cy="1355760"/>
            <a:chOff x="7271280" y="50760"/>
            <a:chExt cx="1369080" cy="1355760"/>
          </a:xfrm>
        </p:grpSpPr>
        <p:sp>
          <p:nvSpPr>
            <p:cNvPr id="335" name="AutoShape 73"/>
            <p:cNvSpPr/>
            <p:nvPr/>
          </p:nvSpPr>
          <p:spPr>
            <a:xfrm>
              <a:off x="745164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AutoShape 74"/>
            <p:cNvSpPr/>
            <p:nvPr/>
          </p:nvSpPr>
          <p:spPr>
            <a:xfrm rot="2241600">
              <a:off x="745164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7" name="Group 75"/>
          <p:cNvGrpSpPr/>
          <p:nvPr/>
        </p:nvGrpSpPr>
        <p:grpSpPr>
          <a:xfrm>
            <a:off x="3743640" y="2211120"/>
            <a:ext cx="1369080" cy="1355760"/>
            <a:chOff x="3743640" y="2211120"/>
            <a:chExt cx="1369080" cy="1355760"/>
          </a:xfrm>
        </p:grpSpPr>
        <p:sp>
          <p:nvSpPr>
            <p:cNvPr id="338" name="AutoShape 76"/>
            <p:cNvSpPr/>
            <p:nvPr/>
          </p:nvSpPr>
          <p:spPr>
            <a:xfrm>
              <a:off x="3924360" y="242100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77"/>
            <p:cNvSpPr/>
            <p:nvPr/>
          </p:nvSpPr>
          <p:spPr>
            <a:xfrm rot="2241600">
              <a:off x="3924000" y="242064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500"/>
                            </p:stCondLst>
                            <p:childTnLst>
                              <p:par>
                                <p:cTn id="5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6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6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6500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7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500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8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5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9000"/>
                            </p:stCondLst>
                            <p:childTnLst>
                              <p:par>
                                <p:cTn id="6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684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8500"/>
                            </p:stCondLst>
                            <p:childTnLst>
                              <p:par>
                                <p:cTn id="686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68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4500"/>
                            </p:stCondLst>
                            <p:childTnLst>
                              <p:par>
                                <p:cTn id="68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143280" y="2571480"/>
            <a:ext cx="1369080" cy="1355760"/>
            <a:chOff x="143280" y="2571480"/>
            <a:chExt cx="1369080" cy="1355760"/>
          </a:xfrm>
        </p:grpSpPr>
        <p:sp>
          <p:nvSpPr>
            <p:cNvPr id="341" name="AutoShape 3"/>
            <p:cNvSpPr/>
            <p:nvPr/>
          </p:nvSpPr>
          <p:spPr>
            <a:xfrm>
              <a:off x="324000" y="2781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4"/>
            <p:cNvSpPr/>
            <p:nvPr/>
          </p:nvSpPr>
          <p:spPr>
            <a:xfrm rot="2241600">
              <a:off x="323640" y="278100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69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андети"/>
          <p:cNvPicPr/>
          <p:nvPr/>
        </p:nvPicPr>
        <p:blipFill>
          <a:blip r:embed="rId1"/>
          <a:stretch/>
        </p:blipFill>
        <p:spPr>
          <a:xfrm>
            <a:off x="2700360" y="4091040"/>
            <a:ext cx="2879280" cy="1855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e95bfc5077e00b715bb415d0f590fc15"/>
          <p:cNvPicPr/>
          <p:nvPr/>
        </p:nvPicPr>
        <p:blipFill>
          <a:blip r:embed="rId2"/>
          <a:stretch/>
        </p:blipFill>
        <p:spPr>
          <a:xfrm>
            <a:off x="3564000" y="1927080"/>
            <a:ext cx="1944360" cy="1674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ddcedc575fd11e632e1f1619ab8cd005"/>
          <p:cNvPicPr/>
          <p:nvPr/>
        </p:nvPicPr>
        <p:blipFill>
          <a:blip r:embed="rId3"/>
          <a:stretch/>
        </p:blipFill>
        <p:spPr>
          <a:xfrm>
            <a:off x="611280" y="1836720"/>
            <a:ext cx="2304720" cy="20728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684360" y="620640"/>
            <a:ext cx="8064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регите свое здоров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64720" y="836640"/>
            <a:ext cx="4824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1" descr="796606407cb2d4efe937045b5298e54a"/>
          <p:cNvPicPr/>
          <p:nvPr/>
        </p:nvPicPr>
        <p:blipFill>
          <a:blip r:embed="rId4"/>
          <a:stretch/>
        </p:blipFill>
        <p:spPr>
          <a:xfrm>
            <a:off x="6877080" y="1773360"/>
            <a:ext cx="1790280" cy="20696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812000" y="5445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7" dur="321529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26529"/>
                            </p:stCondLst>
                            <p:childTnLst>
                              <p:par>
                                <p:cTn id="70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0" dur="321529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8" descr="BL00526_"/>
          <p:cNvPicPr/>
          <p:nvPr/>
        </p:nvPicPr>
        <p:blipFill>
          <a:blip r:embed="rId1"/>
          <a:stretch/>
        </p:blipFill>
        <p:spPr>
          <a:xfrm>
            <a:off x="214200" y="1643040"/>
            <a:ext cx="4252320" cy="27633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05520" y="2714760"/>
            <a:ext cx="4038120" cy="34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Picture 6" descr="AN00790_"/>
          <p:cNvPicPr/>
          <p:nvPr/>
        </p:nvPicPr>
        <p:blipFill>
          <a:blip r:embed="rId2"/>
          <a:stretch/>
        </p:blipFill>
        <p:spPr>
          <a:xfrm>
            <a:off x="1785960" y="2909160"/>
            <a:ext cx="3785760" cy="3948480"/>
          </a:xfrm>
          <a:prstGeom prst="rect">
            <a:avLst/>
          </a:prstGeom>
          <a:ln w="0">
            <a:noFill/>
          </a:ln>
        </p:spPr>
      </p:pic>
      <p:sp>
        <p:nvSpPr>
          <p:cNvPr id="354" name="Выноска-облако 5"/>
          <p:cNvSpPr/>
          <p:nvPr/>
        </p:nvSpPr>
        <p:spPr>
          <a:xfrm rot="2827200">
            <a:off x="4714560" y="261720"/>
            <a:ext cx="3240720" cy="3557160"/>
          </a:xfrm>
          <a:prstGeom prst="cloudCallout">
            <a:avLst>
              <a:gd name="adj1" fmla="val -31099"/>
              <a:gd name="adj2" fmla="val 72173"/>
            </a:avLst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9600" spc="49" strike="noStrike">
                <a:solidFill>
                  <a:schemeClr val="accent2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7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Распределить по алфавиту слов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solidFill>
            <a:schemeClr val="lt1"/>
          </a:solidFill>
          <a:ln w="25560">
            <a:solidFill>
              <a:srgbClr val="4f81bd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бура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позёмк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бур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мороз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вьюг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метел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ура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ур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ьюг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тел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роз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зёмк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2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2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2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2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Словарная работ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озёмка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это вьюга, во время которой дует низовой ветер.</a:t>
            </a: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3d9d7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f3d9d7"/>
                </a:solidFill>
                <a:latin typeface="Calibri"/>
              </a:rPr>
              <a:t>Задание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ставьте устно с этим словом предложение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ределите устно в слове позёмка количество звуков и бук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ст №1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кажите слова, где буквы е, ё, ю, я обозначают два звука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р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ьюг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ель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Ёж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ест №2</a:t>
            </a:r>
            <a:br>
              <a:rPr sz="4400"/>
            </a:b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ие из указанных букв названы неверно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 «пэ»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 «хе»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 «жэ»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«не»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ест №3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кажите слова, в которых звуков столько же, сколько букв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ем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ьюг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ю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ёж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ест №4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ие из данных согласных являются звонкими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Проверим!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лые снежинки падают на землю, и всё вокруг застилается мягким покрывалом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ест №5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сле ж, ш,ч, щ пишутся и, у, а, но не ы,я ю. Назовите слова, которые отступают от данного правила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4" marL="22287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рош…р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4" marL="22287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ч…сть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4" marL="22287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…до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4" marL="22287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…р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оверь себя!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 –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2,4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. –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2,4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 –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1,2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 –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2,4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5 –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1,4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Рефлексия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вы узнали на сегодняшнем уроке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В чём  вы испытывали трудности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На что ещё следует обратить внимание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6" descr="bereza_belai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3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1" i="1" lang="ru-RU" sz="6000" spc="-1" strike="noStrike">
                <a:solidFill>
                  <a:srgbClr val="ff9f5c"/>
                </a:solidFill>
                <a:latin typeface="Calibri"/>
              </a:rPr>
              <a:t>В гостях у Звуков речи</a:t>
            </a:r>
            <a:br>
              <a:rPr sz="6000"/>
            </a:b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6" name="Picture 6" descr="AN00790_"/>
          <p:cNvPicPr/>
          <p:nvPr/>
        </p:nvPicPr>
        <p:blipFill>
          <a:blip r:embed="rId2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BL00122_"/>
          <p:cNvPicPr/>
          <p:nvPr/>
        </p:nvPicPr>
        <p:blipFill>
          <a:blip r:embed="rId3"/>
          <a:stretch/>
        </p:blipFill>
        <p:spPr>
          <a:xfrm>
            <a:off x="2571840" y="1500120"/>
            <a:ext cx="3601080" cy="3142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8" descr="BL00526_"/>
          <p:cNvPicPr/>
          <p:nvPr/>
        </p:nvPicPr>
        <p:blipFill>
          <a:blip r:embed="rId4"/>
          <a:stretch/>
        </p:blipFill>
        <p:spPr>
          <a:xfrm>
            <a:off x="4891320" y="3786120"/>
            <a:ext cx="4252320" cy="27633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299160" y="1571760"/>
            <a:ext cx="2332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chemeClr val="accent3"/>
                </a:solidFill>
                <a:latin typeface="Calibri"/>
              </a:rPr>
              <a:t>Гла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6156360" y="2928960"/>
            <a:ext cx="2742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fff1ec"/>
                </a:solidFill>
                <a:latin typeface="Calibri"/>
              </a:rPr>
              <a:t>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8"/>
          <p:cNvCxnSpPr/>
          <p:nvPr/>
        </p:nvCxnSpPr>
        <p:spPr>
          <a:xfrm>
            <a:off x="1643040" y="2285640"/>
            <a:ext cx="1214640" cy="12150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382" name="Прямая со стрелкой 11"/>
          <p:cNvCxnSpPr/>
          <p:nvPr/>
        </p:nvCxnSpPr>
        <p:spPr>
          <a:xfrm flipH="1">
            <a:off x="7358040" y="3643200"/>
            <a:ext cx="785880" cy="12862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3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7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Домашнее задание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§ 61, правило, упр.306, выучить слова в рамочк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228600"/>
            <a:ext cx="8227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асибо за участие.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22780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</a:pPr>
            <a:endParaRPr b="0" lang="ru-RU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Calibri"/>
              </a:rPr>
              <a:t>МОЛОДЦЫ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Picture 4" descr="WB01219_"/>
          <p:cNvPicPr/>
          <p:nvPr/>
        </p:nvPicPr>
        <p:blipFill>
          <a:blip r:embed="rId2"/>
          <a:stretch/>
        </p:blipFill>
        <p:spPr>
          <a:xfrm>
            <a:off x="1763640" y="191628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WB01294_"/>
          <p:cNvPicPr/>
          <p:nvPr/>
        </p:nvPicPr>
        <p:blipFill>
          <a:blip r:embed="rId3"/>
          <a:stretch/>
        </p:blipFill>
        <p:spPr>
          <a:xfrm>
            <a:off x="7885080" y="2349360"/>
            <a:ext cx="399600" cy="39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500"/>
                            </p:stCondLst>
                            <p:childTnLst>
                              <p:par>
                                <p:cTn id="795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79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6505411.8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6505411.8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8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6505411.8" s="0" l="0"/>
                                      </p:by>
                                    </p:animClr>
                                    <p:set>
                                      <p:cBhvr>
                                        <p:cTn id="799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81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81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Синтаксический разбор предложения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3200" spc="-1" strike="noStrike" u="wavy">
                <a:solidFill>
                  <a:srgbClr val="ffffff"/>
                </a:solidFill>
                <a:uFillTx/>
                <a:latin typeface="Calibri"/>
              </a:rPr>
              <a:t>Белые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снежинки </a:t>
            </a:r>
            <a:r>
              <a:rPr b="0" i="1" lang="ru-RU" sz="3200" spc="-1" strike="noStrike" u="dbl">
                <a:solidFill>
                  <a:srgbClr val="ffffff"/>
                </a:solidFill>
                <a:uFillTx/>
                <a:latin typeface="Calibri"/>
              </a:rPr>
              <a:t>падают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dotDash">
                <a:solidFill>
                  <a:srgbClr val="ffffff"/>
                </a:solidFill>
                <a:uFillTx/>
                <a:latin typeface="Calibri"/>
              </a:rPr>
              <a:t>на землю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, и 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всё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dotDash">
                <a:solidFill>
                  <a:srgbClr val="ffffff"/>
                </a:solidFill>
                <a:uFillTx/>
                <a:latin typeface="Calibri"/>
              </a:rPr>
              <a:t>вокруг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dbl">
                <a:solidFill>
                  <a:srgbClr val="ffffff"/>
                </a:solidFill>
                <a:uFillTx/>
                <a:latin typeface="Calibri"/>
              </a:rPr>
              <a:t>застилается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wavy">
                <a:solidFill>
                  <a:srgbClr val="ffffff"/>
                </a:solidFill>
                <a:uFillTx/>
                <a:latin typeface="Calibri"/>
              </a:rPr>
              <a:t>мягким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dash">
                <a:solidFill>
                  <a:srgbClr val="ffffff"/>
                </a:solidFill>
                <a:uFillTx/>
                <a:latin typeface="Calibri"/>
              </a:rPr>
              <a:t>покрывалом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(повествовательное, сложное, союзное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]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2214720" y="5214960"/>
            <a:ext cx="1642680" cy="285480"/>
          </a:xfrm>
          <a:prstGeom prst="rect">
            <a:avLst/>
          </a:prstGeom>
          <a:solidFill>
            <a:schemeClr val="tx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4572000" y="5214960"/>
            <a:ext cx="1642680" cy="285480"/>
          </a:xfrm>
          <a:prstGeom prst="rect">
            <a:avLst/>
          </a:prstGeom>
          <a:solidFill>
            <a:schemeClr val="tx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3790440" y="5000760"/>
            <a:ext cx="696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,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Times New Roman"/>
              </a:rPr>
              <a:t>Составь слово!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б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] 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р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]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с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]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] 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о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] 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и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]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5" name="Picture 6" descr="AN00790_"/>
          <p:cNvPicPr/>
          <p:nvPr/>
        </p:nvPicPr>
        <p:blipFill>
          <a:blip r:embed="rId1"/>
          <a:stretch/>
        </p:blipFill>
        <p:spPr>
          <a:xfrm>
            <a:off x="3429000" y="2000160"/>
            <a:ext cx="2474640" cy="25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Отгадай загадку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Picture 6" descr="AN00790_"/>
          <p:cNvPicPr/>
          <p:nvPr/>
        </p:nvPicPr>
        <p:blipFill>
          <a:blip r:embed="rId1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2786040" y="3080880"/>
            <a:ext cx="6071760" cy="179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дворе – такая жалость!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а лесенка слома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а лесенка слома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а ... зато остала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4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7286760" y="4786200"/>
            <a:ext cx="1499760" cy="1856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Отгадай загадку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6" descr="AN00790_"/>
          <p:cNvPicPr/>
          <p:nvPr/>
        </p:nvPicPr>
        <p:blipFill>
          <a:blip r:embed="rId1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2571840" y="1442880"/>
            <a:ext cx="528588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а Е передохну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тотчас же на не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 птенчиков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порхнул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илась бук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4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7215120" y="4786200"/>
            <a:ext cx="1499760" cy="1856880"/>
          </a:xfrm>
          <a:prstGeom prst="rect">
            <a:avLst/>
          </a:prstGeom>
          <a:ln w="9525">
            <a:noFill/>
          </a:ln>
        </p:spPr>
      </p:pic>
      <p:sp>
        <p:nvSpPr>
          <p:cNvPr id="244" name="Блок-схема: узел 5"/>
          <p:cNvSpPr/>
          <p:nvPr/>
        </p:nvSpPr>
        <p:spPr>
          <a:xfrm>
            <a:off x="7643880" y="42148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45" name="Блок-схема: узел 6"/>
          <p:cNvSpPr/>
          <p:nvPr/>
        </p:nvSpPr>
        <p:spPr>
          <a:xfrm>
            <a:off x="8286840" y="42148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Отгадай загадку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7" name="Picture 6" descr="AN00790_"/>
          <p:cNvPicPr/>
          <p:nvPr/>
        </p:nvPicPr>
        <p:blipFill>
          <a:blip r:embed="rId1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3357720" y="1868400"/>
            <a:ext cx="5357520" cy="222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е  укатило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ко к столбику приб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й, смотрите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случило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илась бук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6652080" y="4429080"/>
            <a:ext cx="155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Отгадай загадку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1" name="Picture 6" descr="AN00790_"/>
          <p:cNvPicPr/>
          <p:nvPr/>
        </p:nvPicPr>
        <p:blipFill>
          <a:blip r:embed="rId1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"/>
          <p:cNvSpPr/>
          <p:nvPr/>
        </p:nvSpPr>
        <p:spPr>
          <a:xfrm>
            <a:off x="3643200" y="2582280"/>
            <a:ext cx="5000400" cy="2040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лядите – ка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стерил скворечник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 скворечник зале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птички – бук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4" descr="D:\Мои документы со старого диска\Мои рисунки\Алфавит\R.WMF"/>
          <p:cNvPicPr/>
          <p:nvPr/>
        </p:nvPicPr>
        <p:blipFill>
          <a:blip r:embed="rId2"/>
          <a:stretch/>
        </p:blipFill>
        <p:spPr>
          <a:xfrm flipH="1">
            <a:off x="7715520" y="4429080"/>
            <a:ext cx="107136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  <Words>543</Words>
  <Paragraphs>2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1-25T09:30:40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Notes">
    <vt:r8>34</vt:r8>
  </property>
  <property fmtid="{D5CDD505-2E9C-101B-9397-08002B2CF9AE}" pid="4" name="PresentationFormat">
    <vt:lpwstr>Экран (4:3)</vt:lpwstr>
  </property>
  <property fmtid="{D5CDD505-2E9C-101B-9397-08002B2CF9AE}" pid="5" name="Slides">
    <vt:r8>35</vt:r8>
  </property>
</Properties>
</file>