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0EDD-2185-421A-8F4B-43A9C3192EE7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B693-2D2E-4F57-8146-9400CF1F702C}" type="slidenum">
              <a:rPr b="0" i="1" lang="ru-RU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483-EBC4-4654-9883-D9FD06CF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95A-CBC2-4A3B-957A-9766BAD9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F17-BCF2-4877-A919-FE7103DD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7C1-DB81-4DD3-9D1A-9D4994A9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3448-0375-4D86-9758-18EED539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4725-9131-4277-B2BB-8B17B92A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FAA2-CECB-4424-B85D-961D4B7D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828-51B9-43A7-860C-89E47E40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1FCE-23A1-4851-99E1-549973E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4062-0673-4D57-8D70-79DA4B8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2812-660B-4702-8B41-0DF5F022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64D-108E-47E9-A9E3-72F56F4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A40F-49A9-4700-A399-09ED6AA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C776-8E6A-4D51-85B0-253D6EC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ED7-69AB-493D-8756-C94BD395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EC5C-99E5-4281-9FC3-1F6388BB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5F71-0A82-4589-9C7A-24F9BE61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9D3-4F32-4219-82DD-67D0D4CA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888-C2BA-451A-A113-3B537715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023-70C0-460C-BBB1-35D6B055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273-9432-405F-9434-978BD5DA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E0B-2EC2-4CC8-BF67-4D952AB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579-0B80-45E2-83A4-703FD3BE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D2E-08C9-4FBC-8342-FC62048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9040"/>
              <a:chOff x="-1080" y="2601000"/>
              <a:chExt cx="26874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360"/>
                <a:ext cx="1833120" cy="1669680"/>
                <a:chOff x="853200" y="4050360"/>
                <a:chExt cx="1833120" cy="16696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7640" y="3932280"/>
                  <a:ext cx="477360" cy="125028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0280"/>
                    <a:gd name="textAreaBottom" fmla="*/ 1250640 h 1250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72400" y="4978440"/>
                  <a:ext cx="110520" cy="51300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3000"/>
                    <a:gd name="textAreaBottom" fmla="*/ 513360 h 5130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400" y="5565600"/>
                  <a:ext cx="200880" cy="892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i="1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DC75-B3F8-4160-B331-00EF6CB8EEF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9280" y="63720"/>
              <a:ext cx="3630600" cy="6141240"/>
              <a:chOff x="5399280" y="63720"/>
              <a:chExt cx="3630600" cy="6141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5480" y="348120"/>
                <a:ext cx="2111400" cy="2355840"/>
              </a:xfrm>
              <a:custGeom>
                <a:avLst/>
                <a:gdLst>
                  <a:gd name="textAreaLeft" fmla="*/ 0 w 2111400"/>
                  <a:gd name="textAreaRight" fmla="*/ 2111760 w 21114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9600" y="1968480"/>
                <a:ext cx="904320" cy="841680"/>
              </a:xfrm>
              <a:custGeom>
                <a:avLst/>
                <a:gdLst>
                  <a:gd name="textAreaLeft" fmla="*/ 0 w 904320"/>
                  <a:gd name="textAreaRight" fmla="*/ 904680 w 904320"/>
                  <a:gd name="textAreaTop" fmla="*/ 360 h 841680"/>
                  <a:gd name="textAreaBottom" fmla="*/ 842400 h 8416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0200"/>
                <a:ext cx="438480" cy="39492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4280"/>
                <a:ext cx="388080" cy="55116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0960" y="2657160"/>
                <a:ext cx="163440" cy="3308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-360 h 330840"/>
                  <a:gd name="textAreaBottom" fmla="*/ 330840 h 33084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0520" y="1245960"/>
                <a:ext cx="189720" cy="14292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560" y="2944800"/>
                <a:ext cx="522360" cy="326628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-360 h 3266280"/>
                  <a:gd name="textAreaBottom" fmla="*/ 3266280 h 326628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>
                <a:gd name="textAreaLeft" fmla="*/ 0 w 1999080"/>
                <a:gd name="textAreaRight" fmla="*/ 1999440 w 199908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2640" y="281880"/>
              <a:ext cx="897840" cy="820080"/>
              <a:chOff x="5642640" y="281880"/>
              <a:chExt cx="897840" cy="820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3520" y="769680"/>
                <a:ext cx="181440" cy="36216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2760" y="453240"/>
                <a:ext cx="311400" cy="30060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440" y="384120"/>
                <a:ext cx="324360" cy="15300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600"/>
              <a:ext cx="1059480" cy="833760"/>
              <a:chOff x="968760" y="5250600"/>
              <a:chExt cx="105948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13040"/>
                <a:ext cx="250920" cy="3016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560" y="5727960"/>
                <a:ext cx="429840" cy="2505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744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8777-D5B8-4636-9087-A63211EF865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Admin\Downloads\Фото детский сад.jpg"/>
          <p:cNvPicPr/>
          <p:nvPr/>
        </p:nvPicPr>
        <p:blipFill>
          <a:blip r:embed="rId1"/>
          <a:stretch/>
        </p:blipFill>
        <p:spPr>
          <a:xfrm>
            <a:off x="1279440" y="1847880"/>
            <a:ext cx="6529320" cy="41450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5"/>
          <p:cNvSpPr/>
          <p:nvPr/>
        </p:nvSpPr>
        <p:spPr>
          <a:xfrm>
            <a:off x="179280" y="189000"/>
            <a:ext cx="879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Муниципальное дошкольное образовательное учреждение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Bookman Old Style"/>
              </a:rPr>
              <a:t>«Улыбка» 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Рисунок 9" descr=""/>
          <p:cNvPicPr/>
          <p:nvPr/>
        </p:nvPicPr>
        <p:blipFill>
          <a:blip r:embed="rId2"/>
          <a:stretch/>
        </p:blipFill>
        <p:spPr>
          <a:xfrm rot="21397200">
            <a:off x="307440" y="318960"/>
            <a:ext cx="982800" cy="9763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353880" y="1341360"/>
            <a:ext cx="87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Проект сенсорно-игровой центра «Лесенка»</a:t>
            </a:r>
            <a:endParaRPr b="0" i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4430160" y="6165720"/>
            <a:ext cx="49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Monotype Corsiva"/>
              </a:rPr>
              <a:t>Штепа Елена Георгиевна, педагог-психолог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4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29760"/>
            <a:ext cx="8244000" cy="3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енсорная комна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560" y="736560"/>
            <a:ext cx="5376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Открыта в 2007год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В 2007 участвовала в районном конкурсе «Фестиваль инновационных методический идей».  Награждена   дипломом за 1 место в номинации «Инновация в дошкольном образовании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Была написана программа «Сенсорная комната в дошкольном учреждении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Цель: психическое оздоровление де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Задача: развитие психоэмоциональных, интеллектуальных, речевых функций, формирование коммуникативных навыков у дет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37" descr="MCj04298150000[1]"/>
          <p:cNvPicPr/>
          <p:nvPr/>
        </p:nvPicPr>
        <p:blipFill>
          <a:blip r:embed="rId1"/>
          <a:stretch/>
        </p:blipFill>
        <p:spPr>
          <a:xfrm>
            <a:off x="7569360" y="0"/>
            <a:ext cx="1574640" cy="144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F:\Адапта\Фото Моя работа\Лена грамоты, свидетельства\12.jpg"/>
          <p:cNvPicPr/>
          <p:nvPr/>
        </p:nvPicPr>
        <p:blipFill>
          <a:blip r:embed="rId2"/>
          <a:stretch/>
        </p:blipFill>
        <p:spPr>
          <a:xfrm>
            <a:off x="5627520" y="1628640"/>
            <a:ext cx="3316320" cy="4680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8400" y="285840"/>
            <a:ext cx="878508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редпосылки и необходимость данного проекта (проблематика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Цель проекта «Детский сад-Центр детства» - обеспечение организационно-методических, кадровых и материально-технических условий для перехода на качественно новый уровень жизнедеятельности учреждения: детский сад- центр детств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В планах развития учреждения на ближайшую перспективу - создание полноценно действующей инновационной модели дошкольного учреждения, соединяющей образовательную, воспитательную и оздоровительную деятельность в единый педагогический процесс с целью воспитания гармонично развитой личности на основе индивидуального подхода к каждому ребенк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37" descr="MCj04298150000[1]"/>
          <p:cNvPicPr/>
          <p:nvPr/>
        </p:nvPicPr>
        <p:blipFill>
          <a:blip r:embed="rId1"/>
          <a:stretch/>
        </p:blipFill>
        <p:spPr>
          <a:xfrm>
            <a:off x="7369200" y="0"/>
            <a:ext cx="1574640" cy="1441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4280" y="162828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Мы мечтаем о создании сенсорно-игрового центра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«Лесенка»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на основе многофункционального игрового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обучающего, развивающего и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релаксационного оборудования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37" descr="MCj04298150000[1]"/>
          <p:cNvPicPr/>
          <p:nvPr/>
        </p:nvPicPr>
        <p:blipFill>
          <a:blip r:embed="rId1"/>
          <a:stretch/>
        </p:blipFill>
        <p:spPr>
          <a:xfrm>
            <a:off x="7812000" y="-171360"/>
            <a:ext cx="1575000" cy="14414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1"/>
          <p:cNvSpPr/>
          <p:nvPr/>
        </p:nvSpPr>
        <p:spPr>
          <a:xfrm>
            <a:off x="12600" y="23760"/>
            <a:ext cx="849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Проект будущего</a:t>
            </a:r>
            <a:br>
              <a:rPr sz="3600"/>
            </a:br>
            <a:r>
              <a:rPr b="1" i="1" lang="ru-RU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Сенсорно-игровой центр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«Лесенка»</a:t>
            </a:r>
            <a:br>
              <a:rPr sz="3200"/>
            </a:br>
            <a:endParaRPr b="0" i="1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8" name="Рисунок 14" descr="http://ds509.ucoz.ru/sensor/mo_19.02-24.jpg"/>
          <p:cNvPicPr/>
          <p:nvPr/>
        </p:nvPicPr>
        <p:blipFill>
          <a:blip r:embed="rId2"/>
          <a:srcRect l="0" t="34482" r="61877" b="0"/>
          <a:stretch/>
        </p:blipFill>
        <p:spPr>
          <a:xfrm>
            <a:off x="4354560" y="3267000"/>
            <a:ext cx="1392120" cy="176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http://im2-tub-ru.yandex.net/i?id=f3feb78e22d7a1c1226a2309c837efe2-02-16f-04507&amp;n=21"/>
          <p:cNvPicPr/>
          <p:nvPr/>
        </p:nvPicPr>
        <p:blipFill>
          <a:blip r:embed="rId3"/>
          <a:srcRect l="10809" t="0" r="21895" b="0"/>
          <a:stretch/>
        </p:blipFill>
        <p:spPr>
          <a:xfrm>
            <a:off x="5746680" y="2610000"/>
            <a:ext cx="1309680" cy="1944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10" descr="http://xn----8sbfmnvbj4aken.xn--p1ai/images/cms/thumbs/a5b0aeaa3fa7d6e58d75710c18673bd7ec6d5f6d/2641_640_222_291_340_340.jpg"/>
          <p:cNvPicPr/>
          <p:nvPr/>
        </p:nvPicPr>
        <p:blipFill>
          <a:blip r:embed="rId4"/>
          <a:stretch/>
        </p:blipFill>
        <p:spPr>
          <a:xfrm>
            <a:off x="7056360" y="1454040"/>
            <a:ext cx="2055960" cy="1548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4" descr="http://im3-tub-ru.yandex.net/i?id=cd2eadc9635f98d78350f39bd307a51f-03-144&amp;n=21"/>
          <p:cNvPicPr/>
          <p:nvPr/>
        </p:nvPicPr>
        <p:blipFill>
          <a:blip r:embed="rId5"/>
          <a:srcRect l="0" t="7685" r="3647" b="7659"/>
          <a:stretch/>
        </p:blipFill>
        <p:spPr>
          <a:xfrm>
            <a:off x="539640" y="5030640"/>
            <a:ext cx="1830600" cy="1189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192" name="Picture 2" descr="http://im2-tub-ru.yandex.net/i?id=dc786b53107d9d2220c24b4d2f6a2712-48-144&amp;n=21"/>
          <p:cNvPicPr/>
          <p:nvPr/>
        </p:nvPicPr>
        <p:blipFill>
          <a:blip r:embed="rId6"/>
          <a:stretch/>
        </p:blipFill>
        <p:spPr>
          <a:xfrm>
            <a:off x="2509920" y="4387680"/>
            <a:ext cx="1733400" cy="11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4000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14200" y="214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        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который будет включать не только психическое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    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оздоровление детей, комплексное воздействие на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отстающие стороны сенсорной системы, нормализацию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эмоционального фона, гармоничного формирован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личности, обучения приемам регуляции и самоергуляци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получения детьми  навыков социального  общен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и взаимодействия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20" descr="Картинки по запросу картинки ступенек, лесенок"/>
          <p:cNvPicPr/>
          <p:nvPr/>
        </p:nvPicPr>
        <p:blipFill>
          <a:blip r:embed="rId1"/>
          <a:srcRect l="23172" t="0" r="10229" b="0"/>
          <a:stretch/>
        </p:blipFill>
        <p:spPr>
          <a:xfrm>
            <a:off x="214200" y="4857840"/>
            <a:ext cx="1643040" cy="18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Картинки по запросу картинки ступенек, лесенок"/>
          <p:cNvPicPr/>
          <p:nvPr/>
        </p:nvPicPr>
        <p:blipFill>
          <a:blip r:embed="rId2"/>
          <a:srcRect l="8333" t="0" r="11092" b="0"/>
          <a:stretch/>
        </p:blipFill>
        <p:spPr>
          <a:xfrm>
            <a:off x="1785960" y="4071960"/>
            <a:ext cx="2071800" cy="2160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Картинки по запросу картинки ступенек, лесенок"/>
          <p:cNvPicPr/>
          <p:nvPr/>
        </p:nvPicPr>
        <p:blipFill>
          <a:blip r:embed="rId3"/>
          <a:stretch/>
        </p:blipFill>
        <p:spPr>
          <a:xfrm>
            <a:off x="3857760" y="292896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Картинки по запросу картинки ступенек, лесенок"/>
          <p:cNvPicPr/>
          <p:nvPr/>
        </p:nvPicPr>
        <p:blipFill>
          <a:blip r:embed="rId4"/>
          <a:stretch/>
        </p:blipFill>
        <p:spPr>
          <a:xfrm>
            <a:off x="5557680" y="179712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Картинки по запросу картинки ступенек, лесенок"/>
          <p:cNvPicPr/>
          <p:nvPr/>
        </p:nvPicPr>
        <p:blipFill>
          <a:blip r:embed="rId5"/>
          <a:srcRect l="11773" t="5684" r="13613" b="0"/>
          <a:stretch/>
        </p:blipFill>
        <p:spPr>
          <a:xfrm>
            <a:off x="7429680" y="214200"/>
            <a:ext cx="1357200" cy="2371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79280" y="-360"/>
            <a:ext cx="878544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но и для психофизиологической подготовки беременных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к родам с применением метода БОС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что позволит эффективно скорректировать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психоэмоциональное состояние женщины,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низить уровень тревожности, создать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благоприятную психологическую атмосферу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 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для течения беременности и родов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Метод  БОС дает возможность рождать на свет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здоровое потомство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37" descr="MCj04298150000[1]"/>
          <p:cNvPicPr/>
          <p:nvPr/>
        </p:nvPicPr>
        <p:blipFill>
          <a:blip r:embed="rId1"/>
          <a:stretch/>
        </p:blipFill>
        <p:spPr>
          <a:xfrm>
            <a:off x="7920" y="3435480"/>
            <a:ext cx="1574640" cy="14414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http://www.biosvyaz.com/produkciya/pbr/1.jpg"/>
          <p:cNvPicPr/>
          <p:nvPr/>
        </p:nvPicPr>
        <p:blipFill>
          <a:blip r:embed="rId2"/>
          <a:stretch/>
        </p:blipFill>
        <p:spPr>
          <a:xfrm>
            <a:off x="179280" y="5273640"/>
            <a:ext cx="2086200" cy="144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https://sb001.win.agava.net:8443/sitebuilder/sites/d1/d1820a0ac36b5e8b0cc9cc52fe940c7d/attachments/Image/%3DD0%3DB0%3DD0%3DB8%3DD1%3D81%3DD1%3D82%3D20%3DD1%3D81%3D20%3DD0%3DBC%3DD0%3DBB%3DD0%3DB0%3DD0%3DB4%3DD0%3DB5%3DD0%3DBD%3DD1%3D86%3DD0%3DB5%3DD0%3DBC.jpg?1421942869640"/>
          <p:cNvPicPr/>
          <p:nvPr/>
        </p:nvPicPr>
        <p:blipFill>
          <a:blip r:embed="rId3"/>
          <a:stretch/>
        </p:blipFill>
        <p:spPr>
          <a:xfrm>
            <a:off x="2195640" y="4319640"/>
            <a:ext cx="1852560" cy="19080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Рисунок 7" descr="Практика пренатальной психологии и семья"/>
          <p:cNvPicPr/>
          <p:nvPr/>
        </p:nvPicPr>
        <p:blipFill>
          <a:blip r:embed="rId4"/>
          <a:stretch/>
        </p:blipFill>
        <p:spPr>
          <a:xfrm>
            <a:off x="4048200" y="3303720"/>
            <a:ext cx="2171520" cy="1549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204" name="Picture 12" descr="Картинки по запросу картинки ступенек, лесенок"/>
          <p:cNvPicPr/>
          <p:nvPr/>
        </p:nvPicPr>
        <p:blipFill>
          <a:blip r:embed="rId5"/>
          <a:stretch/>
        </p:blipFill>
        <p:spPr>
          <a:xfrm>
            <a:off x="6138720" y="2146320"/>
            <a:ext cx="1438560" cy="2160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Картинки по запросу картинки ступенек, лесенок"/>
          <p:cNvPicPr/>
          <p:nvPr/>
        </p:nvPicPr>
        <p:blipFill>
          <a:blip r:embed="rId6"/>
          <a:stretch/>
        </p:blipFill>
        <p:spPr>
          <a:xfrm>
            <a:off x="7164360" y="549360"/>
            <a:ext cx="1830240" cy="147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ffff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4200" y="1285920"/>
            <a:ext cx="878544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Актуальность: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оздание сенсорно-игрового центра в рамках проекта учреждения «Детский сад-Центр детства»  обусловлено   повышением гибкости и многообразия форм предоставления услуг системы дошкольного образования, который  обеспечит поддержку и более полное использование образовательного потенциала учреждения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Особенность, новизна: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в рамках реализации проекта учреждения планируется осуществление преемственности в работе с женской консультацией и детской поликлиникой, открытие кабинета БОС для работы с будущими мамами, совместная работа с их детьми в «Школе раннего развития» до их поступления в дошкольное учреждение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Цель: 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оздание сенсорно-игрового центра для развития базовых психических процессов и укрепления психического здоровья  детей раннего и дошкольного возраста, психологическое сопровождение будущих мам и обучение навыкам общения с детьми раннего возраста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37" descr="MCj04298150000[1]"/>
          <p:cNvPicPr/>
          <p:nvPr/>
        </p:nvPicPr>
        <p:blipFill>
          <a:blip r:embed="rId1"/>
          <a:stretch/>
        </p:blipFill>
        <p:spPr>
          <a:xfrm>
            <a:off x="7369200" y="0"/>
            <a:ext cx="1574640" cy="14414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99b3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Овал 12"/>
          <p:cNvSpPr/>
          <p:nvPr/>
        </p:nvSpPr>
        <p:spPr>
          <a:xfrm>
            <a:off x="0" y="5715000"/>
            <a:ext cx="2857680" cy="10000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Кабинет БОС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«Школа будущих мам»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7418520" y="0"/>
            <a:ext cx="1579320" cy="1438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1560" y="299880"/>
            <a:ext cx="6264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одель Сенсорно-игрового центра «Лесенка»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Овал 11"/>
          <p:cNvSpPr/>
          <p:nvPr/>
        </p:nvSpPr>
        <p:spPr>
          <a:xfrm>
            <a:off x="1143000" y="5000760"/>
            <a:ext cx="2786040" cy="9284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«Школа раннего развития»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(от6м.до 1г</a:t>
            </a: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.)  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Овал 17"/>
          <p:cNvSpPr/>
          <p:nvPr/>
        </p:nvSpPr>
        <p:spPr>
          <a:xfrm>
            <a:off x="2143080" y="4143240"/>
            <a:ext cx="2786040" cy="10717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ЦИПР «МЫ»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(от1г. до 2 лет)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Овал 19"/>
          <p:cNvSpPr/>
          <p:nvPr/>
        </p:nvSpPr>
        <p:spPr>
          <a:xfrm>
            <a:off x="3500280" y="3357720"/>
            <a:ext cx="2571840" cy="107136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«Мамина школа»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Arial"/>
              </a:rPr>
              <a:t>(с 2л. До 3л.)</a:t>
            </a:r>
            <a:endParaRPr b="0" i="1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Овал 18"/>
          <p:cNvSpPr/>
          <p:nvPr/>
        </p:nvSpPr>
        <p:spPr>
          <a:xfrm>
            <a:off x="4857840" y="2571840"/>
            <a:ext cx="2714400" cy="1214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Игровые сеансы для детей младшего возраста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Овал 20"/>
          <p:cNvSpPr/>
          <p:nvPr/>
        </p:nvSpPr>
        <p:spPr>
          <a:xfrm>
            <a:off x="5786280" y="1571760"/>
            <a:ext cx="3357720" cy="1214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Arial"/>
              </a:rPr>
              <a:t>Занятия с детьми среднего, старшего дошкольного возраста </a:t>
            </a:r>
            <a:endParaRPr b="0" i="1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4000"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9080" y="1988640"/>
            <a:ext cx="8243640" cy="20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Спасибо за внимание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До новых встреч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 spd="slow" advTm="4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29:54Z</dcterms:created>
  <dc:creator>user</dc:creator>
  <dc:description/>
  <dc:language>en-US</dc:language>
  <cp:lastModifiedBy>Admin</cp:lastModifiedBy>
  <dcterms:modified xsi:type="dcterms:W3CDTF">2020-11-20T19:25:45Z</dcterms:modified>
  <cp:revision>145</cp:revision>
  <dc:subject/>
  <dc:title>Слайд 1</dc:title>
</cp:coreProperties>
</file>