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15.jpeg" ContentType="image/jpeg"/>
  <Override PartName="/ppt/media/image3.wmf" ContentType="image/x-wmf"/>
  <Override PartName="/ppt/media/image13.jpeg" ContentType="image/jpeg"/>
  <Override PartName="/ppt/media/image10.jpeg" ContentType="image/jpeg"/>
  <Override PartName="/ppt/media/image8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AF24A-9DA1-4CA8-B1A4-41B39A646E4B}" type="slidenum">
              <a:rPr b="0" i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0AFE6-C5B8-4D38-8E12-DA5B5FF07B38}" type="slidenum">
              <a:rPr b="0" i="1" lang="ru-RU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D780-FEA0-49E4-99D6-26DA3E2F3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8A88-8BEE-4D41-862E-60260DEAD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102C-4D2F-4828-85FC-0515F258C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A030-1B4D-473D-A334-D47D7C06A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C25C1-A484-4562-9569-76AA26A31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31ED3-EF2C-48B4-A725-BE87E7796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0F296-7EF0-400B-A549-51D8304D7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EEB7B-175D-4D7C-A7DD-E6AAA08B6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6E387-19FD-4B4A-A2F3-E9F88F232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EE245-3889-42DB-BD54-F7E0155D4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01E85-8584-42A2-9A9D-2E4E1E77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A39A-BE59-4F55-AA9F-0852E4530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02A49-FAF3-402D-AE33-C1CDD625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FB9C1-48C3-4E66-8AED-AE107D37C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E77D9-1AC0-42AF-8053-5847D7E9B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4A8F8-25FF-43DD-AF0D-AC8C72ED4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445EB-4445-4104-A58E-834CD9544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1100-3C33-45C6-B8CA-5A9611973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079F-8C81-4E83-9E23-55425A12F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4D29-65C2-462F-8F16-B1A410978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CF71-7C51-4F5D-B592-D3908BE18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B9B3-4795-493D-BF16-F9F975626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B9D9-0B8A-4A08-AA7B-59A7E9666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6BE2-D936-44EF-ABCE-8415BFE5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9040"/>
              <a:chOff x="-1080" y="2601000"/>
              <a:chExt cx="2687400" cy="311904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3200" y="4050360"/>
                <a:ext cx="1833120" cy="1669680"/>
                <a:chOff x="853200" y="4050360"/>
                <a:chExt cx="1833120" cy="166968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77640" y="3932280"/>
                  <a:ext cx="477360" cy="1250280"/>
                </a:xfrm>
                <a:custGeom>
                  <a:avLst/>
                  <a:gdLst>
                    <a:gd name="textAreaLeft" fmla="*/ 360 w 477360"/>
                    <a:gd name="textAreaRight" fmla="*/ 478080 w 477360"/>
                    <a:gd name="textAreaTop" fmla="*/ 0 h 1250280"/>
                    <a:gd name="textAreaBottom" fmla="*/ 1250640 h 125028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72400" y="4978440"/>
                  <a:ext cx="110520" cy="513000"/>
                </a:xfrm>
                <a:custGeom>
                  <a:avLst/>
                  <a:gdLst>
                    <a:gd name="textAreaLeft" fmla="*/ -360 w 110520"/>
                    <a:gd name="textAreaRight" fmla="*/ 110520 w 110520"/>
                    <a:gd name="textAreaTop" fmla="*/ 0 h 513000"/>
                    <a:gd name="textAreaBottom" fmla="*/ 513360 h 51300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498400" y="5565600"/>
                  <a:ext cx="200880" cy="89280"/>
                </a:xfrm>
                <a:custGeom>
                  <a:avLst/>
                  <a:gdLst>
                    <a:gd name="textAreaLeft" fmla="*/ 360 w 200880"/>
                    <a:gd name="textAreaRight" fmla="*/ 201600 w 200880"/>
                    <a:gd name="textAreaTop" fmla="*/ 0 h 89280"/>
                    <a:gd name="textAreaBottom" fmla="*/ 89640 h 8928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i="1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i="1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i="1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i="1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E5F03-D4EF-488D-AD81-35796F7CEFA7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040" cy="6858000"/>
            <a:chOff x="-20160" y="0"/>
            <a:chExt cx="90500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399280" y="63720"/>
              <a:ext cx="3630600" cy="6141240"/>
              <a:chOff x="5399280" y="63720"/>
              <a:chExt cx="3630600" cy="614124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5480" y="348120"/>
                <a:ext cx="2111400" cy="2355840"/>
              </a:xfrm>
              <a:custGeom>
                <a:avLst/>
                <a:gdLst>
                  <a:gd name="textAreaLeft" fmla="*/ 0 w 2111400"/>
                  <a:gd name="textAreaRight" fmla="*/ 2111760 w 2111400"/>
                  <a:gd name="textAreaTop" fmla="*/ 0 h 2355840"/>
                  <a:gd name="textAreaBottom" fmla="*/ 2355840 h 235584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19600" y="1968480"/>
                <a:ext cx="904320" cy="841680"/>
              </a:xfrm>
              <a:custGeom>
                <a:avLst/>
                <a:gdLst>
                  <a:gd name="textAreaLeft" fmla="*/ 0 w 904320"/>
                  <a:gd name="textAreaRight" fmla="*/ 904680 w 904320"/>
                  <a:gd name="textAreaTop" fmla="*/ 360 h 841680"/>
                  <a:gd name="textAreaBottom" fmla="*/ 842400 h 84168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680" y="2590200"/>
                <a:ext cx="438480" cy="394920"/>
              </a:xfrm>
              <a:custGeom>
                <a:avLst/>
                <a:gdLst>
                  <a:gd name="textAreaLeft" fmla="*/ 0 w 438480"/>
                  <a:gd name="textAreaRight" fmla="*/ 438840 w 438480"/>
                  <a:gd name="textAreaTop" fmla="*/ -360 h 394920"/>
                  <a:gd name="textAreaBottom" fmla="*/ 394920 h 39492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560" y="674280"/>
                <a:ext cx="388080" cy="551160"/>
              </a:xfrm>
              <a:custGeom>
                <a:avLst/>
                <a:gdLst>
                  <a:gd name="textAreaLeft" fmla="*/ 0 w 388080"/>
                  <a:gd name="textAreaRight" fmla="*/ 388440 w 388080"/>
                  <a:gd name="textAreaTop" fmla="*/ -360 h 551160"/>
                  <a:gd name="textAreaBottom" fmla="*/ 551160 h 55116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40960" y="2657160"/>
                <a:ext cx="163440" cy="33084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-360 h 330840"/>
                  <a:gd name="textAreaBottom" fmla="*/ 330840 h 33084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0520" y="1245960"/>
                <a:ext cx="189720" cy="142920"/>
              </a:xfrm>
              <a:custGeom>
                <a:avLst/>
                <a:gdLst>
                  <a:gd name="textAreaLeft" fmla="*/ 0 w 189720"/>
                  <a:gd name="textAreaRight" fmla="*/ 190080 w 189720"/>
                  <a:gd name="textAreaTop" fmla="*/ -360 h 142920"/>
                  <a:gd name="textAreaBottom" fmla="*/ 142920 h 14292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29560" y="2944800"/>
                <a:ext cx="522360" cy="3266280"/>
              </a:xfrm>
              <a:custGeom>
                <a:avLst/>
                <a:gdLst>
                  <a:gd name="textAreaLeft" fmla="*/ 0 w 522360"/>
                  <a:gd name="textAreaRight" fmla="*/ 522720 w 522360"/>
                  <a:gd name="textAreaTop" fmla="*/ -360 h 3266280"/>
                  <a:gd name="textAreaBottom" fmla="*/ 3266280 h 326628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>
                <a:gd name="textAreaLeft" fmla="*/ 360 w 512640"/>
                <a:gd name="textAreaRight" fmla="*/ 513360 w 512640"/>
                <a:gd name="textAreaTop" fmla="*/ 0 h 1030680"/>
                <a:gd name="textAreaBottom" fmla="*/ 1031040 h 103068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9080" cy="2432160"/>
            </a:xfrm>
            <a:custGeom>
              <a:avLst/>
              <a:gdLst>
                <a:gd name="textAreaLeft" fmla="*/ 0 w 1999080"/>
                <a:gd name="textAreaRight" fmla="*/ 1999440 w 199908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>
                <a:gd name="textAreaLeft" fmla="*/ 0 w 1271520"/>
                <a:gd name="textAreaRight" fmla="*/ 1271880 w 12715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>
                <a:gd name="textAreaLeft" fmla="*/ -360 w 561960"/>
                <a:gd name="textAreaRight" fmla="*/ 561960 w 56196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>
                <a:gd name="textAreaLeft" fmla="*/ 360 w 138240"/>
                <a:gd name="textAreaRight" fmla="*/ 138960 w 13824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640" y="5195880"/>
              <a:ext cx="1758960" cy="1662120"/>
            </a:xfrm>
            <a:custGeom>
              <a:avLst/>
              <a:gdLst>
                <a:gd name="textAreaLeft" fmla="*/ 0 w 1758960"/>
                <a:gd name="textAreaRight" fmla="*/ 1759320 w 175896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51520" y="1033200"/>
              <a:ext cx="1015560" cy="1262520"/>
              <a:chOff x="4151520" y="1033200"/>
              <a:chExt cx="1015560" cy="126252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5880" y="1071000"/>
                <a:ext cx="285840" cy="378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720"/>
                  <a:gd name="textAreaBottom" fmla="*/ 379080 h 378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50840" y="1604160"/>
                <a:ext cx="488880" cy="31464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640"/>
                  <a:gd name="textAreaBottom" fmla="*/ 315000 h 314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11560" y="1962000"/>
                <a:ext cx="511200" cy="16020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2640" y="281880"/>
              <a:ext cx="897840" cy="820080"/>
              <a:chOff x="5642640" y="281880"/>
              <a:chExt cx="897840" cy="82008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3520" y="769680"/>
                <a:ext cx="181440" cy="362160"/>
              </a:xfrm>
              <a:custGeom>
                <a:avLst/>
                <a:gdLst>
                  <a:gd name="textAreaLeft" fmla="*/ 0 w 181440"/>
                  <a:gd name="textAreaRight" fmla="*/ 181800 w 181440"/>
                  <a:gd name="textAreaTop" fmla="*/ 0 h 362160"/>
                  <a:gd name="textAreaBottom" fmla="*/ 362520 h 3621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2760" y="453240"/>
                <a:ext cx="311400" cy="300600"/>
              </a:xfrm>
              <a:custGeom>
                <a:avLst/>
                <a:gdLst>
                  <a:gd name="textAreaLeft" fmla="*/ 0 w 311400"/>
                  <a:gd name="textAreaRight" fmla="*/ 311760 w 31140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7440" y="384120"/>
                <a:ext cx="324360" cy="153000"/>
              </a:xfrm>
              <a:custGeom>
                <a:avLst/>
                <a:gdLst>
                  <a:gd name="textAreaLeft" fmla="*/ 0 w 324360"/>
                  <a:gd name="textAreaRight" fmla="*/ 324720 w 32436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50600"/>
              <a:ext cx="1059480" cy="833760"/>
              <a:chOff x="968760" y="5250600"/>
              <a:chExt cx="1059480" cy="83376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080" y="5513040"/>
                <a:ext cx="250920" cy="30168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301680"/>
                  <a:gd name="textAreaBottom" fmla="*/ 302040 h 30168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5560" y="5727960"/>
                <a:ext cx="429840" cy="250560"/>
              </a:xfrm>
              <a:custGeom>
                <a:avLst/>
                <a:gdLst>
                  <a:gd name="textAreaLeft" fmla="*/ 0 w 429840"/>
                  <a:gd name="textAreaRight" fmla="*/ 430200 w 429840"/>
                  <a:gd name="textAreaTop" fmla="*/ 0 h 250560"/>
                  <a:gd name="textAreaBottom" fmla="*/ 250920 h 2505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74800"/>
                <a:ext cx="449280" cy="127440"/>
              </a:xfrm>
              <a:custGeom>
                <a:avLst/>
                <a:gdLst>
                  <a:gd name="textAreaLeft" fmla="*/ 0 w 449280"/>
                  <a:gd name="textAreaRight" fmla="*/ 449640 w 449280"/>
                  <a:gd name="textAreaTop" fmla="*/ 0 h 127440"/>
                  <a:gd name="textAreaBottom" fmla="*/ 127800 h 1274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25880"/>
              <a:ext cx="1690560" cy="1146600"/>
              <a:chOff x="375840" y="425880"/>
              <a:chExt cx="169056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440" y="10443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3120" y="56952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08360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405920" y="3712320"/>
              <a:ext cx="1156320" cy="1607760"/>
              <a:chOff x="740592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6064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11360" y="445536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604280" y="378144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480" y="3240"/>
              <a:ext cx="1368360" cy="1406520"/>
            </a:xfrm>
            <a:custGeom>
              <a:avLst/>
              <a:gdLst>
                <a:gd name="textAreaLeft" fmla="*/ 0 w 1368360"/>
                <a:gd name="textAreaRight" fmla="*/ 1368720 w 1368360"/>
                <a:gd name="textAreaTop" fmla="*/ 0 h 1406520"/>
                <a:gd name="textAreaBottom" fmla="*/ 1406520 h 1406520"/>
              </a:gdLst>
              <a:ahLst/>
              <a:rect l="textAreaLeft" t="textAreaTop" r="textAreaRight" b="textAreaBottom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760" y="161280"/>
              <a:ext cx="1081080" cy="941400"/>
            </a:xfrm>
            <a:custGeom>
              <a:avLst/>
              <a:gdLst>
                <a:gd name="textAreaLeft" fmla="*/ 0 w 1081080"/>
                <a:gd name="textAreaRight" fmla="*/ 1081440 w 108108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800" y="1361160"/>
              <a:ext cx="523800" cy="44100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880" y="1282320"/>
              <a:ext cx="195480" cy="37008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360 h 370080"/>
                <a:gd name="textAreaBottom" fmla="*/ 370800 h 370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5200" y="0"/>
              <a:ext cx="196920" cy="1922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9160" y="1964520"/>
              <a:ext cx="623880" cy="3651480"/>
            </a:xfrm>
            <a:custGeom>
              <a:avLst/>
              <a:gdLst>
                <a:gd name="textAreaLeft" fmla="*/ 0 w 623880"/>
                <a:gd name="textAreaRight" fmla="*/ 624240 w 62388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798F7-58BE-4655-A4FF-22A3DEA8ADE0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50000">
              <a:srgbClr val="ffff00"/>
            </a:gs>
            <a:gs pos="100000">
              <a:srgbClr val="ff66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C:\Users\Admin\Downloads\Фото детский сад.jpg"/>
          <p:cNvPicPr/>
          <p:nvPr/>
        </p:nvPicPr>
        <p:blipFill>
          <a:blip r:embed="rId1"/>
          <a:stretch/>
        </p:blipFill>
        <p:spPr>
          <a:xfrm>
            <a:off x="1279440" y="1847880"/>
            <a:ext cx="6529320" cy="4145040"/>
          </a:xfrm>
          <a:prstGeom prst="rect">
            <a:avLst/>
          </a:prstGeom>
          <a:ln w="0">
            <a:noFill/>
          </a:ln>
        </p:spPr>
      </p:pic>
      <p:sp>
        <p:nvSpPr>
          <p:cNvPr id="175" name="Прямоугольник 5"/>
          <p:cNvSpPr/>
          <p:nvPr/>
        </p:nvSpPr>
        <p:spPr>
          <a:xfrm>
            <a:off x="179280" y="189000"/>
            <a:ext cx="879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Bookman Old Style"/>
              </a:rPr>
              <a:t>Муниципальное дошкольное образовательное учреждение</a:t>
            </a:r>
            <a:endParaRPr b="0" i="1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Bookman Old Style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Bookman Old Style"/>
              </a:rPr>
              <a:t>«Улыбка» </a:t>
            </a:r>
            <a:endParaRPr b="0" i="1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76" name="Рисунок 9" descr=""/>
          <p:cNvPicPr/>
          <p:nvPr/>
        </p:nvPicPr>
        <p:blipFill>
          <a:blip r:embed="rId2"/>
          <a:stretch/>
        </p:blipFill>
        <p:spPr>
          <a:xfrm rot="21397200">
            <a:off x="307440" y="318960"/>
            <a:ext cx="982800" cy="976320"/>
          </a:xfrm>
          <a:prstGeom prst="rect">
            <a:avLst/>
          </a:prstGeom>
          <a:ln w="0">
            <a:noFill/>
          </a:ln>
        </p:spPr>
      </p:pic>
      <p:sp>
        <p:nvSpPr>
          <p:cNvPr id="177" name="Прямоугольник 10"/>
          <p:cNvSpPr/>
          <p:nvPr/>
        </p:nvSpPr>
        <p:spPr>
          <a:xfrm>
            <a:off x="353880" y="1341360"/>
            <a:ext cx="879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Bookman Old Style"/>
              </a:rPr>
              <a:t>Проект сенсорно-игровой центра «Лесенка»</a:t>
            </a:r>
            <a:endParaRPr b="0" i="1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8" name="Прямоугольник 11"/>
          <p:cNvSpPr/>
          <p:nvPr/>
        </p:nvSpPr>
        <p:spPr>
          <a:xfrm>
            <a:off x="4430160" y="6165720"/>
            <a:ext cx="49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Monotype Corsiva"/>
              </a:rPr>
              <a:t>Штепа Елена Георгиевна, педагог-психолог</a:t>
            </a:r>
            <a:endParaRPr b="0" i="1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 advTm="4000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50000">
              <a:srgbClr val="ffff00"/>
            </a:gs>
            <a:gs pos="100000">
              <a:srgbClr val="ff66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329760"/>
            <a:ext cx="8244000" cy="39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Verdana"/>
              </a:rPr>
              <a:t>Сенсорная комната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250560" y="736560"/>
            <a:ext cx="5376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         </a:t>
            </a:r>
            <a:r>
              <a:rPr b="0" lang="ru-RU" sz="2000" spc="-1" strike="noStrike">
                <a:solidFill>
                  <a:srgbClr val="0000ff"/>
                </a:solidFill>
                <a:latin typeface="Verdana"/>
              </a:rPr>
              <a:t>Открыта в 2007году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Verdana"/>
              </a:rPr>
              <a:t>В 2007 участвовала в районном конкурсе «Фестиваль инновационных методический идей».  Награждена   дипломом за 1 место в номинации «Инновация в дошкольном образовании»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Verdana"/>
              </a:rPr>
              <a:t>Была написана программа «Сенсорная комната в дошкольном учреждении»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Verdana"/>
              </a:rPr>
              <a:t>Цель: психическое оздоровление детей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Verdana"/>
              </a:rPr>
              <a:t>Задача: развитие психоэмоциональных, интеллектуальных, речевых функций, формирование коммуникативных навыков у детей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1" name="Picture 37" descr="MCj04298150000[1]"/>
          <p:cNvPicPr/>
          <p:nvPr/>
        </p:nvPicPr>
        <p:blipFill>
          <a:blip r:embed="rId1"/>
          <a:stretch/>
        </p:blipFill>
        <p:spPr>
          <a:xfrm>
            <a:off x="7569360" y="0"/>
            <a:ext cx="1574640" cy="14414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F:\Адапта\Фото Моя работа\Лена грамоты, свидетельства\12.jpg"/>
          <p:cNvPicPr/>
          <p:nvPr/>
        </p:nvPicPr>
        <p:blipFill>
          <a:blip r:embed="rId2"/>
          <a:stretch/>
        </p:blipFill>
        <p:spPr>
          <a:xfrm>
            <a:off x="5627520" y="1628640"/>
            <a:ext cx="3316320" cy="4680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50000">
              <a:srgbClr val="ffff00"/>
            </a:gs>
            <a:gs pos="100000">
              <a:srgbClr val="ff66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158400" y="285840"/>
            <a:ext cx="8785080" cy="58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Предпосылки и необходимость данного проекта (проблематика).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Verdana"/>
              </a:rPr>
              <a:t>Цель проекта «Детский сад-Центр детства» - обеспечение организационно-методических, кадровых и материально-технических условий для перехода на качественно новый уровень жизнедеятельности учреждения: детский сад- центр детства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Verdana"/>
              </a:rPr>
              <a:t>В планах развития учреждения на ближайшую перспективу - создание полноценно действующей инновационной модели дошкольного учреждения, соединяющей образовательную, воспитательную и оздоровительную деятельность в единый педагогический процесс с целью воспитания гармонично развитой личности на основе индивидуального подхода к каждому ребенку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4" name="Picture 37" descr="MCj04298150000[1]"/>
          <p:cNvPicPr/>
          <p:nvPr/>
        </p:nvPicPr>
        <p:blipFill>
          <a:blip r:embed="rId1"/>
          <a:stretch/>
        </p:blipFill>
        <p:spPr>
          <a:xfrm>
            <a:off x="7369200" y="0"/>
            <a:ext cx="1574640" cy="14414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50000">
              <a:srgbClr val="ffff00"/>
            </a:gs>
            <a:gs pos="100000">
              <a:srgbClr val="ff66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4280" y="1628280"/>
            <a:ext cx="8785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ff"/>
                </a:solidFill>
                <a:latin typeface="Verdana"/>
              </a:rPr>
              <a:t>               </a:t>
            </a:r>
            <a:r>
              <a:rPr b="0" lang="ru-RU" sz="1700" spc="-1" strike="noStrike">
                <a:solidFill>
                  <a:srgbClr val="0000ff"/>
                </a:solidFill>
                <a:latin typeface="Verdana"/>
              </a:rPr>
              <a:t>Мы мечтаем о создании сенсорно-игрового центра 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ff"/>
                </a:solidFill>
                <a:latin typeface="Verdana"/>
              </a:rPr>
              <a:t>                                     </a:t>
            </a:r>
            <a:r>
              <a:rPr b="1" lang="ru-RU" sz="1700" spc="-1" strike="noStrike">
                <a:solidFill>
                  <a:srgbClr val="0000ff"/>
                </a:solidFill>
                <a:latin typeface="Verdana"/>
              </a:rPr>
              <a:t>«Лесенка»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ff"/>
                </a:solidFill>
                <a:latin typeface="Verdana"/>
              </a:rPr>
              <a:t>          </a:t>
            </a:r>
            <a:r>
              <a:rPr b="0" lang="ru-RU" sz="1700" spc="-1" strike="noStrike">
                <a:solidFill>
                  <a:srgbClr val="0000ff"/>
                </a:solidFill>
                <a:latin typeface="Verdana"/>
              </a:rPr>
              <a:t>на основе многофункционального игрового, 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ff"/>
                </a:solidFill>
                <a:latin typeface="Verdana"/>
              </a:rPr>
              <a:t>     </a:t>
            </a:r>
            <a:r>
              <a:rPr b="0" lang="ru-RU" sz="1700" spc="-1" strike="noStrike">
                <a:solidFill>
                  <a:srgbClr val="0000ff"/>
                </a:solidFill>
                <a:latin typeface="Verdana"/>
              </a:rPr>
              <a:t>обучающего, развивающего и 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0" lang="ru-RU" sz="1700" spc="-1" strike="noStrike">
                <a:solidFill>
                  <a:srgbClr val="0000ff"/>
                </a:solidFill>
                <a:latin typeface="Verdana"/>
              </a:rPr>
              <a:t>релаксационного оборудования, 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6" name="Picture 37" descr="MCj04298150000[1]"/>
          <p:cNvPicPr/>
          <p:nvPr/>
        </p:nvPicPr>
        <p:blipFill>
          <a:blip r:embed="rId1"/>
          <a:stretch/>
        </p:blipFill>
        <p:spPr>
          <a:xfrm>
            <a:off x="7812000" y="-171360"/>
            <a:ext cx="1575000" cy="1441440"/>
          </a:xfrm>
          <a:prstGeom prst="rect">
            <a:avLst/>
          </a:prstGeom>
          <a:ln w="0">
            <a:noFill/>
          </a:ln>
        </p:spPr>
      </p:pic>
      <p:sp>
        <p:nvSpPr>
          <p:cNvPr id="187" name="Прямоугольник 1"/>
          <p:cNvSpPr/>
          <p:nvPr/>
        </p:nvSpPr>
        <p:spPr>
          <a:xfrm>
            <a:off x="12600" y="23760"/>
            <a:ext cx="849636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Проект будущего</a:t>
            </a:r>
            <a:br>
              <a:rPr sz="3600"/>
            </a:br>
            <a:r>
              <a:rPr b="1" i="1" lang="ru-RU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Сенсорно-игровой центр </a:t>
            </a: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«Лесенка»</a:t>
            </a:r>
            <a:br>
              <a:rPr sz="3200"/>
            </a:br>
            <a:endParaRPr b="0" i="1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88" name="Рисунок 14" descr="http://ds509.ucoz.ru/sensor/mo_19.02-24.jpg"/>
          <p:cNvPicPr/>
          <p:nvPr/>
        </p:nvPicPr>
        <p:blipFill>
          <a:blip r:embed="rId2"/>
          <a:srcRect l="0" t="34482" r="61877" b="0"/>
          <a:stretch/>
        </p:blipFill>
        <p:spPr>
          <a:xfrm>
            <a:off x="4354560" y="3267000"/>
            <a:ext cx="1392120" cy="17636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9" descr="http://im2-tub-ru.yandex.net/i?id=f3feb78e22d7a1c1226a2309c837efe2-02-16f-04507&amp;n=21"/>
          <p:cNvPicPr/>
          <p:nvPr/>
        </p:nvPicPr>
        <p:blipFill>
          <a:blip r:embed="rId3"/>
          <a:srcRect l="10809" t="0" r="21895" b="0"/>
          <a:stretch/>
        </p:blipFill>
        <p:spPr>
          <a:xfrm>
            <a:off x="5746680" y="2610000"/>
            <a:ext cx="1309680" cy="194436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90" name="Picture 10" descr="http://xn----8sbfmnvbj4aken.xn--p1ai/images/cms/thumbs/a5b0aeaa3fa7d6e58d75710c18673bd7ec6d5f6d/2641_640_222_291_340_340.jpg"/>
          <p:cNvPicPr/>
          <p:nvPr/>
        </p:nvPicPr>
        <p:blipFill>
          <a:blip r:embed="rId4"/>
          <a:stretch/>
        </p:blipFill>
        <p:spPr>
          <a:xfrm>
            <a:off x="7056360" y="1454040"/>
            <a:ext cx="2055960" cy="154800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4" descr="http://im3-tub-ru.yandex.net/i?id=cd2eadc9635f98d78350f39bd307a51f-03-144&amp;n=21"/>
          <p:cNvPicPr/>
          <p:nvPr/>
        </p:nvPicPr>
        <p:blipFill>
          <a:blip r:embed="rId5"/>
          <a:srcRect l="0" t="7685" r="3647" b="7659"/>
          <a:stretch/>
        </p:blipFill>
        <p:spPr>
          <a:xfrm>
            <a:off x="539640" y="5030640"/>
            <a:ext cx="1830600" cy="118908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  <p:pic>
        <p:nvPicPr>
          <p:cNvPr id="192" name="Picture 2" descr="http://im2-tub-ru.yandex.net/i?id=dc786b53107d9d2220c24b4d2f6a2712-48-144&amp;n=21"/>
          <p:cNvPicPr/>
          <p:nvPr/>
        </p:nvPicPr>
        <p:blipFill>
          <a:blip r:embed="rId6"/>
          <a:stretch/>
        </p:blipFill>
        <p:spPr>
          <a:xfrm>
            <a:off x="2509920" y="4387680"/>
            <a:ext cx="1733400" cy="118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 advTm="4000">
    <p:wheel spokes="8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50000">
              <a:srgbClr val="ffff00"/>
            </a:gs>
            <a:gs pos="100000">
              <a:srgbClr val="ff66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214200" y="214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Verdana"/>
              </a:rPr>
              <a:t>                          </a:t>
            </a:r>
            <a:r>
              <a:rPr b="0" lang="ru-RU" sz="1600" spc="-1" strike="noStrike">
                <a:solidFill>
                  <a:srgbClr val="0000ff"/>
                </a:solidFill>
                <a:latin typeface="Verdana"/>
              </a:rPr>
              <a:t>который будет включать не только психическое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Verdana"/>
              </a:rPr>
              <a:t>                      </a:t>
            </a:r>
            <a:r>
              <a:rPr b="0" lang="ru-RU" sz="1600" spc="-1" strike="noStrike">
                <a:solidFill>
                  <a:srgbClr val="0000ff"/>
                </a:solidFill>
                <a:latin typeface="Verdana"/>
              </a:rPr>
              <a:t>оздоровление детей, комплексное воздействие на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Verdana"/>
              </a:rPr>
              <a:t>               </a:t>
            </a:r>
            <a:r>
              <a:rPr b="0" lang="ru-RU" sz="1600" spc="-1" strike="noStrike">
                <a:solidFill>
                  <a:srgbClr val="0000ff"/>
                </a:solidFill>
                <a:latin typeface="Verdana"/>
              </a:rPr>
              <a:t>отстающие стороны сенсорной системы, нормализацию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Verdana"/>
              </a:rPr>
              <a:t>         </a:t>
            </a:r>
            <a:r>
              <a:rPr b="0" lang="ru-RU" sz="1600" spc="-1" strike="noStrike">
                <a:solidFill>
                  <a:srgbClr val="0000ff"/>
                </a:solidFill>
                <a:latin typeface="Verdana"/>
              </a:rPr>
              <a:t>эмоционального фона, гармоничного формирования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Verdana"/>
              </a:rPr>
              <a:t>   </a:t>
            </a:r>
            <a:r>
              <a:rPr b="0" lang="ru-RU" sz="1600" spc="-1" strike="noStrike">
                <a:solidFill>
                  <a:srgbClr val="0000ff"/>
                </a:solidFill>
                <a:latin typeface="Verdana"/>
              </a:rPr>
              <a:t>личности, обучения приемам регуляции и самоергуляции,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Verdana"/>
              </a:rPr>
              <a:t>получения детьми  навыков социального  общения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Verdana"/>
              </a:rPr>
              <a:t>и взаимодействия,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4" name="Picture 20" descr="Картинки по запросу картинки ступенек, лесенок"/>
          <p:cNvPicPr/>
          <p:nvPr/>
        </p:nvPicPr>
        <p:blipFill>
          <a:blip r:embed="rId1"/>
          <a:srcRect l="23172" t="0" r="10229" b="0"/>
          <a:stretch/>
        </p:blipFill>
        <p:spPr>
          <a:xfrm>
            <a:off x="214200" y="4857840"/>
            <a:ext cx="1643040" cy="18478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" descr="Картинки по запросу картинки ступенек, лесенок"/>
          <p:cNvPicPr/>
          <p:nvPr/>
        </p:nvPicPr>
        <p:blipFill>
          <a:blip r:embed="rId2"/>
          <a:srcRect l="8333" t="0" r="11092" b="0"/>
          <a:stretch/>
        </p:blipFill>
        <p:spPr>
          <a:xfrm>
            <a:off x="1785960" y="4071960"/>
            <a:ext cx="2071800" cy="21607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Картинки по запросу картинки ступенек, лесенок"/>
          <p:cNvPicPr/>
          <p:nvPr/>
        </p:nvPicPr>
        <p:blipFill>
          <a:blip r:embed="rId3"/>
          <a:stretch/>
        </p:blipFill>
        <p:spPr>
          <a:xfrm>
            <a:off x="3857760" y="2928960"/>
            <a:ext cx="1743120" cy="26193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8" descr="Картинки по запросу картинки ступенек, лесенок"/>
          <p:cNvPicPr/>
          <p:nvPr/>
        </p:nvPicPr>
        <p:blipFill>
          <a:blip r:embed="rId4"/>
          <a:stretch/>
        </p:blipFill>
        <p:spPr>
          <a:xfrm>
            <a:off x="5557680" y="179712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" descr="Картинки по запросу картинки ступенек, лесенок"/>
          <p:cNvPicPr/>
          <p:nvPr/>
        </p:nvPicPr>
        <p:blipFill>
          <a:blip r:embed="rId5"/>
          <a:srcRect l="11773" t="5684" r="13613" b="0"/>
          <a:stretch/>
        </p:blipFill>
        <p:spPr>
          <a:xfrm>
            <a:off x="7429680" y="214200"/>
            <a:ext cx="1357200" cy="23716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heel spokes="8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50000">
              <a:srgbClr val="ffff00"/>
            </a:gs>
            <a:gs pos="100000">
              <a:srgbClr val="ff66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179280" y="-360"/>
            <a:ext cx="8785440" cy="62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ff"/>
                </a:solidFill>
                <a:latin typeface="Verdana"/>
              </a:rPr>
              <a:t>                         </a:t>
            </a:r>
            <a:r>
              <a:rPr b="0" lang="ru-RU" sz="1700" spc="-1" strike="noStrike">
                <a:solidFill>
                  <a:srgbClr val="0000ff"/>
                </a:solidFill>
                <a:latin typeface="Verdana"/>
              </a:rPr>
              <a:t>но и для психофизиологической подготовки беременных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ff"/>
                </a:solidFill>
                <a:latin typeface="Verdana"/>
              </a:rPr>
              <a:t>                       </a:t>
            </a:r>
            <a:r>
              <a:rPr b="0" lang="ru-RU" sz="1700" spc="-1" strike="noStrike">
                <a:solidFill>
                  <a:srgbClr val="0000ff"/>
                </a:solidFill>
                <a:latin typeface="Verdana"/>
              </a:rPr>
              <a:t>к родам с применением метода БОС, 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ff"/>
                </a:solidFill>
                <a:latin typeface="Verdana"/>
              </a:rPr>
              <a:t>                    </a:t>
            </a:r>
            <a:r>
              <a:rPr b="0" lang="ru-RU" sz="1700" spc="-1" strike="noStrike">
                <a:solidFill>
                  <a:srgbClr val="0000ff"/>
                </a:solidFill>
                <a:latin typeface="Verdana"/>
              </a:rPr>
              <a:t>что позволит эффективно скорректировать 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ff"/>
                </a:solidFill>
                <a:latin typeface="Verdana"/>
              </a:rPr>
              <a:t>                 </a:t>
            </a:r>
            <a:r>
              <a:rPr b="0" lang="ru-RU" sz="1700" spc="-1" strike="noStrike">
                <a:solidFill>
                  <a:srgbClr val="0000ff"/>
                </a:solidFill>
                <a:latin typeface="Verdana"/>
              </a:rPr>
              <a:t>психоэмоциональное состояние женщины, 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ff"/>
                </a:solidFill>
                <a:latin typeface="Verdana"/>
              </a:rPr>
              <a:t>               </a:t>
            </a:r>
            <a:r>
              <a:rPr b="0" lang="ru-RU" sz="1700" spc="-1" strike="noStrike">
                <a:solidFill>
                  <a:srgbClr val="0000ff"/>
                </a:solidFill>
                <a:latin typeface="Verdana"/>
              </a:rPr>
              <a:t>снизить уровень тревожности, создать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ff"/>
                </a:solidFill>
                <a:latin typeface="Verdana"/>
              </a:rPr>
              <a:t>            </a:t>
            </a:r>
            <a:r>
              <a:rPr b="0" lang="ru-RU" sz="1700" spc="-1" strike="noStrike">
                <a:solidFill>
                  <a:srgbClr val="0000ff"/>
                </a:solidFill>
                <a:latin typeface="Verdana"/>
              </a:rPr>
              <a:t>благоприятную психологическую атмосферу 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ff"/>
                </a:solidFill>
                <a:latin typeface="Verdana"/>
              </a:rPr>
              <a:t>         </a:t>
            </a:r>
            <a:r>
              <a:rPr b="0" lang="ru-RU" sz="1700" spc="-1" strike="noStrike">
                <a:solidFill>
                  <a:srgbClr val="0000ff"/>
                </a:solidFill>
                <a:latin typeface="Verdana"/>
              </a:rPr>
              <a:t>для течения беременности и родов. 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ff"/>
                </a:solidFill>
                <a:latin typeface="Verdana"/>
              </a:rPr>
              <a:t>    </a:t>
            </a:r>
            <a:r>
              <a:rPr b="0" lang="ru-RU" sz="1700" spc="-1" strike="noStrike">
                <a:solidFill>
                  <a:srgbClr val="0000ff"/>
                </a:solidFill>
                <a:latin typeface="Verdana"/>
              </a:rPr>
              <a:t>Метод  БОС дает возможность рождать на свет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ru-RU" sz="1700" spc="-1" strike="noStrike">
                <a:solidFill>
                  <a:srgbClr val="0000ff"/>
                </a:solidFill>
                <a:latin typeface="Verdana"/>
              </a:rPr>
              <a:t>здоровое потомство. 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0" name="Picture 37" descr="MCj04298150000[1]"/>
          <p:cNvPicPr/>
          <p:nvPr/>
        </p:nvPicPr>
        <p:blipFill>
          <a:blip r:embed="rId1"/>
          <a:stretch/>
        </p:blipFill>
        <p:spPr>
          <a:xfrm>
            <a:off x="7920" y="3435480"/>
            <a:ext cx="1574640" cy="1441440"/>
          </a:xfrm>
          <a:prstGeom prst="rect">
            <a:avLst/>
          </a:prstGeom>
          <a:ln w="0">
            <a:noFill/>
          </a:ln>
        </p:spPr>
      </p:pic>
      <p:pic>
        <p:nvPicPr>
          <p:cNvPr id="201" name="Рисунок 3" descr="http://www.biosvyaz.com/produkciya/pbr/1.jpg"/>
          <p:cNvPicPr/>
          <p:nvPr/>
        </p:nvPicPr>
        <p:blipFill>
          <a:blip r:embed="rId2"/>
          <a:stretch/>
        </p:blipFill>
        <p:spPr>
          <a:xfrm>
            <a:off x="179280" y="5273640"/>
            <a:ext cx="2086200" cy="14400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3" descr="https://sb001.win.agava.net:8443/sitebuilder/sites/d1/d1820a0ac36b5e8b0cc9cc52fe940c7d/attachments/Image/%3DD0%3DB0%3DD0%3DB8%3DD1%3D81%3DD1%3D82%3D20%3DD1%3D81%3D20%3DD0%3DBC%3DD0%3DBB%3DD0%3DB0%3DD0%3DB4%3DD0%3DB5%3DD0%3DBD%3DD1%3D86%3DD0%3DB5%3DD0%3DBC.jpg?1421942869640"/>
          <p:cNvPicPr/>
          <p:nvPr/>
        </p:nvPicPr>
        <p:blipFill>
          <a:blip r:embed="rId3"/>
          <a:stretch/>
        </p:blipFill>
        <p:spPr>
          <a:xfrm>
            <a:off x="2195640" y="4319640"/>
            <a:ext cx="1852560" cy="190800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03" name="Рисунок 7" descr="Практика пренатальной психологии и семья"/>
          <p:cNvPicPr/>
          <p:nvPr/>
        </p:nvPicPr>
        <p:blipFill>
          <a:blip r:embed="rId4"/>
          <a:stretch/>
        </p:blipFill>
        <p:spPr>
          <a:xfrm>
            <a:off x="4048200" y="3303720"/>
            <a:ext cx="2171520" cy="15494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204" name="Picture 12" descr="Картинки по запросу картинки ступенек, лесенок"/>
          <p:cNvPicPr/>
          <p:nvPr/>
        </p:nvPicPr>
        <p:blipFill>
          <a:blip r:embed="rId5"/>
          <a:stretch/>
        </p:blipFill>
        <p:spPr>
          <a:xfrm>
            <a:off x="6138720" y="2146320"/>
            <a:ext cx="1438560" cy="21607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6" descr="Картинки по запросу картинки ступенек, лесенок"/>
          <p:cNvPicPr/>
          <p:nvPr/>
        </p:nvPicPr>
        <p:blipFill>
          <a:blip r:embed="rId6"/>
          <a:stretch/>
        </p:blipFill>
        <p:spPr>
          <a:xfrm>
            <a:off x="7164360" y="549360"/>
            <a:ext cx="1830240" cy="14745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heel spokes="8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50000">
              <a:srgbClr val="ffff00"/>
            </a:gs>
            <a:gs pos="100000">
              <a:srgbClr val="ff66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14200" y="1285920"/>
            <a:ext cx="8785440" cy="58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25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ff"/>
                </a:solidFill>
                <a:latin typeface="Verdana"/>
              </a:rPr>
              <a:t>Актуальность: </a:t>
            </a:r>
            <a:r>
              <a:rPr b="0" lang="ru-RU" sz="1700" spc="-1" strike="noStrike">
                <a:solidFill>
                  <a:srgbClr val="0000ff"/>
                </a:solidFill>
                <a:latin typeface="Verdana"/>
              </a:rPr>
              <a:t>создание сенсорно-игрового центра в рамках проекта учреждения «Детский сад-Центр детства»  обусловлено   повышением гибкости и многообразия форм предоставления услуг системы дошкольного образования, который  обеспечит поддержку и более полное использование образовательного потенциала учреждения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spcBef>
                <a:spcPts val="425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ff"/>
                </a:solidFill>
                <a:latin typeface="Verdana"/>
              </a:rPr>
              <a:t>Особенность, новизна: </a:t>
            </a:r>
            <a:r>
              <a:rPr b="0" lang="ru-RU" sz="1700" spc="-1" strike="noStrike">
                <a:solidFill>
                  <a:srgbClr val="0000ff"/>
                </a:solidFill>
                <a:latin typeface="Verdana"/>
              </a:rPr>
              <a:t>в рамках реализации проекта учреждения планируется осуществление преемственности в работе с женской консультацией и детской поликлиникой, открытие кабинета БОС для работы с будущими мамами, совместная работа с их детьми в «Школе раннего развития» до их поступления в дошкольное учреждение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spcBef>
                <a:spcPts val="425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ff"/>
                </a:solidFill>
                <a:latin typeface="Verdana"/>
              </a:rPr>
              <a:t>Цель: </a:t>
            </a:r>
            <a:r>
              <a:rPr b="0" lang="ru-RU" sz="1700" spc="-1" strike="noStrike">
                <a:solidFill>
                  <a:srgbClr val="0000ff"/>
                </a:solidFill>
                <a:latin typeface="Verdana"/>
              </a:rPr>
              <a:t>создание сенсорно-игрового центра для развития базовых психических процессов и укрепления психического здоровья  детей раннего и дошкольного возраста, психологическое сопровождение будущих мам и обучение навыкам общения с детьми раннего возраста. 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7" name="Picture 37" descr="MCj04298150000[1]"/>
          <p:cNvPicPr/>
          <p:nvPr/>
        </p:nvPicPr>
        <p:blipFill>
          <a:blip r:embed="rId1"/>
          <a:stretch/>
        </p:blipFill>
        <p:spPr>
          <a:xfrm>
            <a:off x="7369200" y="0"/>
            <a:ext cx="1574640" cy="14414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heel spokes="8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" dur="5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99b38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Овал 12"/>
          <p:cNvSpPr/>
          <p:nvPr/>
        </p:nvSpPr>
        <p:spPr>
          <a:xfrm>
            <a:off x="0" y="5715000"/>
            <a:ext cx="2857680" cy="100008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99"/>
                </a:solidFill>
                <a:latin typeface="Arial"/>
              </a:rPr>
              <a:t>Кабинет БОС</a:t>
            </a:r>
            <a:endParaRPr b="0" i="1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99"/>
                </a:solidFill>
                <a:latin typeface="Arial"/>
              </a:rPr>
              <a:t>«Школа будущих мам»</a:t>
            </a:r>
            <a:endParaRPr b="0" i="1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09" name="Picture 3" descr=""/>
          <p:cNvPicPr/>
          <p:nvPr/>
        </p:nvPicPr>
        <p:blipFill>
          <a:blip r:embed="rId1"/>
          <a:stretch/>
        </p:blipFill>
        <p:spPr>
          <a:xfrm>
            <a:off x="7418520" y="0"/>
            <a:ext cx="1579320" cy="14382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41560" y="299880"/>
            <a:ext cx="6264000" cy="8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Модель Сенсорно-игрового центра «Лесенка»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1" name="Овал 11"/>
          <p:cNvSpPr/>
          <p:nvPr/>
        </p:nvSpPr>
        <p:spPr>
          <a:xfrm>
            <a:off x="1143000" y="5000760"/>
            <a:ext cx="2786040" cy="92844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99"/>
                </a:solidFill>
                <a:latin typeface="Arial"/>
              </a:rPr>
              <a:t>«Школа раннего развития»</a:t>
            </a:r>
            <a:endParaRPr b="0" i="1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99"/>
                </a:solidFill>
                <a:latin typeface="Arial"/>
              </a:rPr>
              <a:t>(от6м.до 1г</a:t>
            </a:r>
            <a:r>
              <a:rPr b="1" i="1" lang="ru-RU" sz="1800" spc="-1" strike="noStrike">
                <a:solidFill>
                  <a:srgbClr val="006699"/>
                </a:solidFill>
                <a:latin typeface="Arial"/>
              </a:rPr>
              <a:t>.)  </a:t>
            </a:r>
            <a:endParaRPr b="0" i="1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2" name="Овал 17"/>
          <p:cNvSpPr/>
          <p:nvPr/>
        </p:nvSpPr>
        <p:spPr>
          <a:xfrm>
            <a:off x="2143080" y="4143240"/>
            <a:ext cx="2786040" cy="107172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99"/>
                </a:solidFill>
                <a:latin typeface="Arial"/>
              </a:rPr>
              <a:t>ЦИПР «МЫ»</a:t>
            </a:r>
            <a:endParaRPr b="0" i="1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99"/>
                </a:solidFill>
                <a:latin typeface="Arial"/>
              </a:rPr>
              <a:t>(от1г. до 2 лет)</a:t>
            </a:r>
            <a:endParaRPr b="0" i="1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3" name="Овал 19"/>
          <p:cNvSpPr/>
          <p:nvPr/>
        </p:nvSpPr>
        <p:spPr>
          <a:xfrm>
            <a:off x="3500280" y="3357720"/>
            <a:ext cx="2571840" cy="107136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99"/>
                </a:solidFill>
                <a:latin typeface="Arial"/>
              </a:rPr>
              <a:t>«Мамина школа»</a:t>
            </a:r>
            <a:endParaRPr b="0" i="1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99"/>
                </a:solidFill>
                <a:latin typeface="Arial"/>
              </a:rPr>
              <a:t>(с 2л. До 3л.)</a:t>
            </a:r>
            <a:endParaRPr b="0" i="1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4" name="Овал 18"/>
          <p:cNvSpPr/>
          <p:nvPr/>
        </p:nvSpPr>
        <p:spPr>
          <a:xfrm>
            <a:off x="4857840" y="2571840"/>
            <a:ext cx="2714400" cy="121428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99"/>
                </a:solidFill>
                <a:latin typeface="Arial"/>
              </a:rPr>
              <a:t>Игровые сеансы для детей младшего возраста</a:t>
            </a:r>
            <a:endParaRPr b="0" i="1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5" name="Овал 20"/>
          <p:cNvSpPr/>
          <p:nvPr/>
        </p:nvSpPr>
        <p:spPr>
          <a:xfrm>
            <a:off x="5786280" y="1571760"/>
            <a:ext cx="3357720" cy="121428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99"/>
                </a:solidFill>
                <a:latin typeface="Arial"/>
              </a:rPr>
              <a:t>Занятия с детьми среднего, старшего дошкольного возраста </a:t>
            </a:r>
            <a:endParaRPr b="0" i="1" lang="en-US" sz="16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 advTm="4000">
    <p:wheel spokes="8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49080" y="1988640"/>
            <a:ext cx="8243640" cy="203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Comic Sans MS"/>
              </a:rPr>
              <a:t>Спасибо за внимание!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ff"/>
                </a:solidFill>
                <a:latin typeface="Comic Sans MS"/>
              </a:rPr>
              <a:t>До новых встреч!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transition spd="slow" advTm="4000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09:29:54Z</dcterms:created>
  <dc:creator>user</dc:creator>
  <dc:description/>
  <dc:language>en-US</dc:language>
  <cp:lastModifiedBy>Admin</cp:lastModifiedBy>
  <dcterms:modified xsi:type="dcterms:W3CDTF">2020-11-20T19:25:45Z</dcterms:modified>
  <cp:revision>145</cp:revision>
  <dc:subject/>
  <dc:title>Слайд 1</dc:title>
</cp:coreProperties>
</file>