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3A9-5BE7-441A-B8DF-67B307A50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0A5-1D15-4C47-AEE5-FC21654368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6CB-3D48-4CA5-983D-6B8B7D46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057-E6E1-4757-AD0E-1F7FA354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37F-A44E-4247-BF14-1EFEC503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0DD-D071-4A6E-B73B-05D0F098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009-E3BB-45EC-88CF-C584D4B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A68-BCE0-4D98-AA18-33D189E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6B3-2D19-44C5-8956-52F6EE9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014-934E-4604-B3C0-A8074C7A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01E-32E3-492D-A3A0-9DF3018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919-3B97-4474-A7BB-F9DA7442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6D7-37DD-488F-801E-33ECA3E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E2E-22AF-42A4-8B09-B4A769B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4D2-245E-49FC-BDFB-F7F73975D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1714320"/>
            <a:ext cx="7643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ка памятки «Сохранение правильной осан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5" descr="http://ds16balahna.edusite.ru/images/67259002.png"/>
          <p:cNvPicPr/>
          <p:nvPr/>
        </p:nvPicPr>
        <p:blipFill>
          <a:blip r:embed="rId1"/>
          <a:stretch/>
        </p:blipFill>
        <p:spPr>
          <a:xfrm>
            <a:off x="3355920" y="3357720"/>
            <a:ext cx="21448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7120" y="35676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ОКОШКО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делаю окошечк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 посмотрю немножечк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вытянуть руки вверх, руки сцеплены в замок, задержаться в этом положении на счёт 2-4-6, вернуться в и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143840" y="642960"/>
            <a:ext cx="1063440" cy="157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500200" y="4143240"/>
            <a:ext cx="45658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КРУЖОЧ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руки к плечам. Круговые движения вперёд  (4 раза) и назад (4 раза), вернуться в и.п. Повторить 2-4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12840" y="4000680"/>
            <a:ext cx="54835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214280" y="3929040"/>
            <a:ext cx="70725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ТИЧ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руки и плечевой пояс, руки вперёд – в стороны – вперёд, вернуться в и.п. Повторить 2-4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8160" y="571320"/>
            <a:ext cx="83581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КУЛАЧ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вытянуть руки вперёд. Сжимать и разжимать кулаки на счёт 2-4-6-8-10, вернуться в и.п. Повторить 2-4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28880" y="3973680"/>
            <a:ext cx="5754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етям полезно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осить ранец, либо рюкзак с жесткой спинкой до 13-14 лет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кататься на велосипеде с правильно отрегулированной высотой руля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олзать на четвереньках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заниматься плаванием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развивать координацию движе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Не рекомендуетс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осить сумку на одном плеч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лительно ходить в кроссовках, т.к. в них нога перегревается, мышцы стопы расслабляются, что приводит к плоскостопию и как следствию – нарушению оса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анк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 – это привычная, непринужденная манера держать свое тело. Если она правильная, то фигура человека выглядит красивой, стройной, а походка легкой и упругой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сожалению, родители не всегда уделяют внимание формированию у ребенка правильной осанки. А ведь именно семья несет основную ответственность за формирование правильной осанки, являясь своеобразным «архитектором» фигуры ребенка.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50004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вным средством предупреждения нарушений осанки в дошкольном возрасте являются физические упражнения. Следует использовать словесные указания, показ, контроль за осанкой как со стороны взрослого, так и со стороны самого ребенк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 условиях семьи необходимо стремиться соблюдать тот же четкий распорядок дня и занятий детей, что и в детском саду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амят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Сохранение правильной осан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 ребенка должна быть своя мебель, соответствующая его росту (стол, стул, крова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гда ребенок сидит, ступни должны полностью касаться пола, ноги согнуты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нях под прямым углом. Следите, чтобы ребенок сидел прямо, опираясь на обе руки (нельзя, чтобы локоть свисал со стола)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откинуться на спинку стула; нель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лоняться низко над сто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е рекомендуется детям младшего возраста спать на кровати с прогибающейся сет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Лучше приучать детей спать на сп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братите внимание на то, чтобы дети не спали «калачиком» на боку с высокой подушкой, так как позвоночник прогибается и формируется неправильная осанка, появляется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Следите за походкой ребенка. Не следует широко шагать и сильно размахивать рук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одить носки в стороны, «шаркать» пятками, горбиться и раскачиваться. Та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ьба увеличивает напряжение мышц и вызывает быстрое утомление. Постарайтесь выходить чуть раньше, чтобы ребенку не пришлось бежать за родителями, которые тянут его за руку, чаще всего за одну и  ту же каждое утро. Все это может привести к дисбалансу мышечного корсета и нарушению оса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20" y="285840"/>
            <a:ext cx="8429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есколько оздоровительных упражнени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для красивой осан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КРЫЛЫШ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Крылышки» свои держу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ам, ребята, так скаж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ы попробуйте друзь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Удержаться так, как 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ежа на животе. Поднять голову и плечевой пояс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уки к плечам, ладони выпрямлены («крылышки»). Задержаться на счёт 2-4-6-8-10, вернуться в и.п. Повторить 2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643120" y="4857840"/>
            <a:ext cx="39308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АМОЛЁ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уки в стороны и во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Мы летим как само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ежа на животе. Поднять голову и плечевой пояс, развести руки в стороны, задержаться в этом положении на счёт 2-4-6-8-10, вернуться в и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171468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820880" y="4286160"/>
            <a:ext cx="5965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РОГНИС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уки на поясе, спинкой прогнусь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колько надо задержу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руки на поясе. Задержаться в этом положении на сч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-4-6-8-10, вернуться в и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28880" y="4357800"/>
            <a:ext cx="5288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50:39Z</dcterms:created>
  <dc:creator>Irishka</dc:creator>
  <dc:description/>
  <dc:language>en-US</dc:language>
  <cp:lastModifiedBy>Юлия</cp:lastModifiedBy>
  <dcterms:modified xsi:type="dcterms:W3CDTF">2020-11-20T10:23:32Z</dcterms:modified>
  <cp:revision>13</cp:revision>
  <dc:subject/>
  <dc:title>ПАМЯТКА ДЛЯ РОДИТЕЛЕЙ</dc:title>
</cp:coreProperties>
</file>