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1ABC-DB47-469D-9BBF-FA56A3A202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5A66-AE52-4947-8E51-59C3923937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039-3573-451B-A6F3-5CC77853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AF6-851A-4131-89BC-D23172A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B2E-DBF8-4924-B52E-2ADC521A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E07-6D66-41EB-AE78-23F8411C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81A-C07C-4D4F-9A54-FE0FEE5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5AB-88FE-4E89-87BF-F0DC852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3D7-6B25-41B2-AD19-096A8230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9806-E2DC-4D38-BEDC-E2823BC6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E48-CC84-4E03-9146-273BF608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88C-268A-43DF-B6A7-7524364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AFD-FEC9-47FB-9C11-256594D9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5D1-E7C0-43FB-9669-1EEC245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335-7FBC-4C06-80F4-50782C0B9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1714320"/>
            <a:ext cx="7643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ка памятки «Сохранение правильной осан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5" descr="http://ds16balahna.edusite.ru/images/67259002.png"/>
          <p:cNvPicPr/>
          <p:nvPr/>
        </p:nvPicPr>
        <p:blipFill>
          <a:blip r:embed="rId1"/>
          <a:stretch/>
        </p:blipFill>
        <p:spPr>
          <a:xfrm>
            <a:off x="3355920" y="3357720"/>
            <a:ext cx="21448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7120" y="35676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ОКОШКО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делаю окошечк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 посмотрю немножечк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вытянуть руки вверх, руки сцеплены в замок, задержаться в этом положении на счёт 2-4-6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143840" y="642960"/>
            <a:ext cx="1063440" cy="1571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2500200" y="4143240"/>
            <a:ext cx="45658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РУЖОЧ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руки к плечам. Круговые движения вперёд  (4 раза) и назад (4 раза)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12840" y="4000680"/>
            <a:ext cx="54835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214280" y="3929040"/>
            <a:ext cx="70725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ТИЧ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руки и плечевой пояс, руки вперёд – в стороны – вперёд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8160" y="571320"/>
            <a:ext cx="835812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УЛАЧ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вытянуть руки вперёд. Сжимать и разжимать кулаки на счёт 2-4-6-8-10, вернуться в и.п. Повторить 2-4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928880" y="3973680"/>
            <a:ext cx="5754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287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етям полезно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осить ранец, либо рюкзак с жесткой спинкой до 13-14 лет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кататься на велосипеде с правильно отрегулированной высотой руля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олзать на четвереньках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заниматься плаванием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азвивать координацию движен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Не рекомендуетс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осить сумку на одном плеч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длительно ходить в кроссовках, т.к. в них нога перегревается, мышцы стопы расслабляются, что приводит к плоскостопию и как следствию – нарушению оса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анк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 – это привычная, непринужденная манера держать свое тело. Если она правильная, то фигура человека выглядит красивой, стройной, а походка легкой и упругой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сожалению, родители не всегда уделяют внимание формированию у ребенка правильной осанки. А ведь именно семья несет основную ответственность за формирование правильной осанки, являясь своеобразным «архитектором» фигуры ребенка.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         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50004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лавным средством предупреждения нарушений осанки в дошкольном возрасте являются физические упражнения. Следует использовать словесные указания, показ, контроль за осанкой как со стороны взрослого, так и со стороны самого ребенк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 условиях семьи необходимо стремиться соблюдать тот же четкий распорядок дня и занятий детей, что и в детском саду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амят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Сохранение правильной осан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У ребенка должна быть своя мебель, соответствующая его росту (стол, стул, крова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гда ребенок сидит, ступни должны полностью касаться пола, ноги согнуты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енях под прямым углом. Следите, чтобы ребенок сидел прямо, опираясь на обе руки (нельзя, чтобы локоть свисал со стола);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откинуться на спинку стула; нель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лоняться низко над сто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е рекомендуется детям младшего возраста спать на кровати с прогибающейся сет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Лучше приучать детей спать на сп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Обратите внимание на то, чтобы дети не спали «калачиком» на боку с высокой подушкой, так как позвоночник прогибается и формируется неправильная осанка, появляется сколио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Следите за походкой ребенка. Не следует широко шагать и сильно размахивать рук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одить носки в стороны, «шаркать» пятками, горбиться и раскачиваться. Та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ьба увеличивает напряжение мышц и вызывает быстрое утомление. Постарайтесь выходить чуть раньше, чтобы ребенку не пришлось бежать за родителями, которые тянут его за руку, чаще всего за одну и  ту же каждое утро. Все это может привести к дисбалансу мышечного корсета и нарушению оса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57120" y="285840"/>
            <a:ext cx="8429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есколько оздоровительных упражнени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для красивой осанк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КРЫЛЫШ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Крылышки» свои держу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ам, ребята, так скаж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ы попробуйте друзь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Удержаться так, как 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ежа на животе. Поднять голову и плечевой пояс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уки к плечам, ладони выпрямлены («крылышки»). Задержаться на счёт 2-4-6-8-10, вернуться в и.п. Повторить 2 раз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643120" y="4857840"/>
            <a:ext cx="39308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САМОЛЁ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уки в стороны и во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Мы летим как самоле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ежа на животе. Поднять голову и плечевой пояс, развести руки в стороны, задержаться в этом положении на счёт 2-4-6-8-10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1714680" cy="13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820880" y="4286160"/>
            <a:ext cx="5965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7168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ГНИС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!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уки на поясе, спинкой прогнусь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колько надо задержу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.п. – лёжа на животе. Поднять голову и плечевой пояс, руки на поясе. Задержаться в этом положении на сче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-4-6-8-10, вернуться в и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28880" y="4357800"/>
            <a:ext cx="5288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50:39Z</dcterms:created>
  <dc:creator>Irishka</dc:creator>
  <dc:description/>
  <dc:language>en-US</dc:language>
  <cp:lastModifiedBy>Юлия</cp:lastModifiedBy>
  <dcterms:modified xsi:type="dcterms:W3CDTF">2020-11-20T10:23:32Z</dcterms:modified>
  <cp:revision>13</cp:revision>
  <dc:subject/>
  <dc:title>ПАМЯТКА ДЛЯ РОДИТЕЛЕЙ</dc:title>
</cp:coreProperties>
</file>