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984B-A825-4560-B5DD-930830808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E33E-02E4-4E6B-907C-8D9A2B8B6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7DC-8EB6-4E9A-B8BD-84EC76B6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972-70A2-420E-AFD7-BD157650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ABF-6915-4FBB-A459-ACE9FC1E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16B-C406-4EF2-88D6-450D6C5B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3F6-3977-44E8-A3EF-75D5CD20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F78-FB1F-495A-9C10-4E332B7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BC6-DC21-42FC-9172-CF505EA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915-297A-48BB-AFE1-68F052F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974-7088-4A4B-9435-DD3351F7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ECE-83CD-4D69-8444-0E1444A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FE9-AE8A-432E-8952-C959BE8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6EB-C5F6-416E-8E39-4ABA727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36B-4848-4F41-AA3C-C1A9D64DB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523880" y="1822320"/>
            <a:ext cx="9144000" cy="890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944640" y="5000760"/>
            <a:ext cx="5580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ппы  ЭГС-1-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мил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От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7459560" y="5000760"/>
            <a:ext cx="378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н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0920" y="438120"/>
            <a:ext cx="1285920" cy="1589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3381480" y="35712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10091880" y="336600"/>
            <a:ext cx="1152360" cy="166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44640" y="2786040"/>
            <a:ext cx="10677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СВАРОЧНЫЕ РАБОТЫ. РУЧНАЯ СВАР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СВАРОЧНЫЕ РАБОТЫ. МЕХАНИЗИРОВАННАЯ СВА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448000" y="743040"/>
            <a:ext cx="73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15.01.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щ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чной и частично механизированной сварки (наплавки)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72840" y="1538280"/>
            <a:ext cx="971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 СВАРОЧНЫЕ РАБОТЫ РУЧНАЯ СВАР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472840" y="1538280"/>
            <a:ext cx="971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СВАРОЧНЫЕ РАБОТЫ. МЕХАНИЗИРОВАННАЯ СВАРКА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55280" y="1275840"/>
            <a:ext cx="87836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чле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9T06:09:38Z</dcterms:created>
  <dc:creator>Admin</dc:creator>
  <dc:description/>
  <dc:language>en-US</dc:language>
  <cp:lastModifiedBy>Admin</cp:lastModifiedBy>
  <dcterms:modified xsi:type="dcterms:W3CDTF">2020-11-20T06:21:06Z</dcterms:modified>
  <cp:revision>6</cp:revision>
  <dc:subject/>
  <dc:title>ВЫПУСКНАЯ  КВАЛИФИКАЦИОННАЯ РАБОТА</dc:title>
</cp:coreProperties>
</file>