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52A-325A-41B3-8E2C-D930A81E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2030-5E6A-4092-8FCB-0E512D5B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F0E-9157-4591-8D1D-BEAE3C2B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A50-578D-4B58-806E-99E2872E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5116-742A-475A-86B8-0E8EE9B9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24EF-20FB-4880-86D0-A31E3AF5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5A44-3187-42C0-8806-55C444C6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F31A-49C6-4410-A476-5403B2B3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8152-696F-4BEB-A7E1-B5CDB728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DA85-0917-4B4F-A377-63E3C775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2AF3-51C4-4D69-B179-FFB374FF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FC05-1D93-47EC-A62F-7078DA1F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886D-A2E7-4989-9781-25DEE798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9C0F-3E8A-405D-9EA0-A939AE7E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2503-C2DE-4FA1-A655-04B24A15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018F-4FC7-48CA-A949-C6CD4CB3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AF49-1F01-436C-A1A9-BA0B46CA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A4B72-9A19-466B-B5A1-892275CD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9490E-E435-4AF0-A3CD-F832C4DA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F5294-AE32-4BC2-9625-6B150086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FB665-8F6F-406A-81AF-E756E123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B4843-ECD2-4CC2-BCCF-606BC010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1A3-AF6C-449D-A768-A8680733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7B654-9A4E-4EA0-9E68-F7AF2A7A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1B1E3-DC9C-4271-9C46-074985CE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83B9F-47F2-4687-86F6-2AEBDFE8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FC2D4-7834-42D2-A09A-184DCD2E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2254F-A6CA-47C4-ADB6-85DDFB53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29069-CD1E-4CB9-8D79-CF1D489D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79C46-97F5-4BB8-BD8F-B45B1F91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248CF-84F6-4DB9-92B2-72DE774F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B1E26-FFE5-482E-98A2-2B0AA5A6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01DB1-17C1-4770-94E3-C5BFA2D1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2363-F8ED-4A58-B1DA-215FE889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302FF-590C-4CA1-AD72-5C3E8821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60DBD-9E51-48CE-88ED-9DC8B491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5D547-6C7F-4EB9-96A6-C9E018E5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BC0F0-D854-4A92-8961-70CC906D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15176-AF71-4FF0-9566-DB93D5A9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BD8F8-95C3-4CF9-94D0-C43CB46C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782DD-9135-4548-86CA-9B84CEE0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D2450-0C5A-44AA-8975-BB86FA5E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67C86-409B-486B-BF9C-453E5FA9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A3E-2F3F-42FB-AEE1-FDF0342E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24B7-54AE-4F74-A494-6F4563F6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31D-B91E-4C1D-A0A2-9F70CBED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C27-4BA1-4EC8-9169-6846FFF3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A87F-38E9-4383-938E-FD5DE424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609C-37B5-429C-8D89-7DEFF2AE31E2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C172-D19D-4923-A8E6-FE755A10F370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9018-1040-4676-8FE8-8F0CA64774B8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0D3A-394D-4CCA-9C92-8EE54837C8C1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molsk.ru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12192120" cy="114624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5"/>
          <p:cNvSpPr/>
          <p:nvPr/>
        </p:nvSpPr>
        <p:spPr>
          <a:xfrm>
            <a:off x="762120" y="5000760"/>
            <a:ext cx="5905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удент группы  МС-1-1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ьянце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гений Виталь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7"/>
          <p:cNvSpPr/>
          <p:nvPr/>
        </p:nvSpPr>
        <p:spPr>
          <a:xfrm>
            <a:off x="7143840" y="5000760"/>
            <a:ext cx="504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ьяно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рина Анато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Рисунок 8" descr="http://www.smolsk.ru/img/smolbuidcolledg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57120"/>
            <a:ext cx="1714680" cy="142884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10"/>
          <p:cNvSpPr/>
          <p:nvPr/>
        </p:nvSpPr>
        <p:spPr>
          <a:xfrm>
            <a:off x="2476440" y="428760"/>
            <a:ext cx="75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БПОУ «Смоленский строительный колледж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9" descr="D:\ЕЛЕНА\картинки\Гербы Смоленска\Герб Смоленска красный.bmp"/>
          <p:cNvPicPr/>
          <p:nvPr/>
        </p:nvPicPr>
        <p:blipFill>
          <a:blip r:embed="rId4"/>
          <a:stretch/>
        </p:blipFill>
        <p:spPr>
          <a:xfrm>
            <a:off x="10382400" y="285840"/>
            <a:ext cx="1538280" cy="1463760"/>
          </a:xfrm>
          <a:prstGeom prst="rect">
            <a:avLst/>
          </a:prstGeom>
          <a:ln w="0">
            <a:noFill/>
          </a:ln>
        </p:spPr>
      </p:pic>
      <p:pic>
        <p:nvPicPr>
          <p:cNvPr id="197" name="Rectangle 2" descr=""/>
          <p:cNvPicPr/>
          <p:nvPr/>
        </p:nvPicPr>
        <p:blipFill>
          <a:blip r:embed="rId5"/>
          <a:stretch/>
        </p:blipFill>
        <p:spPr>
          <a:xfrm>
            <a:off x="858960" y="2712960"/>
            <a:ext cx="10856880" cy="21448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"/>
          <p:cNvSpPr/>
          <p:nvPr/>
        </p:nvSpPr>
        <p:spPr>
          <a:xfrm>
            <a:off x="4000680" y="858960"/>
            <a:ext cx="428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ия: 08.01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тер сухого строитель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000" y="477720"/>
            <a:ext cx="104137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ТЕХНОЛОГИЯ КРЕПЛЕНИЯ ПАНЕЛЕЙ, ОБЛИЦОВАННЫХ ШПОНОМ ИЗ ЦЕННЫХ ПОРОД ДРЕВЕСИНЫ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4000" y="3209760"/>
            <a:ext cx="8421480" cy="13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 Подготовка помещения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2 Способы крепления панелей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3 Соединение и монтаж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8" name="Объект 3" descr=""/>
          <p:cNvPicPr/>
          <p:nvPr/>
        </p:nvPicPr>
        <p:blipFill>
          <a:blip r:embed="rId1"/>
          <a:stretch/>
        </p:blipFill>
        <p:spPr>
          <a:xfrm>
            <a:off x="684360" y="0"/>
            <a:ext cx="10451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0" name="Объект 3" descr=""/>
          <p:cNvPicPr/>
          <p:nvPr/>
        </p:nvPicPr>
        <p:blipFill>
          <a:blip r:embed="rId1"/>
          <a:stretch/>
        </p:blipFill>
        <p:spPr>
          <a:xfrm>
            <a:off x="684360" y="0"/>
            <a:ext cx="10426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2" name="Объект 3" descr=""/>
          <p:cNvPicPr/>
          <p:nvPr/>
        </p:nvPicPr>
        <p:blipFill>
          <a:blip r:embed="rId1"/>
          <a:stretch/>
        </p:blipFill>
        <p:spPr>
          <a:xfrm>
            <a:off x="684360" y="0"/>
            <a:ext cx="10413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880" y="225360"/>
            <a:ext cx="9288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ТЕХНОЛОГИЯ ОКРАШИВАНИЯ ПОВЕРХНОСТЕ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ЕЕВЫМИ СОСТАВАМ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523520" y="2185560"/>
            <a:ext cx="10225080" cy="267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 Приготовление состава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 Указания к работе и инструменты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3 Подготовка и окрашивание старых поверхностей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4 Подготовка и окрашивание новых поверхностей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5 Дефекты работы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6 Техника безопасности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000" y="4849560"/>
            <a:ext cx="1041372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2" name="Объект 3" descr=""/>
          <p:cNvPicPr/>
          <p:nvPr/>
        </p:nvPicPr>
        <p:blipFill>
          <a:blip r:embed="rId1"/>
          <a:srcRect l="0" t="0" r="-296" b="5650"/>
          <a:stretch/>
        </p:blipFill>
        <p:spPr>
          <a:xfrm>
            <a:off x="871560" y="0"/>
            <a:ext cx="10404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Объект 6" descr=""/>
          <p:cNvPicPr/>
          <p:nvPr/>
        </p:nvPicPr>
        <p:blipFill>
          <a:blip r:embed="rId1"/>
          <a:stretch/>
        </p:blipFill>
        <p:spPr>
          <a:xfrm>
            <a:off x="684360" y="0"/>
            <a:ext cx="10539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6" name="Объект 3" descr=""/>
          <p:cNvPicPr/>
          <p:nvPr/>
        </p:nvPicPr>
        <p:blipFill>
          <a:blip r:embed="rId1"/>
          <a:stretch/>
        </p:blipFill>
        <p:spPr>
          <a:xfrm>
            <a:off x="684360" y="0"/>
            <a:ext cx="10551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360" y="794880"/>
            <a:ext cx="92995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МЕХАНИЗИРОВАННОЕ НАНЕСЕНИЕ РАСТВОРА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84000" y="2693520"/>
            <a:ext cx="98550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 Преимущества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 Принцип работы агрегата и технология нанесения раствора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3 Разновидность смесей для аппаратов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593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 Техника безопасности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0" name="Объект 3" descr=""/>
          <p:cNvPicPr/>
          <p:nvPr/>
        </p:nvPicPr>
        <p:blipFill>
          <a:blip r:embed="rId1"/>
          <a:stretch/>
        </p:blipFill>
        <p:spPr>
          <a:xfrm>
            <a:off x="684360" y="-39600"/>
            <a:ext cx="10539360" cy="689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2" name="Объект 3" descr=""/>
          <p:cNvPicPr/>
          <p:nvPr/>
        </p:nvPicPr>
        <p:blipFill>
          <a:blip r:embed="rId1"/>
          <a:stretch/>
        </p:blipFill>
        <p:spPr>
          <a:xfrm>
            <a:off x="684360" y="0"/>
            <a:ext cx="10513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4" name="Объект 3" descr=""/>
          <p:cNvPicPr/>
          <p:nvPr/>
        </p:nvPicPr>
        <p:blipFill>
          <a:blip r:embed="rId1"/>
          <a:stretch/>
        </p:blipFill>
        <p:spPr>
          <a:xfrm>
            <a:off x="684360" y="0"/>
            <a:ext cx="10488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04T20:18:08Z</dcterms:created>
  <dc:creator>вкп</dc:creator>
  <dc:description/>
  <dc:language>en-US</dc:language>
  <cp:lastModifiedBy>Admin</cp:lastModifiedBy>
  <dcterms:modified xsi:type="dcterms:W3CDTF">2020-11-20T06:13:41Z</dcterms:modified>
  <cp:revision>12</cp:revision>
  <dc:subject/>
  <dc:title>I. ТЕХНОЛОГИЯ ОКРАШИВАНИЯ ПОВЕРХНОСТЕЙ КЛЕЕВЫМИ СОСТАВАМИ</dc:title>
</cp:coreProperties>
</file>