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27224-94E9-48D0-85DA-6112F2E7E8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7338E-E06D-4354-AE3D-3E15FF67B6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0C2-8022-4FF0-9FE4-A08B8F5F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343-5402-46E6-A2BD-5E5AC4D9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48E-E650-4BB0-B8B1-FE04F7C4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FF1-60D0-4654-A0F6-984BF45F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7544-2BF5-4FB0-99AB-FE3FDF36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A7BF-3FFA-474D-A16E-3854627B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37B3-1677-42A3-95AB-6DDDB3AC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CA3C-C4D9-43C5-B711-8B713B34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A7DB-109E-49F9-BE00-F79D839E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B61B-FC7C-4638-AF5B-CAA9CB56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8021-EEC5-4165-8413-8CBBCEA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F9D-EF53-4328-A951-8CD52A7E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DAB1-4962-415C-9817-DD4729F0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702F-F05F-4A65-8B03-32410C6B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35F8-2794-4C96-9442-5F12B9C6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8155-1F38-4949-B106-7A30B9E0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F7CE-A1C5-44CC-BFFD-796381BB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FA80-6439-492D-B126-98FD4E2D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069A-5B4A-4844-81C4-1EDBE9C7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5BD12-609B-4E1F-8D53-85EBB06E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50BD-C1EA-496B-8CD5-050FB5A7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BB03-4D9E-4F41-830E-5791037F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BDA-CAD8-4A65-A77C-DFA1A0FF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DD22-0DF5-449E-9A70-2C4C33A1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E420-4B69-46B0-AF79-6E37D148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298C-8521-4120-9A66-54D5FBC5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380F-CC49-40E6-BB17-404679B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6249-5DBD-4443-B3A4-20D4BAB3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157E-8086-4345-8E8D-5633E9AD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BCAC-1AC7-4ECB-8FF7-4EB5B61B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BFE3-4043-42ED-8877-BF2C51B7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9BB3-5308-46E0-A910-D630B019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6EB7B-FAC2-4FCC-A39B-4A5F3EE1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AB3-249B-4A0F-AF21-AFF067EF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4B97F-26F5-49B8-B5A6-E9D33488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FDD6-A4B0-43E7-9CA5-5647FCAF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6B0DF-CF3F-47F7-883C-5D2561B4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8A3F-1512-4D30-8033-0C45855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18A5B-11A2-4572-99B6-15A1120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C4BC-0B9A-41EC-B096-0553086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0A2B8-A25B-4F23-BE9D-8B5B957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A019-EFB1-416B-BAA4-5B7CC5E5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F63D-7146-44AD-B62D-A8E823AA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DCD-D359-408C-B414-E38BDC97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B6A-A9F8-40CB-899F-355AF6E7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75B-6723-448A-83ED-A2DEAF1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785-1286-420A-AECF-7FDB3B9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CE4-3661-42A0-B20F-A6DD441D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748C6-59EC-43F8-B430-AF5C61BDCF1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BFF15-1774-45DD-AD4D-037C1523896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47104-E4EB-4476-90BE-EA36BE7EBBE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C11BF-F277-40E9-9657-5D61A9C9CA8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1523880" y="1895400"/>
            <a:ext cx="9144000" cy="10303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5"/>
          <p:cNvSpPr/>
          <p:nvPr/>
        </p:nvSpPr>
        <p:spPr>
          <a:xfrm>
            <a:off x="1523880" y="5000760"/>
            <a:ext cx="5000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ппы  МШ-1-18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мил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я Отчеств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6881760" y="5000760"/>
            <a:ext cx="3786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ёдоров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да Алексе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25520" y="407880"/>
            <a:ext cx="1285920" cy="15876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0"/>
          <p:cNvSpPr/>
          <p:nvPr/>
        </p:nvSpPr>
        <p:spPr>
          <a:xfrm>
            <a:off x="3381480" y="35712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61e22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9621720" y="322200"/>
            <a:ext cx="1154160" cy="1660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1386000" y="2786040"/>
            <a:ext cx="95868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ШТУКАТУРНЫЕ РАБОТЫ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ПЛИТОЧНЫЕ РАБОТЫ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3095640" y="880560"/>
            <a:ext cx="62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08.01.2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отделочных строительных и декоративных рабо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-360" y="1537920"/>
            <a:ext cx="10915560" cy="22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ШТУКАТУРНЫЕ РАБОТЫ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-360" y="2209320"/>
            <a:ext cx="10953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ПЛИТОЧНЫЕ РАБОТЫ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1275840"/>
            <a:ext cx="9772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члены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ой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и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06:09:38Z</dcterms:created>
  <dc:creator>Admin</dc:creator>
  <dc:description/>
  <dc:language>en-US</dc:language>
  <cp:lastModifiedBy>Admin</cp:lastModifiedBy>
  <dcterms:modified xsi:type="dcterms:W3CDTF">2020-11-20T06:17:37Z</dcterms:modified>
  <cp:revision>6</cp:revision>
  <dc:subject/>
  <dc:title>ВЫПУСКНАЯ  КВАЛИФИКАЦИОННАЯ РАБОТА</dc:title>
</cp:coreProperties>
</file>