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143D0-E2D4-4C06-AF69-630649E18F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34C74-6A1E-4061-B926-1B0030DECB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44A-5EE1-4186-80DC-E1E399FD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B0A-C384-4ED9-AD6A-F83D1388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42F-6B88-4164-9ED9-55FBBFC1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757-19E9-4F9C-A6D8-A901AABE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DCC6-5E7B-4146-84EC-5C4818B5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157C-EBAE-4DAE-8597-F145CBD9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6E06-167B-4670-8F16-B4BFBEC2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AE7B-6DED-4A03-9E61-DB8B86F1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6764-83FB-4BEA-BC4A-D2EFE349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5250-1328-433B-A9B9-44E10B09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ACA7-D13D-4F19-8306-875767E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413-EBE7-43C7-9000-00B1282F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EBA-0AAA-4C0F-BDD4-0FC9E28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FE49-423E-43BE-9549-8362AF7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3E71-899C-4F5B-A242-950DE50E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20DE-13E1-47BC-B133-95209FDB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7995-4A50-402D-B3B6-F43477D6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EC10-3FC7-48F0-850B-BD9962D1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5ADD-EF11-42C4-AD55-F255C27A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D309-E174-48F0-BADC-766DC0A6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153F-E3CE-456D-8C97-BB8D913B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B3E1-EB47-44A6-8CF7-D36E82FE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F99-4D0A-443E-B0F4-810FAD55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F867-1870-4F3B-AD2C-17D9153A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626C-280F-4A84-AF68-BE0DC34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66FC-4840-412D-90F1-3C5CD09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834A-C5EE-490E-967D-A9B66B8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660D-8BB3-4BAD-88B0-65389F0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0BA8-63B6-449D-AE6B-EEC291BB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C8CB-7338-4332-9315-5FB12392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CA55-9EF8-43A4-90AD-4A0CF463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749D2-4DC9-4DA5-9028-BC3CF74F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1767-4C54-4CCA-AF2D-8E9C0584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F96-4205-45CE-8F85-A7A18291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F732D-485B-41B3-ACAF-29678021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30D6-25E0-4D94-AD94-69E5CBDC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39D6-E3F9-43A6-BA33-49D133AD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420C-903F-4F9D-907F-4B8BA5E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7C20-428A-435B-886E-61137D8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E13A-829D-42B7-8035-1330A493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BC6A-F2E3-449A-86B1-AD802ECF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B6DF-6FB5-4413-8A21-51031FD1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A876-94E1-4FEC-A5F4-BD18118C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0A64B-2DD2-4389-9526-FE00DF754B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C66-0D9A-4C78-BBCE-39BE9DBB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A3D40-A8AC-4395-BC0A-3D0402C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A0F93-B330-480A-9BD0-5AE6BF02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2C532-ADF7-4C44-A680-0453C99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5BC35-2C82-4E29-8AE4-C0DCB543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A1A3D-CD25-4212-B7D8-A827DA2C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E375A-A887-4788-AE95-4C930B8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3D481-066B-4488-87FF-78781259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58114-EC4E-40B4-979C-74C3CCE3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70D24-FEE2-4A6D-9A8A-4248824E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12660-0D2C-4F0D-B182-2CD9E16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5CE-1042-4FA1-A797-9C524E2F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931DE-B0FC-44D7-942D-108B4D6F3A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E3D-E7F0-416E-BB87-D88547E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EA3-20B9-48EC-8E8A-2739F87E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BA8-E7BD-4EFE-A5F5-C36A4A99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5" name="Oval 7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6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8" name="Oval 8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B833E-6AE1-4F59-BFA4-BA9C9A6FCF7C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6"/>
          <p:cNvGrpSpPr/>
          <p:nvPr/>
        </p:nvGrpSpPr>
        <p:grpSpPr>
          <a:xfrm>
            <a:off x="920880" y="1347840"/>
            <a:ext cx="10223280" cy="79200"/>
            <a:chOff x="920880" y="1347840"/>
            <a:chExt cx="10223280" cy="792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920880" y="1349280"/>
              <a:ext cx="1022328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20880" y="1347840"/>
              <a:ext cx="1022328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7"/>
          <p:cNvGrpSpPr/>
          <p:nvPr/>
        </p:nvGrpSpPr>
        <p:grpSpPr>
          <a:xfrm>
            <a:off x="920880" y="4297320"/>
            <a:ext cx="10223280" cy="85680"/>
            <a:chOff x="920880" y="4297320"/>
            <a:chExt cx="10223280" cy="85680"/>
          </a:xfrm>
        </p:grpSpPr>
        <p:pic>
          <p:nvPicPr>
            <p:cNvPr id="50" name="Rectangle 7" descr=""/>
            <p:cNvPicPr/>
            <p:nvPr/>
          </p:nvPicPr>
          <p:blipFill>
            <a:blip r:embed="rId3"/>
            <a:stretch/>
          </p:blipFill>
          <p:spPr>
            <a:xfrm>
              <a:off x="920880" y="4297320"/>
              <a:ext cx="102232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0880" y="4299120"/>
              <a:ext cx="1022328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8"/>
          <p:cNvGrpSpPr/>
          <p:nvPr/>
        </p:nvGrpSpPr>
        <p:grpSpPr>
          <a:xfrm>
            <a:off x="920880" y="1487520"/>
            <a:ext cx="10223280" cy="2742840"/>
            <a:chOff x="920880" y="1487520"/>
            <a:chExt cx="10223280" cy="2742840"/>
          </a:xfrm>
        </p:grpSpPr>
        <p:pic>
          <p:nvPicPr>
            <p:cNvPr id="53" name="Rectangle 8" descr=""/>
            <p:cNvPicPr/>
            <p:nvPr/>
          </p:nvPicPr>
          <p:blipFill>
            <a:blip r:embed="rId4"/>
            <a:stretch/>
          </p:blipFill>
          <p:spPr>
            <a:xfrm>
              <a:off x="920880" y="1490400"/>
              <a:ext cx="1022328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20880" y="1487520"/>
              <a:ext cx="1022328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9648720" y="4068720"/>
            <a:ext cx="1081080" cy="1081080"/>
            <a:chOff x="9648720" y="4068720"/>
            <a:chExt cx="1081080" cy="1081080"/>
          </a:xfrm>
        </p:grpSpPr>
        <p:grpSp>
          <p:nvGrpSpPr>
            <p:cNvPr id="56" name="Oval 10"/>
            <p:cNvGrpSpPr/>
            <p:nvPr/>
          </p:nvGrpSpPr>
          <p:grpSpPr>
            <a:xfrm>
              <a:off x="9648720" y="4068720"/>
              <a:ext cx="1081080" cy="1081080"/>
              <a:chOff x="9648720" y="4068720"/>
              <a:chExt cx="1081080" cy="1081080"/>
            </a:xfrm>
          </p:grpSpPr>
          <p:pic>
            <p:nvPicPr>
              <p:cNvPr id="57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9648720" y="4068720"/>
                <a:ext cx="108108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9806400" y="4229280"/>
                <a:ext cx="765720" cy="76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1"/>
            <p:cNvSpPr/>
            <p:nvPr/>
          </p:nvSpPr>
          <p:spPr>
            <a:xfrm>
              <a:off x="9756000" y="4179240"/>
              <a:ext cx="866520" cy="8614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9593280" y="4289040"/>
            <a:ext cx="1193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00EEE-2410-4B43-89B9-7961A304C9DE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6"/>
          <p:cNvGrpSpPr/>
          <p:nvPr/>
        </p:nvGrpSpPr>
        <p:grpSpPr>
          <a:xfrm>
            <a:off x="0" y="4919760"/>
            <a:ext cx="12192120" cy="1938240"/>
            <a:chOff x="0" y="4919760"/>
            <a:chExt cx="12192120" cy="1938240"/>
          </a:xfrm>
        </p:grpSpPr>
        <p:pic>
          <p:nvPicPr>
            <p:cNvPr id="10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1219212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121921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896760" y="2325600"/>
            <a:ext cx="1081440" cy="1081080"/>
            <a:chOff x="896760" y="2325600"/>
            <a:chExt cx="1081440" cy="1081080"/>
          </a:xfrm>
        </p:grpSpPr>
        <p:grpSp>
          <p:nvGrpSpPr>
            <p:cNvPr id="105" name="Oval 8"/>
            <p:cNvGrpSpPr/>
            <p:nvPr/>
          </p:nvGrpSpPr>
          <p:grpSpPr>
            <a:xfrm>
              <a:off x="896760" y="2325600"/>
              <a:ext cx="1081440" cy="1081080"/>
              <a:chOff x="896760" y="2325600"/>
              <a:chExt cx="1081440" cy="1081080"/>
            </a:xfrm>
          </p:grpSpPr>
          <p:pic>
            <p:nvPicPr>
              <p:cNvPr id="106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896760" y="2325600"/>
                <a:ext cx="108144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055520" y="2481120"/>
                <a:ext cx="761760" cy="76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9"/>
            <p:cNvSpPr/>
            <p:nvPr/>
          </p:nvSpPr>
          <p:spPr>
            <a:xfrm>
              <a:off x="1005480" y="2431080"/>
              <a:ext cx="861840" cy="866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8593200" y="6272280"/>
            <a:ext cx="264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182680" y="6272280"/>
            <a:ext cx="632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43120" y="2506680"/>
            <a:ext cx="118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5427B-64BC-454F-ABE5-EA515991FE04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7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151" name="Rectangle 7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154" name="Oval 9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155" name="Oval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0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A1DDD-5B65-4F29-8342-E3CA196F6C95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10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200" name="Rectangle 10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203" name="Oval 8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204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9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788F6-5512-4BE2-9C19-1D99D961A8F6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1523880" y="1494000"/>
            <a:ext cx="9144000" cy="9936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1095480" y="5000760"/>
            <a:ext cx="50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ппы  МСП-1-18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милия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я Отчество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Прямоугольник 7"/>
          <p:cNvSpPr/>
          <p:nvPr/>
        </p:nvSpPr>
        <p:spPr>
          <a:xfrm>
            <a:off x="7132680" y="5000760"/>
            <a:ext cx="3784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ьянова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Анатольевна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7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0920" y="285840"/>
            <a:ext cx="1285920" cy="15890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0"/>
          <p:cNvSpPr/>
          <p:nvPr/>
        </p:nvSpPr>
        <p:spPr>
          <a:xfrm>
            <a:off x="3381480" y="35712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9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9975960" y="236520"/>
            <a:ext cx="1154160" cy="1660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825480" y="2359080"/>
            <a:ext cx="103536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ТЕМА, ВСЕ ПРОПИСН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ТЕМА, ВСЕ ПРОПИСНЫЕ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2316240" y="68832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08.01.24 Мастер столярно-плотничных, паркетных и стекольных работ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-360" y="1537920"/>
            <a:ext cx="1219212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</a:t>
            </a:r>
            <a:r>
              <a:rPr b="1" lang="ru-RU" sz="5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, ВСЕ ПРОПИСНЫЕ</a:t>
            </a:r>
            <a:endParaRPr b="0" lang="en-US" sz="5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Содержимое 4"/>
          <p:cNvSpPr/>
          <p:nvPr/>
        </p:nvSpPr>
        <p:spPr>
          <a:xfrm>
            <a:off x="0" y="1538280"/>
            <a:ext cx="121921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</a:t>
            </a:r>
            <a:r>
              <a:rPr b="1" lang="ru-RU" sz="5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, ВСЕ ПРОПИСНЫЕ</a:t>
            </a:r>
            <a:endParaRPr b="0" lang="en-US" sz="5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55280" y="1275840"/>
            <a:ext cx="87836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члены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ой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и!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06:09:38Z</dcterms:created>
  <dc:creator>Admin</dc:creator>
  <dc:description/>
  <dc:language>en-US</dc:language>
  <cp:lastModifiedBy>Admin</cp:lastModifiedBy>
  <dcterms:modified xsi:type="dcterms:W3CDTF">2020-11-20T06:22:11Z</dcterms:modified>
  <cp:revision>8</cp:revision>
  <dc:subject/>
  <dc:title>ВЫПУСКНАЯ  КВАЛИФИКАЦИОННАЯ РАБОТА</dc:title>
</cp:coreProperties>
</file>