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4BB9D-F0AC-4FEC-B6D5-E9CE752E5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B24F2-AE2A-4794-8044-4D9BF3595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E8C-3B05-4086-87F4-278427A3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19C-FC42-4180-9AB4-3000F30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561-3E26-4E33-8A3C-F3401376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C6C-80CD-4585-9256-B03926D7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1F7-AA9B-4E2A-8ACF-9653CBEC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477-33CD-4881-87C5-E11EF903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11B-D5FA-4C59-B4E4-B089C7B4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41B9-1B9F-4EB2-A16A-17D74EBF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5FB9-D40A-442E-93FF-74B0E699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67F9-C4E4-47CC-802F-0EAFCFC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F24-BE7D-4DD2-96ED-932EE11D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5C6-9CAF-4572-844D-BB1128D2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8B7D-107A-4984-9125-52E5E27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A43A-2519-4319-B4F3-77C74649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AAD0-B816-4983-857B-AFC7D445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36D1-7188-49E4-A41D-6C5E601C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5C9C-6BE8-414E-819F-3821096F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7922-D0FD-412F-A6B7-D850E485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6FB4-24EA-4565-B06A-4842232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40F3-4B27-4A3B-AA0F-73AC842F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3A81-0CCA-4920-BDC9-E5538F30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2F83-B5A0-4918-816E-D59C9D10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EFB-0C44-419D-824F-BEE1C2AF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C2BE-575F-4F40-9473-26ADA48E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8C74-2D69-4C49-B9A5-F5F109AD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FEE1-66A6-4CDA-914A-467B680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B23C-3915-4E9E-B259-63D2DB6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FB55-8517-466E-B08B-3E86BF6E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390B-4BA5-4B00-9786-28E59144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09BB-F717-4939-A1DE-4202E1C4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0688-9C3B-437E-8157-4BEF5CBE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A03F-6E8B-4EDA-8E0A-096CAE7F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BE17-12F2-4727-AC3E-6367921D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2C3-D0BC-4D27-931F-4266367A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5E8A-CEF2-40A6-B34D-8609BDDD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15CF-318E-41A8-8A4D-AF069247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72FA-2F2F-49A1-9AB4-A8028FE8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0152-66F3-4D82-827B-E679FAE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654E5-9E78-4D4F-ABDB-450278D3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A7D2-8FE4-4E57-96FA-7CD03DD7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1480-1216-4E51-AB6A-D784ACC3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1E81A-6978-4267-A82F-B79493AC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5684-1512-470F-B58E-3D549871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5CE15-9E43-484E-B58F-388A45464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E96-66A0-4699-9F58-D06BD577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DB00B-281B-4958-B3C1-71861AA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97747-7E8F-4A9C-A072-DDACEF90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DF947-7E25-47CF-BAF5-25E7CC02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348D7-4BC9-4854-8524-D6892785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AD5C3-9530-4F64-B9EA-8BEEAE2D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C840C-4E82-486F-9DDE-FDC04EB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CD956-9AA7-4687-A4A4-4F9F1A8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F8EFE-25C0-4A0A-BAF8-2A4BE71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C88F0-86C7-4F46-BCDF-536E1639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29DD9-294B-4E20-82E8-E95992A4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792-DACB-4D53-8EFC-DBD606E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863D3-BFDD-4339-A669-06A924A1D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C7B-94E6-4B22-A5F4-D6CF45B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C27-67D8-4D8B-8F33-6CB9F5B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44F-27D8-4337-B691-4A947D00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5" name="Oval 7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6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8" name="Oval 8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68CFD-9C9D-46E0-B81E-B9FE442375A0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6"/>
          <p:cNvGrpSpPr/>
          <p:nvPr/>
        </p:nvGrpSpPr>
        <p:grpSpPr>
          <a:xfrm>
            <a:off x="920880" y="1347840"/>
            <a:ext cx="10223280" cy="79200"/>
            <a:chOff x="920880" y="1347840"/>
            <a:chExt cx="10223280" cy="792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920880" y="1349280"/>
              <a:ext cx="1022328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20880" y="1347840"/>
              <a:ext cx="102232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7"/>
          <p:cNvGrpSpPr/>
          <p:nvPr/>
        </p:nvGrpSpPr>
        <p:grpSpPr>
          <a:xfrm>
            <a:off x="920880" y="4297320"/>
            <a:ext cx="10223280" cy="85680"/>
            <a:chOff x="920880" y="4297320"/>
            <a:chExt cx="10223280" cy="85680"/>
          </a:xfrm>
        </p:grpSpPr>
        <p:pic>
          <p:nvPicPr>
            <p:cNvPr id="50" name="Rectangle 7" descr=""/>
            <p:cNvPicPr/>
            <p:nvPr/>
          </p:nvPicPr>
          <p:blipFill>
            <a:blip r:embed="rId3"/>
            <a:stretch/>
          </p:blipFill>
          <p:spPr>
            <a:xfrm>
              <a:off x="920880" y="4297320"/>
              <a:ext cx="102232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0880" y="4299120"/>
              <a:ext cx="1022328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8"/>
          <p:cNvGrpSpPr/>
          <p:nvPr/>
        </p:nvGrpSpPr>
        <p:grpSpPr>
          <a:xfrm>
            <a:off x="920880" y="1487520"/>
            <a:ext cx="10223280" cy="2742840"/>
            <a:chOff x="920880" y="1487520"/>
            <a:chExt cx="10223280" cy="2742840"/>
          </a:xfrm>
        </p:grpSpPr>
        <p:pic>
          <p:nvPicPr>
            <p:cNvPr id="53" name="Rectangle 8" descr=""/>
            <p:cNvPicPr/>
            <p:nvPr/>
          </p:nvPicPr>
          <p:blipFill>
            <a:blip r:embed="rId4"/>
            <a:stretch/>
          </p:blipFill>
          <p:spPr>
            <a:xfrm>
              <a:off x="920880" y="1490400"/>
              <a:ext cx="1022328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20880" y="1487520"/>
              <a:ext cx="1022328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9648720" y="4068720"/>
            <a:ext cx="1081080" cy="1081080"/>
            <a:chOff x="9648720" y="4068720"/>
            <a:chExt cx="1081080" cy="1081080"/>
          </a:xfrm>
        </p:grpSpPr>
        <p:grpSp>
          <p:nvGrpSpPr>
            <p:cNvPr id="56" name="Oval 10"/>
            <p:cNvGrpSpPr/>
            <p:nvPr/>
          </p:nvGrpSpPr>
          <p:grpSpPr>
            <a:xfrm>
              <a:off x="9648720" y="4068720"/>
              <a:ext cx="1081080" cy="1081080"/>
              <a:chOff x="9648720" y="4068720"/>
              <a:chExt cx="1081080" cy="1081080"/>
            </a:xfrm>
          </p:grpSpPr>
          <p:pic>
            <p:nvPicPr>
              <p:cNvPr id="57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9648720" y="4068720"/>
                <a:ext cx="108108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9806400" y="4229280"/>
                <a:ext cx="765720" cy="7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1"/>
            <p:cNvSpPr/>
            <p:nvPr/>
          </p:nvSpPr>
          <p:spPr>
            <a:xfrm>
              <a:off x="9756000" y="4179240"/>
              <a:ext cx="866520" cy="8614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9593280" y="4289040"/>
            <a:ext cx="1193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7275A-1C8B-46FE-A0A3-7A3CF53C0EBB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0" y="4919760"/>
            <a:ext cx="12192120" cy="1938240"/>
            <a:chOff x="0" y="4919760"/>
            <a:chExt cx="12192120" cy="1938240"/>
          </a:xfrm>
        </p:grpSpPr>
        <p:pic>
          <p:nvPicPr>
            <p:cNvPr id="10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1219212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121921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896760" y="2325600"/>
            <a:ext cx="1081440" cy="1081080"/>
            <a:chOff x="896760" y="2325600"/>
            <a:chExt cx="1081440" cy="1081080"/>
          </a:xfrm>
        </p:grpSpPr>
        <p:grpSp>
          <p:nvGrpSpPr>
            <p:cNvPr id="105" name="Oval 8"/>
            <p:cNvGrpSpPr/>
            <p:nvPr/>
          </p:nvGrpSpPr>
          <p:grpSpPr>
            <a:xfrm>
              <a:off x="896760" y="2325600"/>
              <a:ext cx="1081440" cy="1081080"/>
              <a:chOff x="896760" y="2325600"/>
              <a:chExt cx="1081440" cy="1081080"/>
            </a:xfrm>
          </p:grpSpPr>
          <p:pic>
            <p:nvPicPr>
              <p:cNvPr id="106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896760" y="2325600"/>
                <a:ext cx="108144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55520" y="2481120"/>
                <a:ext cx="761760" cy="76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9"/>
            <p:cNvSpPr/>
            <p:nvPr/>
          </p:nvSpPr>
          <p:spPr>
            <a:xfrm>
              <a:off x="1005480" y="2431080"/>
              <a:ext cx="861840" cy="866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593200" y="6272280"/>
            <a:ext cx="264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182680" y="6272280"/>
            <a:ext cx="632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43120" y="2506680"/>
            <a:ext cx="118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CFD7D-0BB9-4DE3-9162-61CF3912C624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7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151" name="Rectangle 7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154" name="Oval 9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155" name="Oval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0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7398F-1080-494E-AB6E-A8D9072EC5F2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10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200" name="Rectangle 10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203" name="Oval 8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204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9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EECC8-38BC-402F-B7D2-37784E58348B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1523880" y="1895400"/>
            <a:ext cx="9144000" cy="10303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1523880" y="5000760"/>
            <a:ext cx="5000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ппы  МТ-1-17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милия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Отчество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6881760" y="5000760"/>
            <a:ext cx="3786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53232"/>
                </a:solidFill>
                <a:latin typeface="Times New Roman"/>
                <a:ea typeface="Times New Roman"/>
              </a:rPr>
              <a:t>Васильева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53232"/>
                </a:solidFill>
                <a:latin typeface="Times New Roman"/>
                <a:ea typeface="Times New Roman"/>
              </a:rPr>
              <a:t>Елена Анатольевна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7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0920" y="271440"/>
            <a:ext cx="1285920" cy="15890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0"/>
          <p:cNvSpPr/>
          <p:nvPr/>
        </p:nvSpPr>
        <p:spPr>
          <a:xfrm>
            <a:off x="3381480" y="35712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9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9975960" y="320760"/>
            <a:ext cx="1154160" cy="16603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1386000" y="2786040"/>
            <a:ext cx="95868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… ВСЕ ПРОПИСНЫЕ</a:t>
            </a:r>
            <a:endParaRPr b="0" lang="en-US" sz="4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2166840" y="696960"/>
            <a:ext cx="78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08.02.07 Монтаж и эксплуатация внутренних сантехнических устройств, кондиционирования воздуха и вентиляции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-360" y="1537920"/>
            <a:ext cx="1219212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 Подзаголовок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-360" y="1537920"/>
            <a:ext cx="1219212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2 Подзаголовок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143000" y="1275840"/>
            <a:ext cx="9772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члены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ой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и!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06:09:38Z</dcterms:created>
  <dc:creator>Admin</dc:creator>
  <dc:description/>
  <dc:language>en-US</dc:language>
  <cp:lastModifiedBy>Admin</cp:lastModifiedBy>
  <dcterms:modified xsi:type="dcterms:W3CDTF">2020-11-19T14:32:37Z</dcterms:modified>
  <cp:revision>11</cp:revision>
  <dc:subject/>
  <dc:title>ВЫПУСКНАЯ  КВАЛИФИКАЦИОННАЯ РАБОТА</dc:title>
</cp:coreProperties>
</file>