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FED5B-13F8-4BED-85D9-69D05FBE7A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75B56-9617-4823-9677-0BEFA3200D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4BF-EAD9-4FA7-A324-F21A0B55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228-02BB-405E-BFF5-68FE1962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F6E-CB38-4A45-AE25-9DDA3016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E456-C1C3-4E06-BF68-11ED5E89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DCE4-60A1-4E88-B613-07A45553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5203-5CE6-46B9-9B5E-A7FEEFBA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AB8E-B3D9-4438-906B-FFB4B338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0707-C097-4626-B2B1-E8A94AFF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5596-B9DB-4B0E-8D65-A82DAAA0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5D39-6D6A-49AD-9671-D3F31ACB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2B7E-A4AB-4D12-A5E7-AD3863D0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CB5-BDB3-4DC8-ACE1-98022D57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48CF-65DE-437D-ADB5-03B5609E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6E22-2E92-41CC-9FB5-65E43B97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A8F0-470B-4CA6-AC9E-591151CF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9192-EEF1-47FA-96CB-1474B015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196C-A700-4DC8-8412-341E678D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CE30E-EF2C-4550-86B3-A4D6D717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A168D-58C9-4F38-80E2-D1A31310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6BF36-5E7A-47FD-8CDC-DBDB2FD6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6DF40-E070-47D9-AFA7-C953BB91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0300-AB17-4931-BB0A-184AB322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A90-0FEE-425F-B8A4-1203AB9A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7AA1-67F6-4166-8923-38F18CD1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AB519-BFBD-4137-8BA5-5096EC73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620DD-9887-4A93-8A0F-D0FF638C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D01FD-535A-458F-A4EF-6021B77B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9AD81-17BE-4C2A-B9A9-DF5FBA7D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299D-00DB-4F75-9922-E28D1A06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B426B-0037-4206-B965-96FC67EC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169F-611E-41F5-8027-D0F82DB8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52C55-ADF8-401A-9A62-1C6E98BA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C3C0-1CA1-48A4-A08A-5E376385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007-CE80-4124-988E-BBE73719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EF692-2733-4FC7-952F-4AD6AC81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FB4C2-F32B-42BD-B2E3-F142F053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1EE0B-79FC-4CE0-A1FB-0CDC4546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D1B6E-DE04-413D-A1F1-597AD272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8B9CF-6617-427F-B955-E78E1E49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4AB49-F885-4A07-8C93-7BC89D8E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4A41C-7D3D-4604-AEDF-AE7587E8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7A11-2EEF-49D0-8420-1AA4E808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C0FC1-C29E-4FE0-BFD0-86B59AE6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99145-85F0-4E44-A9B6-EDF3BE7E24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034-4EE1-4524-AAD0-261FA61C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24A4E-F56E-4EB8-9EA3-93CC412A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4D0CB4-D0E6-417A-92B3-AD24ECCA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A6DF5-7824-4CA9-BD1E-4FCF7945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03852-E4FB-4C94-A6F7-8DB425D5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D8BF8-02AD-492B-8CCB-C6CF94D3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FFC03-8796-414F-83FD-363EAC45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9529F-754D-4BCF-8F14-0B05F60A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3CF39-B286-41A4-A738-B7070727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40D569-221D-4767-829A-567491A7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B4547-943E-4C40-975A-7C674A90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07E-4D6E-4EA2-8D78-682103F8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F3D67-0944-4B3F-AD93-A0ECFF8E7A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537-3CE9-4169-9E9F-8B185A78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4C0-753E-4188-8119-BF15A766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58E-61AB-4DD9-8899-F4252136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5" name="Oval 7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6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>
                <a:off x="1147032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8" name="Oval 8"/>
            <p:cNvSpPr/>
            <p:nvPr/>
          </p:nvSpPr>
          <p:spPr>
            <a:xfrm>
              <a:off x="1143252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B8143-8BE1-446E-B8A7-6AC26F02247B}" type="slidenum">
              <a:rPr b="1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Rectangle 6"/>
          <p:cNvGrpSpPr/>
          <p:nvPr/>
        </p:nvGrpSpPr>
        <p:grpSpPr>
          <a:xfrm>
            <a:off x="920880" y="1347840"/>
            <a:ext cx="10223280" cy="79200"/>
            <a:chOff x="920880" y="1347840"/>
            <a:chExt cx="10223280" cy="79200"/>
          </a:xfrm>
        </p:grpSpPr>
        <p:pic>
          <p:nvPicPr>
            <p:cNvPr id="47" name="Rectangle 6" descr=""/>
            <p:cNvPicPr/>
            <p:nvPr/>
          </p:nvPicPr>
          <p:blipFill>
            <a:blip r:embed="rId2"/>
            <a:stretch/>
          </p:blipFill>
          <p:spPr>
            <a:xfrm>
              <a:off x="920880" y="1349280"/>
              <a:ext cx="10223280" cy="7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920880" y="1347840"/>
              <a:ext cx="1022328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49" name="Rectangle 7"/>
          <p:cNvGrpSpPr/>
          <p:nvPr/>
        </p:nvGrpSpPr>
        <p:grpSpPr>
          <a:xfrm>
            <a:off x="920880" y="4297320"/>
            <a:ext cx="10223280" cy="85680"/>
            <a:chOff x="920880" y="4297320"/>
            <a:chExt cx="10223280" cy="85680"/>
          </a:xfrm>
        </p:grpSpPr>
        <p:pic>
          <p:nvPicPr>
            <p:cNvPr id="50" name="Rectangle 7" descr=""/>
            <p:cNvPicPr/>
            <p:nvPr/>
          </p:nvPicPr>
          <p:blipFill>
            <a:blip r:embed="rId3"/>
            <a:stretch/>
          </p:blipFill>
          <p:spPr>
            <a:xfrm>
              <a:off x="920880" y="4297320"/>
              <a:ext cx="102232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920880" y="4299120"/>
              <a:ext cx="1022328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2" name="Rectangle 8"/>
          <p:cNvGrpSpPr/>
          <p:nvPr/>
        </p:nvGrpSpPr>
        <p:grpSpPr>
          <a:xfrm>
            <a:off x="920880" y="1487520"/>
            <a:ext cx="10223280" cy="2742840"/>
            <a:chOff x="920880" y="1487520"/>
            <a:chExt cx="10223280" cy="2742840"/>
          </a:xfrm>
        </p:grpSpPr>
        <p:pic>
          <p:nvPicPr>
            <p:cNvPr id="53" name="Rectangle 8" descr=""/>
            <p:cNvPicPr/>
            <p:nvPr/>
          </p:nvPicPr>
          <p:blipFill>
            <a:blip r:embed="rId4"/>
            <a:stretch/>
          </p:blipFill>
          <p:spPr>
            <a:xfrm>
              <a:off x="920880" y="1490400"/>
              <a:ext cx="10223280" cy="27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20880" y="1487520"/>
              <a:ext cx="1022328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5" name="Group 9"/>
          <p:cNvGrpSpPr/>
          <p:nvPr/>
        </p:nvGrpSpPr>
        <p:grpSpPr>
          <a:xfrm>
            <a:off x="9648720" y="4068720"/>
            <a:ext cx="1081080" cy="1081080"/>
            <a:chOff x="9648720" y="4068720"/>
            <a:chExt cx="1081080" cy="1081080"/>
          </a:xfrm>
        </p:grpSpPr>
        <p:grpSp>
          <p:nvGrpSpPr>
            <p:cNvPr id="56" name="Oval 10"/>
            <p:cNvGrpSpPr/>
            <p:nvPr/>
          </p:nvGrpSpPr>
          <p:grpSpPr>
            <a:xfrm>
              <a:off x="9648720" y="4068720"/>
              <a:ext cx="1081080" cy="1081080"/>
              <a:chOff x="9648720" y="4068720"/>
              <a:chExt cx="1081080" cy="1081080"/>
            </a:xfrm>
          </p:grpSpPr>
          <p:pic>
            <p:nvPicPr>
              <p:cNvPr id="57" name="Oval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9648720" y="4068720"/>
                <a:ext cx="108108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9806040" y="4228920"/>
                <a:ext cx="76608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59" name="Oval 11"/>
            <p:cNvSpPr/>
            <p:nvPr/>
          </p:nvSpPr>
          <p:spPr>
            <a:xfrm>
              <a:off x="9755640" y="4178880"/>
              <a:ext cx="866520" cy="8618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9593280" y="4289040"/>
            <a:ext cx="1193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28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D8884-AF07-491F-8A26-96DE1C2A3E97}" type="slidenum">
              <a:rPr b="1" lang="ru-RU" sz="28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Rectangle 6"/>
          <p:cNvGrpSpPr/>
          <p:nvPr/>
        </p:nvGrpSpPr>
        <p:grpSpPr>
          <a:xfrm>
            <a:off x="0" y="4919760"/>
            <a:ext cx="12192120" cy="1938240"/>
            <a:chOff x="0" y="4919760"/>
            <a:chExt cx="12192120" cy="1938240"/>
          </a:xfrm>
        </p:grpSpPr>
        <p:pic>
          <p:nvPicPr>
            <p:cNvPr id="102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4921200"/>
              <a:ext cx="12192120" cy="19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4919760"/>
              <a:ext cx="1219212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04" name="Group 7"/>
          <p:cNvGrpSpPr/>
          <p:nvPr/>
        </p:nvGrpSpPr>
        <p:grpSpPr>
          <a:xfrm>
            <a:off x="896760" y="2325600"/>
            <a:ext cx="1081440" cy="1081080"/>
            <a:chOff x="896760" y="2325600"/>
            <a:chExt cx="1081440" cy="1081080"/>
          </a:xfrm>
        </p:grpSpPr>
        <p:grpSp>
          <p:nvGrpSpPr>
            <p:cNvPr id="105" name="Oval 8"/>
            <p:cNvGrpSpPr/>
            <p:nvPr/>
          </p:nvGrpSpPr>
          <p:grpSpPr>
            <a:xfrm>
              <a:off x="896760" y="2325600"/>
              <a:ext cx="1081440" cy="1081080"/>
              <a:chOff x="896760" y="2325600"/>
              <a:chExt cx="1081440" cy="1081080"/>
            </a:xfrm>
          </p:grpSpPr>
          <p:pic>
            <p:nvPicPr>
              <p:cNvPr id="106" name="Oval 8" descr=""/>
              <p:cNvPicPr/>
              <p:nvPr/>
            </p:nvPicPr>
            <p:blipFill>
              <a:blip r:embed="rId3"/>
              <a:stretch/>
            </p:blipFill>
            <p:spPr>
              <a:xfrm>
                <a:off x="896760" y="2325600"/>
                <a:ext cx="108144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1056240" y="2481120"/>
                <a:ext cx="766080" cy="76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08" name="Oval 9"/>
            <p:cNvSpPr/>
            <p:nvPr/>
          </p:nvSpPr>
          <p:spPr>
            <a:xfrm>
              <a:off x="1005840" y="2430720"/>
              <a:ext cx="866880" cy="866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8593200" y="6272280"/>
            <a:ext cx="264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182680" y="6272280"/>
            <a:ext cx="632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43120" y="2506680"/>
            <a:ext cx="1188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28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AF138-33BD-4FAC-B77E-8C369EA8578D}" type="slidenum">
              <a:rPr b="1" lang="ru-RU" sz="28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Rectangle 7"/>
          <p:cNvGrpSpPr/>
          <p:nvPr/>
        </p:nvGrpSpPr>
        <p:grpSpPr>
          <a:xfrm>
            <a:off x="8302680" y="0"/>
            <a:ext cx="3889440" cy="6858000"/>
            <a:chOff x="8302680" y="0"/>
            <a:chExt cx="3889440" cy="6858000"/>
          </a:xfrm>
        </p:grpSpPr>
        <p:pic>
          <p:nvPicPr>
            <p:cNvPr id="151" name="Rectangle 7" descr=""/>
            <p:cNvPicPr/>
            <p:nvPr/>
          </p:nvPicPr>
          <p:blipFill>
            <a:blip r:embed="rId2"/>
            <a:stretch/>
          </p:blipFill>
          <p:spPr>
            <a:xfrm>
              <a:off x="8302680" y="0"/>
              <a:ext cx="3889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304120" y="0"/>
              <a:ext cx="388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53" name="Group 8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154" name="Oval 9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155" name="Oval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1147032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57" name="Oval 10"/>
            <p:cNvSpPr/>
            <p:nvPr/>
          </p:nvSpPr>
          <p:spPr>
            <a:xfrm>
              <a:off x="1143252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1D461-4CA1-4086-B6C1-1665812315B4}" type="slidenum">
              <a:rPr b="1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Rectangle 10"/>
          <p:cNvGrpSpPr/>
          <p:nvPr/>
        </p:nvGrpSpPr>
        <p:grpSpPr>
          <a:xfrm>
            <a:off x="8302680" y="0"/>
            <a:ext cx="3889440" cy="6858000"/>
            <a:chOff x="8302680" y="0"/>
            <a:chExt cx="3889440" cy="6858000"/>
          </a:xfrm>
        </p:grpSpPr>
        <p:pic>
          <p:nvPicPr>
            <p:cNvPr id="200" name="Rectangle 10" descr=""/>
            <p:cNvPicPr/>
            <p:nvPr/>
          </p:nvPicPr>
          <p:blipFill>
            <a:blip r:embed="rId2"/>
            <a:stretch/>
          </p:blipFill>
          <p:spPr>
            <a:xfrm>
              <a:off x="8302680" y="0"/>
              <a:ext cx="3889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8304120" y="0"/>
              <a:ext cx="388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202" name="Group 7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203" name="Oval 8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204" name="Oval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1147032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206" name="Oval 9"/>
            <p:cNvSpPr/>
            <p:nvPr/>
          </p:nvSpPr>
          <p:spPr>
            <a:xfrm>
              <a:off x="1143252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4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2E397-7EB2-4880-A6B3-15BE9B55F23D}" type="slidenum">
              <a:rPr b="1" lang="ru-RU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smolsk.ru/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1407960" y="1474920"/>
            <a:ext cx="9144000" cy="103032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5"/>
          <p:cNvSpPr/>
          <p:nvPr/>
        </p:nvSpPr>
        <p:spPr>
          <a:xfrm>
            <a:off x="979560" y="5010120"/>
            <a:ext cx="5000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уппы  ЖКХ-1-18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милия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я Отчество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6" name="Прямоугольник 7"/>
          <p:cNvSpPr/>
          <p:nvPr/>
        </p:nvSpPr>
        <p:spPr>
          <a:xfrm>
            <a:off x="7132680" y="5010120"/>
            <a:ext cx="3784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ьева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Анатольевна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57" name="Рисунок 8" descr="http://www.smolsk.ru/img/smolbuidcolledg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80920" y="236520"/>
            <a:ext cx="1285920" cy="15890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0"/>
          <p:cNvSpPr/>
          <p:nvPr/>
        </p:nvSpPr>
        <p:spPr>
          <a:xfrm>
            <a:off x="3381480" y="35712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53232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59" name="Picture 9" descr="D:\ЕЛЕНА\картинки\Гербы Смоленска\Герб Смоленска красный.bmp"/>
          <p:cNvPicPr/>
          <p:nvPr/>
        </p:nvPicPr>
        <p:blipFill>
          <a:blip r:embed="rId4"/>
          <a:stretch/>
        </p:blipFill>
        <p:spPr>
          <a:xfrm>
            <a:off x="9975960" y="357120"/>
            <a:ext cx="1154160" cy="1660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"/>
          <p:cNvSpPr/>
          <p:nvPr/>
        </p:nvSpPr>
        <p:spPr>
          <a:xfrm>
            <a:off x="880920" y="2471760"/>
            <a:ext cx="1024920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 ТЕМА, ВСЕ ПРОПИСНЫЕ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. ТЕМА, ВСЕ ПРОПИСНЫЕ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2166840" y="735840"/>
            <a:ext cx="780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: 08.01.26 Мастер по ремонту и обслуживанию инженерных систем жилищно-коммунального хозяйства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-360" y="1537920"/>
            <a:ext cx="1219212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 </a:t>
            </a:r>
            <a:r>
              <a:rPr b="1" lang="ru-RU" sz="5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, ВСЕ ПРОПИСНЫЕ</a:t>
            </a:r>
            <a:endParaRPr b="0" lang="en-US" sz="5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-360" y="1537920"/>
            <a:ext cx="1219212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. </a:t>
            </a:r>
            <a:r>
              <a:rPr b="1" lang="ru-RU" sz="5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, ВСЕ ПРОПИСНЫЕ</a:t>
            </a:r>
            <a:endParaRPr b="0" lang="en-US" sz="5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143000" y="1275840"/>
            <a:ext cx="9772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члены 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й 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ой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и!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9T06:09:38Z</dcterms:created>
  <dc:creator>Admin</dc:creator>
  <dc:description/>
  <dc:language>en-US</dc:language>
  <cp:lastModifiedBy>Admin</cp:lastModifiedBy>
  <dcterms:modified xsi:type="dcterms:W3CDTF">2020-11-20T06:12:52Z</dcterms:modified>
  <cp:revision>9</cp:revision>
  <dc:subject/>
  <dc:title>ВЫПУСКНАЯ  КВАЛИФИКАЦИОННАЯ РАБОТА</dc:title>
</cp:coreProperties>
</file>