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102E2-7716-413F-B739-2233CCC500B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0E1B7-B0B6-4BD9-A52D-9F09AECD3ED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99EF-F9DE-4060-9483-7C73C7248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EDEB-01EE-4E3A-9869-EDC95EA4E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863E-EC74-4D2C-A08E-266A08420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A1D6-9C7C-4680-9C43-7BF458020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1866-1049-4969-927B-37FB20C96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150E-4BE8-40E6-8C7B-103DD26A7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498B-8BFF-43A9-B990-014B58154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5FDA-413E-4BFB-943C-702170731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59A4-8A01-4076-9827-D40DEF58A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6813-70BE-4AF2-91A4-C9BCE323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82A1-7C18-4608-A204-1C7BBB86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BDBB-51A5-4B61-8D37-28D2B949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D8954-E037-412C-A178-5E2A3B4C1F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54;%20&#1083;&#1102;&#1073;&#1074;&#1080;%20&#1080;%20&#1090;&#1077;&#1088;&#1087;&#1077;&#1085;&#1080;&#1080;.%20&#1055;&#1088;&#1080;&#1090;&#1095;&#1072;%20&#1042;&#1086;&#1088;&#1086;&#1073;&#1077;&#1081;.mp4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dp.17ya.ru/?p=3560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3840" cy="561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Школьная тревожность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дагог-психолог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ГБУ СРЦН «Радуга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.Г.Останин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2987640" y="2781360"/>
            <a:ext cx="3519360" cy="22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539640" y="539640"/>
            <a:ext cx="7559640" cy="56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  <a:ea typeface="MS Gothic"/>
              </a:rPr>
              <a:t>КАК ЖЕ БОРОТЬСЯ СО ШКОЛЬНОЙ ТРЕВОЖНОСТЬЮ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MS Gothic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  <a:ea typeface="MS Gothic"/>
              </a:rPr>
              <a:t>- Главное, что должны сделать взрослые в этом случае, - это обеспечить ребёнку ощущение успех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1"/>
          <p:cNvSpPr/>
          <p:nvPr/>
        </p:nvSpPr>
        <p:spPr>
          <a:xfrm>
            <a:off x="539640" y="539640"/>
            <a:ext cx="7559640" cy="56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  <a:ea typeface="MS Gothic"/>
              </a:rPr>
              <a:t>Как же бороться со школьной тревожностью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  <a:ea typeface="MS Gothic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MS Gothic"/>
              </a:rPr>
              <a:t>Ребёнка нужно сравнивать только с самим собой и хвалить его лишь за одно: за улучшение его собственных результатов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MS Gothic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MS Gothic"/>
              </a:rPr>
              <a:t>- Способствуйте повышению самооценки ребёнка, чаще хвалите его, но так, чтобы он знал, за что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MS Gothic"/>
              </a:rPr>
              <a:t>- Не предъявляйте к ребёнку завышенных требований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MS Gothic"/>
              </a:rPr>
              <a:t>- Демонстрируйте образцы уверенного поведения, будьте во всём примером ребёнк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Lucida Sans Unicod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Lucida Sans Unicode"/>
              </a:rPr>
              <a:t>- Старайтесь делать ребенку меньше замечани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- Используйте наказание лишь в крайних случая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- Не унижайте ребенка, наказывая ег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- Общаясь с ребенком, не подрывайте авторитет других значимых взрослых людей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"/>
          <p:cNvSpPr/>
          <p:nvPr/>
        </p:nvSpPr>
        <p:spPr>
          <a:xfrm>
            <a:off x="571680" y="571680"/>
            <a:ext cx="788796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785880" y="928440"/>
            <a:ext cx="7672320" cy="51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юбите своего ребенка и относитесь ко всему, что происходит с ним с терпением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И у вас все получится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3"/>
          <a:stretch/>
        </p:blipFill>
        <p:spPr>
          <a:xfrm>
            <a:off x="5643720" y="3214800"/>
            <a:ext cx="2904840" cy="29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42472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зарова Т. В., Битянова М. Р., АоЬанасьева Е. И., Васильева И. Л. Работа психолога в начальной школе. М.: Генезис, 200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икляева А. В., Румянцева Я. В. Школьная тревожность: диагностика, коррекция, профилактика.. СПб, Речь,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Михайлова В. Истоки детской тревожности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s-meridian.com/child/manner/anxiety.html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Прихожан А. Под гнетом школьной тревожности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dp.17ya.ru/?p=35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ртинки взяты на различных интернет-сайт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14240" y="21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3200" spc="-1" strike="noStrike">
                <a:solidFill>
                  <a:srgbClr val="000000"/>
                </a:solidFill>
                <a:latin typeface="Century Schoolbook"/>
                <a:ea typeface="Lucida Sans Unicode"/>
              </a:rPr>
              <a:t>Тревожность - это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400" spc="-1" strike="noStrike">
                <a:solidFill>
                  <a:srgbClr val="000000"/>
                </a:solidFill>
                <a:latin typeface="Century Schoolbook"/>
                <a:ea typeface="Lucida Sans Unicode"/>
              </a:rPr>
              <a:t>состояние человека, которое характеризуется повышенной склонностью к переживаниям, опасениям и беспокойству, имеющему отрицательную эмоциональную окраску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Содержимое 9" descr=""/>
          <p:cNvPicPr/>
          <p:nvPr/>
        </p:nvPicPr>
        <p:blipFill>
          <a:blip r:embed="rId2"/>
          <a:stretch/>
        </p:blipFill>
        <p:spPr>
          <a:xfrm>
            <a:off x="682560" y="554040"/>
            <a:ext cx="7785000" cy="55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428760" y="0"/>
            <a:ext cx="78883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 Открытая тревожность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знательно переживаемая и проявляемая в поведении и деятельности в виде состояния тревог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  <a:ea typeface="Lucida Sans Unicode"/>
              </a:rPr>
              <a:t>2. Скрытая тревожность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  <a:ea typeface="Lucida Sans Unicode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Lucida Sans Unicode"/>
              </a:rPr>
              <a:t>теребление волос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entury Schoolbook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Lucida Sans Unicode"/>
              </a:rPr>
              <a:t>постукивание пальцами по столу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Lucida Sans Unicode"/>
              </a:rPr>
              <a:t>-неадекватное спокойстви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Lucida Sans Unicode"/>
              </a:rPr>
              <a:t>- уход от ситуа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6066000" y="4680000"/>
            <a:ext cx="3078000" cy="217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ормы тревож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13880" y="1999800"/>
            <a:ext cx="7743960" cy="40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ичностн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итуативн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Школьн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5286240" y="3286080"/>
            <a:ext cx="21607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акторы, способствующие формированию школьной тревож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0040" y="2071800"/>
            <a:ext cx="7958160" cy="40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  <a:ea typeface="Lucida Sans Unicode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Lucida Sans Unicode"/>
              </a:rPr>
              <a:t>учебные перегрузк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Lucida Sans Unicode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Lucida Sans Unicode"/>
              </a:rPr>
              <a:t>неспособность учащегося справиться со школьной программой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Lucida Sans Unicode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Lucida Sans Unicode"/>
              </a:rPr>
              <a:t>неадекватные ожидания со стороны родителей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Lucida Sans Unicode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Lucida Sans Unicode"/>
              </a:rPr>
              <a:t>неблагоприятные отношения с педагогам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Lucida Sans Unicode"/>
              </a:rPr>
              <a:t>регулярно повторяющиеся оценочно-экзаменационные ситуаци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Lucida Sans Unicode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Lucida Sans Unicode"/>
              </a:rPr>
              <a:t>Смена школьного коллектива и или неприятие детским коллективо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оявления школьной тревож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13880" y="1999800"/>
            <a:ext cx="7743960" cy="40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ассивность на уроках, скованность при ответах, смущение при малейшем замечании со стороны учител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перемене  не может найти себе занятие, любит находиться среди детей, не вступая, однако, в тесные контакты с ним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нижение сопротивляемости соматическим заболеваниям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сеянность, или снижение концентрации внимания на уроках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лищняя старательность при выполнении задани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ипы тревожных детей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13880" y="1356840"/>
            <a:ext cx="774396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вроти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сторможенн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стенчив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мкнуты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5715000" y="4214880"/>
            <a:ext cx="238140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изнаки тревожных дете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5840" y="1213920"/>
            <a:ext cx="85723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ле  болезни ребенок не хочет идти в школу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бенок по несколько раз перечитывает одни и те ж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ниги, смотрит одни и те же фильмы, мультфильмы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казываясь от всего нового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бенок стремится поддерживать идеальный порядок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пример, с маниакальным упорством раскладывает ручки в пенале в определенной последовательн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бенок сильно нервничает во время контрольных, на уроках постоянно переспрашивает, требует подробного объяснения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ыстро устает, утомляется, тяжело переключиться на другую деятельность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не удается сразу выполнить задание, такой ребенок отказывается от дальнейшего выполнения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клонен винить себя во всех неприятностях, случающихся с близким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6929280" y="1071720"/>
            <a:ext cx="2214720" cy="21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3T07:22:51Z</dcterms:created>
  <dc:creator>Психолог</dc:creator>
  <dc:description/>
  <dc:language>en-US</dc:language>
  <cp:lastModifiedBy>1</cp:lastModifiedBy>
  <dcterms:modified xsi:type="dcterms:W3CDTF">2014-03-20T12:19:55Z</dcterms:modified>
  <cp:revision>25</cp:revision>
  <dc:subject/>
  <dc:title>Школьная тревожность</dc:title>
</cp:coreProperties>
</file>