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A9B3-C0D5-467D-8B27-685C18CEBE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DA4E-EBA0-4BE8-B731-E80FA86F02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39FA-6D12-4D51-9DE1-6E0BFA6B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8B16-9884-411C-B542-DC96286E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A9C-217B-4AC6-A325-8514F04A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E2A-1B92-451D-B806-9BA1B84D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9ED-9841-4A29-8E6F-535C4D10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1AFC-5AD0-4EBF-A263-6B493569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6FE1-BFE9-4D97-A2A9-A99CB7BF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661A-732E-4A49-8211-F49DFAA4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B821-5B3C-469C-AB07-5766B9E2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267-AA57-463E-BA49-13A84133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79F-C06F-44C2-A40A-40612B22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490-860D-4806-BDA8-74B206D9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A22C-A20C-420C-A8E0-E727958AC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4;%20&#1083;&#1102;&#1073;&#1074;&#1080;%20&#1080;%20&#1090;&#1077;&#1088;&#1087;&#1077;&#1085;&#1080;&#1080;.%20&#1055;&#1088;&#1080;&#1090;&#1095;&#1072;%20&#1042;&#1086;&#1088;&#1086;&#1073;&#1077;&#1081;.mp4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p.17ya.ru/?p=3560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3840" cy="56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Школьная тревожность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дагог-психолог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ГБУ СРЦН «Радуг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.Г.Остани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987640" y="2781360"/>
            <a:ext cx="351936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39640" y="539640"/>
            <a:ext cx="7559640" cy="56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MS Gothic"/>
              </a:rPr>
              <a:t>КАК ЖЕ БОРОТЬСЯ СО ШКОЛЬНОЙ ТРЕВОЖНОСТЬЮ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MS Gothic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MS Gothic"/>
              </a:rPr>
              <a:t>- Главное, что должны сделать взрослые в этом случае, - это обеспечить ребёнку ощущение успех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539640" y="539640"/>
            <a:ext cx="7559640" cy="56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MS Gothic"/>
              </a:rPr>
              <a:t>Как же бороться со школьной тревожностью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  <a:ea typeface="MS Gothic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MS Gothic"/>
              </a:rPr>
              <a:t>Ребёнка нужно сравнивать только с самим собой и хвалить его лишь за одно: за улучшение его собственных результат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MS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MS Gothic"/>
              </a:rPr>
              <a:t>- Способствуйте повышению самооценки ребёнка, чаще хвалите его, но так, чтобы он знал, за чт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MS Gothic"/>
              </a:rPr>
              <a:t>- Не предъявляйте к ребёнку завышенных требовани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MS Gothic"/>
              </a:rPr>
              <a:t>- Демонстрируйте образцы уверенного поведения, будьте во всём примером ребён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- Старайтесь делать ребенку меньше замеча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Используйте наказание лишь в крайних случа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Не унижайте ребенка, наказывая е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- Общаясь с ребенком, не подрывайте авторитет других значимых взрослых люд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571680" y="571680"/>
            <a:ext cx="78879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85880" y="928440"/>
            <a:ext cx="767232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ите своего ребенка и относитесь ко всему, что происходит с ним с терпением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И у вас все получится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3"/>
          <a:stretch/>
        </p:blipFill>
        <p:spPr>
          <a:xfrm>
            <a:off x="5643720" y="3214800"/>
            <a:ext cx="2904840" cy="29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424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зарова Т. В., Битянова М. Р., АоЬанасьева Е. И., Васильева И. Л. Работа психолога в начальной школе. М.: Генезис, 20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кляева А. В., Румянцева Я. В. Школьная тревожность: диагностика, коррекция, профилактика.. СПб, Речь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Михайлова В. Истоки детской тревожности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s-meridian.com/child/manner/anxiety.htm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Прихожан А. Под гнетом школьной тревожности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dp.17ya.ru/?p=35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инки взяты на различных интернет-сайт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21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Тревожность - это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состояние человека, которое характеризуется повышенной склонностью к переживаниям, опасениям и беспокойству, имеющему отрицательную эмоциональную окраск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Содержимое 9" descr=""/>
          <p:cNvPicPr/>
          <p:nvPr/>
        </p:nvPicPr>
        <p:blipFill>
          <a:blip r:embed="rId2"/>
          <a:stretch/>
        </p:blipFill>
        <p:spPr>
          <a:xfrm>
            <a:off x="682560" y="554040"/>
            <a:ext cx="778500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428760" y="0"/>
            <a:ext cx="7888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Открытая тревожность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нательно переживаемая и проявляемая в поведении и деятельности в виде состояния трев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2. Скрытая тревожност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теребление волос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постукивание пальцами по стол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-неадекватное спокойств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- уход от ситу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6066000" y="4680000"/>
            <a:ext cx="3078000" cy="21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ормы тревож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3880" y="1999800"/>
            <a:ext cx="774396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чност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туатив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коль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286240" y="3286080"/>
            <a:ext cx="21607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кторы, способствующие формированию школьной тревож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0040" y="2071800"/>
            <a:ext cx="795816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учебные перегрузк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неспособность учащегося справиться со школьной программо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неадекватные ожидания со стороны родителе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неблагоприятные отношения с педагогам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регулярно повторяющиеся оценочно-экзаменационные ситуа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Century Schoolbook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Смена школьного коллектива и или неприятие детским коллектив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явления школьной тревож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3880" y="1999800"/>
            <a:ext cx="774396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ссивность на уроках, скованность при ответах, смущение при малейшем замечании со стороны учител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перемене  не может найти себе занятие, любит находиться среди детей, не вступая, однако, в тесные контакты с ни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ижение сопротивляемости соматическим заболевания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еянность, или снижение концентрации внимания на урока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лищняя старательность при выполнении зад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ипы тревожных детей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3880" y="1356840"/>
            <a:ext cx="77439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вро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торможе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стенчив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мкнут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5715000" y="4214880"/>
            <a:ext cx="23814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знаки тревожных де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 болезни ребенок не хочет идти в школ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по несколько раз перечитывает одни и те ж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ниги, смотрит одни и те же фильмы, мультфильм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азываясь от всего новог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стремится поддерживать идеальный порядок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имер, с маниакальным упорством раскладывает ручки в пенале в определенной последоват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сильно нервничает во время контрольных, на уроках постоянно переспрашивает, требует подробного объясн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стро устает, утомляется, тяжело переключиться на другую деятельност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не удается сразу выполнить задание, такой ребенок отказывается от дальнейшего выполн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лонен винить себя во всех неприятностях, случающихся с близки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6929280" y="1071720"/>
            <a:ext cx="221472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07:22:51Z</dcterms:created>
  <dc:creator>Психолог</dc:creator>
  <dc:description/>
  <dc:language>en-US</dc:language>
  <cp:lastModifiedBy>1</cp:lastModifiedBy>
  <dcterms:modified xsi:type="dcterms:W3CDTF">2014-03-20T12:19:55Z</dcterms:modified>
  <cp:revision>25</cp:revision>
  <dc:subject/>
  <dc:title>Школьная тревожность</dc:title>
</cp:coreProperties>
</file>