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8F25-AA48-4FE8-A4FA-E6059BD4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BEFA-004A-426F-AA8F-DEFED556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7CE-A4CE-435A-A80E-20959E93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8FF-E897-4838-A76F-843CD0FA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865-63BC-4959-BE22-C82CB4BA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E23-C8AD-43FE-BADC-9FA69101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847C-C88E-42A6-A624-CF011C73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8C57-BE2E-4D5F-B48E-0067C942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2D7A-0628-4690-B662-CF4FC0C9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086E-0EAF-426B-93F4-FFB84E87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8DB1-8736-4483-9991-20474423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8B81-9963-433A-9080-A4EFFED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DC31-28B9-4D3A-A526-10E7B4F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CAE-72A4-4D9F-BD2B-D97523BC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528-3AE8-45F5-BA3D-371346B6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5F9-5178-4DE3-B450-CB772820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BE1-CDFF-4AF7-B648-8BDBE114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4420-B8BF-4C16-9D30-237967B6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310C-79F2-48DE-A734-E8E19F6A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972-A830-490A-B846-9AFD1DA4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C5F-5687-454F-95C7-C774DEC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877-3CB0-4A62-8275-386D2268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EAA-6EBA-40FA-8184-1E8803C1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8AB-6838-4C8E-865F-8008F4F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FE1-98BE-4D98-98E6-942C00C4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AB4-8E7E-4149-8D87-F3EFC77E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136-5897-4E1B-98EA-0336AEE67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6040"/>
            <a:ext cx="7696080" cy="1117440"/>
            <a:chOff x="0" y="176040"/>
            <a:chExt cx="7696080" cy="111744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190880"/>
              <a:ext cx="7696080" cy="102600"/>
              <a:chOff x="0" y="1190880"/>
              <a:chExt cx="7696080" cy="10260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90880"/>
                <a:ext cx="7696080" cy="10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3040" y="-2598840"/>
                <a:ext cx="86400" cy="76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6120" y="176040"/>
              <a:ext cx="6854040" cy="1112760"/>
              <a:chOff x="6120" y="176040"/>
              <a:chExt cx="6854040" cy="111276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82160" y="-2688840"/>
                <a:ext cx="110772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6120" y="176040"/>
                <a:ext cx="5852520" cy="272160"/>
                <a:chOff x="6120" y="176040"/>
                <a:chExt cx="5852520" cy="27216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0" y="176040"/>
                  <a:ext cx="5852520" cy="27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800440" y="-2607120"/>
                  <a:ext cx="261360" cy="584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82160" y="-2688840"/>
                <a:ext cx="1107720" cy="6847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49B0-8F28-4DD4-B40C-7F1102A92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pedsovet.su/publ/156-1-0-5522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20 – 2021 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ЬСКОЕ СОБРАНИЕ №1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БОУ СОШ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243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246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249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259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264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1662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72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75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78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"/>
          <p:cNvSpPr/>
          <p:nvPr/>
        </p:nvSpPr>
        <p:spPr>
          <a:xfrm>
            <a:off x="214200" y="588960"/>
            <a:ext cx="87156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владевать способом чтения «по догад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сить содержание произведения с языковыми средствами, с помощью которых оно выражено авто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 делать подборку книг на заданную 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, повтор, звукопись, и определять их функции в художеств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графическую, музыкальную или словесную иллюстрацию, овладеть приемом словесного рисования сюжетного и пейзажного фрагментов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ить формы драматизации: чтение по ролям, живые картины, произнесение реплики героя с использованием мимики, развернутой драмат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творческий переска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составить диафильм к небольшому текст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 участие в конкурсе чтец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2"/>
          <p:cNvSpPr/>
          <p:nvPr/>
        </p:nvSpPr>
        <p:spPr>
          <a:xfrm>
            <a:off x="376200" y="189000"/>
            <a:ext cx="83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9560" y="520560"/>
            <a:ext cx="8218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4098960" y="2421000"/>
            <a:ext cx="2622600" cy="284796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47960"/>
              <a:gd name="textAreaBottom" fmla="*/ 2848320 h 28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81400" y="2444760"/>
            <a:ext cx="2809800" cy="28494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e05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324000" y="2421000"/>
            <a:ext cx="2687400" cy="2895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a304"/>
              </a:gs>
              <a:gs pos="100000">
                <a:srgbClr val="b07203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07880" y="2828880"/>
            <a:ext cx="25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людение логических па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2965320" y="33861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0- 75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5"/>
          <p:cNvSpPr txBox="1"/>
          <p:nvPr/>
        </p:nvSpPr>
        <p:spPr>
          <a:xfrm>
            <a:off x="7020000" y="2492280"/>
            <a:ext cx="165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070600" y="341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85 - 90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"/>
          <p:cNvSpPr/>
          <p:nvPr/>
        </p:nvSpPr>
        <p:spPr>
          <a:xfrm>
            <a:off x="108000" y="487800"/>
            <a:ext cx="9036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еловек — часть природы и об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то такое тела и вещества, твердые вещества, жидкости и газ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сновные свойства воздуха и воды, круговорот воды в природ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основные группы живого (растения, животные, грибы, бактерии); группы растений (водоросли, мхи, папоротники, хвойные, цветковые); группы животных (насекомые, рыбы, земноводные, пресмыкающиеся, птицы, звери);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неживой и живой природой, внутри живой природы (между растениями и животными, между различными животными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природой и человеком (значение природы для человека, отрицательное и положительное воздействие людей на природу, меры по охране природы, правила личного поведения в природе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строение тела человека, основные системы органов и их роль в организм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авила гигиены; основы здорового образа жизн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правила безопасного поведения в быту и на улице, основные дорожные знаки; правила противопожарной безопасности, основы экологической безопас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отребности людей; товары и услуг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оль природных богатств в экономике; основные отрасли сельского хозяйства и промышленности; роль денег в экономике, основы семейного бюдж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некоторые города России, их главные достопримечательности; страны, граничащие с Россией (с опорой на карту); страны зарубежной Европы, их столицы (с опорой на карту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должны уме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аспознавать природные объекты с помощью атласа-определителя; различать наиболее распространенные в данной местности растения, животных,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оводить наблюдения природных тел и явлений, простейшие опыты и практические работы, фиксировать их результат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бъяснять в пределах требований программы взаимосвязи в природе и между природой и человеко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ыполнять правила личного поведения в природе, обосновывать их необхо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87280" y="1890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окружающему м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856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Что же нужно   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                    третьекласснику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395280" y="1844640"/>
            <a:ext cx="84978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Чтение хороше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Уважение к их собственному мнению, чутью, реш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Искренность со стороны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Содержимое 4"/>
          <p:cNvSpPr/>
          <p:nvPr/>
        </p:nvSpPr>
        <p:spPr>
          <a:xfrm>
            <a:off x="395280" y="1071720"/>
            <a:ext cx="842472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обучение самостоятельности в подготовке домашних зада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систематический контроль выполнения домашней работ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одготовка ребенка к грамотному написанию текс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достижение нормы на конец года по технике чт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работа над развитием вычислительных навы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культуры об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оспитание таких качеств и умений как: самообслуживание, аккуратность в работе, ответственность по отношению к учёбе и 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тие умения выразить свою точку зрения, принять друг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Развитие умения слушать и вступать в ди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 проявлять инициативу и самостоятельность в об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3033"/>
                </a:solidFill>
                <a:latin typeface="Times New Roman"/>
              </a:rPr>
              <a:t>Учиться самостоятельно осуществлять поиск информации, ответы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504800" y="214200"/>
            <a:ext cx="637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ства по обеспечению успешност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остижении образовательн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1960" y="907560"/>
            <a:ext cx="8870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перв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ей лежаче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йка” - достаточное наказание, и не стоит дважды наказывать за одни и те же ошибки. Оценку своих знаний ребенок уже получил, и дома от своих родителей он ждет спокойной помощи, а не новых уп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торо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более одного недостатка в минутку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избавить ребенка от недостатка, замечайте не более одного в минуту. Знайте меру. Иначе ваш ребенок просто “отключится”, перестанет реагировать на такие речи, станет нечувствительным к вашим оценка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третье: </a:t>
            </a:r>
            <a:r>
              <a:rPr b="1" i="1" lang="ru-RU" sz="1800" spc="-1" strike="noStrike" u="sng">
                <a:solidFill>
                  <a:srgbClr val="e1595c"/>
                </a:solidFill>
                <a:uFillTx/>
                <a:latin typeface="Arial"/>
              </a:rPr>
              <a:t>не скупитесь на похв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такого двоечника, которого не за что было бы похвалить. Выделить из потока неудач крошечный островок, соломинку, и у ребенка возникнет плацдарм, с которого можно вести наступление на незнание и неумение. Ведь родительские: “Не сделал, не старался, не учил” порождает Эхо: “не хочу, не могу, не буду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0755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3120" y="1203480"/>
            <a:ext cx="851688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«Об образовании в Российской Федерации» от 29.12.2012 N 273-ФЗ ст 44 (ред. от 29.07.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ья 44. Права, обязанности и ответственность в сфере образования родителей (законных представителей) несовершеннолетних обучающих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ны заложить основы физического, нравственного и интеллектуального развития личности ребе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бразовательные организ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азывают помощь родителя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обяз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людать правила внутреннего распорядка организации, осуществляющей образовательную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важать честь и достоинство обучающихся и работников организации, осуществляющей образовательную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еисполнение или ненадлежащее исполнение обязаннос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становленных настоящим Федеральным законом и иными федеральными законами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законные представители) несовершеннолетни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ающихся несут ответственность, предусмотренную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3033"/>
                </a:solidFill>
                <a:latin typeface="Arial"/>
              </a:rPr>
              <a:t>Обязанности родителе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1412640"/>
            <a:ext cx="86421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й кодекс Российской Федерации от 29.12.1995 N 223-ФЗ ст 63 (ред. от 01.05.201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ья 63. Права и обязанности родителей по воспитанию и образованию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Родители имеют право и обязаны воспитывать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имеют преимущественное право на обучение и воспитание своих детей перед всеми другими л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одители обязаны обеспечить получение детьми обще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 имеют право выбора образовательной организ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формы получения детьми образования и формы их обучения с учетом мнения детей до получения ими основного общего образования (9 кл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ное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5280" y="1196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ие 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 (русский (словарики, слова), окружающий (пересказ!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ртивная форма и форма на ритмику, ковр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ьная форма(парадная, повседне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Д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йки по английскому я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ятность, складывание ве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и на 2020 – 2021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2124000" y="5300640"/>
            <a:ext cx="4927680" cy="531720"/>
            <a:chOff x="2124000" y="5300640"/>
            <a:chExt cx="4927680" cy="531720"/>
          </a:xfrm>
        </p:grpSpPr>
        <p:sp>
          <p:nvSpPr>
            <p:cNvPr id="158" name="AutoShape 3"/>
            <p:cNvSpPr/>
            <p:nvPr/>
          </p:nvSpPr>
          <p:spPr>
            <a:xfrm>
              <a:off x="2124000" y="530064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"/>
            <p:cNvSpPr/>
            <p:nvPr/>
          </p:nvSpPr>
          <p:spPr>
            <a:xfrm>
              <a:off x="2163960" y="531972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61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216864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64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2"/>
            <p:cNvSpPr/>
            <p:nvPr/>
          </p:nvSpPr>
          <p:spPr>
            <a:xfrm>
              <a:off x="216864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8160" y="125280"/>
            <a:ext cx="66754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a304"/>
                </a:solidFill>
                <a:latin typeface="Arial"/>
              </a:rPr>
              <a:t>ПОВЕСТКА ДН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496800" y="1201680"/>
            <a:ext cx="771840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С НОВ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595c"/>
                </a:solidFill>
                <a:latin typeface="Georgia"/>
              </a:rPr>
              <a:t>УЧЕБНЫМ ГО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106720" y="2693880"/>
            <a:ext cx="4927320" cy="531720"/>
            <a:chOff x="2106720" y="2693880"/>
            <a:chExt cx="4927320" cy="531720"/>
          </a:xfrm>
        </p:grpSpPr>
        <p:sp>
          <p:nvSpPr>
            <p:cNvPr id="175" name="AutoShape 23"/>
            <p:cNvSpPr/>
            <p:nvPr/>
          </p:nvSpPr>
          <p:spPr>
            <a:xfrm>
              <a:off x="2106720" y="2693880"/>
              <a:ext cx="492732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2146320" y="2712960"/>
              <a:ext cx="487008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1"/>
          <p:cNvSpPr/>
          <p:nvPr/>
        </p:nvSpPr>
        <p:spPr>
          <a:xfrm>
            <a:off x="2490840" y="27813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ласс: программа, режим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>
            <a:off x="2550600" y="36439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2558160" y="450756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нности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2629440" y="537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бования к ведению тетрадей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360" y="1916280"/>
            <a:ext cx="822960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правилами ведения тетрадей в начальной школ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записи ученик должен делать ручкой с </a:t>
            </a:r>
            <a:r>
              <a:rPr b="1" lang="ru-RU" sz="3200" spc="-1" strike="noStrike">
                <a:solidFill>
                  <a:srgbClr val="e1595c"/>
                </a:solidFill>
                <a:latin typeface="Arial"/>
              </a:rPr>
              <a:t>синими чернилам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тирающиеся, гелевые ручки использовать нельзя!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полнения других операций в тетрадях может быть использован простой карандаш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и в тетрадях нужно вести аккуратно, с соблюдением норм каллиграфии. В течение всех лет обучения в начальной школе необходимо вести в тетради работу по </a:t>
            </a:r>
            <a:r>
              <a:rPr b="0" lang="ru-RU" sz="3200" spc="-1" strike="noStrike" u="sng">
                <a:solidFill>
                  <a:srgbClr val="80e05a"/>
                </a:solidFill>
                <a:uFillTx/>
                <a:latin typeface="Arial"/>
                <a:hlinkClick r:id="rId1"/>
              </a:rPr>
              <a:t>выработке каллиграфического почерка</a:t>
            </a:r>
            <a:r>
              <a:rPr b="0" lang="ru-RU" sz="3200" spc="-1" strike="noStrike">
                <a:solidFill>
                  <a:srgbClr val="c7242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https://pedsovet.su/_pu/63/s59605596.jpg"/>
          <p:cNvPicPr/>
          <p:nvPr/>
        </p:nvPicPr>
        <p:blipFill>
          <a:blip r:embed="rId2"/>
          <a:stretch/>
        </p:blipFill>
        <p:spPr>
          <a:xfrm>
            <a:off x="27000" y="12600"/>
            <a:ext cx="5276880" cy="666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s://pedsovet.su/_pu/63/s72437712.jpg"/>
          <p:cNvPicPr/>
          <p:nvPr/>
        </p:nvPicPr>
        <p:blipFill>
          <a:blip r:embed="rId3"/>
          <a:stretch/>
        </p:blipFill>
        <p:spPr>
          <a:xfrm>
            <a:off x="3886200" y="12600"/>
            <a:ext cx="5257800" cy="6667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6659640" y="189000"/>
            <a:ext cx="234000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БОУ СОШ № 1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71600" y="6087240"/>
            <a:ext cx="640080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468360" y="1428840"/>
            <a:ext cx="82468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 – 4 +1 урок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чтение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й, немецкий языки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, музыка, ИЗО, ритмика – по 1 уроку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а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0" y="3571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17-2018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7336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10 - 08.11 - 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1.12 – 10.01 - 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0.03 – 29.03 - ве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204280" y="357120"/>
            <a:ext cx="48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ЖИМ РАБОТЫ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912960"/>
            <a:ext cx="84978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исание звон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к 08.30 – 09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к 09.25 – 10.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к 10.30 – 11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к 11.35 – 12.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к 12.30 – 13.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трак – 10.30 (53руб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684360" y="2651040"/>
            <a:ext cx="77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179280" y="3395520"/>
            <a:ext cx="8866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Физическая культу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Морозова Евгения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у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Ерхан Инна Евген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Иваненкова Мария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Немецкий язык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авская Людмил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Ритмика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сюкова Светла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41360" y="250920"/>
            <a:ext cx="8604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 математика, окружающий мир, технология, из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ександр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906-669-37-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250920" y="115920"/>
            <a:ext cx="889308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глагол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двусостав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3267000" y="5321160"/>
            <a:ext cx="274968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2"/>
          <p:cNvGrpSpPr/>
          <p:nvPr/>
        </p:nvGrpSpPr>
        <p:grpSpPr>
          <a:xfrm>
            <a:off x="5908680" y="1228680"/>
            <a:ext cx="2749320" cy="1247040"/>
            <a:chOff x="5908680" y="1228680"/>
            <a:chExt cx="2749320" cy="1247040"/>
          </a:xfrm>
        </p:grpSpPr>
        <p:sp>
          <p:nvSpPr>
            <p:cNvPr id="196" name="AutoShape 3"/>
            <p:cNvSpPr/>
            <p:nvPr/>
          </p:nvSpPr>
          <p:spPr>
            <a:xfrm>
              <a:off x="5908680" y="12286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51520" y="13039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6354720" y="2798640"/>
            <a:ext cx="2736360" cy="1223280"/>
            <a:chOff x="6354720" y="2798640"/>
            <a:chExt cx="2736360" cy="1223280"/>
          </a:xfrm>
        </p:grpSpPr>
        <p:sp>
          <p:nvSpPr>
            <p:cNvPr id="199" name="AutoShape 6"/>
            <p:cNvSpPr/>
            <p:nvPr/>
          </p:nvSpPr>
          <p:spPr>
            <a:xfrm>
              <a:off x="6354720" y="279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6397200" y="287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6197760" y="4221000"/>
            <a:ext cx="2663280" cy="1152000"/>
            <a:chOff x="6197760" y="4221000"/>
            <a:chExt cx="2663280" cy="1152000"/>
          </a:xfrm>
        </p:grpSpPr>
        <p:sp>
          <p:nvSpPr>
            <p:cNvPr id="202" name="AutoShape 9"/>
            <p:cNvSpPr/>
            <p:nvPr/>
          </p:nvSpPr>
          <p:spPr>
            <a:xfrm>
              <a:off x="6197760" y="4221000"/>
              <a:ext cx="2663280" cy="11520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"/>
            <p:cNvSpPr/>
            <p:nvPr/>
          </p:nvSpPr>
          <p:spPr>
            <a:xfrm>
              <a:off x="6239160" y="4290480"/>
              <a:ext cx="2569680" cy="4680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7"/>
          <p:cNvGrpSpPr/>
          <p:nvPr/>
        </p:nvGrpSpPr>
        <p:grpSpPr>
          <a:xfrm>
            <a:off x="3525840" y="2503440"/>
            <a:ext cx="1989000" cy="1987560"/>
            <a:chOff x="3525840" y="2503440"/>
            <a:chExt cx="1989000" cy="1987560"/>
          </a:xfrm>
        </p:grpSpPr>
        <p:sp>
          <p:nvSpPr>
            <p:cNvPr id="212" name="Oval 28"/>
            <p:cNvSpPr/>
            <p:nvPr/>
          </p:nvSpPr>
          <p:spPr>
            <a:xfrm>
              <a:off x="3525840" y="2503440"/>
              <a:ext cx="198900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9"/>
            <p:cNvSpPr/>
            <p:nvPr/>
          </p:nvSpPr>
          <p:spPr>
            <a:xfrm>
              <a:off x="3655440" y="263304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30"/>
            <p:cNvSpPr/>
            <p:nvPr/>
          </p:nvSpPr>
          <p:spPr>
            <a:xfrm>
              <a:off x="3657240" y="2635920"/>
              <a:ext cx="172872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1"/>
            <p:cNvSpPr/>
            <p:nvPr/>
          </p:nvSpPr>
          <p:spPr>
            <a:xfrm>
              <a:off x="3749400" y="2719080"/>
              <a:ext cx="155592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32"/>
            <p:cNvGrpSpPr/>
            <p:nvPr/>
          </p:nvGrpSpPr>
          <p:grpSpPr>
            <a:xfrm>
              <a:off x="3776760" y="2736720"/>
              <a:ext cx="1506600" cy="1505880"/>
              <a:chOff x="3776760" y="2736720"/>
              <a:chExt cx="1506600" cy="1505880"/>
            </a:xfrm>
          </p:grpSpPr>
          <p:sp>
            <p:nvSpPr>
              <p:cNvPr id="217" name="Oval 33"/>
              <p:cNvSpPr/>
              <p:nvPr/>
            </p:nvSpPr>
            <p:spPr>
              <a:xfrm>
                <a:off x="3776760" y="2736720"/>
                <a:ext cx="150660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34"/>
              <p:cNvSpPr/>
              <p:nvPr/>
            </p:nvSpPr>
            <p:spPr>
              <a:xfrm>
                <a:off x="3795840" y="2745000"/>
                <a:ext cx="147060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35"/>
              <p:cNvSpPr/>
              <p:nvPr/>
            </p:nvSpPr>
            <p:spPr>
              <a:xfrm>
                <a:off x="3811680" y="2759400"/>
                <a:ext cx="139824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36"/>
              <p:cNvSpPr/>
              <p:nvPr/>
            </p:nvSpPr>
            <p:spPr>
              <a:xfrm>
                <a:off x="3893400" y="2797920"/>
                <a:ext cx="124272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37"/>
            <p:cNvSpPr/>
            <p:nvPr/>
          </p:nvSpPr>
          <p:spPr>
            <a:xfrm>
              <a:off x="4444920" y="32932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58840"/>
            <a:ext cx="82119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6"/>
          <p:cNvSpPr/>
          <p:nvPr/>
        </p:nvSpPr>
        <p:spPr>
          <a:xfrm>
            <a:off x="3826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7"/>
          <p:cNvSpPr/>
          <p:nvPr/>
        </p:nvSpPr>
        <p:spPr>
          <a:xfrm>
            <a:off x="3414600" y="5518080"/>
            <a:ext cx="22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8"/>
          <p:cNvGrpSpPr/>
          <p:nvPr/>
        </p:nvGrpSpPr>
        <p:grpSpPr>
          <a:xfrm>
            <a:off x="382680" y="1365120"/>
            <a:ext cx="2748960" cy="1247040"/>
            <a:chOff x="382680" y="1365120"/>
            <a:chExt cx="2748960" cy="1247040"/>
          </a:xfrm>
        </p:grpSpPr>
        <p:sp>
          <p:nvSpPr>
            <p:cNvPr id="226" name="AutoShape 49"/>
            <p:cNvSpPr/>
            <p:nvPr/>
          </p:nvSpPr>
          <p:spPr>
            <a:xfrm>
              <a:off x="382680" y="1365120"/>
              <a:ext cx="274896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>
              <a:off x="425520" y="1440360"/>
              <a:ext cx="265248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1"/>
          <p:cNvGrpSpPr/>
          <p:nvPr/>
        </p:nvGrpSpPr>
        <p:grpSpPr>
          <a:xfrm>
            <a:off x="366840" y="4297320"/>
            <a:ext cx="2663280" cy="1150200"/>
            <a:chOff x="366840" y="4297320"/>
            <a:chExt cx="2663280" cy="1150200"/>
          </a:xfrm>
        </p:grpSpPr>
        <p:sp>
          <p:nvSpPr>
            <p:cNvPr id="229" name="AutoShape 52"/>
            <p:cNvSpPr/>
            <p:nvPr/>
          </p:nvSpPr>
          <p:spPr>
            <a:xfrm>
              <a:off x="366840" y="429732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3"/>
            <p:cNvSpPr/>
            <p:nvPr/>
          </p:nvSpPr>
          <p:spPr>
            <a:xfrm>
              <a:off x="408240" y="436680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54"/>
          <p:cNvGrpSpPr/>
          <p:nvPr/>
        </p:nvGrpSpPr>
        <p:grpSpPr>
          <a:xfrm>
            <a:off x="71280" y="2817720"/>
            <a:ext cx="2736720" cy="1223280"/>
            <a:chOff x="71280" y="2817720"/>
            <a:chExt cx="2736720" cy="1223280"/>
          </a:xfrm>
        </p:grpSpPr>
        <p:sp>
          <p:nvSpPr>
            <p:cNvPr id="232" name="AutoShape 55"/>
            <p:cNvSpPr/>
            <p:nvPr/>
          </p:nvSpPr>
          <p:spPr>
            <a:xfrm>
              <a:off x="71280" y="2817720"/>
              <a:ext cx="273672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56"/>
            <p:cNvSpPr/>
            <p:nvPr/>
          </p:nvSpPr>
          <p:spPr>
            <a:xfrm>
              <a:off x="113760" y="2891520"/>
              <a:ext cx="264060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7"/>
          <p:cNvSpPr/>
          <p:nvPr/>
        </p:nvSpPr>
        <p:spPr>
          <a:xfrm>
            <a:off x="6632640" y="28512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8"/>
          <p:cNvSpPr/>
          <p:nvPr/>
        </p:nvSpPr>
        <p:spPr>
          <a:xfrm>
            <a:off x="6110280" y="13939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9"/>
          <p:cNvSpPr/>
          <p:nvPr/>
        </p:nvSpPr>
        <p:spPr>
          <a:xfrm>
            <a:off x="642960" y="153360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0"/>
          <p:cNvSpPr/>
          <p:nvPr/>
        </p:nvSpPr>
        <p:spPr>
          <a:xfrm>
            <a:off x="338040" y="302112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644400" y="442260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6489720" y="4473720"/>
            <a:ext cx="19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ительный Ъ и Ь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108000" y="335160"/>
            <a:ext cx="9036000" cy="64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, соотношение разрядных единиц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письменного сложения и выч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прямоугольника и периметра мног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714240" y="1159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школа №3</cp:lastModifiedBy>
  <dcterms:modified xsi:type="dcterms:W3CDTF">2020-09-30T16:15:50Z</dcterms:modified>
  <cp:revision>42</cp:revision>
  <dc:subject/>
  <dc:title>Презентация PowerPoint</dc:title>
</cp:coreProperties>
</file>