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B713-338F-4F94-A4E9-BFB8EF3E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8BF-07F5-4253-A83C-CC2D2165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3CE-74E2-4F9E-9CD2-E4FCD7F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952-92A1-4B5C-A0C3-41A5268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21E-D372-48D8-B7CC-C7C7CA65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C48-A4F8-422D-ADD8-D7564BA6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9C8C-57F0-439A-9CC5-2AB24C22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6F6-40AC-4BBF-97AF-AAC62AC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6B4-9419-4C31-88BB-3683B7B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C1FA-2F8E-4F14-A19E-4C5443B2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EE61-F170-46F3-95E6-0992989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FE01-4769-45D1-B1D4-10B9EB6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75AD-B6BD-4C06-8C75-9BABC67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FF-1BFD-4CDD-8EC9-54120F9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5F1A-ACFA-4C04-BD6B-8869CD8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8AF8-9F37-4386-B75B-EC518E4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8E0B-A3E1-46AA-9EE1-0389771E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BFD6-C537-4BD5-9105-40411A4E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04DF-7796-4DF5-8B21-5A90903D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1B1-63D3-4478-89D6-37A06AA6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FCC-0409-451E-8735-A7F89102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B83-BE6B-48B9-B9E5-B87E3F4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236-39D1-4556-BB0F-16D2932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91C-B7CE-42EA-99CF-2F9BFF70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A9D-1A92-46F0-A868-64E043C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728-DF82-4A99-BD86-29B49AC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E28-EB85-43FF-A8AB-814A18770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6120" y="176040"/>
              <a:ext cx="6854040" cy="1112760"/>
              <a:chOff x="6120" y="176040"/>
              <a:chExt cx="6854040" cy="111276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82160" y="-2688840"/>
                <a:ext cx="110772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6120" y="176040"/>
                <a:ext cx="5852520" cy="272160"/>
                <a:chOff x="6120" y="176040"/>
                <a:chExt cx="5852520" cy="27216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800440" y="-2607120"/>
                  <a:ext cx="26136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82160" y="-2688840"/>
                <a:ext cx="110772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FA47-7603-49DC-9D5E-6B9E9BD33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pedsovet.su/publ/156-1-0-5522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0 – 2021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43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46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49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59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64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72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75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78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214200" y="588960"/>
            <a:ext cx="87156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владевать способом чтения «по догад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творческий переск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составить диафильм к небольшому текс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376200" y="1890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560" y="520560"/>
            <a:ext cx="8218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81400" y="244476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07880" y="282888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965320" y="33861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0- 75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070600" y="341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85 - 9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08000" y="487800"/>
            <a:ext cx="9036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 с помощью атласа-определителя; различать наиболее распространенные в данной местности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, простейшие опыты и практические работы, фиксировать их результат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87280" y="1890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Что же нужно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                   третьеклассник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395280" y="1844640"/>
            <a:ext cx="84978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ение хороше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важение к их собственному мнению, чутью, реш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скренность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одержимое 4"/>
          <p:cNvSpPr/>
          <p:nvPr/>
        </p:nvSpPr>
        <p:spPr>
          <a:xfrm>
            <a:off x="395280" y="1071720"/>
            <a:ext cx="842472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выполнения домашней раб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достижение нормы на конец года по технике чт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тие умения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тие умения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 проявлять инициативу и самостоятельность в об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ся самостоятельно осуществлять поиск информации, ответы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504800" y="21420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1960" y="907560"/>
            <a:ext cx="8870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ей лежаче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йка” - достаточное наказание, и не стоит дважды наказывать за одни и те же ошибки. Оценку своих знаний ребенок уже получил, и дома от своих родителей он ждет спокойной помощи, а не новых уп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тор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олее одного недостатка в минутку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избавить ребенка от недостатка, замечайте не более одного в минуту. Знайте меру. Иначе ваш ребенок просто “отключится”, перестанет реагировать на такие речи, станет нечувствительным к вашим оценка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скупитесь на похв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такого двоечника, которого не за что было бы похвалить. Выделить из потока неудач крошечный островок, соломинку, и у ребенка возникнет плацдарм, с которого можно вести наступление на незнание и неумение. Ведь родительские: “Не сделал, не старался, не учил” порождает Эхо: “не хочу, не могу, не буду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075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3120" y="1203480"/>
            <a:ext cx="85168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«Об образовании в Российской Федерации» от 29.12.2012 N 273-ФЗ ст 44 (ред. от 29.07.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ны заложить основы физического, нравственного и интеллектуального развития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бразовательные организ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азывают помощь родителя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обяз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правила внутреннего распорядка организации, осуществляющей образовательную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еисполнение или ненадлежащее исполнение обязан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становленных настоящим Федеральным законом и иными федеральными закона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несут ответственность, предусмотренную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1412640"/>
            <a:ext cx="8642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й кодекс Российской Федерации от 29.12.1995 N 223-ФЗ ст 63 (ред. от 01.05.20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я 63. Права и обязанности родителей по воспитанию и образованию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меют преимущественное право на обучение и воспитание своих детей перед всеми другими л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имеют право выбор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ормы получения детьми образования и формы их обучения с учетом мнения детей до получения ими основного общего образования (9 кл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но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1196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 (русский (словарики, слова), окружающий (пересказ!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ивная форма и форма на ритмику, ковр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ая форма(парадная, повседне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Д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ки по английскому я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ятность, складывание в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и на 2020 – 2021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8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61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64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8160" y="125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С Н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УЧЕБНЫМ ГО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06720" y="2693880"/>
            <a:ext cx="4927320" cy="531720"/>
            <a:chOff x="2106720" y="2693880"/>
            <a:chExt cx="4927320" cy="531720"/>
          </a:xfrm>
        </p:grpSpPr>
        <p:sp>
          <p:nvSpPr>
            <p:cNvPr id="175" name="AutoShape 23"/>
            <p:cNvSpPr/>
            <p:nvPr/>
          </p:nvSpPr>
          <p:spPr>
            <a:xfrm>
              <a:off x="2106720" y="2693880"/>
              <a:ext cx="492732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146320" y="2712960"/>
              <a:ext cx="4870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1"/>
          <p:cNvSpPr/>
          <p:nvPr/>
        </p:nvSpPr>
        <p:spPr>
          <a:xfrm>
            <a:off x="2490840" y="2781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2558160" y="45075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бования к ведению тетрадей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360" y="1916280"/>
            <a:ext cx="822960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правилами ведения тетрадей в начальной шко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писи ученик должен делать ручкой с </a:t>
            </a:r>
            <a:r>
              <a:rPr b="1" lang="ru-RU" sz="3200" spc="-1" strike="noStrike">
                <a:solidFill>
                  <a:srgbClr val="e1595c"/>
                </a:solidFill>
                <a:latin typeface="Arial"/>
              </a:rPr>
              <a:t>синими чернила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тирающиеся, гелевые ручки использовать нельзя!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полнения других операций в тетрадях может быть использован простой карандаш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и в тетрадях нужно вести аккуратно, с соблюдением норм каллиграфии. В течение всех лет обучения в начальной школе необходимо вести в тетради работу по </a:t>
            </a:r>
            <a:r>
              <a:rPr b="0" lang="ru-RU" sz="3200" spc="-1" strike="noStrike" u="sng">
                <a:solidFill>
                  <a:srgbClr val="80e05a"/>
                </a:solidFill>
                <a:uFillTx/>
                <a:latin typeface="Arial"/>
                <a:hlinkClick r:id="rId1"/>
              </a:rPr>
              <a:t>выработке каллиграфического почерка</a:t>
            </a:r>
            <a:r>
              <a:rPr b="0" lang="ru-RU" sz="3200" spc="-1" strike="noStrike">
                <a:solidFill>
                  <a:srgbClr val="c7242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https://pedsovet.su/_pu/63/s59605596.jpg"/>
          <p:cNvPicPr/>
          <p:nvPr/>
        </p:nvPicPr>
        <p:blipFill>
          <a:blip r:embed="rId2"/>
          <a:stretch/>
        </p:blipFill>
        <p:spPr>
          <a:xfrm>
            <a:off x="27000" y="12600"/>
            <a:ext cx="5276880" cy="666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s://pedsovet.su/_pu/63/s72437712.jpg"/>
          <p:cNvPicPr/>
          <p:nvPr/>
        </p:nvPicPr>
        <p:blipFill>
          <a:blip r:embed="rId3"/>
          <a:stretch/>
        </p:blipFill>
        <p:spPr>
          <a:xfrm>
            <a:off x="3886200" y="12600"/>
            <a:ext cx="5257800" cy="6667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БОУ СОШ № 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71600" y="6087240"/>
            <a:ext cx="640080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468360" y="1428840"/>
            <a:ext cx="82468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4 +1 урок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, немецкий языки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, ритмика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17-2018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7336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0 - 08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2 – 10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.03 – 29.03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912960"/>
            <a:ext cx="8497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30 – 09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9.25 – 10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10.30 – 11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1.35 – 12.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2.30 – 13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трак – 10.30 (53ру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684360" y="265104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79280" y="3395520"/>
            <a:ext cx="886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Морозова Евгения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Ерхан Ин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Иваненкова Мария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мецкий язык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авская Людмил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итмика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сюкова Светла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41360" y="250920"/>
            <a:ext cx="8604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из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906-669-37-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196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199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02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12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217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226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229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232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108000" y="335160"/>
            <a:ext cx="9036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школа №3</cp:lastModifiedBy>
  <dcterms:modified xsi:type="dcterms:W3CDTF">2020-09-30T16:15:50Z</dcterms:modified>
  <cp:revision>42</cp:revision>
  <dc:subject/>
  <dc:title>Презентация PowerPoint</dc:title>
</cp:coreProperties>
</file>