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BD6-79E0-49EA-A69A-53509A56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D52-45D5-4453-8D94-FE9B35BE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E25D9-D24A-478C-A097-7F5D4235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7315C-9225-4EF8-AC96-47976974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F5C40-A59C-441A-8671-F400A25F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6AB39-8EA6-472F-80D1-CC8EE915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2C4A0-DB82-4B0A-8EDE-DE4C818F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281AF-9215-4485-B45F-63CA6DCC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BEA3B-D8E2-441A-9E2D-859D706B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E581C-DC23-42CB-8925-A82A2574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75407-031C-4CF2-8BAA-1B3AC09D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F51-AFE1-43C6-9AB9-6E5368AB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D25-ADF4-42A1-9888-925922C5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BF9F-7055-431E-A7F1-3056D926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2322-23DC-45C0-A720-6226B291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37E2-15C1-4B8C-8040-17C72F1A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8D73-63BC-4B72-8AD4-809676C0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5936-7F68-4BD7-916C-E60DCD57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CA93-B80E-4150-BA69-602422C3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4510-0BBC-4979-AAB3-9253D228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0D2-BADB-4B95-9F06-B468B314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D3CD-C6CF-47A1-A750-5BD3D66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DF2C-193D-46D8-81AC-19A02180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A507-03BB-47A0-BA21-3AC342C0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2B34-3EE1-4378-8912-EC7B08FC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7AE9-C481-4E35-BB96-A5333B3A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36A0-E241-4491-B5B3-BAABEFF7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21B79-129D-4A50-A7ED-630EA489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F64E-0E95-4A2A-9365-FA2DE983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3C405-FEBD-4CE6-9B7C-DD33B9E6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E086F-FFDD-4E20-A89D-5F9F8678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232-EE42-4252-B753-A0DF8082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DC7F-D8D4-4755-A9C7-D5CA36D8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BEE3-ED9E-4854-B36A-5663C70E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A5E2F-AD7E-4D36-A3C8-9386DF0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F989-F5CA-47F8-983C-B2C1CECF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C2E2-D5C6-4657-B4E2-4A57642A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F509-C070-4BA2-8CCE-7F36CDD6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FBFA-746D-49C7-B30D-BFE607F4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DFAA6-7708-4EFF-9823-5FA4C525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81F09-4FA1-4D18-A106-07E3AA77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CE559-3F0E-4347-87A7-8C7F7AB2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FFD-3FF4-47F3-B916-DB98FE0B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A511E-BD10-47D7-AA0A-E427E095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7CD87-7701-418E-8592-067D1BDA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F1B85-73FD-46F3-B56B-B0099843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B5221-221C-4795-8290-7553415A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25844-766E-4925-A406-FC195341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5A15-28FF-4209-A694-D82A1DE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B791A-A5CC-449E-9511-FF7A986F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5FEC1-BB8C-4AFD-A884-2124C402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E06E0-861D-4187-BB72-75C45E0D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57BC-CA4A-462B-8DA5-A436CB3E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15E-144D-4210-8111-06FA9FB3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A2966-EB99-4C0A-BE55-49D002C9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DA0C8-233F-4AF5-97DE-B5942CD9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D387F-CACE-47EF-AA26-E309169F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31C35-2CAB-4D16-B2C7-9012F7F9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DFEAE-5BA6-4DC0-8F67-32C30EFF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AFA39-6A26-42FE-9C06-81DEE60D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64285-2A7F-441F-8BC3-9B8DF85C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D0A51-73ED-424D-9479-98EBF3FE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D7DB3-0BF3-4D99-A9A6-2A7CE833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0FA9B-9CBF-44D9-9944-4BDC79D0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289-172E-4A84-B5E6-64E3F192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8C592-3474-495C-8B56-776096DF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ECBA3-BD73-4809-A8F7-E424DCD0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A16C5-0B02-47B6-9E3D-27F2550F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BFC78-A29F-43D9-9838-4FF66DD4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F2ADE-D31B-4410-909B-89BF1481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99015-49F8-474C-B0E1-08DE839D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F47F9-1E7A-4120-8BBD-C8CF84A0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23A38-047F-4D47-B8E4-43217EC4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7F52E-66AB-4620-BB45-DE1C80A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A0A7A-5C35-41A8-B3E4-EB1047B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EA2-C6C1-4643-AF72-6E453270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6C951-B6A5-4B3A-BB5D-B4FCAD88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EBC9B-5118-4339-8C77-0165C558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97BB6-3394-40B6-A7D2-871AA97D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C3529-EDC5-4A1E-8B85-3DEE88D8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24CF6-6F82-4C0B-AA0D-9CAF4DDC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C82CE-D4F0-4454-A2BC-ADD3E652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708DA-D428-402B-B80A-A24369DC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C5969-D836-42CB-A593-3FD34CCB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B1957-FD14-4980-9D78-E98B3CE1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A67E6-AAD3-445A-90B6-7F75EAF4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734-747A-4285-BCE0-000975BC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362AB-3BD3-471D-9B29-A30F60E3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44407-4581-4EC2-9B90-8987E1C8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08EC9-062B-4ABA-961A-06E609D9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74627-9719-4BC4-972C-01FAFD7C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52ED7-F7F5-499A-9EDE-1CA6A5D2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814AA-6CDC-44D9-A593-A494CED9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EEA66-96A8-404E-BFAB-2EA559EA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695E2-F334-41EA-A295-01DDC973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43C1B-D0AA-4C59-BE48-8326D7C3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DF759-4886-407D-981F-A8C53D77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082-07F6-4665-A051-E2A3E6A1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568FA-6409-41B5-9800-4FC8556B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B9CFA-1F5F-4E05-B72C-D46C9301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D23B9-371C-4C97-A2C1-93107A5F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B516E-B3D9-4D4C-B8F8-CCA3DC91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A5020-5A8A-4CF6-972C-74583298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4E495-6734-4839-B490-2B63313D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3BC35-590E-4970-A4EC-139318E0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24F84-2880-46E7-88ED-EFFABB5A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804B1-2BED-42CA-84BA-2C3A5885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9E0F1-03BA-4116-A6C3-6D9D1E12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0EB6-5D3E-4BB3-BC31-F632E88296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A2BB-E617-4BF9-B9A7-CDE86A8CD5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ACDE-B37D-46C8-AAD4-7CA2CB5CD0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744B-B381-4EEA-B4D8-C7BA7BF830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FEFE-7FEF-4077-A9DA-9BBAF5A1F11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2FD6-A5EC-4D4A-8162-405684B17C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9462-039D-46CC-B512-1C510714CF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483B-E9E1-4ECC-A701-1D13956819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B306-E621-4C2C-8478-9491EB76EA2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e3b30"/>
                </a:solidFill>
                <a:latin typeface="Franklin Gothic Medium"/>
              </a:rPr>
              <a:t>СТАТЬЯ </a:t>
            </a:r>
            <a:r>
              <a:rPr b="0" i="1" lang="ru-RU" sz="3600" spc="-1" strike="noStrike">
                <a:solidFill>
                  <a:srgbClr val="4e3b30"/>
                </a:solidFill>
                <a:latin typeface="Franklin Gothic Medium"/>
              </a:rPr>
              <a:t>КАК ЖАНР ПУБЛИЦИСТИК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Жанры публицистики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1.Информационные: заметка, репортаж, зарисовка, интервью, хроника, путевые заметки, обзор, отчёт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2. Аналитические: статья, комментарий, рецензия, обозре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3. Художественно – публицистические: очерк, эссе, памфлет, фельетон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лан анализа стать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Является ли статья актуальной и интересной читателям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Приведены ли аргументы к версии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 Может ли статья заставить задуматься над представленной в ней проблемой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4. Соответствует ли требованиям публицистического стиля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5. Насолько удачным является название статьи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Вреден ли компьютер для школьник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.Нужно ли в наши дни читать книг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. Важен ли спорт в твоей жизн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. Всегда ли вас понимают родител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5. Нужно ли знать , кем ты будешь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6.Зачем нужно учить иностранные язык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95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1.Логич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2.Образ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3.Эмоциональ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4. Оценоч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5. Призыв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6. Общедоступ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7. Достовер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8. Точность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9. Обоснован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10. Конкрет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11. Образность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Рисунок 3" descr="RX3X.jpg"/>
          <p:cNvPicPr/>
          <p:nvPr/>
        </p:nvPicPr>
        <p:blipFill>
          <a:blip r:embed="rId2"/>
          <a:stretch/>
        </p:blipFill>
        <p:spPr>
          <a:xfrm>
            <a:off x="4071960" y="178596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158760" y="225360"/>
            <a:ext cx="8839080" cy="12686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Статья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– это жанр журналистики, в котором автор на конкретных примерах объясняет проблемы времени. Этот жанр основан на ясном развитии мысли, подкреплённом аргументами, фактами, имеет обобщение в форме выводов. Задача автора статьи – не оставить читателя равнодушным к проблеме, убедить его в справедливости идеи, мысли, включить его в обсуждение, дискуссию.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татья информирует о событиях в общественной жизни, помогает  разобраться в ни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Составить план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Определить проблему, которая требует решения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Собрать фактический материал, систематизиро-вать его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4.Найти тезисы и антитезисы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5.Написать статью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6.Отредактировать её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7. Представить на суд публик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оздействие на читателя с помощью таких языковых средств, как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прямое обращение к читателю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побудительные, вопросительные, восклицательные предло-жения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повторы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однородные члены предложения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вводные слова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вопросно - ответная форма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образные средства (метафоры , сравнения , эмоционально окрашенные слова, аллегории, фразеологизмы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682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Проблемная статья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Общественно- политическая статья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.Научная статья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. Обзорная статья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5. Научно- популярная статья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6.Критическая стать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Рисунок 3" descr="457.jpeg"/>
          <p:cNvPicPr/>
          <p:nvPr/>
        </p:nvPicPr>
        <p:blipFill>
          <a:blip r:embed="rId2"/>
          <a:stretch/>
        </p:blipFill>
        <p:spPr>
          <a:xfrm>
            <a:off x="5143680" y="4214880"/>
            <a:ext cx="35715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Конструктивные признаки стать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Стабильность композиции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Клишированная структура ( клише)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заголовок и аннотация – тематическое ядро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введение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основная часть- конкретизация темы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аргументация- доказательная част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Вывод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ирода статьи – масштабность и глубина обобщ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Описание ситуаци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 Рассказ о событи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 Интригующее утверждение (Завтра придёт беда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4. Вопрос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5. Цитат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3 части статьи: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Тезис ( утверждение)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 Аргументация( доказательства)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Вывод( концовка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Рисунок 3" descr="577.jpeg"/>
          <p:cNvPicPr/>
          <p:nvPr/>
        </p:nvPicPr>
        <p:blipFill>
          <a:blip r:embed="rId2"/>
          <a:stretch/>
        </p:blipFill>
        <p:spPr>
          <a:xfrm>
            <a:off x="5643720" y="357120"/>
            <a:ext cx="27334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инцип зигзаг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     </a:t>
            </a:r>
            <a:r>
              <a:rPr b="1" i="1" lang="ru-RU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крас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ведение – рассказ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(человеческая история,                                 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факт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тражающая проблему) ____________       _Основные факты: инфор-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         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ация, придающая ракурс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                  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облемы…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бласть вторичных красок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свещающая другую сторону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облемы      _________________________         Область вторичных фактов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татистика, цитат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Заключение, которое должн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ставлять у читателя запоминающийс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браз.________________________________________Выво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0:26:58Z</dcterms:created>
  <dc:creator>COMP</dc:creator>
  <dc:description/>
  <dc:language>en-US</dc:language>
  <cp:lastModifiedBy>сергей</cp:lastModifiedBy>
  <dcterms:modified xsi:type="dcterms:W3CDTF">2018-05-20T18:16:34Z</dcterms:modified>
  <cp:revision>22</cp:revision>
  <dc:subject/>
  <dc:title>Открытое воспитательное мероприятие  по профориентации для учащихся 9-х классов «Выбор профессии – путь к успеху»</dc:title>
</cp:coreProperties>
</file>