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A94-B004-4985-8DDD-95770E2A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4F67-8905-4D07-BA7E-099250BD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06AF8-79F3-443B-8307-6C8A6A2A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07D30-58FC-4057-9716-BE3E4D9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2D423-24DC-4878-9E69-07962971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AD29B-FE7E-4731-BCF5-E79D9A3C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73004-ED5F-44D1-9F6A-20C827A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4E575-4122-4DBA-BA4C-CDFAC23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67C98-6AF4-4A28-9996-3B744874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DA74-8B0E-47E0-B141-BD61D14C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22805-0D49-4122-8E4B-2B052547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E45-816A-4C4E-8DCF-7D8B6E1F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BFA-229D-4610-9E8D-F3A5A2CC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7899-4EEE-4563-98E9-D447B456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AC7C-3E21-4E37-9C11-102AA43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E449-FE00-4B01-B90B-684D7D89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5F56-DEA3-468F-9F54-1A2243B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E730-135D-4DF2-825C-BF7EB73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98FF-4B4F-41EA-9322-3CC6F426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C065-7389-4908-B9DA-28F991B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808-6783-4A5D-ACB8-DD1D9D16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F1CE-23F1-4594-86D0-3AC0BA2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02CC-554E-4EFB-8CA5-EF6E971B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DD2-BDAA-4EED-83FB-2D662809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33B1-F7E1-4701-9B0B-9CA6F553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22B1-94C9-45BD-9258-80B884EA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C5EE-60F8-4372-8F59-56C9B5FE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B0D5-46A3-471D-805F-A95294A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8254-37FE-4D80-9CCF-8BE291E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9BC0-1824-43F9-8C59-ED2AF25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4A9D-95B3-4608-94FC-B1FEAAE1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77A-8A6A-4165-805B-0786A68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7BC4-F931-4EAA-8ACC-7F95BFB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B40D-FB0B-4A15-9C9F-FFC10F7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DC83-5BD2-42E9-A60A-0BF2D837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499E-9FBE-499A-91FA-8ABA20F7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F2E6-F7A9-40E9-BCD5-32BCEAF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E0F5-5FCB-424B-94F0-6B66249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3EB1-0100-42CE-827C-DC142C43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99C8-D804-41D5-8A20-E5FB5F05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102F1-4E6C-4FCA-893F-88827955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F773-80AE-47B5-91CE-F9EEB36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502-8165-4B7A-AAD8-BB1D83A2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009F-C7B5-4E3B-A484-2F5A7E1E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3656-4186-4C5A-A272-D43353A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8CC32-8C3E-4DEB-8EFD-4EB2522B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4590-4D15-4D45-ACD1-8C2F6406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B6FD-AA95-4DF3-A78A-90A230B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69BD-6D0B-4520-8794-CA7B3F4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7670-5633-4507-8B90-38E4636D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7072-DD02-4025-A40A-64D67C8A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F7CF-7388-464A-A361-E5C230CC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B4524-95EC-4AB0-BD54-8E72EC8A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960-EEB2-4FE4-BE9A-320844AE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5B1B-2541-4608-B07F-9577E96C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8DE5-419E-4958-96C7-8BED8B5A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C9C4-C0B1-4DF8-A9A2-ACD90163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6B8C-4CB2-4E3B-990A-83E5774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BBE0F-C206-4AF4-89F7-5CC0CC9C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3B66-11FC-4FAB-B260-4F14DA1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AAE5-7CD5-492E-937D-E7B8229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08636-95FA-44A1-B39F-14212D8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EEFE7-4CE3-4D5A-B7D4-148E8FE8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111C-C300-48EA-9D04-5332B11D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426-EB11-445A-84E2-B710BECA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1884A-52F1-4DDD-AD90-074BEBBB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B668-AB7F-4202-A6F7-71C1DB2C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1CB72-484B-43EB-991F-326A6744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75AD-8F91-4E26-8A58-4CDC3F2C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1AFB-F858-4686-8CBA-44EC60E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4B423-DC5A-4F4D-A0D2-CC33E051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3B8C-6F79-43E0-98A1-9359F7A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ECF15-B602-4528-9366-C37F46D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F9C0-68D3-4431-839A-D74B100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A73B2-FFC3-4AB5-A3B2-B166116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FCE-1590-4F98-B928-1A7E0DA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15B0D-D8BA-42E1-95AC-DBC16E11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2F7D8-BBE2-4619-8AD9-CA1130F7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76D8-C360-4755-A211-97FF9EFB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3E8B6-2092-4A72-9B74-0DB4BC9F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B17F-4231-4FAD-B74F-AF2E903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0720-EC76-44E8-B4AE-5A22CD5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14C83-5B27-495E-BD7E-5620513F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14E9-549F-4DB7-8C47-F6A86CB8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1515-DBC8-4ED5-8EB1-3237A7E3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641E-E721-4C87-8CB1-6079A046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6A1-4B2A-4DF2-8E34-C0A0F76B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4AD05-6761-4F8C-851B-E3A9DEFC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4C57-0889-4A14-9877-4BCD38E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7F053-6A01-4F1E-BAFA-9B308F74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77A8-0383-44ED-82C6-37919D7B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BD13A-2387-42CF-BD29-9B6893EC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5E52D-EF98-440B-8F2B-7D0BE59B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982E2-DE6A-46C4-80C1-F50CC8A1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D5B00-8058-4A16-B26E-8E7B391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B044-CE54-4975-B5F4-677CD86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1602F-71FF-449D-9385-2F1D2E0D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F78-630F-4670-A4BB-47C6E0C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92F9-0FA5-43AE-A6E1-F11FCA6B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9DC7-DE2E-4BF1-840E-3595483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00E8E-7348-495F-B7AA-19ACE6B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84CF-1BDD-4F92-8B5D-AB91D57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D5312-9A09-4293-BD72-3A57FBE5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809F0-B1E8-4990-8A70-1469F69D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ADFC-82B5-4A26-8941-0D1316FC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32145-F014-494B-8206-5B3D2A5D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BC790-F744-47EE-94CA-B8A59EF2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B40DD-D21E-40A0-9C40-F0FF3A27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5EC-E4F0-43ED-839A-7334B7FF572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6CBC-6667-4DFE-AEAE-BE565592FC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6505-F8B1-4790-91CA-3ADDCD4AB9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6A76-2547-406D-BE37-5BD4143A0B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D98-D9D9-4D63-A91A-FA6A04BBB9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53E7-0027-40FF-AE19-00FA8AF9CF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2C7-41CC-4C4B-9A9D-53F7D8F2D5D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3EF-8DCE-464A-8579-9A0FDD0A92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0EC-B48D-4C1F-A14C-DF31E9202F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e3b30"/>
                </a:solidFill>
                <a:latin typeface="Franklin Gothic Medium"/>
              </a:rPr>
              <a:t>СТАТЬЯ 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Medium"/>
              </a:rPr>
              <a:t>КАК ЖАНР ПУБЛИЦ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Жанры публицистик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1.Информационные: заметка, репортаж, зарисовка, интервью, хроника, путевые заметки, обзор, отчёт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2. Аналитические: статья, комментарий, рецензия, обозрени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3. Художественно – публицистические: очерк, эссе, памфлет, фельетон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лан анализа стать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Является ли статья актуальной и интересной читателям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Приведены ли аргументы к верси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Может ли статья заставить задуматься над представленной в ней проблемо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Соответствует ли требованиям публицистического стиля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Насолько удачным является название стать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.Вреден ли компьютер для школьник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.Нужно ли в наши дни читать книг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3. Важен ли спорт в твоей жизн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. Всегда ли вас понимают родител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5. Нужно ли знать , кем ты будеш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.Зачем нужно учить иностранные язык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95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.Логич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2.Образ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3.Эмоциональ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4. Оценоч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5. Призыв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6. Общедоступ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7. Достовер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8. Точность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9. Обоснован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0. Конкретность,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e3b30"/>
                </a:solidFill>
                <a:latin typeface="Franklin Gothic Book"/>
              </a:rPr>
              <a:t>11. Образность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Рисунок 3" descr="RX3X.jpg"/>
          <p:cNvPicPr/>
          <p:nvPr/>
        </p:nvPicPr>
        <p:blipFill>
          <a:blip r:embed="rId2"/>
          <a:stretch/>
        </p:blipFill>
        <p:spPr>
          <a:xfrm>
            <a:off x="4071960" y="178596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158760" y="225360"/>
            <a:ext cx="8839080" cy="1268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Статья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это жанр журналистики, в котором автор на конкретных примерах объясняет проблемы времени. Этот жанр основан на ясном развитии мысли, подкреплённом аргументами, фактами, имеет обобщение в форме выводов. Задача автора статьи – не оставить читателя равнодушным к проблеме, убедить его в справедливости идеи, мысли, включить его в обсуждение, дискуссию.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атья информирует о событиях в общественной жизни, помогает  разобраться в них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оставить план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Определить проблему, которая требует решения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Собрать фактический материал, систематизиро-вать его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Найти тезисы и антитезисы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Написать статью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6.Отредактировать её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7. Представить на суд публи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здействие на читателя с помощью таких языковых средств, как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рямое обращение к читателю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обудительные, вопросительные, восклицательные предло-жения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овторы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однородные члены предложения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вводные слов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вопросно - ответная форм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образные средства (метафоры , сравнения , эмоционально окрашенные слова, аллегории, фразеологизм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Проблем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Общественно- политическ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Науч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 Обзор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 Научно- популярная стать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Критическая стать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Рисунок 3" descr="457.jpeg"/>
          <p:cNvPicPr/>
          <p:nvPr/>
        </p:nvPicPr>
        <p:blipFill>
          <a:blip r:embed="rId2"/>
          <a:stretch/>
        </p:blipFill>
        <p:spPr>
          <a:xfrm>
            <a:off x="5143680" y="4214880"/>
            <a:ext cx="35715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Конструктивные признаки стать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Стабильность композиции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Клишированная структура ( клише)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заголовок и аннотация – тематическое ядро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введени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основная часть- конкретизация темы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* аргументация- доказательная час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Вывод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рода статьи – масштабность и глубина обобщ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Описание ситуац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Рассказ о событи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Интригующее утверждение (Завтра придёт бед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4. Вопрос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5. Цитат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части статьи: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Тезис ( утверждение)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Аргументация( доказательств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Вывод( концовка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Рисунок 3" descr="577.jpeg"/>
          <p:cNvPicPr/>
          <p:nvPr/>
        </p:nvPicPr>
        <p:blipFill>
          <a:blip r:embed="rId2"/>
          <a:stretch/>
        </p:blipFill>
        <p:spPr>
          <a:xfrm>
            <a:off x="5643720" y="35712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инцип зигзаг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     </a:t>
            </a:r>
            <a:r>
              <a:rPr b="1" i="1" lang="ru-RU" sz="2000" spc="-1" strike="noStrike" u="sng">
                <a:solidFill>
                  <a:srgbClr val="4e3b30"/>
                </a:solidFill>
                <a:uFillTx/>
                <a:latin typeface="Franklin Gothic Book"/>
              </a:rPr>
              <a:t>крас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ведение – расск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(человеческая история,                                          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фак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тражающая проблему) ____________       _Основные факты: инфор-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ация, придающая ракурс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лемы…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ласть вторичных красок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вещающая другую сторон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облемы      _________________________         Область вторичных фактов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татистика, цита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Заключение, которое должн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ставлять у читателя запоминающий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браз.________________________________________Выв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10:26:58Z</dcterms:created>
  <dc:creator>COMP</dc:creator>
  <dc:description/>
  <dc:language>en-US</dc:language>
  <cp:lastModifiedBy>сергей</cp:lastModifiedBy>
  <dcterms:modified xsi:type="dcterms:W3CDTF">2018-05-20T18:16:34Z</dcterms:modified>
  <cp:revision>22</cp:revision>
  <dc:subject/>
  <dc:title>Открытое воспитательное мероприятие  по профориентации для учащихся 9-х классов «Выбор профессии – путь к успеху»</dc:title>
</cp:coreProperties>
</file>