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21D-D8D4-4E3E-B750-F2632FAA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6352-BECF-4576-91DD-0A431E43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5EA1-5B58-4BBA-84AE-72A835E4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131B-BC06-4819-AF28-5230E2A3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DFCE-C7EB-4C6E-8D16-A6D9BFEC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2FA3-A7CA-4F1B-9362-AEAF437E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C317-C76A-4C76-87DE-C9F8AD53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F06F-E474-4FB1-AF71-88247292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15B7-19CF-4708-B37C-D10DBEF0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A69F-9B80-407D-88B8-E5082709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2321-62EB-42C2-A685-A8C8690A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D52-6EB2-4695-80B2-94AA146C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5130-107C-478E-A28B-B28149A7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31C9-A148-4D77-9F9A-E00BC0A1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95F5-62CB-4A0C-89DD-329DB3BB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323E-1514-4731-8710-BA9BF58B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5FEB-23D3-4D79-B629-B9DAC289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B95-3E25-4AD1-B70C-BF4440CD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441-C61F-4DEC-A44E-04AEF07D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9B84-A686-41F0-8DFC-939D1520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F0E-D3DE-45DD-AD50-61987BC1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B79-DD0F-4891-8751-6F44C163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2FA-E3C7-452D-8442-31D6C87D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D95E-FCD0-470F-8187-4C1EB969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81C3-4B45-4C7A-BE0F-6E216D64E2A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F4B8-CB5D-4AAB-81FB-548C3F53145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ff66"/>
                </a:solidFill>
                <a:latin typeface="Garamond"/>
              </a:rPr>
              <a:t>Выполнение теста Тейлор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042920" y="836640"/>
          <a:ext cx="7632720" cy="4740120"/>
        </p:xfrm>
        <a:graphic>
          <a:graphicData uri="http://schemas.openxmlformats.org/drawingml/2006/table">
            <a:tbl>
              <a:tblPr/>
              <a:tblGrid>
                <a:gridCol w="3672000"/>
                <a:gridCol w="396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Garamond"/>
                        </a:rPr>
                        <a:t>Постоянный язы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Garamond"/>
                        </a:rPr>
                        <a:t>Временный язы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–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Вечно ты бросаешь рюкзак где попало»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– «Ты всегда играешь, а не занимаешься»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– «Ты никогда вовремя не приходишь, все время опаздываешь»,</a:t>
                      </a:r>
                      <a:br>
                        <a:rPr sz="2800"/>
                      </a:b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–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Сегодня твой рюкзак лежит не на месте»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– «Ты уже 15 минут играешь, заниматься осталось...»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– «Ты опоздал сегодня на 15 минут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66"/>
                </a:solidFill>
                <a:latin typeface="Garamond"/>
              </a:rPr>
              <a:t>Плавила психогигиены общения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Garamond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Постоянно стремясь завоевать любовь ближнего, все же не заводите дружбы с «бешеной собакой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Garamond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Признайте, что совершенство невозможно, но в каждом виде деятельности есть своя вершина, стремитесь к ней и довольствуйтесь эти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Garamond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Цените радость подлинной простоты жизненного укла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Garamond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С какой бы жизненной ситуацией вы ни столкнулись, подумайте сначала, стоит ли сражаться. Многие распространенные болезни психогенного происхождения могут быть результатом того, что человек взвалил на себя непосильную ношу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Garamond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Постоянно сосредоточивайте внимание на светлых сторонах жизни и на действиях, которые могут улучшить ваше положение. Старайтесь забывать о безнадежно-отвратительном и тягостно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Garamond"/>
              </a:rPr>
              <a:t>6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Даже после сокрушительного поражения бороться с угнетающей мыслью о неудаче лучше всего с помощью воспоминаний о былых успехах. В любой самой скромной карьере есть что-то, о чем можно с гордостью вспомни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Garamond"/>
              </a:rPr>
              <a:t>7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Если вам предстоит неприятное дело, но оно необходимо для достижения цели, не откладывайте его. Вскройте нарыв, чтобы устранить боль, вместо осторожного поглаживания, которое лишь продлит болезненный перио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Garamond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Не забывайте, что нет готового рецепта для всех. Мы все разные, и наши проблемы тож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66"/>
                </a:solidFill>
                <a:latin typeface="Garamond"/>
              </a:rPr>
              <a:t>Возможное решение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765000"/>
          <a:ext cx="8229600" cy="5791320"/>
        </p:xfrm>
        <a:graphic>
          <a:graphicData uri="http://schemas.openxmlformats.org/drawingml/2006/table">
            <a:tbl>
              <a:tblPr/>
              <a:tblGrid>
                <a:gridCol w="3095640"/>
                <a:gridCol w="513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cc"/>
                          </a:solidFill>
                          <a:latin typeface="Garamond"/>
                        </a:rPr>
                        <a:t>Прич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cc"/>
                          </a:solidFill>
                          <a:latin typeface="Garamond"/>
                        </a:rPr>
                        <a:t>Возможное реш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требность быть всем и всегда нужным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 все вмешивать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граничивайте себя. Кто хочет успеть все, не успевает ничег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вычка скорее действовать без предварительного обдумыван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мните: тот, кто знает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то делать, выигрывает единожды, а тот, кто знает зачем, — всегда!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достает времени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 планирование д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ланирование дня отнимает много времени только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 первых порах, а при образовании прочного навыка занимает считанные минут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лохое “чувство времени”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мните: как правило, любое дело требует больше времени, чем первоначально кажет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требность постоянно быть чем-то заняты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учше сделать меньше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а лучше, чем много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 плох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вычка обещать всем и всегда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вою помощ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сли вы всегда говорите “да”, то окружающие воспринимают ваши услуги как должное и легко начинают злоупотреблять вашим времене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324000" y="189000"/>
          <a:ext cx="8280360" cy="6381720"/>
        </p:xfrm>
        <a:graphic>
          <a:graphicData uri="http://schemas.openxmlformats.org/drawingml/2006/table">
            <a:tbl>
              <a:tblPr/>
              <a:tblGrid>
                <a:gridCol w="2376360"/>
                <a:gridCol w="59040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умение говорить “нет”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явите настойчивость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 овладении этим умением! Не настаивайте на роли “хорошего парня”, который ни в чем не отказывает. Такие люди удобны, но не внушают уважен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уважение к вашему времени со стороны окружающих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ределите для себя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 поставьте в известность окружающих о вашем распорядке дня, о тех часах, когда вас ни в коем случае нельзя отвлека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умение уделять беседе ровно столько времени, сколько требует ее предме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ледите за собой: постарайтесь отделить содержательный разговор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 пустой болтовн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способность заканчивать дел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ледите за тем, чтобы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 оставлять за собой неоконченных де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клонность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 раздуванию мелких проблем до масштабов “трагедии”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гнорируйте мелкие проблемы! Ищите крупных дел!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сутствие направленности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 работе, загруженность делами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кажитесь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 незначительных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 малозначительных дел. Отделяйте главное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 второстепенного и ненужног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66"/>
                </a:solidFill>
                <a:latin typeface="Garamond"/>
              </a:rPr>
              <a:t>Самотерап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Обеспечьте себе достаточный отдых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Начните заниматься физкультуро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ледите за рациональным питанием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ейте больше жидкости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пробуйте взбодрить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ебя чем-нибудь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Научитесь планировать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вои дела и выделять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риоритеты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6" descr="j0281904"/>
          <p:cNvPicPr/>
          <p:nvPr/>
        </p:nvPicPr>
        <p:blipFill>
          <a:blip r:embed="rId1"/>
          <a:stretch/>
        </p:blipFill>
        <p:spPr>
          <a:xfrm>
            <a:off x="6357960" y="4143240"/>
            <a:ext cx="25844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ff66"/>
                </a:solidFill>
                <a:latin typeface="Garamond"/>
              </a:rPr>
              <a:t>О стрессе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Стресс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- способ достижения устойчивости организма при действии на него повреждающего фактора, адекватного качественной и количественной характеристике раздражителя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Ганс Сель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531720"/>
            <a:ext cx="8146800" cy="1589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66"/>
                </a:solidFill>
                <a:latin typeface="Garamond"/>
              </a:rPr>
              <a:t>Тест «Состояние вашей нервной системы»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0920" y="620640"/>
          <a:ext cx="8229600" cy="5732640"/>
        </p:xfrm>
        <a:graphic>
          <a:graphicData uri="http://schemas.openxmlformats.org/drawingml/2006/table">
            <a:tbl>
              <a:tblPr/>
              <a:tblGrid>
                <a:gridCol w="442800"/>
                <a:gridCol w="3949560"/>
                <a:gridCol w="1008360"/>
                <a:gridCol w="946080"/>
                <a:gridCol w="1008000"/>
                <a:gridCol w="874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Симпт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Ред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Очень ча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о ли вы бываете раздражены, нервничаете, ощущаете беспокойство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о ли у вас учащенный пульс и сердцебиение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о ли вы быстро устаете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адаете ли вы повышенной чувствительностью к шуму, шороху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ывают ли у вас резкие смены настроения, возникает чувство неудовлетворенности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 спите беспокойно? Страдаете бессонницей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адаете ли вы непроизвольным потоотделением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текают ли у вас мышцы? Ощущаете ли вы щекотание в суставах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радаете ли вы забывчивостью, плохо концентрируете внимание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84360" y="404640"/>
          <a:ext cx="7920000" cy="6054840"/>
        </p:xfrm>
        <a:graphic>
          <a:graphicData uri="http://schemas.openxmlformats.org/drawingml/2006/table">
            <a:tbl>
              <a:tblPr/>
              <a:tblGrid>
                <a:gridCol w="502920"/>
                <a:gridCol w="3600720"/>
                <a:gridCol w="1008000"/>
                <a:gridCol w="1008000"/>
                <a:gridCol w="792360"/>
                <a:gridCol w="1008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радаете ли вы от зуда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  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ред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очень ча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обходимо ли вам в вашей проф деятельности быть на высоте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асто ли вы бываете в плохом настроении, проявляете агрессивность? Быстро ли вы теряете самообладание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пите ли вы неприятности в себе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щущаете ли вы недовольство самим собой и окружающим миром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урите ли вы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ывают ли у вас неприятности? Мучают ли вас страхи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сть ли у вас недостаток в возможности подвигаться на свежем воздухе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сть ли у вас недостаток в возможности разрядиться, обрести душевное равновесие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66"/>
                </a:solidFill>
                <a:latin typeface="Garamond"/>
              </a:rPr>
              <a:t>Обработка результатов:</a:t>
            </a: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ff66"/>
                </a:solidFill>
                <a:latin typeface="Garamond"/>
              </a:rPr>
              <a:t>0-25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-эта сумма может вас не беспокоить. Однако все-таки обратите внимание на сигналы вашего организма, постарайтесь устранить слабые мест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ff66"/>
                </a:solidFill>
                <a:latin typeface="Garamond"/>
              </a:rPr>
              <a:t>26-45 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-поводов для беспокойства нет и в этой ситуации. Однако не игнорируйте предупреждающие сигналы. Подумайте что вы можете сделать для вашего организм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ff66"/>
                </a:solidFill>
                <a:latin typeface="Garamond"/>
              </a:rPr>
              <a:t>46-60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-ваша нервная система ослаблена. Для здоровья необходима перемена образа жизн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ff66"/>
                </a:solidFill>
                <a:latin typeface="Garamond"/>
              </a:rPr>
              <a:t>Более 60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–ваши нервы сильно истощены. Необходимы срочные меры. Обратитесь срочно к врачу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66"/>
                </a:solidFill>
                <a:latin typeface="Garamond"/>
              </a:rPr>
              <a:t>Тест «Уровень тревожности вашей личности» 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24000" y="765000"/>
          <a:ext cx="8135640" cy="5651640"/>
        </p:xfrm>
        <a:graphic>
          <a:graphicData uri="http://schemas.openxmlformats.org/drawingml/2006/table">
            <a:tbl>
              <a:tblPr/>
              <a:tblGrid>
                <a:gridCol w="355320"/>
                <a:gridCol w="4037040"/>
                <a:gridCol w="936720"/>
                <a:gridCol w="1006560"/>
                <a:gridCol w="853920"/>
                <a:gridCol w="9460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№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Утвер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Почти нико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Ино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Част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Почти все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испытываю удовольств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бычно легко уста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легко могу заплака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хотел бы быть таким же счастливым, как друг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редко я проигрываю из-за того, что недостаточно быстро принимаю реш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ычно я чувствую себя бодры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покоен. Хладнокровен и собр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жидаемые трудности обычно очень тревожат ме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лишком переживаю из-за пустя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539640" y="260280"/>
          <a:ext cx="7777440" cy="6546960"/>
        </p:xfrm>
        <a:graphic>
          <a:graphicData uri="http://schemas.openxmlformats.org/drawingml/2006/table">
            <a:tbl>
              <a:tblPr/>
              <a:tblGrid>
                <a:gridCol w="503280"/>
                <a:gridCol w="3600360"/>
                <a:gridCol w="936720"/>
                <a:gridCol w="936720"/>
                <a:gridCol w="934920"/>
                <a:gridCol w="865440"/>
              </a:tblGrid>
              <a:tr h="12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полне счастл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Почти нико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Ино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Част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Почти все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принимаю все слишком близко к сердц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не не хватает уверенности в себ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ычно я чувствую себя в безопас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тараюсь избегать критических ситуац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 меня бывает ханд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доволе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сякие пустяки отвлекают и волнуют ме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так сильно переживаю свои разочарования, что потом долг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 могу о них забы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уравновешенный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ня охватывает сильное беспокойство, когда я думаю о  своих  дел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66"/>
                </a:solidFill>
                <a:latin typeface="Garamond"/>
              </a:rPr>
              <a:t>Обработка результатов:</a:t>
            </a: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ЛТ=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S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Garamond"/>
              </a:rPr>
              <a:t>1</a:t>
            </a:r>
            <a:r>
              <a:rPr b="1" lang="ru-RU" sz="3200" spc="-1" strike="noStrike" baseline="-25000">
                <a:solidFill>
                  <a:srgbClr val="0000cc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-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 S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Garamond"/>
              </a:rPr>
              <a:t>2 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+3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сумма по пунктам 2, 3, 4, 5, 8, 9, 11, 12, 14, 15, 17, 18, 2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сумма по пунктам 1, 6, 7, 10, 13, 16, 1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До 30-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 низкая тревож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31-45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-умеренная тревож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46 и более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 - высокая тревож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66"/>
                </a:solidFill>
                <a:latin typeface="Garamond"/>
              </a:rPr>
              <a:t>Способы реагировани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68360" y="836640"/>
          <a:ext cx="8229600" cy="5595840"/>
        </p:xfrm>
        <a:graphic>
          <a:graphicData uri="http://schemas.openxmlformats.org/drawingml/2006/table">
            <a:tbl>
              <a:tblPr/>
              <a:tblGrid>
                <a:gridCol w="2735280"/>
                <a:gridCol w="5494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Garamond"/>
                        </a:rPr>
                        <a:t>Прям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Garamond"/>
                        </a:rPr>
                        <a:t>Косве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ты прав», «ты не прав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констатирующие высказывани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-это просто словесное воспроизведение действий ребенка («Ты достал из портфеля треугольник, повертел его на пальце, закинул за диван»)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плохо», «хорошо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воодушевляющие высказывани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-это акцент не на том, что ребенок делает, а на том, как он это делает («Ты с таким усердием и с таким терпением выполняешь эту сложную работу...»)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</a:t>
                      </a: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я- сообщени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» -сообщается свое мнение, своя позиция, свои чувства и потребности. ( «Мне хотелось бы, чтобы мы договорились о том...», «Когда я вижу... у меня по спине мурашки бегают», «Когда я вижу, я чувствую..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использование не постоянного, а временного язык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4:52:11Z</dcterms:created>
  <dc:creator>User</dc:creator>
  <dc:description/>
  <dc:language>en-US</dc:language>
  <cp:lastModifiedBy>Юлия</cp:lastModifiedBy>
  <dcterms:modified xsi:type="dcterms:W3CDTF">2020-11-20T10:48:15Z</dcterms:modified>
  <cp:revision>22</cp:revision>
  <dc:subject/>
  <dc:title>Психолого-педагогический семинар</dc:title>
</cp:coreProperties>
</file>