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1.png" ContentType="image/png"/>
  <Override PartName="/ppt/media/image7.png" ContentType="image/png"/>
  <Override PartName="/ppt/media/image1.jpeg" ContentType="image/jpeg"/>
  <Override PartName="/ppt/media/image5.wmf" ContentType="image/x-wmf"/>
  <Override PartName="/ppt/media/image10.png" ContentType="image/png"/>
  <Override PartName="/ppt/media/image6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CAD-34F6-4915-BEF7-02FAFAEB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D51-0C5D-4D8C-97EB-95EBBC78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352-0006-4868-9787-BDE4B208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34E-2E2D-49EB-B1B1-3A3A635D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EF54-A9E2-475C-A489-8F36AE0B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95C6-5516-4F4F-87B2-F656BF44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8342-5D6C-48BC-9C8D-A9F9F288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BB9F-FAAD-4456-B0C7-B947AF5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B8A-ACC2-4160-94BD-CB60D63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191-D28D-4D47-9601-0CA4498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C6CC-02B4-4D84-9E31-A0BA6456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7B8-D210-4BCC-9812-093B06B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3983-9259-4B0C-AC15-BAE11C5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67D4-1B56-4759-822D-7142122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B1EF-D756-413C-9C9E-2880AC4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339B-2DB4-4505-837A-ED5B9A9C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D025-52C7-490A-A363-53153F41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7FC3-4187-4BB1-ABB5-A29C6CAE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D55F-7523-4DEC-953A-2963CC5E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6610-AEBB-4AB5-ABEF-0EC40A3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0F4B-6807-49F8-9437-9500F67E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1B98-4E30-429A-8784-0015B6C0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BFC-869C-4D34-B74C-99D18E3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15FCD-056D-44CE-8FA8-6AB4408E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975C-16DB-4450-A722-9E186E09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4D25-2399-4A54-A703-7D0DE6A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6877-3381-4EC7-971E-1777151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78F1-BC32-46EC-ACB4-A375D8C1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65C5-7E23-4880-9F1C-E43CB744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91D0-614F-4E35-9564-89EBD79D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9F6B-6E87-4DF2-B99A-C2E482A7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B18DF-4DC4-4965-B77D-00B360A0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0B905-2F3F-4753-AFB4-1843A28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8DB-FBE7-4F92-BF3C-7C5FDFF5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CE93F-92FA-442E-9AA8-B9F93E7B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E35B-6B92-4596-8AE1-61D5AAE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2D78F-5287-465F-B666-A3376A27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80CE-78EB-4E38-B921-8E49DCB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704E-EBA8-4FCF-966A-1A8F003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07049-7F93-495D-B910-00FE034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EF92F-7D97-4F3C-A94A-FB60147D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53E96-6AB9-442D-81EB-73FDFA95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63BC-EAB3-432A-918F-5E3E0B72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7FA5-4D2E-4702-A750-0442079D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648-B3BB-42A4-87EC-369BA529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866CE-9C9A-4501-BCD5-FADF1852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3DEA-1FAD-438E-8266-84821960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681C-2487-4004-A5EB-ACF83FE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2E5E-FA0F-459E-9EAB-644744C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74B4A-637F-48BB-ABE8-2C5E11DD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9C5C-E442-42BC-9BFC-D9170772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49F4-B5E6-4B70-8E7A-4D92D328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2DEE5-CF27-400A-AE09-CDC823EA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01EB-4E42-464F-8F10-23215C8E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AAAD-6B2D-4C0F-9726-D09124D5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0B9-A85C-40B3-AF86-AC41A8CA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85A44-DCCB-481B-AF70-773A5E93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96B3-D8E4-45EB-AD82-F5ED618F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C5BF3-95AE-483F-8D8A-3E69F0C2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E1BB-FD6B-4014-83E1-B5FA3572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72FB7-396E-454B-9873-3B022F99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47D7B-566F-45DC-AD92-BD73BDAC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785F3-5E74-4423-9777-7EF508A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192D6-2DF6-48E0-84BA-6F94D0C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EC47A-636E-469F-9022-5EBB137F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9E870-27F7-4877-9971-E84B9D7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BAB-669B-46E4-85FC-7A1D353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B8DE-EF77-4088-8B9F-0CC22AD3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F8F1-BBC9-4171-ACAE-53A5C279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103F-556E-4E41-BF4B-957C3518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6E571-F705-41B2-8C71-F8D92D35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8A9EC-8C98-45ED-A584-E1C77254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4AD3-0120-4471-91D0-2A1CAA9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1D5E4-84A0-4365-B3B9-4CCF58C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3208-845F-44CC-9E76-805E1A20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BF25-AF66-46E1-8BC6-6833D583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59760-74C0-4054-BE8B-86D6D7A9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591E-B839-4CA6-B087-0F971B08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CC830-2BCB-48A6-B63E-8289301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3459-A155-4221-A7A9-270CEC5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7E3CB-2CBD-4A1E-861B-C62C222F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B9B4A-9297-4153-98C4-82BB1BF8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5CC9-BCD8-4924-9CCF-43BA426A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23B-81A8-463C-B588-3F3B476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DE37-C7DF-423D-815C-FEFFA7FDC2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F879-86BE-4997-8C83-582CF13DB4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B78A-8EB9-4365-BE51-510D58E409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684B-9C2D-4C0C-8F16-3294A7D0877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C6A0-0E2F-457B-A5ED-AE6D4A15605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2673-006E-4D92-A65D-4E1CF580873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8777-76DC-4CE2-A708-5B3DC7F2C2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533520" y="189000"/>
            <a:ext cx="8610480" cy="6476760"/>
          </a:xfrm>
          <a:prstGeom prst="rect">
            <a:avLst/>
          </a:prstGeom>
          <a:ln w="0">
            <a:noFill/>
          </a:ln>
        </p:spPr>
      </p:pic>
      <p:grpSp>
        <p:nvGrpSpPr>
          <p:cNvPr id="319" name="Group 2"/>
          <p:cNvGrpSpPr/>
          <p:nvPr/>
        </p:nvGrpSpPr>
        <p:grpSpPr>
          <a:xfrm>
            <a:off x="2133720" y="1143000"/>
            <a:ext cx="5360040" cy="4647600"/>
            <a:chOff x="2133720" y="1143000"/>
            <a:chExt cx="5360040" cy="4647600"/>
          </a:xfrm>
        </p:grpSpPr>
        <p:sp>
          <p:nvSpPr>
            <p:cNvPr id="320" name="Oval 3"/>
            <p:cNvSpPr/>
            <p:nvPr/>
          </p:nvSpPr>
          <p:spPr>
            <a:xfrm>
              <a:off x="2133720" y="1932120"/>
              <a:ext cx="1939320" cy="1753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2327400" y="3510720"/>
              <a:ext cx="1940040" cy="1753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2" name="Oval 5"/>
            <p:cNvSpPr/>
            <p:nvPr/>
          </p:nvSpPr>
          <p:spPr>
            <a:xfrm>
              <a:off x="4073040" y="4036680"/>
              <a:ext cx="1940040" cy="17539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3" name="Oval 6"/>
            <p:cNvSpPr/>
            <p:nvPr/>
          </p:nvSpPr>
          <p:spPr>
            <a:xfrm>
              <a:off x="5554440" y="3105000"/>
              <a:ext cx="1939320" cy="1753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4" name="Oval 7"/>
            <p:cNvSpPr/>
            <p:nvPr/>
          </p:nvSpPr>
          <p:spPr>
            <a:xfrm>
              <a:off x="5236920" y="1756800"/>
              <a:ext cx="1940040" cy="1753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>
              <a:off x="3685680" y="1143000"/>
              <a:ext cx="1939320" cy="1753920"/>
            </a:xfrm>
            <a:prstGeom prst="ellipse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6" name="Oval 9"/>
            <p:cNvSpPr/>
            <p:nvPr/>
          </p:nvSpPr>
          <p:spPr>
            <a:xfrm>
              <a:off x="3588480" y="2634120"/>
              <a:ext cx="2230560" cy="1841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4171320" y="3157920"/>
              <a:ext cx="89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4 х</a:t>
              </a:r>
              <a:endParaRPr b="0" lang="en-US" sz="4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4361400" y="15469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008040" y="2157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6234480" y="359676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703760" y="4563000"/>
              <a:ext cx="70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2912400" y="39805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2704320" y="228312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34" name="Text Box 18"/>
          <p:cNvSpPr/>
          <p:nvPr/>
        </p:nvSpPr>
        <p:spPr>
          <a:xfrm>
            <a:off x="534960" y="485640"/>
            <a:ext cx="57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4889520" y="14637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TextBox 19"/>
          <p:cNvSpPr/>
          <p:nvPr/>
        </p:nvSpPr>
        <p:spPr>
          <a:xfrm>
            <a:off x="6485040" y="18651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5307120" y="50403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TextBox 22"/>
          <p:cNvSpPr/>
          <p:nvPr/>
        </p:nvSpPr>
        <p:spPr>
          <a:xfrm>
            <a:off x="6912000" y="354636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TextBox 23"/>
          <p:cNvSpPr/>
          <p:nvPr/>
        </p:nvSpPr>
        <p:spPr>
          <a:xfrm>
            <a:off x="3103560" y="485928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TextBox 24"/>
          <p:cNvSpPr/>
          <p:nvPr/>
        </p:nvSpPr>
        <p:spPr>
          <a:xfrm>
            <a:off x="2293920" y="292572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572314"/>
                </a:solidFill>
                <a:latin typeface="Arial Black"/>
              </a:rPr>
              <a:t>12 :3 = 4 (раза)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Ответ: </a:t>
            </a:r>
            <a:r>
              <a:rPr b="1" lang="ru-RU" sz="6600" spc="-1" strike="noStrike" u="sng">
                <a:solidFill>
                  <a:srgbClr val="572314"/>
                </a:solidFill>
                <a:uFillTx/>
                <a:latin typeface="Corbel"/>
              </a:rPr>
              <a:t>в </a:t>
            </a: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4 </a:t>
            </a:r>
            <a:r>
              <a:rPr b="1" lang="ru-RU" sz="6600" spc="-1" strike="noStrike" u="sng">
                <a:solidFill>
                  <a:srgbClr val="572314"/>
                </a:solidFill>
                <a:uFillTx/>
                <a:latin typeface="Corbel"/>
              </a:rPr>
              <a:t>раза</a:t>
            </a:r>
            <a:r>
              <a:rPr b="1" lang="ru-RU" sz="6600" spc="-1" strike="noStrike">
                <a:solidFill>
                  <a:srgbClr val="572314"/>
                </a:solidFill>
                <a:latin typeface="Corbel"/>
              </a:rPr>
              <a:t> бурых медведей больше.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3868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88631"/>
                </a:solidFill>
                <a:latin typeface="Corbel"/>
              </a:rPr>
              <a:t>Если правильно, ставим «+», неправильно – «-»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Arial Black"/>
              </a:rPr>
              <a:t>1)24: 8 =3 (раза)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Arial Black"/>
              </a:rPr>
              <a:t>2)28: 7 =4 (раза)</a:t>
            </a: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572314"/>
                </a:solidFill>
                <a:latin typeface="Arial Black"/>
              </a:rPr>
              <a:t>3)62-27=35 (каш.)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4"/>
          <p:cNvSpPr/>
          <p:nvPr/>
        </p:nvSpPr>
        <p:spPr>
          <a:xfrm>
            <a:off x="2651040" y="18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9051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с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узна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на сколько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единиц одно число больше или меньше другого, надо выполни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сл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вычит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умн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) дел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2" name="Picture 9" descr="vopros"/>
          <p:cNvPicPr/>
          <p:nvPr/>
        </p:nvPicPr>
        <p:blipFill>
          <a:blip r:embed="rId2"/>
          <a:stretch/>
        </p:blipFill>
        <p:spPr>
          <a:xfrm>
            <a:off x="3505320" y="3962520"/>
            <a:ext cx="8380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с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узнать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о сколько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раз одно число больше или меньше другого, надо выполнить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сл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вычита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умнож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Г) делени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4" descr="vopros"/>
          <p:cNvPicPr/>
          <p:nvPr/>
        </p:nvPicPr>
        <p:blipFill>
          <a:blip r:embed="rId2"/>
          <a:stretch/>
        </p:blipFill>
        <p:spPr>
          <a:xfrm>
            <a:off x="3429000" y="4191120"/>
            <a:ext cx="914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с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 скольк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единиц число 36 больше, чем число 9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4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27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) 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4" descr="vopros"/>
          <p:cNvPicPr/>
          <p:nvPr/>
        </p:nvPicPr>
        <p:blipFill>
          <a:blip r:embed="rId2"/>
          <a:stretch/>
        </p:blipFill>
        <p:spPr>
          <a:xfrm>
            <a:off x="990720" y="4876920"/>
            <a:ext cx="981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4.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Во сколько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раз число 36 больше, чем число 9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609480" y="2971800"/>
            <a:ext cx="45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А) 4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Б) 2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В)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681840" y="4572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  <a:ea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5" name="Picture 9" descr="vopros"/>
          <p:cNvPicPr/>
          <p:nvPr/>
        </p:nvPicPr>
        <p:blipFill>
          <a:blip r:embed="rId2"/>
          <a:stretch/>
        </p:blipFill>
        <p:spPr>
          <a:xfrm>
            <a:off x="685800" y="4572000"/>
            <a:ext cx="8064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-1981080"/>
            <a:ext cx="9144000" cy="883908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4"/>
          <p:cNvSpPr/>
          <p:nvPr/>
        </p:nvSpPr>
        <p:spPr>
          <a:xfrm>
            <a:off x="525960" y="29322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12952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1295280" y="32767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04440" y="40752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Line 10"/>
          <p:cNvSpPr/>
          <p:nvPr/>
        </p:nvSpPr>
        <p:spPr>
          <a:xfrm>
            <a:off x="1295280" y="4648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616680" y="5715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295280" y="5105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1295280" y="586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762120" y="68580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5. Какая диаграмма соответствует условию задачи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На одной машине привезли 10 мешков свёклы, а на другой в 3 раза больше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Line 17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Line 20"/>
          <p:cNvSpPr/>
          <p:nvPr/>
        </p:nvSpPr>
        <p:spPr>
          <a:xfrm>
            <a:off x="129528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Line 22"/>
          <p:cNvSpPr/>
          <p:nvPr/>
        </p:nvSpPr>
        <p:spPr>
          <a:xfrm>
            <a:off x="23623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Line 23"/>
          <p:cNvSpPr/>
          <p:nvPr/>
        </p:nvSpPr>
        <p:spPr>
          <a:xfrm>
            <a:off x="342900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Line 24"/>
          <p:cNvSpPr/>
          <p:nvPr/>
        </p:nvSpPr>
        <p:spPr>
          <a:xfrm>
            <a:off x="44956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Line 25"/>
          <p:cNvSpPr/>
          <p:nvPr/>
        </p:nvSpPr>
        <p:spPr>
          <a:xfrm>
            <a:off x="23623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34290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Line 29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Line 32"/>
          <p:cNvSpPr/>
          <p:nvPr/>
        </p:nvSpPr>
        <p:spPr>
          <a:xfrm>
            <a:off x="45720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Line 33"/>
          <p:cNvSpPr/>
          <p:nvPr/>
        </p:nvSpPr>
        <p:spPr>
          <a:xfrm>
            <a:off x="55627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Line 34"/>
          <p:cNvSpPr/>
          <p:nvPr/>
        </p:nvSpPr>
        <p:spPr>
          <a:xfrm>
            <a:off x="23623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Line 35"/>
          <p:cNvSpPr/>
          <p:nvPr/>
        </p:nvSpPr>
        <p:spPr>
          <a:xfrm>
            <a:off x="34290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Line 36"/>
          <p:cNvSpPr/>
          <p:nvPr/>
        </p:nvSpPr>
        <p:spPr>
          <a:xfrm>
            <a:off x="44956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Line 37"/>
          <p:cNvSpPr/>
          <p:nvPr/>
        </p:nvSpPr>
        <p:spPr>
          <a:xfrm>
            <a:off x="56386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1189080" y="336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Text Box 40"/>
          <p:cNvSpPr/>
          <p:nvPr/>
        </p:nvSpPr>
        <p:spPr>
          <a:xfrm>
            <a:off x="213372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Text Box 41"/>
          <p:cNvSpPr/>
          <p:nvPr/>
        </p:nvSpPr>
        <p:spPr>
          <a:xfrm>
            <a:off x="3245760" y="3352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Text Box 42"/>
          <p:cNvSpPr/>
          <p:nvPr/>
        </p:nvSpPr>
        <p:spPr>
          <a:xfrm>
            <a:off x="4312440" y="3352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Text Box 43"/>
          <p:cNvSpPr/>
          <p:nvPr/>
        </p:nvSpPr>
        <p:spPr>
          <a:xfrm>
            <a:off x="5439600" y="33638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Text Box 44"/>
          <p:cNvSpPr/>
          <p:nvPr/>
        </p:nvSpPr>
        <p:spPr>
          <a:xfrm>
            <a:off x="1189080" y="4735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217908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ext Box 46"/>
          <p:cNvSpPr/>
          <p:nvPr/>
        </p:nvSpPr>
        <p:spPr>
          <a:xfrm>
            <a:off x="324576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ext Box 47"/>
          <p:cNvSpPr/>
          <p:nvPr/>
        </p:nvSpPr>
        <p:spPr>
          <a:xfrm>
            <a:off x="438876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ext Box 48"/>
          <p:cNvSpPr/>
          <p:nvPr/>
        </p:nvSpPr>
        <p:spPr>
          <a:xfrm>
            <a:off x="5379480" y="472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ext Box 49"/>
          <p:cNvSpPr/>
          <p:nvPr/>
        </p:nvSpPr>
        <p:spPr>
          <a:xfrm>
            <a:off x="1189080" y="5954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ext Box 51"/>
          <p:cNvSpPr/>
          <p:nvPr/>
        </p:nvSpPr>
        <p:spPr>
          <a:xfrm>
            <a:off x="217908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ext Box 52"/>
          <p:cNvSpPr/>
          <p:nvPr/>
        </p:nvSpPr>
        <p:spPr>
          <a:xfrm>
            <a:off x="324576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ext Box 53"/>
          <p:cNvSpPr/>
          <p:nvPr/>
        </p:nvSpPr>
        <p:spPr>
          <a:xfrm>
            <a:off x="431244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ext Box 54"/>
          <p:cNvSpPr/>
          <p:nvPr/>
        </p:nvSpPr>
        <p:spPr>
          <a:xfrm>
            <a:off x="537948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Rectangle 56"/>
          <p:cNvSpPr/>
          <p:nvPr/>
        </p:nvSpPr>
        <p:spPr>
          <a:xfrm>
            <a:off x="1295280" y="41911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Rectangle 57"/>
          <p:cNvSpPr/>
          <p:nvPr/>
        </p:nvSpPr>
        <p:spPr>
          <a:xfrm>
            <a:off x="1295280" y="3809880"/>
            <a:ext cx="32767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Rectangle 58"/>
          <p:cNvSpPr/>
          <p:nvPr/>
        </p:nvSpPr>
        <p:spPr>
          <a:xfrm>
            <a:off x="1295280" y="23623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Rectangle 59"/>
          <p:cNvSpPr/>
          <p:nvPr/>
        </p:nvSpPr>
        <p:spPr>
          <a:xfrm>
            <a:off x="1295280" y="2819520"/>
            <a:ext cx="426744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Rectangle 60"/>
          <p:cNvSpPr/>
          <p:nvPr/>
        </p:nvSpPr>
        <p:spPr>
          <a:xfrm>
            <a:off x="1295280" y="5181480"/>
            <a:ext cx="1447920" cy="2286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Rectangle 61"/>
          <p:cNvSpPr/>
          <p:nvPr/>
        </p:nvSpPr>
        <p:spPr>
          <a:xfrm>
            <a:off x="1295280" y="556272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Line 62"/>
          <p:cNvSpPr/>
          <p:nvPr/>
        </p:nvSpPr>
        <p:spPr>
          <a:xfrm>
            <a:off x="27432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ext Box 63"/>
          <p:cNvSpPr/>
          <p:nvPr/>
        </p:nvSpPr>
        <p:spPr>
          <a:xfrm>
            <a:off x="2636280" y="5943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ext Box 64"/>
          <p:cNvSpPr/>
          <p:nvPr/>
        </p:nvSpPr>
        <p:spPr>
          <a:xfrm>
            <a:off x="457200" y="228600"/>
            <a:ext cx="108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  <a:ea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4" name="Picture 65" descr="vopros"/>
          <p:cNvPicPr/>
          <p:nvPr/>
        </p:nvPicPr>
        <p:blipFill>
          <a:blip r:embed="rId2"/>
          <a:stretch/>
        </p:blipFill>
        <p:spPr>
          <a:xfrm>
            <a:off x="152280" y="5943600"/>
            <a:ext cx="5716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5257800" y="1905120"/>
            <a:ext cx="20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  <a:ea typeface="Arial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853640" y="2286000"/>
            <a:ext cx="866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8" name="Picture 6" descr="ZAPOMNI"/>
          <p:cNvPicPr/>
          <p:nvPr/>
        </p:nvPicPr>
        <p:blipFill>
          <a:blip r:embed="rId2"/>
          <a:stretch/>
        </p:blipFill>
        <p:spPr>
          <a:xfrm>
            <a:off x="762120" y="4819680"/>
            <a:ext cx="1143000" cy="1485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arg-5-50-trans"/>
          <p:cNvPicPr/>
          <p:nvPr/>
        </p:nvPicPr>
        <p:blipFill>
          <a:blip r:embed="rId3"/>
          <a:stretch/>
        </p:blipFill>
        <p:spPr>
          <a:xfrm>
            <a:off x="5105520" y="3886200"/>
            <a:ext cx="19810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" descr="D:\Мои рисунки\Фоны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Oval 4"/>
          <p:cNvSpPr/>
          <p:nvPr/>
        </p:nvSpPr>
        <p:spPr>
          <a:xfrm>
            <a:off x="457200" y="1981080"/>
            <a:ext cx="2438280" cy="2514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Oval 5"/>
          <p:cNvSpPr/>
          <p:nvPr/>
        </p:nvSpPr>
        <p:spPr>
          <a:xfrm>
            <a:off x="3352680" y="1905120"/>
            <a:ext cx="2438640" cy="2514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Oval 6"/>
          <p:cNvSpPr/>
          <p:nvPr/>
        </p:nvSpPr>
        <p:spPr>
          <a:xfrm>
            <a:off x="6172200" y="1905120"/>
            <a:ext cx="2438280" cy="2514600"/>
          </a:xfrm>
          <a:prstGeom prst="ellipse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Oval 7"/>
          <p:cNvSpPr/>
          <p:nvPr/>
        </p:nvSpPr>
        <p:spPr>
          <a:xfrm>
            <a:off x="114300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Oval 8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769608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6781680" y="2743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495288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Oval 12"/>
          <p:cNvSpPr/>
          <p:nvPr/>
        </p:nvSpPr>
        <p:spPr>
          <a:xfrm>
            <a:off x="3962520" y="2666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Line 13"/>
          <p:cNvSpPr/>
          <p:nvPr/>
        </p:nvSpPr>
        <p:spPr>
          <a:xfrm>
            <a:off x="1295280" y="37339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AutoShape 18"/>
          <p:cNvSpPr/>
          <p:nvPr/>
        </p:nvSpPr>
        <p:spPr>
          <a:xfrm rot="10800000">
            <a:off x="4114800" y="342864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108720 h 3049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AutoShape 19"/>
          <p:cNvSpPr/>
          <p:nvPr/>
        </p:nvSpPr>
        <p:spPr>
          <a:xfrm>
            <a:off x="7010280" y="3733920"/>
            <a:ext cx="762120" cy="304560"/>
          </a:xfrm>
          <a:custGeom>
            <a:avLst/>
            <a:gdLst>
              <a:gd name="textAreaLeft" fmla="*/ 0 w 762120"/>
              <a:gd name="textAreaRight" fmla="*/ 762480 w 762120"/>
              <a:gd name="textAreaTop" fmla="*/ 0 h 304560"/>
              <a:gd name="textAreaBottom" fmla="*/ 108720 h 30456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457200" y="52578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Мне было безразлично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на урок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3352680" y="51814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Мне было интересн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на урок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6172200" y="5365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"/>
              </a:rPr>
              <a:t>Я ничего не поня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F:\разные картинки\ФОНЫ школьные\Рисунок1рр.emf"/>
          <p:cNvPicPr/>
          <p:nvPr/>
        </p:nvPicPr>
        <p:blipFill>
          <a:blip r:embed="rId1"/>
          <a:stretch/>
        </p:blipFill>
        <p:spPr>
          <a:xfrm>
            <a:off x="460440" y="247680"/>
            <a:ext cx="8675640" cy="652608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2"/>
          <p:cNvGrpSpPr/>
          <p:nvPr/>
        </p:nvGrpSpPr>
        <p:grpSpPr>
          <a:xfrm>
            <a:off x="2133720" y="1143000"/>
            <a:ext cx="5360040" cy="4647600"/>
            <a:chOff x="2133720" y="1143000"/>
            <a:chExt cx="5360040" cy="4647600"/>
          </a:xfrm>
        </p:grpSpPr>
        <p:sp>
          <p:nvSpPr>
            <p:cNvPr id="343" name="Oval 3"/>
            <p:cNvSpPr/>
            <p:nvPr/>
          </p:nvSpPr>
          <p:spPr>
            <a:xfrm>
              <a:off x="2133720" y="1932120"/>
              <a:ext cx="1939320" cy="175392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4" name="Oval 4"/>
            <p:cNvSpPr/>
            <p:nvPr/>
          </p:nvSpPr>
          <p:spPr>
            <a:xfrm>
              <a:off x="2327400" y="3510720"/>
              <a:ext cx="1940040" cy="1753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5" name="Oval 5"/>
            <p:cNvSpPr/>
            <p:nvPr/>
          </p:nvSpPr>
          <p:spPr>
            <a:xfrm>
              <a:off x="4073040" y="4036680"/>
              <a:ext cx="1940040" cy="175392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6" name="Oval 6"/>
            <p:cNvSpPr/>
            <p:nvPr/>
          </p:nvSpPr>
          <p:spPr>
            <a:xfrm>
              <a:off x="5554440" y="3105000"/>
              <a:ext cx="1939320" cy="1753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7" name="Oval 7"/>
            <p:cNvSpPr/>
            <p:nvPr/>
          </p:nvSpPr>
          <p:spPr>
            <a:xfrm>
              <a:off x="5236920" y="1756800"/>
              <a:ext cx="1940040" cy="1753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3685680" y="1143000"/>
              <a:ext cx="1939320" cy="1753920"/>
            </a:xfrm>
            <a:prstGeom prst="ellipse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3588480" y="2634120"/>
              <a:ext cx="2230560" cy="1841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4199040" y="3157920"/>
              <a:ext cx="88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</a:t>
              </a:r>
              <a:r>
                <a:rPr b="1" lang="ru-RU" sz="4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: 4</a:t>
              </a:r>
              <a:endParaRPr b="0" lang="en-US" sz="40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1" name="Text Box 11"/>
            <p:cNvSpPr/>
            <p:nvPr/>
          </p:nvSpPr>
          <p:spPr>
            <a:xfrm>
              <a:off x="4387320" y="15469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32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033960" y="21571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3" name="Text Box 13"/>
            <p:cNvSpPr/>
            <p:nvPr/>
          </p:nvSpPr>
          <p:spPr>
            <a:xfrm>
              <a:off x="6260400" y="359676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4" name="Text Box 14"/>
            <p:cNvSpPr/>
            <p:nvPr/>
          </p:nvSpPr>
          <p:spPr>
            <a:xfrm>
              <a:off x="4703760" y="4563000"/>
              <a:ext cx="102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2938320" y="39805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40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56" name="Text Box 16"/>
            <p:cNvSpPr/>
            <p:nvPr/>
          </p:nvSpPr>
          <p:spPr>
            <a:xfrm>
              <a:off x="2730240" y="2283120"/>
              <a:ext cx="820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57" name="Text Box 18"/>
          <p:cNvSpPr/>
          <p:nvPr/>
        </p:nvSpPr>
        <p:spPr>
          <a:xfrm>
            <a:off x="533880" y="485640"/>
            <a:ext cx="56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TextBox 18"/>
          <p:cNvSpPr/>
          <p:nvPr/>
        </p:nvSpPr>
        <p:spPr>
          <a:xfrm>
            <a:off x="5043600" y="1254240"/>
            <a:ext cx="8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TextBox 19"/>
          <p:cNvSpPr/>
          <p:nvPr/>
        </p:nvSpPr>
        <p:spPr>
          <a:xfrm>
            <a:off x="6073920" y="281772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TextBox 20"/>
          <p:cNvSpPr/>
          <p:nvPr/>
        </p:nvSpPr>
        <p:spPr>
          <a:xfrm>
            <a:off x="6073920" y="427500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21"/>
          <p:cNvSpPr/>
          <p:nvPr/>
        </p:nvSpPr>
        <p:spPr>
          <a:xfrm>
            <a:off x="4844880" y="5237280"/>
            <a:ext cx="8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TextBox 22"/>
          <p:cNvSpPr/>
          <p:nvPr/>
        </p:nvSpPr>
        <p:spPr>
          <a:xfrm>
            <a:off x="3103560" y="4659480"/>
            <a:ext cx="8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TextBox 23"/>
          <p:cNvSpPr/>
          <p:nvPr/>
        </p:nvSpPr>
        <p:spPr>
          <a:xfrm>
            <a:off x="2316240" y="2924280"/>
            <a:ext cx="83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ill Sans MT"/>
                <a:ea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колько треугольников на рисунке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Picture 2" descr="https://ds04.infourok.ru/uploads/ex/1075/0007ffb4-1df6e9d9/img7.jpg"/>
          <p:cNvPicPr/>
          <p:nvPr/>
        </p:nvPicPr>
        <p:blipFill>
          <a:blip r:embed="rId1"/>
          <a:srcRect l="18961" t="25512" r="31752" b="18394"/>
          <a:stretch/>
        </p:blipFill>
        <p:spPr>
          <a:xfrm>
            <a:off x="2298600" y="1700280"/>
            <a:ext cx="4994280" cy="42638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7653240" y="5884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ill Sans MT"/>
                <a:ea typeface="Arial"/>
              </a:rPr>
              <a:t>12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Равнобедренный треугольник 4"/>
          <p:cNvSpPr/>
          <p:nvPr/>
        </p:nvSpPr>
        <p:spPr>
          <a:xfrm>
            <a:off x="8101080" y="5900760"/>
            <a:ext cx="431640" cy="2905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6840" y="2599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Рассмотри рисунок и ответь на вопрос: сколько рублей сдачи получит покупатель, расплатившийся за пакет молока и батон хлеба купюрой в 100 рублей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2" descr="hello_html_m23a81034.png"/>
          <p:cNvPicPr/>
          <p:nvPr/>
        </p:nvPicPr>
        <p:blipFill>
          <a:blip r:embed="rId1"/>
          <a:stretch/>
        </p:blipFill>
        <p:spPr>
          <a:xfrm>
            <a:off x="1403280" y="1773360"/>
            <a:ext cx="6942240" cy="38876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3"/>
          <p:cNvSpPr/>
          <p:nvPr/>
        </p:nvSpPr>
        <p:spPr>
          <a:xfrm>
            <a:off x="1763640" y="59515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  <a:ea typeface="Arial"/>
              </a:rPr>
              <a:t>100 - (32+33) = 35 (р) сдачи получит покупатель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Arial Narrow"/>
              </a:rPr>
              <a:t>Петя купил канцтовары. В чеке указано наименование каждого товара, количество и цена. Например, Петя купил две линейки по 16 р. и заплатил за них 32 р. Тетрадь, гуашь и ручку он купил для друга. Сколько рублей друг  должен вернуть Пете?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098720" y="1773360"/>
            <a:ext cx="6634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еши 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71280" y="144756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тя слепила 27 снежков, а Алёша – 34.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больше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ков слепил Алёша, чем Катя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 инструментальном ансамбле занимается 23 девочки, а мальчиков – 15.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меньше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ов, чем девочек занимается в инструментальном ансамбле?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Рисунок 6" descr="AN008.GIF"/>
          <p:cNvPicPr/>
          <p:nvPr/>
        </p:nvPicPr>
        <p:blipFill>
          <a:blip r:embed="rId1"/>
          <a:stretch/>
        </p:blipFill>
        <p:spPr>
          <a:xfrm>
            <a:off x="7596360" y="0"/>
            <a:ext cx="12301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572314"/>
                </a:solidFill>
                <a:latin typeface="Corbel"/>
                <a:ea typeface="Aharoni"/>
              </a:rPr>
              <a:t>1) 34 – 27 = 7(с.)</a:t>
            </a:r>
            <a:br>
              <a:rPr sz="6500"/>
            </a:br>
            <a:r>
              <a:rPr b="1" lang="ru-RU" sz="5400" spc="-1" strike="noStrike">
                <a:solidFill>
                  <a:srgbClr val="572314"/>
                </a:solidFill>
                <a:latin typeface="Corbel"/>
                <a:ea typeface="Aharoni"/>
              </a:rPr>
              <a:t>Ответ: на 7 снежков.</a:t>
            </a:r>
            <a:br>
              <a:rPr sz="6500"/>
            </a:br>
            <a:br>
              <a:rPr sz="6500"/>
            </a:br>
            <a:r>
              <a:rPr b="1" lang="ru-RU" sz="6500" spc="-1" strike="noStrike">
                <a:solidFill>
                  <a:srgbClr val="572314"/>
                </a:solidFill>
                <a:latin typeface="Corbel"/>
                <a:ea typeface="Aharoni"/>
              </a:rPr>
              <a:t>2)23 – 15 = 8(м.)</a:t>
            </a:r>
            <a:br>
              <a:rPr sz="6500"/>
            </a:br>
            <a:r>
              <a:rPr b="1" lang="ru-RU" sz="5400" spc="-1" strike="noStrike">
                <a:solidFill>
                  <a:srgbClr val="572314"/>
                </a:solidFill>
                <a:latin typeface="Corbel"/>
                <a:ea typeface="Aharoni"/>
              </a:rPr>
              <a:t>Ответ: на 8 мальчиков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Реши задачу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311120" y="112212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опарке было 3 белых медведя и 12 бурых.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больше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рых медведей, чем белых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2" descr="E:\6.jpg"/>
          <p:cNvPicPr/>
          <p:nvPr/>
        </p:nvPicPr>
        <p:blipFill>
          <a:blip r:embed="rId1"/>
          <a:stretch/>
        </p:blipFill>
        <p:spPr>
          <a:xfrm>
            <a:off x="1401840" y="4578480"/>
            <a:ext cx="2639880" cy="1968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E:\i.jpg"/>
          <p:cNvPicPr/>
          <p:nvPr/>
        </p:nvPicPr>
        <p:blipFill>
          <a:blip r:embed="rId2"/>
          <a:stretch/>
        </p:blipFill>
        <p:spPr>
          <a:xfrm>
            <a:off x="5218200" y="4578480"/>
            <a:ext cx="30240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Прямоугольник 3"/>
          <p:cNvSpPr/>
          <p:nvPr/>
        </p:nvSpPr>
        <p:spPr>
          <a:xfrm>
            <a:off x="1087560" y="3138480"/>
            <a:ext cx="7777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Arial Black"/>
              </a:rPr>
              <a:t>1) 12 :3 = 4 (раза)</a:t>
            </a:r>
            <a:br>
              <a:rPr sz="3200"/>
            </a:br>
            <a:r>
              <a:rPr b="1" lang="ru-RU" sz="3200" spc="-1" strike="noStrike">
                <a:solidFill>
                  <a:srgbClr val="713204"/>
                </a:solidFill>
                <a:latin typeface="Arial Black"/>
              </a:rPr>
              <a:t>Ответ: в 4 раза бурых медведей больш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457960" cy="16480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"/>
          <p:cNvSpPr/>
          <p:nvPr/>
        </p:nvSpPr>
        <p:spPr>
          <a:xfrm>
            <a:off x="1711440" y="1695600"/>
            <a:ext cx="718920" cy="36828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Бел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1725480" y="2100240"/>
            <a:ext cx="720720" cy="368280"/>
          </a:xfrm>
          <a:prstGeom prst="rect">
            <a:avLst/>
          </a:prstGeom>
          <a:solidFill>
            <a:srgbClr val="e7d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Бур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6:14:05Z</dcterms:created>
  <dc:creator>Билалова ОА</dc:creator>
  <dc:description/>
  <dc:language>en-US</dc:language>
  <cp:lastModifiedBy>Пользователь</cp:lastModifiedBy>
  <dcterms:modified xsi:type="dcterms:W3CDTF">2020-11-20T18:09:46Z</dcterms:modified>
  <cp:revision>40</cp:revision>
  <dc:subject/>
  <dc:title>Урок математики</dc:title>
</cp:coreProperties>
</file>