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5.wmf" ContentType="image/x-wmf"/>
  <Override PartName="/ppt/media/image10.png" ContentType="image/pn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595-7A15-4179-8643-3C051745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C04-C696-4B89-8290-DDF6AD76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D5B-DF01-4A5C-9C01-16AE828B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7BC-0828-43F1-B69B-DC4FBBE5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06C8-327B-4FC2-AEDA-4311DEAD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1720-EDF8-47F6-9DF8-BA97B292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D5F4-C6A2-4D34-9C3A-87462DA0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D72D-8550-4AC3-AB1E-ED624F4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E77-A23E-4CFC-915E-586B6571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768-EBEA-45A2-B22E-ABB5B405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E39-ECE4-4DCA-A41D-F277EF2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C8A-06DA-47D1-8A6E-4B85937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252-B1EE-4127-B314-55E4C25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E5FF-EDD5-432A-A787-2529634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4DE-9ABF-460B-BC9E-FFACD3E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F50-EA9F-4EF3-969F-7B43F1D2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233-9D00-4CE7-A19E-36D41CF4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8C43-26A9-4A83-AA68-6CE53CAE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2DAA-B4C0-48C4-81FB-EBB813B5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77E8-91B7-4CEF-9BEF-F76DF6CD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C4FF-9603-41E1-BD97-127D52D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4323-1AFE-4606-9217-7DB0412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49A-E892-4C38-85A5-2BE8D37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82C4-A54E-47AF-9751-2394245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3357-B9E9-4CE1-AFA7-D02356D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3B3D-3007-4557-AC25-0749D8B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F16C-3ACF-46B9-9531-8D1784D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99EF-D775-4F22-8F87-7E5313B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499B2-C91A-44A9-B5C5-655E3739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DA0D-191E-40F8-99C8-0ED0DF9E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13A5-C961-46C4-BA62-99E6DB7D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E477-25F5-4D18-9D22-E5BBC389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2846-5E80-4EBD-95D4-A86779A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236-5D3A-4101-AE1B-45D767E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1371-6525-456D-B932-01FDE06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5397-DD3A-44E6-8A53-ED4CCFF1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01CE-AC0F-4CA9-82FA-C8E14823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9F0D-84C1-498B-B3C8-F7B0560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FC7B7-7706-4D33-B18E-F74B756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349E-E217-41D5-ABED-32D77921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E54D0-4AEA-4A70-840E-122F18A9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79F2-386C-4BBC-9EFA-FEFBF31F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4D29-90FE-4788-9AFF-088A949D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B73C-42B4-4626-860B-E2A2A8E4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DA0-AB1B-4842-B7CE-C4392ECD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6811-E975-4DF8-83C2-7B4A2F1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A0B6-1CE8-45A6-9EA8-A54EFDD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C9E7-3EE6-4190-8E8A-2698CE92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F921-40FF-4326-B26B-5E09FAF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A654-F0BD-4A57-B56F-2378FF13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4E83-0CD5-407D-B974-17ECAFC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93B9-D3EC-43FD-99A1-26020CA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26A30-686A-4C94-A0E0-DC740B25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D80A-AFB2-4E54-89D7-3027705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17BC-4A41-4C74-8B1F-940A3BCA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063-C78C-429C-87C0-48D01AFC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2EABC-FF74-4138-9724-00741891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B628-7C4F-4CC7-A899-E899E111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2393C-4726-47D8-A69B-AC5E70B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9B0D-498B-4980-9ED7-3D3EE7D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F95F-AD36-480F-B233-9E6BEF0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4B19-DAAD-4297-AD50-CB25F1B6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75D2-34DF-43AA-9F69-8436E996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BD47-375A-47A8-A986-FAE700E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8FAE-363E-4B3A-852F-1841649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A233-EFD4-4D62-9A41-1E4CA4B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1FF-B8F4-4B15-8D3E-5DA89947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A866A-F7E2-473A-8226-BA0E54D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7AD5-AC7B-41AD-B6F3-39C016C0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9B6E2-8645-44BA-B8FB-80173C0C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CC78-83FB-4697-BE41-DD7A96AB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9587-C424-46CC-96B9-A85DAEBD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E7027-0D6F-48C2-80D2-D6B46E9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CCAB-B57F-4DC5-A36D-55226FA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11072-CACE-4865-9AE1-968B0EC6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D73B-9921-45B9-8E67-18A9D1D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77D17-1738-4B20-8F66-263D2E8A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F8B-C0B0-4436-9E00-AEDEA1D4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4751-3AA2-4C73-9A0E-C6BB6089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10F90-3676-41C5-9CAF-8AE8202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7841-AB0E-413E-AD29-681A4A3A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9DFE-2FFD-4FD0-B1D0-6F4FC6C7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04E0D-D188-443E-8332-EE9D9E30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970-F064-4997-BA24-9A584498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CC7-BE5E-4028-A958-253D9F1A93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D6F-E840-43A5-8E50-B4D3398A15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990-F919-4CCC-BAB9-7D57E46F42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F04-E804-4F64-8856-824E1F696D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35FF-5F8B-49F1-BEE9-21A67C3570C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89C-E944-42C4-B0F5-98E358A483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6F7-1670-48A4-ACDB-B83016E5F17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533520" y="189000"/>
            <a:ext cx="8610480" cy="64767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2"/>
          <p:cNvGrpSpPr/>
          <p:nvPr/>
        </p:nvGrpSpPr>
        <p:grpSpPr>
          <a:xfrm>
            <a:off x="2133720" y="1143000"/>
            <a:ext cx="5360040" cy="4647600"/>
            <a:chOff x="2133720" y="1143000"/>
            <a:chExt cx="5360040" cy="4647600"/>
          </a:xfrm>
        </p:grpSpPr>
        <p:sp>
          <p:nvSpPr>
            <p:cNvPr id="320" name="Oval 3"/>
            <p:cNvSpPr/>
            <p:nvPr/>
          </p:nvSpPr>
          <p:spPr>
            <a:xfrm>
              <a:off x="2133720" y="1932120"/>
              <a:ext cx="1939320" cy="1753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2327400" y="3510720"/>
              <a:ext cx="1940040" cy="175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2" name="Oval 5"/>
            <p:cNvSpPr/>
            <p:nvPr/>
          </p:nvSpPr>
          <p:spPr>
            <a:xfrm>
              <a:off x="4073040" y="4036680"/>
              <a:ext cx="1940040" cy="1753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3" name="Oval 6"/>
            <p:cNvSpPr/>
            <p:nvPr/>
          </p:nvSpPr>
          <p:spPr>
            <a:xfrm>
              <a:off x="5554440" y="3105000"/>
              <a:ext cx="1939320" cy="1753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4" name="Oval 7"/>
            <p:cNvSpPr/>
            <p:nvPr/>
          </p:nvSpPr>
          <p:spPr>
            <a:xfrm>
              <a:off x="5236920" y="1756800"/>
              <a:ext cx="1940040" cy="1753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3685680" y="1143000"/>
              <a:ext cx="1939320" cy="1753920"/>
            </a:xfrm>
            <a:prstGeom prst="ellipse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3588480" y="2634120"/>
              <a:ext cx="2230560" cy="1841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4171320" y="315792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 х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4361400" y="1546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008040" y="2157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6234480" y="359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703760" y="4563000"/>
              <a:ext cx="70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2912400" y="3980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2704320" y="2283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534960" y="485640"/>
            <a:ext cx="57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4889520" y="14637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TextBox 19"/>
          <p:cNvSpPr/>
          <p:nvPr/>
        </p:nvSpPr>
        <p:spPr>
          <a:xfrm>
            <a:off x="6485040" y="18651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5307120" y="50403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6912000" y="35463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3103560" y="485928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TextBox 24"/>
          <p:cNvSpPr/>
          <p:nvPr/>
        </p:nvSpPr>
        <p:spPr>
          <a:xfrm>
            <a:off x="2293920" y="292572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572314"/>
                </a:solidFill>
                <a:latin typeface="Arial Black"/>
              </a:rPr>
              <a:t>12 :3 = 4 (раза)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Ответ: </a:t>
            </a:r>
            <a:r>
              <a:rPr b="1" lang="ru-RU" sz="6600" spc="-1" strike="noStrike" u="sng">
                <a:solidFill>
                  <a:srgbClr val="572314"/>
                </a:solidFill>
                <a:uFillTx/>
                <a:latin typeface="Corbel"/>
              </a:rPr>
              <a:t>в </a:t>
            </a: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4 </a:t>
            </a:r>
            <a:r>
              <a:rPr b="1" lang="ru-RU" sz="6600" spc="-1" strike="noStrike" u="sng">
                <a:solidFill>
                  <a:srgbClr val="572314"/>
                </a:solidFill>
                <a:uFillTx/>
                <a:latin typeface="Corbel"/>
              </a:rPr>
              <a:t>раза</a:t>
            </a: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 бурых медведей больше.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3868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88631"/>
                </a:solidFill>
                <a:latin typeface="Corbel"/>
              </a:rPr>
              <a:t>Если правильно, ставим «+», неправильно – «-»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1)24: 8 =3 (раза)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2)28: 7 =4 (раза)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3)62-27=35 (каш.)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2651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9051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узна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на сколько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единиц одно число больше или меньше другого, надо выполни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сл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вычит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умн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) дел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9" descr="vopros"/>
          <p:cNvPicPr/>
          <p:nvPr/>
        </p:nvPicPr>
        <p:blipFill>
          <a:blip r:embed="rId2"/>
          <a:stretch/>
        </p:blipFill>
        <p:spPr>
          <a:xfrm>
            <a:off x="3505320" y="3962520"/>
            <a:ext cx="8380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узна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о сколько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раз одно число больше или меньше другого, надо выполни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сл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вычит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умн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) дел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4" descr="vopros"/>
          <p:cNvPicPr/>
          <p:nvPr/>
        </p:nvPicPr>
        <p:blipFill>
          <a:blip r:embed="rId2"/>
          <a:stretch/>
        </p:blipFill>
        <p:spPr>
          <a:xfrm>
            <a:off x="3429000" y="4191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 скольк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единиц число 36 больше, чем число 9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4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4" descr="vopros"/>
          <p:cNvPicPr/>
          <p:nvPr/>
        </p:nvPicPr>
        <p:blipFill>
          <a:blip r:embed="rId2"/>
          <a:stretch/>
        </p:blipFill>
        <p:spPr>
          <a:xfrm>
            <a:off x="990720" y="4876920"/>
            <a:ext cx="981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Во скольк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раз число 36 больше, чем число 9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609480" y="29718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А) 4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В)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681840" y="4572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9" descr="vopros"/>
          <p:cNvPicPr/>
          <p:nvPr/>
        </p:nvPicPr>
        <p:blipFill>
          <a:blip r:embed="rId2"/>
          <a:stretch/>
        </p:blipFill>
        <p:spPr>
          <a:xfrm>
            <a:off x="685800" y="4572000"/>
            <a:ext cx="8064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8839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525960" y="29322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12952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1295280" y="32767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04440" y="40752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1295280" y="4648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616680" y="5715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295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1295280" y="586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762120" y="6858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5. Какая диаграмма соответствует условию задачи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На одной машине привезли 10 мешков свёклы, а на другой в 3 раза больш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Line 20"/>
          <p:cNvSpPr/>
          <p:nvPr/>
        </p:nvSpPr>
        <p:spPr>
          <a:xfrm>
            <a:off x="129528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Line 22"/>
          <p:cNvSpPr/>
          <p:nvPr/>
        </p:nvSpPr>
        <p:spPr>
          <a:xfrm>
            <a:off x="2362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342900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44956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Line 25"/>
          <p:cNvSpPr/>
          <p:nvPr/>
        </p:nvSpPr>
        <p:spPr>
          <a:xfrm>
            <a:off x="23623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34290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Line 29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45720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Line 33"/>
          <p:cNvSpPr/>
          <p:nvPr/>
        </p:nvSpPr>
        <p:spPr>
          <a:xfrm>
            <a:off x="55627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Line 34"/>
          <p:cNvSpPr/>
          <p:nvPr/>
        </p:nvSpPr>
        <p:spPr>
          <a:xfrm>
            <a:off x="23623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Line 35"/>
          <p:cNvSpPr/>
          <p:nvPr/>
        </p:nvSpPr>
        <p:spPr>
          <a:xfrm>
            <a:off x="34290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Line 36"/>
          <p:cNvSpPr/>
          <p:nvPr/>
        </p:nvSpPr>
        <p:spPr>
          <a:xfrm>
            <a:off x="44956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56386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1189080" y="336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Text Box 40"/>
          <p:cNvSpPr/>
          <p:nvPr/>
        </p:nvSpPr>
        <p:spPr>
          <a:xfrm>
            <a:off x="213372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Text Box 41"/>
          <p:cNvSpPr/>
          <p:nvPr/>
        </p:nvSpPr>
        <p:spPr>
          <a:xfrm>
            <a:off x="324576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 Box 42"/>
          <p:cNvSpPr/>
          <p:nvPr/>
        </p:nvSpPr>
        <p:spPr>
          <a:xfrm>
            <a:off x="431244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Text Box 43"/>
          <p:cNvSpPr/>
          <p:nvPr/>
        </p:nvSpPr>
        <p:spPr>
          <a:xfrm>
            <a:off x="5439600" y="3363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Text Box 44"/>
          <p:cNvSpPr/>
          <p:nvPr/>
        </p:nvSpPr>
        <p:spPr>
          <a:xfrm>
            <a:off x="1189080" y="473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217908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ext Box 46"/>
          <p:cNvSpPr/>
          <p:nvPr/>
        </p:nvSpPr>
        <p:spPr>
          <a:xfrm>
            <a:off x="324576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ext Box 47"/>
          <p:cNvSpPr/>
          <p:nvPr/>
        </p:nvSpPr>
        <p:spPr>
          <a:xfrm>
            <a:off x="438876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ext Box 48"/>
          <p:cNvSpPr/>
          <p:nvPr/>
        </p:nvSpPr>
        <p:spPr>
          <a:xfrm>
            <a:off x="537948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1189080" y="595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ext Box 51"/>
          <p:cNvSpPr/>
          <p:nvPr/>
        </p:nvSpPr>
        <p:spPr>
          <a:xfrm>
            <a:off x="21790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ext Box 52"/>
          <p:cNvSpPr/>
          <p:nvPr/>
        </p:nvSpPr>
        <p:spPr>
          <a:xfrm>
            <a:off x="324576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ext Box 53"/>
          <p:cNvSpPr/>
          <p:nvPr/>
        </p:nvSpPr>
        <p:spPr>
          <a:xfrm>
            <a:off x="431244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ext Box 54"/>
          <p:cNvSpPr/>
          <p:nvPr/>
        </p:nvSpPr>
        <p:spPr>
          <a:xfrm>
            <a:off x="53794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Rectangle 56"/>
          <p:cNvSpPr/>
          <p:nvPr/>
        </p:nvSpPr>
        <p:spPr>
          <a:xfrm>
            <a:off x="1295280" y="41911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Rectangle 57"/>
          <p:cNvSpPr/>
          <p:nvPr/>
        </p:nvSpPr>
        <p:spPr>
          <a:xfrm>
            <a:off x="1295280" y="3809880"/>
            <a:ext cx="32767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Rectangle 58"/>
          <p:cNvSpPr/>
          <p:nvPr/>
        </p:nvSpPr>
        <p:spPr>
          <a:xfrm>
            <a:off x="1295280" y="23623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Rectangle 59"/>
          <p:cNvSpPr/>
          <p:nvPr/>
        </p:nvSpPr>
        <p:spPr>
          <a:xfrm>
            <a:off x="1295280" y="2819520"/>
            <a:ext cx="426744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1295280" y="5181480"/>
            <a:ext cx="1447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1295280" y="55627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Line 62"/>
          <p:cNvSpPr/>
          <p:nvPr/>
        </p:nvSpPr>
        <p:spPr>
          <a:xfrm>
            <a:off x="27432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ext Box 63"/>
          <p:cNvSpPr/>
          <p:nvPr/>
        </p:nvSpPr>
        <p:spPr>
          <a:xfrm>
            <a:off x="26362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ext Box 64"/>
          <p:cNvSpPr/>
          <p:nvPr/>
        </p:nvSpPr>
        <p:spPr>
          <a:xfrm>
            <a:off x="457200" y="228600"/>
            <a:ext cx="108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Picture 65" descr="vopros"/>
          <p:cNvPicPr/>
          <p:nvPr/>
        </p:nvPicPr>
        <p:blipFill>
          <a:blip r:embed="rId2"/>
          <a:stretch/>
        </p:blipFill>
        <p:spPr>
          <a:xfrm>
            <a:off x="152280" y="5943600"/>
            <a:ext cx="5716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7800" y="190512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853640" y="2286000"/>
            <a:ext cx="8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6" descr="ZAPOMNI"/>
          <p:cNvPicPr/>
          <p:nvPr/>
        </p:nvPicPr>
        <p:blipFill>
          <a:blip r:embed="rId2"/>
          <a:stretch/>
        </p:blipFill>
        <p:spPr>
          <a:xfrm>
            <a:off x="762120" y="4819680"/>
            <a:ext cx="1143000" cy="148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arg-5-50-trans"/>
          <p:cNvPicPr/>
          <p:nvPr/>
        </p:nvPicPr>
        <p:blipFill>
          <a:blip r:embed="rId3"/>
          <a:stretch/>
        </p:blipFill>
        <p:spPr>
          <a:xfrm>
            <a:off x="5105520" y="3886200"/>
            <a:ext cx="19810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Oval 4"/>
          <p:cNvSpPr/>
          <p:nvPr/>
        </p:nvSpPr>
        <p:spPr>
          <a:xfrm>
            <a:off x="457200" y="1981080"/>
            <a:ext cx="243828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5"/>
          <p:cNvSpPr/>
          <p:nvPr/>
        </p:nvSpPr>
        <p:spPr>
          <a:xfrm>
            <a:off x="3352680" y="1905120"/>
            <a:ext cx="243864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6"/>
          <p:cNvSpPr/>
          <p:nvPr/>
        </p:nvSpPr>
        <p:spPr>
          <a:xfrm>
            <a:off x="6172200" y="1905120"/>
            <a:ext cx="243828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Oval 7"/>
          <p:cNvSpPr/>
          <p:nvPr/>
        </p:nvSpPr>
        <p:spPr>
          <a:xfrm>
            <a:off x="114300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Oval 8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769608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6781680" y="2743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495288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Oval 12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Line 13"/>
          <p:cNvSpPr/>
          <p:nvPr/>
        </p:nvSpPr>
        <p:spPr>
          <a:xfrm>
            <a:off x="1295280" y="37339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AutoShape 18"/>
          <p:cNvSpPr/>
          <p:nvPr/>
        </p:nvSpPr>
        <p:spPr>
          <a:xfrm rot="10800000">
            <a:off x="4114800" y="342864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108720 h 304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7010280" y="3733920"/>
            <a:ext cx="762120" cy="304560"/>
          </a:xfrm>
          <a:custGeom>
            <a:avLst/>
            <a:gdLst>
              <a:gd name="textAreaLeft" fmla="*/ 0 w 762120"/>
              <a:gd name="textAreaRight" fmla="*/ 762480 w 762120"/>
              <a:gd name="textAreaTop" fmla="*/ 0 h 304560"/>
              <a:gd name="textAreaBottom" fmla="*/ 108720 h 3045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457200" y="52578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Мне было безразлично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на урок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3352680" y="51814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Мне было интересн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на урок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6172200" y="5365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Я ничего не поня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460440" y="247680"/>
            <a:ext cx="8675640" cy="65260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2"/>
          <p:cNvGrpSpPr/>
          <p:nvPr/>
        </p:nvGrpSpPr>
        <p:grpSpPr>
          <a:xfrm>
            <a:off x="2133720" y="1143000"/>
            <a:ext cx="5360040" cy="4647600"/>
            <a:chOff x="2133720" y="1143000"/>
            <a:chExt cx="5360040" cy="4647600"/>
          </a:xfrm>
        </p:grpSpPr>
        <p:sp>
          <p:nvSpPr>
            <p:cNvPr id="343" name="Oval 3"/>
            <p:cNvSpPr/>
            <p:nvPr/>
          </p:nvSpPr>
          <p:spPr>
            <a:xfrm>
              <a:off x="2133720" y="1932120"/>
              <a:ext cx="1939320" cy="1753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4" name="Oval 4"/>
            <p:cNvSpPr/>
            <p:nvPr/>
          </p:nvSpPr>
          <p:spPr>
            <a:xfrm>
              <a:off x="2327400" y="3510720"/>
              <a:ext cx="1940040" cy="175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5" name="Oval 5"/>
            <p:cNvSpPr/>
            <p:nvPr/>
          </p:nvSpPr>
          <p:spPr>
            <a:xfrm>
              <a:off x="4073040" y="4036680"/>
              <a:ext cx="1940040" cy="1753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6" name="Oval 6"/>
            <p:cNvSpPr/>
            <p:nvPr/>
          </p:nvSpPr>
          <p:spPr>
            <a:xfrm>
              <a:off x="5554440" y="3105000"/>
              <a:ext cx="1939320" cy="1753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7" name="Oval 7"/>
            <p:cNvSpPr/>
            <p:nvPr/>
          </p:nvSpPr>
          <p:spPr>
            <a:xfrm>
              <a:off x="5236920" y="1756800"/>
              <a:ext cx="1940040" cy="1753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3685680" y="1143000"/>
              <a:ext cx="1939320" cy="1753920"/>
            </a:xfrm>
            <a:prstGeom prst="ellipse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3588480" y="2634120"/>
              <a:ext cx="2230560" cy="1841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4199040" y="3157920"/>
              <a:ext cx="88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: 4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4387320" y="15469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033960" y="2157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3" name="Text Box 13"/>
            <p:cNvSpPr/>
            <p:nvPr/>
          </p:nvSpPr>
          <p:spPr>
            <a:xfrm>
              <a:off x="6260400" y="359676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4" name="Text Box 14"/>
            <p:cNvSpPr/>
            <p:nvPr/>
          </p:nvSpPr>
          <p:spPr>
            <a:xfrm>
              <a:off x="4703760" y="4563000"/>
              <a:ext cx="102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2938320" y="39805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2730240" y="2283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57" name="Text Box 18"/>
          <p:cNvSpPr/>
          <p:nvPr/>
        </p:nvSpPr>
        <p:spPr>
          <a:xfrm>
            <a:off x="533880" y="485640"/>
            <a:ext cx="56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TextBox 18"/>
          <p:cNvSpPr/>
          <p:nvPr/>
        </p:nvSpPr>
        <p:spPr>
          <a:xfrm>
            <a:off x="5043600" y="1254240"/>
            <a:ext cx="8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6073920" y="281772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TextBox 20"/>
          <p:cNvSpPr/>
          <p:nvPr/>
        </p:nvSpPr>
        <p:spPr>
          <a:xfrm>
            <a:off x="6073920" y="427500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4844880" y="5237280"/>
            <a:ext cx="8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TextBox 22"/>
          <p:cNvSpPr/>
          <p:nvPr/>
        </p:nvSpPr>
        <p:spPr>
          <a:xfrm>
            <a:off x="3103560" y="465948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23"/>
          <p:cNvSpPr/>
          <p:nvPr/>
        </p:nvSpPr>
        <p:spPr>
          <a:xfrm>
            <a:off x="2316240" y="292428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колько треугольников на рисунке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Picture 2" descr="https://ds04.infourok.ru/uploads/ex/1075/0007ffb4-1df6e9d9/img7.jpg"/>
          <p:cNvPicPr/>
          <p:nvPr/>
        </p:nvPicPr>
        <p:blipFill>
          <a:blip r:embed="rId1"/>
          <a:srcRect l="18961" t="25512" r="31752" b="18394"/>
          <a:stretch/>
        </p:blipFill>
        <p:spPr>
          <a:xfrm>
            <a:off x="2298600" y="1700280"/>
            <a:ext cx="4994280" cy="42638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7653240" y="5884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ill Sans MT"/>
                <a:ea typeface="Arial"/>
              </a:rPr>
              <a:t>12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Равнобедренный треугольник 4"/>
          <p:cNvSpPr/>
          <p:nvPr/>
        </p:nvSpPr>
        <p:spPr>
          <a:xfrm>
            <a:off x="8101080" y="5900760"/>
            <a:ext cx="431640" cy="2905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68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мотри рисунок и ответь на вопрос: сколько рублей сдачи получит покупатель, расплатившийся за пакет молока и батон хлеба купюрой в 100 рублей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hello_html_m23a81034.png"/>
          <p:cNvPicPr/>
          <p:nvPr/>
        </p:nvPicPr>
        <p:blipFill>
          <a:blip r:embed="rId1"/>
          <a:stretch/>
        </p:blipFill>
        <p:spPr>
          <a:xfrm>
            <a:off x="1403280" y="1773360"/>
            <a:ext cx="6942240" cy="38876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763640" y="59515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100 - (32+33) = 35 (р) сдачи получит покупател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 Narrow"/>
              </a:rPr>
              <a:t>Петя купил канцтовары. В чеке указано наименование каждого товара, количество и цена. Например, Петя купил две линейки по 16 р. и заплатил за них 32 р. Тетрадь, гуашь и ручку он купил для друга. Сколько рублей друг  должен вернуть Пете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098720" y="1773360"/>
            <a:ext cx="6634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еши 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тя слепила 27 снежков, а Алёша – 34.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больше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ков слепил Алёша, чем Катя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инструментальном ансамбле занимается 23 девочки, а мальчиков – 15.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меньше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ов, чем девочек занимается в инструментальном ансамбле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Рисунок 6" descr="AN008.GIF"/>
          <p:cNvPicPr/>
          <p:nvPr/>
        </p:nvPicPr>
        <p:blipFill>
          <a:blip r:embed="rId1"/>
          <a:stretch/>
        </p:blipFill>
        <p:spPr>
          <a:xfrm>
            <a:off x="7596360" y="0"/>
            <a:ext cx="12301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572314"/>
                </a:solidFill>
                <a:latin typeface="Corbel"/>
                <a:ea typeface="Aharoni"/>
              </a:rPr>
              <a:t>1) 34 – 27 = 7(с.)</a:t>
            </a:r>
            <a:br>
              <a:rPr sz="6500"/>
            </a:br>
            <a:r>
              <a:rPr b="1" lang="ru-RU" sz="5400" spc="-1" strike="noStrike">
                <a:solidFill>
                  <a:srgbClr val="572314"/>
                </a:solidFill>
                <a:latin typeface="Corbel"/>
                <a:ea typeface="Aharoni"/>
              </a:rPr>
              <a:t>Ответ: на 7 снежков.</a:t>
            </a:r>
            <a:br>
              <a:rPr sz="6500"/>
            </a:br>
            <a:br>
              <a:rPr sz="6500"/>
            </a:br>
            <a:r>
              <a:rPr b="1" lang="ru-RU" sz="6500" spc="-1" strike="noStrike">
                <a:solidFill>
                  <a:srgbClr val="572314"/>
                </a:solidFill>
                <a:latin typeface="Corbel"/>
                <a:ea typeface="Aharoni"/>
              </a:rPr>
              <a:t>2)23 – 15 = 8(м.)</a:t>
            </a:r>
            <a:br>
              <a:rPr sz="6500"/>
            </a:br>
            <a:r>
              <a:rPr b="1" lang="ru-RU" sz="5400" spc="-1" strike="noStrike">
                <a:solidFill>
                  <a:srgbClr val="572314"/>
                </a:solidFill>
                <a:latin typeface="Corbel"/>
                <a:ea typeface="Aharoni"/>
              </a:rPr>
              <a:t>Ответ: на 8 мальчиков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еши задачу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311120" y="11221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опарке было 3 белых медведя и 12 бурых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больш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ых медведей, чем белых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E:\6.jpg"/>
          <p:cNvPicPr/>
          <p:nvPr/>
        </p:nvPicPr>
        <p:blipFill>
          <a:blip r:embed="rId1"/>
          <a:stretch/>
        </p:blipFill>
        <p:spPr>
          <a:xfrm>
            <a:off x="1401840" y="4578480"/>
            <a:ext cx="2639880" cy="1968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E:\i.jpg"/>
          <p:cNvPicPr/>
          <p:nvPr/>
        </p:nvPicPr>
        <p:blipFill>
          <a:blip r:embed="rId2"/>
          <a:stretch/>
        </p:blipFill>
        <p:spPr>
          <a:xfrm>
            <a:off x="5218200" y="4578480"/>
            <a:ext cx="3024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1087560" y="3138480"/>
            <a:ext cx="7777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Arial Black"/>
              </a:rPr>
              <a:t>1) 12 :3 = 4 (раза)</a:t>
            </a:r>
            <a:br>
              <a:rPr sz="3200"/>
            </a:br>
            <a:r>
              <a:rPr b="1" lang="ru-RU" sz="3200" spc="-1" strike="noStrike">
                <a:solidFill>
                  <a:srgbClr val="713204"/>
                </a:solidFill>
                <a:latin typeface="Arial Black"/>
              </a:rPr>
              <a:t>Ответ: в 4 раза бурых медведей больш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457960" cy="1648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"/>
          <p:cNvSpPr/>
          <p:nvPr/>
        </p:nvSpPr>
        <p:spPr>
          <a:xfrm>
            <a:off x="1711440" y="1695600"/>
            <a:ext cx="718920" cy="36828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ел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1725480" y="2100240"/>
            <a:ext cx="720720" cy="36828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ур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6:14:05Z</dcterms:created>
  <dc:creator>Билалова ОА</dc:creator>
  <dc:description/>
  <dc:language>en-US</dc:language>
  <cp:lastModifiedBy>Пользователь</cp:lastModifiedBy>
  <dcterms:modified xsi:type="dcterms:W3CDTF">2020-11-20T18:09:46Z</dcterms:modified>
  <cp:revision>40</cp:revision>
  <dc:subject/>
  <dc:title>Урок математики</dc:title>
</cp:coreProperties>
</file>