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2BFA-2A6E-4971-AF3B-2E42AA257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DD7-4AFE-4E27-B674-FB32252C60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97D-7478-4162-90A7-5BBA3324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91B-69AF-4D1A-B729-ABFC3EA3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328-F5FD-42DE-91A1-C2DCBA9D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0D9-6CC9-4DED-9ED7-4464F0B0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840-3B5F-46E8-B6A7-5E0B1393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7A5-7959-4A10-8053-6606ADA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6CD-D905-4CC0-9E6D-84B95DFB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25F-BC45-4ADB-A394-69CBE91F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758-F2EC-4D74-86A5-FA1BC24A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D1C-9677-4A6B-B951-5A9BF19E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EA5-B185-478D-9981-97626C69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91B-C773-48FE-8B03-ED61B4D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0530-3A73-41D0-BA8E-64AF8CD9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00000"/>
                </a:solidFill>
                <a:latin typeface="Arial"/>
              </a:rPr>
              <a:t>Present Simple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настоящее простое врем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Киреева\15_09_2009\ТекстовыеДокументы\Киреева\анимация\ребёнок.gif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57200" y="19810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the baby speak 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the baby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peak  and rea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speak English or Chi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can read and speak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speak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ad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n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speak Engl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457200"/>
            <a:ext cx="42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Arial"/>
              </a:rPr>
              <a:t>Exercise 1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ive the correct form  of  Present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I      …...................(not/play) tennis on Sun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Tina ……………….(walk) to school every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ike … ……………..(have) a lot of frie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……………………………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..( they /visit)  other caf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Sam …………………………………….(not/know) this bo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here……………………………………(you/live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Polar bear ………………….(not/live) in Afr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You………………..(be) in an off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042280" y="20574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’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2438280" y="24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503080" y="29718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2057760" y="33526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2343240" y="411480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2514600" y="4876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060360" y="53341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’t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7"/>
          <p:cNvSpPr/>
          <p:nvPr/>
        </p:nvSpPr>
        <p:spPr>
          <a:xfrm>
            <a:off x="2362320" y="58672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3"/>
          <p:cNvSpPr/>
          <p:nvPr/>
        </p:nvSpPr>
        <p:spPr>
          <a:xfrm>
            <a:off x="685800" y="0"/>
            <a:ext cx="78516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 со стрелкой вниз 19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8"/>
          <p:cNvSpPr/>
          <p:nvPr/>
        </p:nvSpPr>
        <p:spPr>
          <a:xfrm>
            <a:off x="290160" y="838080"/>
            <a:ext cx="60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2. Ask WHO-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53352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nn is from Lond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ete likes playing ch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We do the shopping on Su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Lena can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Mary has got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We are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y live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914400" y="16765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is from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016640" y="2666880"/>
            <a:ext cx="45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likes playing ch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514800" y="3657600"/>
            <a:ext cx="63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does the shopping on Sun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4986000" y="4191120"/>
            <a:ext cx="28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can sw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4928400" y="4648320"/>
            <a:ext cx="36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has got  a do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4997520" y="5181480"/>
            <a:ext cx="30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is at ho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5080680" y="563868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o lives in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Выноска со стрелкой вниз 21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4"/>
          <p:cNvSpPr/>
          <p:nvPr/>
        </p:nvSpPr>
        <p:spPr>
          <a:xfrm>
            <a:off x="556560" y="762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3. Ask YES-NO ques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533520" y="1219320"/>
            <a:ext cx="9144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e is li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he’s from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t is gr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They are do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He has got m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 can paint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lex lives in Lond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 don’t go to school on Satu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4876920" y="12952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he litt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4888800" y="175248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she from Afric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4835160" y="2209680"/>
            <a:ext cx="18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it gr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876920" y="26668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re they doc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933120" y="365760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as he got many frie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862200" y="4343400"/>
            <a:ext cx="42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you paint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4071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69760" y="518148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lex live in Lond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786600" y="5943600"/>
            <a:ext cx="59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go to school 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носка со стрелкой вниз 18"/>
          <p:cNvSpPr/>
          <p:nvPr/>
        </p:nvSpPr>
        <p:spPr>
          <a:xfrm>
            <a:off x="585792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4"/>
          <p:cNvSpPr/>
          <p:nvPr/>
        </p:nvSpPr>
        <p:spPr>
          <a:xfrm>
            <a:off x="609480" y="91440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Exercise 4. Ask OR-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33520" y="129528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Pete is from Australi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 get up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na enjoys playing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y mum is a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My friend can sk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Pete is 15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914400" y="175248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ete from America or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839160" y="259092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you get up at 7 or 6 o’c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0"/>
          <p:cNvSpPr/>
          <p:nvPr/>
        </p:nvSpPr>
        <p:spPr>
          <a:xfrm>
            <a:off x="550440" y="3352680"/>
            <a:ext cx="83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Lena enjoy playing  football or baske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825840" y="4267080"/>
            <a:ext cx="61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your mum a teacher or a do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851760" y="510552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your friend skate or sk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786240" y="601992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s Pete 15 or 17 years 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 со стрелкой вниз 14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3"/>
          <p:cNvSpPr/>
          <p:nvPr/>
        </p:nvSpPr>
        <p:spPr>
          <a:xfrm>
            <a:off x="685800" y="0"/>
            <a:ext cx="78516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4"/>
          <p:cNvSpPr/>
          <p:nvPr/>
        </p:nvSpPr>
        <p:spPr>
          <a:xfrm>
            <a:off x="762120" y="91440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ercise 5. Ask WH-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09480" y="144792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Ann likes swimming in the lake i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re 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ey  often play volleyball i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en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……………………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1884960" y="190512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nn like swimming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1887840" y="236232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Ann like swimming in the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1943640" y="2819520"/>
            <a:ext cx="57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  Ann like doing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940040" y="434340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often play volley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025000" y="4800600"/>
            <a:ext cx="50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 they often do in su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Заголовок 3"/>
          <p:cNvSpPr/>
          <p:nvPr/>
        </p:nvSpPr>
        <p:spPr>
          <a:xfrm>
            <a:off x="609480" y="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Выноска со стрелкой вниз 15"/>
          <p:cNvSpPr/>
          <p:nvPr/>
        </p:nvSpPr>
        <p:spPr>
          <a:xfrm>
            <a:off x="5715000" y="152280"/>
            <a:ext cx="3286080" cy="114300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a"/>
                </a:solidFill>
                <a:latin typeface="Arial"/>
              </a:rPr>
              <a:t>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МОУ ДОД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Дворец детского(юношеского)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творчества г. Белоярский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объединение «КОНТАКТ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2010г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Киреева\15_09_2009\ТекстовыеДокументы\Киреева\анимация\teacher.gif"/>
          <p:cNvPicPr/>
          <p:nvPr/>
        </p:nvPicPr>
        <p:blipFill>
          <a:blip r:embed="rId1"/>
          <a:stretch/>
        </p:blipFill>
        <p:spPr>
          <a:xfrm>
            <a:off x="6505560" y="3962520"/>
            <a:ext cx="263844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533520" y="380880"/>
            <a:ext cx="84294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i="1" lang="en-US" sz="4800" spc="-1" strike="noStrike">
                <a:solidFill>
                  <a:srgbClr val="c00000"/>
                </a:solidFill>
                <a:latin typeface="Arial"/>
              </a:rPr>
              <a:t>Present Simple Tense</a:t>
            </a:r>
            <a:r>
              <a:rPr b="0" i="1" lang="ru-RU" sz="4800" spc="-1" strike="noStrike">
                <a:solidFill>
                  <a:srgbClr val="c00000"/>
                </a:solidFill>
                <a:latin typeface="Arial"/>
              </a:rPr>
              <a:t>-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стоящее простое время обозначает действие, которое происходит регулярно, всегда, часто, обычно, каждый день, год, месяц и т.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661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СЛОВА - МАРКЕРЫ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lways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сегда 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often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часто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usually-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бычно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ometimes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иногда    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eldom/rarely-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редко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never –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икогда    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in the evening/morning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-  вечером,  утром</a:t>
            </a: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every day(month, year)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каждый день(месяц, год) и др.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34.png"/>
          <p:cNvPicPr/>
          <p:nvPr/>
        </p:nvPicPr>
        <p:blipFill>
          <a:blip r:embed="rId1"/>
          <a:stretch/>
        </p:blipFill>
        <p:spPr>
          <a:xfrm>
            <a:off x="6705720" y="1371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сновной глагол бер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первой форме напи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сле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he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 после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he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укву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сегда пи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отрицании и в вопрос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и   </a:t>
            </a: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does</a:t>
            </a:r>
            <a:r>
              <a:rPr b="1" i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оставить прос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 глагол ваш смыслов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авьте в форме основ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Киреева\15_09_2009\ТекстовыеДокументы\Киреева\анимация\teacher.gif"/>
          <p:cNvPicPr/>
          <p:nvPr/>
        </p:nvPicPr>
        <p:blipFill>
          <a:blip r:embed="rId1"/>
          <a:stretch/>
        </p:blipFill>
        <p:spPr>
          <a:xfrm>
            <a:off x="7315200" y="472428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 со стрелкой вниз 5"/>
          <p:cNvSpPr/>
          <p:nvPr/>
        </p:nvSpPr>
        <p:spPr>
          <a:xfrm>
            <a:off x="5181480" y="30492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Posi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7"/>
          <p:cNvSpPr/>
          <p:nvPr/>
        </p:nvSpPr>
        <p:spPr>
          <a:xfrm>
            <a:off x="762120" y="1371600"/>
            <a:ext cx="335268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8"/>
          <p:cNvSpPr/>
          <p:nvPr/>
        </p:nvSpPr>
        <p:spPr>
          <a:xfrm>
            <a:off x="5181480" y="1676520"/>
            <a:ext cx="281952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V="1" rot="10800000">
            <a:off x="914040" y="1692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722920" y="1752480"/>
            <a:ext cx="16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 play tennis on Mo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9"/>
          <p:cNvSpPr/>
          <p:nvPr/>
        </p:nvSpPr>
        <p:spPr>
          <a:xfrm>
            <a:off x="762120" y="3429000"/>
            <a:ext cx="3276360" cy="16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 flipV="1" rot="10800000">
            <a:off x="914040" y="359676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3"/>
          <p:cNvSpPr/>
          <p:nvPr/>
        </p:nvSpPr>
        <p:spPr>
          <a:xfrm>
            <a:off x="5105520" y="3581280"/>
            <a:ext cx="281916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5721480" y="3657600"/>
            <a:ext cx="117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Крест 16"/>
          <p:cNvSpPr/>
          <p:nvPr/>
        </p:nvSpPr>
        <p:spPr>
          <a:xfrm>
            <a:off x="4343400" y="21337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Крест 17"/>
          <p:cNvSpPr/>
          <p:nvPr/>
        </p:nvSpPr>
        <p:spPr>
          <a:xfrm>
            <a:off x="4343400" y="4038480"/>
            <a:ext cx="53352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609480" y="594360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likes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Выноска со стрелкой вниз 5"/>
          <p:cNvSpPr/>
          <p:nvPr/>
        </p:nvSpPr>
        <p:spPr>
          <a:xfrm>
            <a:off x="5181480" y="30492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Negativ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7"/>
          <p:cNvSpPr/>
          <p:nvPr/>
        </p:nvSpPr>
        <p:spPr>
          <a:xfrm>
            <a:off x="762120" y="1371600"/>
            <a:ext cx="2590560" cy="1676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8"/>
          <p:cNvSpPr/>
          <p:nvPr/>
        </p:nvSpPr>
        <p:spPr>
          <a:xfrm>
            <a:off x="7086600" y="2666880"/>
            <a:ext cx="1600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flipV="1" rot="10800000">
            <a:off x="914040" y="16920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7170840" y="2743200"/>
            <a:ext cx="166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play tennis on Mon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9"/>
          <p:cNvSpPr/>
          <p:nvPr/>
        </p:nvSpPr>
        <p:spPr>
          <a:xfrm>
            <a:off x="762120" y="3429000"/>
            <a:ext cx="2590560" cy="1666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 flipV="1" rot="10800000">
            <a:off x="914040" y="359676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Крест 16"/>
          <p:cNvSpPr/>
          <p:nvPr/>
        </p:nvSpPr>
        <p:spPr>
          <a:xfrm>
            <a:off x="3733920" y="20574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Крест 17"/>
          <p:cNvSpPr/>
          <p:nvPr/>
        </p:nvSpPr>
        <p:spPr>
          <a:xfrm>
            <a:off x="3657600" y="39625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6094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esn’t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likes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9"/>
          <p:cNvSpPr/>
          <p:nvPr/>
        </p:nvSpPr>
        <p:spPr>
          <a:xfrm>
            <a:off x="4648320" y="167652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20"/>
          <p:cNvSpPr/>
          <p:nvPr/>
        </p:nvSpPr>
        <p:spPr>
          <a:xfrm>
            <a:off x="4495680" y="3581280"/>
            <a:ext cx="18288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Крест 21"/>
          <p:cNvSpPr/>
          <p:nvPr/>
        </p:nvSpPr>
        <p:spPr>
          <a:xfrm>
            <a:off x="6248520" y="29718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4656600" y="19810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4505760" y="388620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e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Крест 24"/>
          <p:cNvSpPr/>
          <p:nvPr/>
        </p:nvSpPr>
        <p:spPr>
          <a:xfrm rot="2677800">
            <a:off x="4073400" y="6054840"/>
            <a:ext cx="533520" cy="533160"/>
          </a:xfrm>
          <a:prstGeom prst="plus">
            <a:avLst>
              <a:gd name="adj" fmla="val 4452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 со стрелкой вниз 5"/>
          <p:cNvSpPr/>
          <p:nvPr/>
        </p:nvSpPr>
        <p:spPr>
          <a:xfrm>
            <a:off x="5257800" y="45720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(Yes/No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7"/>
          <p:cNvSpPr/>
          <p:nvPr/>
        </p:nvSpPr>
        <p:spPr>
          <a:xfrm>
            <a:off x="3352680" y="1447920"/>
            <a:ext cx="2590920" cy="1676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7086600" y="2666880"/>
            <a:ext cx="1219320" cy="12956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295640"/>
              <a:gd name="textAreaBottom" fmla="*/ 1236240 h 129564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 flipV="1" rot="10800000">
            <a:off x="3352680" y="167544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, W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ou, Th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7173720" y="2743200"/>
            <a:ext cx="21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 ?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609480" y="5181480"/>
            <a:ext cx="83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 play tennis on Mond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9"/>
          <p:cNvSpPr/>
          <p:nvPr/>
        </p:nvSpPr>
        <p:spPr>
          <a:xfrm>
            <a:off x="3352680" y="3352680"/>
            <a:ext cx="2590920" cy="1667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 flipV="1" rot="10800000">
            <a:off x="3428640" y="3580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e, S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ete,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Крест 16"/>
          <p:cNvSpPr/>
          <p:nvPr/>
        </p:nvSpPr>
        <p:spPr>
          <a:xfrm>
            <a:off x="2514600" y="1905120"/>
            <a:ext cx="533520" cy="5331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Крест 17"/>
          <p:cNvSpPr/>
          <p:nvPr/>
        </p:nvSpPr>
        <p:spPr>
          <a:xfrm>
            <a:off x="2666880" y="3886200"/>
            <a:ext cx="53352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6094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oes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n likes ap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19"/>
          <p:cNvSpPr/>
          <p:nvPr/>
        </p:nvSpPr>
        <p:spPr>
          <a:xfrm>
            <a:off x="685800" y="1600200"/>
            <a:ext cx="16002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0"/>
          <p:cNvSpPr/>
          <p:nvPr/>
        </p:nvSpPr>
        <p:spPr>
          <a:xfrm>
            <a:off x="685800" y="3505320"/>
            <a:ext cx="182880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Крест 21"/>
          <p:cNvSpPr/>
          <p:nvPr/>
        </p:nvSpPr>
        <p:spPr>
          <a:xfrm>
            <a:off x="6248520" y="2971800"/>
            <a:ext cx="533160" cy="53352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995400" y="18288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92640" y="38098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Крест 24"/>
          <p:cNvSpPr/>
          <p:nvPr/>
        </p:nvSpPr>
        <p:spPr>
          <a:xfrm rot="2677800">
            <a:off x="3692520" y="6054840"/>
            <a:ext cx="533520" cy="533160"/>
          </a:xfrm>
          <a:prstGeom prst="plus">
            <a:avLst>
              <a:gd name="adj" fmla="val 4452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457200" y="1828800"/>
            <a:ext cx="807732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(+)  They watch TV at n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457200" y="2971800"/>
            <a:ext cx="80773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…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o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they watch TV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542240" y="3048120"/>
            <a:ext cx="170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3"/>
          <p:cNvSpPr/>
          <p:nvPr/>
        </p:nvSpPr>
        <p:spPr>
          <a:xfrm>
            <a:off x="609480" y="304920"/>
            <a:ext cx="785196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Present Si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ыноска со стрелкой вниз 9"/>
          <p:cNvSpPr/>
          <p:nvPr/>
        </p:nvSpPr>
        <p:spPr>
          <a:xfrm>
            <a:off x="5257800" y="457200"/>
            <a:ext cx="3286080" cy="1285920"/>
          </a:xfrm>
          <a:prstGeom prst="downArrowCallout">
            <a:avLst>
              <a:gd name="adj1" fmla="val 25012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(Wh-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457200" y="4114800"/>
            <a:ext cx="807732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…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oes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she watc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1548000" y="41911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533520" y="5257800"/>
            <a:ext cx="8076960" cy="99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(?)  ……… 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watch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es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TV at nigh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1668240" y="5334120"/>
            <a:ext cx="138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безьяна, анимашка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7715160" y="500040"/>
            <a:ext cx="1103400" cy="15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мартышка прячется в груде бананов, анимашка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500800" y="642960"/>
            <a:ext cx="1941480" cy="1387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2"/>
          <p:cNvSpPr/>
          <p:nvPr/>
        </p:nvSpPr>
        <p:spPr>
          <a:xfrm>
            <a:off x="609480" y="220968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nkeys enjoy eating banan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keys enjoy eating bana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onkeys enjoy eating bananas or swe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enjoy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ing bana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monkeys enjoy 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762120" y="457200"/>
            <a:ext cx="421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3:25:00Z</dcterms:created>
  <dc:creator>Лора</dc:creator>
  <dc:description/>
  <dc:language>en-US</dc:language>
  <cp:lastModifiedBy>Лора</cp:lastModifiedBy>
  <dcterms:modified xsi:type="dcterms:W3CDTF">2010-04-26T20:17:19Z</dcterms:modified>
  <cp:revision>13</cp:revision>
  <dc:subject/>
  <dc:title>Present Simple (настоящее простое время)</dc:title>
</cp:coreProperties>
</file>