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2.png" ContentType="image/png"/>
  <Override PartName="/ppt/media/image23.gif" ContentType="image/gif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96E-AC4E-4150-B2A7-9D0E3FF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2AA-68C3-46D9-94CF-02C92BA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071-DA0D-4730-963E-BE9256A2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8B1-4518-4A43-88E3-2BD3916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E8B-48D4-4B80-97D1-AD5C6126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3BE-5D20-44BA-845C-47FA0C50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A02-02D8-42C4-9356-A25B53AB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340-9C4E-4DB2-93AA-60EB4C27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DB4-E544-4AC1-B5F9-1AEAE61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2E6-EC01-45E5-B415-F364156A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E52-CFE2-4EAB-B6FB-289ECB3C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7DE-716C-408E-8292-612CB0AF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224-14B3-4DE9-9428-56E300E82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img.vo.msecnd.net/en-us/images/MH900187903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5440" y="2708280"/>
            <a:ext cx="4934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Seasons. Month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МК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«Enjoy English- 3»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ибол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итул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nit 3 Lesson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bg020"/>
          <p:cNvPicPr/>
          <p:nvPr/>
        </p:nvPicPr>
        <p:blipFill>
          <a:blip r:embed="rId2"/>
          <a:stretch/>
        </p:blipFill>
        <p:spPr>
          <a:xfrm>
            <a:off x="324000" y="465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g023"/>
          <p:cNvPicPr/>
          <p:nvPr/>
        </p:nvPicPr>
        <p:blipFill>
          <a:blip r:embed="rId3"/>
          <a:stretch/>
        </p:blipFill>
        <p:spPr>
          <a:xfrm>
            <a:off x="6443640" y="476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g019"/>
          <p:cNvPicPr/>
          <p:nvPr/>
        </p:nvPicPr>
        <p:blipFill>
          <a:blip r:embed="rId4"/>
          <a:stretch/>
        </p:blipFill>
        <p:spPr>
          <a:xfrm>
            <a:off x="324000" y="3333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882622352"/>
          <p:cNvPicPr/>
          <p:nvPr/>
        </p:nvPicPr>
        <p:blipFill>
          <a:blip r:embed="rId5"/>
          <a:stretch/>
        </p:blipFill>
        <p:spPr>
          <a:xfrm>
            <a:off x="7164360" y="4653000"/>
            <a:ext cx="179856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564000" y="5345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250920" y="234936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January, February,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arch,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ay, June, July,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September, April, October,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November, April, March,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July, winter, summer, 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127240" y="85896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nd the odd word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573080" y="2349360"/>
            <a:ext cx="14518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57080" y="2924280"/>
            <a:ext cx="1044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133080" y="3429000"/>
            <a:ext cx="10965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756000" y="4005360"/>
            <a:ext cx="22914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56720" y="4508640"/>
            <a:ext cx="9946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333800" y="641160"/>
            <a:ext cx="647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ыберите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утверждение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Все поня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Ничего не поня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Интерес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куч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днообраз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Запомню надол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Отлич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Неинтерес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687840" y="337644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4360" y="1197000"/>
            <a:ext cx="820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iceimg.vo.msecnd.net/en-us/images/MH900187903.jpg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329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3840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2321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231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09115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90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2649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040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2501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652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6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8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90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0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reading_s/reading08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reading_s/reading0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llustr.narod.ru/jpg/qu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llustr.narod.ru/jpg/r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http://www.ilovewav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cc"/>
                </a:solidFill>
                <a:uFillTx/>
                <a:latin typeface="Arial"/>
              </a:rPr>
              <a:t>http://www.zaycev.net/pages/3327/33279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cc"/>
                </a:solidFill>
                <a:uFillTx/>
                <a:latin typeface="Arial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 flipV="1">
            <a:off x="1424160" y="5245920"/>
            <a:ext cx="62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916720" y="4762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17400" y="371628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now is snowy when it is snowing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qu"/>
          <p:cNvPicPr/>
          <p:nvPr/>
        </p:nvPicPr>
        <p:blipFill>
          <a:blip r:embed="rId2"/>
          <a:stretch/>
        </p:blipFill>
        <p:spPr>
          <a:xfrm>
            <a:off x="684360" y="549360"/>
            <a:ext cx="5613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510080" cy="522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42920" y="2997360"/>
            <a:ext cx="1368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60720" y="3068640"/>
            <a:ext cx="1311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043640" y="5300640"/>
            <a:ext cx="1285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AUT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204720" y="5300640"/>
            <a:ext cx="11851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788000" y="162864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pring is Summer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utum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Winter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095600" y="155736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523640" y="220500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382520" y="27972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7022160" y="350028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pring is green....WAV" descr=""/>
          <p:cNvPicPr/>
          <p:nvPr/>
        </p:nvPicPr>
        <p:blipFill>
          <a:blip r:embed="rId3"/>
          <a:stretch/>
        </p:blipFill>
        <p:spPr>
          <a:xfrm>
            <a:off x="831708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73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q4"/>
          <p:cNvPicPr/>
          <p:nvPr/>
        </p:nvPicPr>
        <p:blipFill>
          <a:blip r:embed="rId2"/>
          <a:stretch/>
        </p:blipFill>
        <p:spPr>
          <a:xfrm>
            <a:off x="684360" y="4797360"/>
            <a:ext cx="756108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que"/>
          <p:cNvPicPr/>
          <p:nvPr/>
        </p:nvPicPr>
        <p:blipFill>
          <a:blip r:embed="rId3"/>
          <a:stretch/>
        </p:blipFill>
        <p:spPr>
          <a:xfrm>
            <a:off x="179280" y="189000"/>
            <a:ext cx="2592360" cy="1861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771640" y="1052640"/>
            <a:ext cx="61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y name is Snow Qu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y favourite season is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like to ski and sk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don’t like spring and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like white snow. I don’t like red roses, green trees and blu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3-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7596360" y="765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4284720" y="5943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75564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619280" y="4437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0" y="3284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250920" y="4437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84360" y="558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5724360" y="4365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7956720" y="2060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771640" y="42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6804000" y="5516640"/>
            <a:ext cx="863640" cy="7207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4572000" y="4365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5"/>
          <p:cNvSpPr/>
          <p:nvPr/>
        </p:nvSpPr>
        <p:spPr>
          <a:xfrm>
            <a:off x="900000" y="404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6443640" y="5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845800" y="54936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ind the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802800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8028000" y="4653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457E-006 L -0.25208 -0.36716 E">
                                      <p:cBhvr>
                                        <p:cTn id="3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699 L 0.01302 -0.39167 E">
                                      <p:cBhvr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25 0.03838 L 0.22552 0.21665 E">
                                      <p:cBhvr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2 0.08023 L -0.2625 0.18497 E">
                                      <p:cBhvr>
                                        <p:cTn id="4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0.08024 L -0.24688 0.14313 E"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0.08023 L -0.15243 -0.04555 E">
                                      <p:cBhvr>
                                        <p:cTn id="5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7 L 0.15469 -0.44416 E">
                                      <p:cBhvr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5 -0.07722 L 0.06024 -0.43375 E">
                                      <p:cBhvr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43 -0.07723 L -0.05781 -0.24486 E"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7723 L -0.07361 -0.23445 E">
                                      <p:cBhvr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77 L -0.21528 -0.10844 E">
                                      <p:cBhvr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324 L 0.2059 0.14312 E">
                                      <p:cBhvr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08393 L 0.2757 -0.03144 E">
                                      <p:cBhvr>
                                        <p:cTn id="8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763 L -0.0658 -0.25456 E">
                                      <p:cBhvr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-0.03515 L -0.35712 -0.06659 E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0.05248 L -0.11024 -0.17826 E">
                                      <p:cBhvr>
                                        <p:cTn id="9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sport041"/>
          <p:cNvPicPr/>
          <p:nvPr/>
        </p:nvPicPr>
        <p:blipFill>
          <a:blip r:embed="rId2"/>
          <a:stretch/>
        </p:blipFill>
        <p:spPr>
          <a:xfrm>
            <a:off x="3419640" y="36450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port064"/>
          <p:cNvPicPr/>
          <p:nvPr/>
        </p:nvPicPr>
        <p:blipFill>
          <a:blip r:embed="rId3"/>
          <a:stretch/>
        </p:blipFill>
        <p:spPr>
          <a:xfrm>
            <a:off x="2843280" y="2133720"/>
            <a:ext cx="15620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port082"/>
          <p:cNvPicPr/>
          <p:nvPr/>
        </p:nvPicPr>
        <p:blipFill>
          <a:blip r:embed="rId4"/>
          <a:stretch/>
        </p:blipFill>
        <p:spPr>
          <a:xfrm>
            <a:off x="7093080" y="3068640"/>
            <a:ext cx="13237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port060"/>
          <p:cNvPicPr/>
          <p:nvPr/>
        </p:nvPicPr>
        <p:blipFill>
          <a:blip r:embed="rId5"/>
          <a:stretch/>
        </p:blipFill>
        <p:spPr>
          <a:xfrm>
            <a:off x="5580000" y="4869000"/>
            <a:ext cx="7812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ort005"/>
          <p:cNvPicPr/>
          <p:nvPr/>
        </p:nvPicPr>
        <p:blipFill>
          <a:blip r:embed="rId6"/>
          <a:stretch/>
        </p:blipFill>
        <p:spPr>
          <a:xfrm>
            <a:off x="468360" y="292428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reading02"/>
          <p:cNvPicPr/>
          <p:nvPr/>
        </p:nvPicPr>
        <p:blipFill>
          <a:blip r:embed="rId7"/>
          <a:stretch/>
        </p:blipFill>
        <p:spPr>
          <a:xfrm>
            <a:off x="7236000" y="4797360"/>
            <a:ext cx="130464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port90"/>
          <p:cNvPicPr/>
          <p:nvPr/>
        </p:nvPicPr>
        <p:blipFill>
          <a:blip r:embed="rId8"/>
          <a:stretch/>
        </p:blipFill>
        <p:spPr>
          <a:xfrm>
            <a:off x="611280" y="5084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reading08"/>
          <p:cNvPicPr/>
          <p:nvPr/>
        </p:nvPicPr>
        <p:blipFill>
          <a:blip r:embed="rId9"/>
          <a:stretch/>
        </p:blipFill>
        <p:spPr>
          <a:xfrm>
            <a:off x="2843280" y="522936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chool2516"/>
          <p:cNvPicPr/>
          <p:nvPr/>
        </p:nvPicPr>
        <p:blipFill>
          <a:blip r:embed="rId10"/>
          <a:stretch/>
        </p:blipFill>
        <p:spPr>
          <a:xfrm>
            <a:off x="5148360" y="2349360"/>
            <a:ext cx="1428480" cy="95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1490400" y="476280"/>
            <a:ext cx="64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What can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er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nter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t any season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539640" y="2060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January, Febru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March, April, May,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June, July, August,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eptemb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October, November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emb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nowman019"/>
          <p:cNvPicPr/>
          <p:nvPr/>
        </p:nvPicPr>
        <p:blipFill>
          <a:blip r:embed="rId2"/>
          <a:stretch/>
        </p:blipFill>
        <p:spPr>
          <a:xfrm>
            <a:off x="611280" y="3789360"/>
            <a:ext cx="191592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odsolnuh_small"/>
          <p:cNvPicPr/>
          <p:nvPr/>
        </p:nvPicPr>
        <p:blipFill>
          <a:blip r:embed="rId3"/>
          <a:stretch/>
        </p:blipFill>
        <p:spPr>
          <a:xfrm>
            <a:off x="7020000" y="333360"/>
            <a:ext cx="165564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un003"/>
          <p:cNvPicPr/>
          <p:nvPr/>
        </p:nvPicPr>
        <p:blipFill>
          <a:blip r:embed="rId4"/>
          <a:stretch/>
        </p:blipFill>
        <p:spPr>
          <a:xfrm>
            <a:off x="468360" y="476280"/>
            <a:ext cx="143964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534619319"/>
          <p:cNvPicPr/>
          <p:nvPr/>
        </p:nvPicPr>
        <p:blipFill>
          <a:blip r:embed="rId5"/>
          <a:stretch/>
        </p:blipFill>
        <p:spPr>
          <a:xfrm>
            <a:off x="6659640" y="4076640"/>
            <a:ext cx="163512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Boney M - Calendar Song.mp3" descr=""/>
          <p:cNvPicPr/>
          <p:nvPr/>
        </p:nvPicPr>
        <p:blipFill>
          <a:blip r:embed="rId6"/>
          <a:stretch/>
        </p:blipFill>
        <p:spPr>
          <a:xfrm>
            <a:off x="8604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720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 flipH="1">
            <a:off x="555480" y="6810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0" y="779400"/>
            <a:ext cx="8964720" cy="5738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3"/>
          <p:cNvSpPr/>
          <p:nvPr/>
        </p:nvSpPr>
        <p:spPr>
          <a:xfrm>
            <a:off x="1042920" y="479736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826920" y="981000"/>
            <a:ext cx="20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6948360" y="1341360"/>
            <a:ext cx="13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5724360" y="4653000"/>
            <a:ext cx="24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5280" y="141300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br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148360" y="1341360"/>
            <a:ext cx="338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t∫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eıprə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februər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dʒænjuər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dʒu: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me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556000" y="1773360"/>
            <a:ext cx="2592360" cy="18000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1908000" y="4292280"/>
            <a:ext cx="316872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619280" y="4221000"/>
            <a:ext cx="3600360" cy="64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908000" y="2421000"/>
            <a:ext cx="3311640" cy="1295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2195640" y="1844640"/>
            <a:ext cx="2952720" cy="1224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2916360" y="2349360"/>
            <a:ext cx="223200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2:29:52Z</dcterms:created>
  <dc:creator>Я</dc:creator>
  <dc:description/>
  <dc:language>en-US</dc:language>
  <cp:lastModifiedBy>Светуличка</cp:lastModifiedBy>
  <dcterms:modified xsi:type="dcterms:W3CDTF">2014-01-08T10:34:48Z</dcterms:modified>
  <cp:revision>12</cp:revision>
  <dc:subject/>
  <dc:title>Слайд 1</dc:title>
</cp:coreProperties>
</file>