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5.jpeg" ContentType="image/jpeg"/>
  <Override PartName="/ppt/media/image2.png" ContentType="image/png"/>
  <Override PartName="/ppt/media/image23.gif" ContentType="image/gif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E77D-0F9B-46E7-9C82-6A1EADCD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1424-D4DC-45B8-93CE-DCD1EDDD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AA39-2947-45FF-BCFE-E362EBB5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B14F-A146-44B5-8506-FAF1D58B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1184-6C66-47E4-9B2E-7986B2EB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7EE2-2338-4FAD-A066-A721931F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20E2-CEAB-45EC-9F96-9FFCBC15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724A-9B44-4CD6-80A6-954F9CB5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466C-36EB-4F73-AE95-7CF1A4FC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C493-8242-489D-B897-65A72F96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3C31-1FB3-46F5-A5B9-D6E69318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4545-6FA6-4262-B49E-1F5CAC07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09C0-AE60-47DB-919D-568DBEE890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fficeimg.vo.msecnd.net/en-us/images/MH900187903.jpg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gi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23-3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125440" y="2708280"/>
            <a:ext cx="49341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Seasons. Month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УМК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«Enjoy English- 3» 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З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Биболет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Титул-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Unit 3 Lesson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bg020"/>
          <p:cNvPicPr/>
          <p:nvPr/>
        </p:nvPicPr>
        <p:blipFill>
          <a:blip r:embed="rId2"/>
          <a:stretch/>
        </p:blipFill>
        <p:spPr>
          <a:xfrm>
            <a:off x="324000" y="465300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bg023"/>
          <p:cNvPicPr/>
          <p:nvPr/>
        </p:nvPicPr>
        <p:blipFill>
          <a:blip r:embed="rId3"/>
          <a:stretch/>
        </p:blipFill>
        <p:spPr>
          <a:xfrm>
            <a:off x="6443640" y="47628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bg019"/>
          <p:cNvPicPr/>
          <p:nvPr/>
        </p:nvPicPr>
        <p:blipFill>
          <a:blip r:embed="rId4"/>
          <a:stretch/>
        </p:blipFill>
        <p:spPr>
          <a:xfrm>
            <a:off x="324000" y="33336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882622352"/>
          <p:cNvPicPr/>
          <p:nvPr/>
        </p:nvPicPr>
        <p:blipFill>
          <a:blip r:embed="rId5"/>
          <a:stretch/>
        </p:blipFill>
        <p:spPr>
          <a:xfrm>
            <a:off x="7164360" y="4653000"/>
            <a:ext cx="1798560" cy="17985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3564000" y="53452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23-3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250920" y="2349360"/>
            <a:ext cx="85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January, February,</a:t>
            </a: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March,</a:t>
            </a: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Dec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May, June, July, Aug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September, April, October, Nov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November, April, March, 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July, winter, summer, autum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2127240" y="858960"/>
            <a:ext cx="516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Find the odd words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4573080" y="2349360"/>
            <a:ext cx="14518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757080" y="2924280"/>
            <a:ext cx="10447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3133080" y="3429000"/>
            <a:ext cx="109656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pr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756000" y="4005360"/>
            <a:ext cx="22914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v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756720" y="4508640"/>
            <a:ext cx="9946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u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23-3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1333800" y="641160"/>
            <a:ext cx="64782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Выберите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утверждение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Все понял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Ничего не понял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Интересно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Скучно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Однообразно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Запомню надолг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Отличн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Неинтерес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23-3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3687840" y="3376440"/>
            <a:ext cx="28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684360" y="1197000"/>
            <a:ext cx="8208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fficeimg.vo.msecnd.net/en-us/images/MH900187903.jpg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officeimg.vo.msecnd.net/en-us/images/MH90043290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officeimg.vo.msecnd.net/en-us/images/MH900438406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officeimg.vo.msecnd.net/en-us/images/MH90023210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officeimg.vo.msecnd.net/en-us/images/MH900423136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officeimg.vo.msecnd.net/en-us/images/MH90009115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officeimg.vo.msecnd.net/en-us/images/MH90044909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officeimg.vo.msecnd.net/en-us/images/MH90042649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officeimg.vo.msecnd.net/en-us/images/MH90044040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officeimg.vo.msecnd.net/en-us/images/MH90025010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officeimg.vo.msecnd.net/en-us/images/MH90044652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allforchildren.ru/pictures/sport_s/sport06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allforchildren.ru/pictures/sport_s/sport08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allforchildren.ru/pictures/sport_s/sport90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allforchildren.ru/pictures/sport_s/sport00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allforchildren.ru/pictures/reading_s/reading08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allforchildren.ru/pictures/reading_s/reading02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illustr.narod.ru/jpg/qu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illustr.narod.ru/jpg/re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3333ff"/>
                </a:solidFill>
                <a:uFillTx/>
                <a:latin typeface="Arial"/>
              </a:rPr>
              <a:t>http://www.ilovewav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cc"/>
                </a:solidFill>
                <a:uFillTx/>
                <a:latin typeface="Arial"/>
              </a:rPr>
              <a:t>http://www.zaycev.net/pages/3327/332794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cc"/>
                </a:solidFill>
                <a:uFillTx/>
                <a:latin typeface="Arial"/>
              </a:rPr>
              <a:t>http://aida.ucoz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 flipV="1">
            <a:off x="1424160" y="5245920"/>
            <a:ext cx="62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2916720" y="4762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3-3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617400" y="3716280"/>
            <a:ext cx="78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Snow is snowy when it is snowing</a:t>
            </a: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qu"/>
          <p:cNvPicPr/>
          <p:nvPr/>
        </p:nvPicPr>
        <p:blipFill>
          <a:blip r:embed="rId2"/>
          <a:stretch/>
        </p:blipFill>
        <p:spPr>
          <a:xfrm>
            <a:off x="684360" y="549360"/>
            <a:ext cx="5613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23-3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4510080" cy="5229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1042920" y="2997360"/>
            <a:ext cx="136836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SP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060720" y="3068640"/>
            <a:ext cx="1311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043640" y="5300640"/>
            <a:ext cx="12855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AUT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3204720" y="5300640"/>
            <a:ext cx="118512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4788000" y="1628640"/>
            <a:ext cx="435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Spring is Summer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Autumn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Winter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7095600" y="1557360"/>
            <a:ext cx="15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gr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7523640" y="2205000"/>
            <a:ext cx="16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r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7382520" y="2797200"/>
            <a:ext cx="173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yel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7022160" y="3500280"/>
            <a:ext cx="14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"/>
              </a:rPr>
              <a:t>wh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Spring is green....WAV" descr=""/>
          <p:cNvPicPr/>
          <p:nvPr/>
        </p:nvPicPr>
        <p:blipFill>
          <a:blip r:embed="rId3"/>
          <a:stretch/>
        </p:blipFill>
        <p:spPr>
          <a:xfrm>
            <a:off x="831708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735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23-3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q4"/>
          <p:cNvPicPr/>
          <p:nvPr/>
        </p:nvPicPr>
        <p:blipFill>
          <a:blip r:embed="rId2"/>
          <a:stretch/>
        </p:blipFill>
        <p:spPr>
          <a:xfrm>
            <a:off x="684360" y="4797360"/>
            <a:ext cx="7561080" cy="1860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que"/>
          <p:cNvPicPr/>
          <p:nvPr/>
        </p:nvPicPr>
        <p:blipFill>
          <a:blip r:embed="rId3"/>
          <a:stretch/>
        </p:blipFill>
        <p:spPr>
          <a:xfrm>
            <a:off x="179280" y="189000"/>
            <a:ext cx="2592360" cy="1861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2771640" y="1052640"/>
            <a:ext cx="612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Hell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My name is Snow Qu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My favourite season is wi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I like to ski and sk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I don’t like spring and sum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I like white snow. I don’t like red roses, green trees and blue s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23-3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3"/>
          <p:cNvSpPr/>
          <p:nvPr/>
        </p:nvSpPr>
        <p:spPr>
          <a:xfrm>
            <a:off x="7596360" y="765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4284720" y="59436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755640" y="5661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1619280" y="4437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7"/>
          <p:cNvSpPr/>
          <p:nvPr/>
        </p:nvSpPr>
        <p:spPr>
          <a:xfrm>
            <a:off x="0" y="3284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250920" y="4437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"/>
          <p:cNvSpPr/>
          <p:nvPr/>
        </p:nvSpPr>
        <p:spPr>
          <a:xfrm>
            <a:off x="2484360" y="55897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0"/>
          <p:cNvSpPr/>
          <p:nvPr/>
        </p:nvSpPr>
        <p:spPr>
          <a:xfrm>
            <a:off x="5724360" y="43657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1"/>
          <p:cNvSpPr/>
          <p:nvPr/>
        </p:nvSpPr>
        <p:spPr>
          <a:xfrm>
            <a:off x="7956720" y="2060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2"/>
          <p:cNvSpPr/>
          <p:nvPr/>
        </p:nvSpPr>
        <p:spPr>
          <a:xfrm>
            <a:off x="2771640" y="4221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3"/>
          <p:cNvSpPr/>
          <p:nvPr/>
        </p:nvSpPr>
        <p:spPr>
          <a:xfrm>
            <a:off x="6804000" y="5516640"/>
            <a:ext cx="863640" cy="720720"/>
          </a:xfrm>
          <a:custGeom>
            <a:avLst/>
            <a:gdLst>
              <a:gd name="textAreaLeft" fmla="*/ 196920 w 863640"/>
              <a:gd name="textAreaRight" fmla="*/ 666720 w 86364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4"/>
          <p:cNvSpPr/>
          <p:nvPr/>
        </p:nvSpPr>
        <p:spPr>
          <a:xfrm>
            <a:off x="4572000" y="43657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5"/>
          <p:cNvSpPr/>
          <p:nvPr/>
        </p:nvSpPr>
        <p:spPr>
          <a:xfrm>
            <a:off x="900000" y="404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6"/>
          <p:cNvSpPr/>
          <p:nvPr/>
        </p:nvSpPr>
        <p:spPr>
          <a:xfrm>
            <a:off x="6443640" y="549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2845800" y="549360"/>
            <a:ext cx="350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ind the w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8"/>
          <p:cNvSpPr/>
          <p:nvPr/>
        </p:nvSpPr>
        <p:spPr>
          <a:xfrm>
            <a:off x="8028000" y="35002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0"/>
          <p:cNvSpPr/>
          <p:nvPr/>
        </p:nvSpPr>
        <p:spPr>
          <a:xfrm>
            <a:off x="8028000" y="4653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77457E-006 L -0.25208 -0.36716 E">
                                      <p:cBhvr>
                                        <p:cTn id="33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82 -0.07699 L 0.01302 -0.39167 E">
                                      <p:cBhvr>
                                        <p:cTn id="37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225 0.03838 L 0.22552 0.21665 E">
                                      <p:cBhvr>
                                        <p:cTn id="41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02 0.08023 L -0.2625 0.18497 E">
                                      <p:cBhvr>
                                        <p:cTn id="45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81 0.08024 L -0.24688 0.14313 E">
                                      <p:cBhvr>
                                        <p:cTn id="4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81 0.08023 L -0.15243 -0.04555 E">
                                      <p:cBhvr>
                                        <p:cTn id="53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82 -0.077 L 0.15469 -0.44416 E">
                                      <p:cBhvr>
                                        <p:cTn id="57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65 -0.07722 L 0.06024 -0.43375 E">
                                      <p:cBhvr>
                                        <p:cTn id="61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243 -0.07723 L -0.05781 -0.24486 E">
                                      <p:cBhvr>
                                        <p:cTn id="65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-0.07723 L -0.07361 -0.23445 E">
                                      <p:cBhvr>
                                        <p:cTn id="69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-0.077 L -0.21528 -0.10844 E">
                                      <p:cBhvr>
                                        <p:cTn id="73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67 0.00324 L 0.2059 0.14312 E">
                                      <p:cBhvr>
                                        <p:cTn id="7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21 0.08393 L 0.2757 -0.03144 E">
                                      <p:cBhvr>
                                        <p:cTn id="81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64 -0.0763 L -0.0658 -0.25456 E">
                                      <p:cBhvr>
                                        <p:cTn id="85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81 -0.03515 L -0.35712 -0.06659 E">
                                      <p:cBhvr>
                                        <p:cTn id="89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63 -0.05248 L -0.11024 -0.17826 E">
                                      <p:cBhvr>
                                        <p:cTn id="93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3-3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sport041"/>
          <p:cNvPicPr/>
          <p:nvPr/>
        </p:nvPicPr>
        <p:blipFill>
          <a:blip r:embed="rId2"/>
          <a:stretch/>
        </p:blipFill>
        <p:spPr>
          <a:xfrm>
            <a:off x="3419640" y="3645000"/>
            <a:ext cx="104760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sport064"/>
          <p:cNvPicPr/>
          <p:nvPr/>
        </p:nvPicPr>
        <p:blipFill>
          <a:blip r:embed="rId3"/>
          <a:stretch/>
        </p:blipFill>
        <p:spPr>
          <a:xfrm>
            <a:off x="2843280" y="2133720"/>
            <a:ext cx="156204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sport082"/>
          <p:cNvPicPr/>
          <p:nvPr/>
        </p:nvPicPr>
        <p:blipFill>
          <a:blip r:embed="rId4"/>
          <a:stretch/>
        </p:blipFill>
        <p:spPr>
          <a:xfrm>
            <a:off x="7093080" y="3068640"/>
            <a:ext cx="132372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sport060"/>
          <p:cNvPicPr/>
          <p:nvPr/>
        </p:nvPicPr>
        <p:blipFill>
          <a:blip r:embed="rId5"/>
          <a:stretch/>
        </p:blipFill>
        <p:spPr>
          <a:xfrm>
            <a:off x="5580000" y="4869000"/>
            <a:ext cx="78120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sport005"/>
          <p:cNvPicPr/>
          <p:nvPr/>
        </p:nvPicPr>
        <p:blipFill>
          <a:blip r:embed="rId6"/>
          <a:stretch/>
        </p:blipFill>
        <p:spPr>
          <a:xfrm>
            <a:off x="468360" y="2924280"/>
            <a:ext cx="144792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reading02"/>
          <p:cNvPicPr/>
          <p:nvPr/>
        </p:nvPicPr>
        <p:blipFill>
          <a:blip r:embed="rId7"/>
          <a:stretch/>
        </p:blipFill>
        <p:spPr>
          <a:xfrm>
            <a:off x="7236000" y="4797360"/>
            <a:ext cx="1304640" cy="1143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sport90"/>
          <p:cNvPicPr/>
          <p:nvPr/>
        </p:nvPicPr>
        <p:blipFill>
          <a:blip r:embed="rId8"/>
          <a:stretch/>
        </p:blipFill>
        <p:spPr>
          <a:xfrm>
            <a:off x="611280" y="5084640"/>
            <a:ext cx="1285920" cy="1428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reading08"/>
          <p:cNvPicPr/>
          <p:nvPr/>
        </p:nvPicPr>
        <p:blipFill>
          <a:blip r:embed="rId9"/>
          <a:stretch/>
        </p:blipFill>
        <p:spPr>
          <a:xfrm>
            <a:off x="2843280" y="522936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school2516"/>
          <p:cNvPicPr/>
          <p:nvPr/>
        </p:nvPicPr>
        <p:blipFill>
          <a:blip r:embed="rId10"/>
          <a:stretch/>
        </p:blipFill>
        <p:spPr>
          <a:xfrm>
            <a:off x="5148360" y="2349360"/>
            <a:ext cx="1428480" cy="952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2"/>
          <p:cNvSpPr/>
          <p:nvPr/>
        </p:nvSpPr>
        <p:spPr>
          <a:xfrm>
            <a:off x="1490400" y="476280"/>
            <a:ext cx="64440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What can you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mmer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inter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t any season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23-3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539640" y="206064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January, Februar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March, April, May,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June, July, August,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Septemb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October, November,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ecemb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snowman019"/>
          <p:cNvPicPr/>
          <p:nvPr/>
        </p:nvPicPr>
        <p:blipFill>
          <a:blip r:embed="rId2"/>
          <a:stretch/>
        </p:blipFill>
        <p:spPr>
          <a:xfrm>
            <a:off x="611280" y="3789360"/>
            <a:ext cx="1915920" cy="2421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Podsolnuh_small"/>
          <p:cNvPicPr/>
          <p:nvPr/>
        </p:nvPicPr>
        <p:blipFill>
          <a:blip r:embed="rId3"/>
          <a:stretch/>
        </p:blipFill>
        <p:spPr>
          <a:xfrm>
            <a:off x="7020000" y="333360"/>
            <a:ext cx="1655640" cy="1270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sun003"/>
          <p:cNvPicPr/>
          <p:nvPr/>
        </p:nvPicPr>
        <p:blipFill>
          <a:blip r:embed="rId4"/>
          <a:stretch/>
        </p:blipFill>
        <p:spPr>
          <a:xfrm>
            <a:off x="468360" y="476280"/>
            <a:ext cx="1439640" cy="1247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534619319"/>
          <p:cNvPicPr/>
          <p:nvPr/>
        </p:nvPicPr>
        <p:blipFill>
          <a:blip r:embed="rId5"/>
          <a:stretch/>
        </p:blipFill>
        <p:spPr>
          <a:xfrm>
            <a:off x="6659640" y="4076640"/>
            <a:ext cx="1635120" cy="1800360"/>
          </a:xfrm>
          <a:prstGeom prst="rect">
            <a:avLst/>
          </a:prstGeom>
          <a:ln w="0">
            <a:noFill/>
          </a:ln>
        </p:spPr>
      </p:pic>
      <p:pic>
        <p:nvPicPr>
          <p:cNvPr id="102" name="Boney M - Calendar Song.mp3" descr=""/>
          <p:cNvPicPr/>
          <p:nvPr/>
        </p:nvPicPr>
        <p:blipFill>
          <a:blip r:embed="rId6"/>
          <a:stretch/>
        </p:blipFill>
        <p:spPr>
          <a:xfrm>
            <a:off x="860436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07203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23-3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1"/>
          <p:cNvSpPr/>
          <p:nvPr/>
        </p:nvSpPr>
        <p:spPr>
          <a:xfrm flipH="1">
            <a:off x="555480" y="68104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2" descr=""/>
          <p:cNvPicPr/>
          <p:nvPr/>
        </p:nvPicPr>
        <p:blipFill>
          <a:blip r:embed="rId2"/>
          <a:stretch/>
        </p:blipFill>
        <p:spPr>
          <a:xfrm>
            <a:off x="0" y="779400"/>
            <a:ext cx="8964720" cy="57387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3"/>
          <p:cNvSpPr/>
          <p:nvPr/>
        </p:nvSpPr>
        <p:spPr>
          <a:xfrm>
            <a:off x="1042920" y="479736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ug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826920" y="981000"/>
            <a:ext cx="20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fd4d"/>
                </a:solidFill>
                <a:latin typeface="Arial"/>
              </a:rPr>
              <a:t>Dec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fd4d"/>
                </a:solidFill>
                <a:latin typeface="Arial"/>
              </a:rPr>
              <a:t>Janu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fd4d"/>
                </a:solidFill>
                <a:latin typeface="Arial"/>
              </a:rPr>
              <a:t>Febru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6948360" y="1341360"/>
            <a:ext cx="134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99"/>
                </a:solidFill>
                <a:latin typeface="Arial"/>
              </a:rPr>
              <a:t>M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99"/>
                </a:solidFill>
                <a:latin typeface="Arial"/>
              </a:rPr>
              <a:t>Ap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99"/>
                </a:solidFill>
                <a:latin typeface="Arial"/>
              </a:rPr>
              <a:t>M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5724360" y="4653000"/>
            <a:ext cx="249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fd4d"/>
                </a:solidFill>
                <a:latin typeface="Arial"/>
              </a:rPr>
              <a:t>Sept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fd4d"/>
                </a:solidFill>
                <a:latin typeface="Arial"/>
              </a:rPr>
              <a:t>Octo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fd4d"/>
                </a:solidFill>
                <a:latin typeface="Arial"/>
              </a:rPr>
              <a:t>Nov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23-3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395280" y="1413000"/>
            <a:ext cx="2521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Janu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ebru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Apr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M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Ju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148360" y="1341360"/>
            <a:ext cx="3384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m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t∫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‘eıprəl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‘februərı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‘dʒænjuərı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dʒu:n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[meı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2556000" y="1773360"/>
            <a:ext cx="2592360" cy="180000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1908000" y="4292280"/>
            <a:ext cx="3168720" cy="576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1619280" y="4221000"/>
            <a:ext cx="3600360" cy="648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 flipV="1">
            <a:off x="1908000" y="2421000"/>
            <a:ext cx="3311640" cy="1295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 flipV="1">
            <a:off x="2195640" y="1844640"/>
            <a:ext cx="2952720" cy="1224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2916360" y="2349360"/>
            <a:ext cx="2232000" cy="648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2:29:52Z</dcterms:created>
  <dc:creator>Я</dc:creator>
  <dc:description/>
  <dc:language>en-US</dc:language>
  <cp:lastModifiedBy>Светуличка</cp:lastModifiedBy>
  <dcterms:modified xsi:type="dcterms:W3CDTF">2014-01-08T10:34:48Z</dcterms:modified>
  <cp:revision>12</cp:revision>
  <dc:subject/>
  <dc:title>Слайд 1</dc:title>
</cp:coreProperties>
</file>