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486-9F1C-44E8-A70F-122B011A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380-96D5-4550-8225-86F4B9C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0C3-F969-4DC1-A284-D612F5EC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688-DAFC-4497-BA9E-1418DC19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487-C844-49B5-94C2-7291EAF9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41B-CCB9-41BA-9DD4-F755D25F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47F-E147-47A5-8E3C-08B56F2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F23-4090-411A-9146-5FA18D51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3A0-5EF4-410D-B3F5-ACDB8121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846-F316-4047-BE0E-27213F66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8EC-7F84-46FA-B114-E0D3A49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732-A0B1-42F3-8971-F357EE6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3D42-584B-4B96-9246-0BA146BD2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560" y="-1116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БЫТОВЫЕ  ЭЛЕКТРОПРИБОР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юрий\Desktop\ДЕТСКИЕ ПРЕЗЕНТАЦИИ\БЫТОВЫЕ ПРИБОРЫ\приборы.jpg"/>
          <p:cNvPicPr/>
          <p:nvPr/>
        </p:nvPicPr>
        <p:blipFill>
          <a:blip r:embed="rId1"/>
          <a:stretch/>
        </p:blipFill>
        <p:spPr>
          <a:xfrm>
            <a:off x="0" y="2133720"/>
            <a:ext cx="9083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Эта прачка-автомат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м стирает всё подря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юрий\Desktop\ДЕТСКИЕ ПРЕЗЕНТАЦИИ\БЫТОВЫЕ ПРИБОРЫ\стиралка.jpg"/>
          <p:cNvPicPr/>
          <p:nvPr/>
        </p:nvPicPr>
        <p:blipFill>
          <a:blip r:embed="rId1"/>
          <a:stretch/>
        </p:blipFill>
        <p:spPr>
          <a:xfrm>
            <a:off x="2700360" y="1484280"/>
            <a:ext cx="40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ладит все, чего касается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 дотронешься - кусае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юрий\Desktop\ДЕТСКИЕ ПРЕЗЕНТАЦИИ\БЫТОВЫЕ ПРИБОРЫ\утюг.jpg"/>
          <p:cNvPicPr/>
          <p:nvPr/>
        </p:nvPicPr>
        <p:blipFill>
          <a:blip r:embed="rId1"/>
          <a:stretch/>
        </p:blipFill>
        <p:spPr>
          <a:xfrm>
            <a:off x="2340000" y="1844640"/>
            <a:ext cx="4608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Чудо-ящик – в нем окн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том окошечке – кин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юрий\Desktop\ДЕТСКИЕ ПРЕЗЕНТАЦИИ\БЫТОВЫЕ ПРИБОРЫ\телик.jpg"/>
          <p:cNvPicPr/>
          <p:nvPr/>
        </p:nvPicPr>
        <p:blipFill>
          <a:blip r:embed="rId1"/>
          <a:stretch/>
        </p:blipFill>
        <p:spPr>
          <a:xfrm>
            <a:off x="250920" y="1268280"/>
            <a:ext cx="51480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юрий\Desktop\ДЕТСКИЕ ПРЕЗЕНТАЦИИ\БЫТОВЫЕ ПРИБОРЫ\телевизор.jpg"/>
          <p:cNvPicPr/>
          <p:nvPr/>
        </p:nvPicPr>
        <p:blipFill>
          <a:blip r:embed="rId2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Через поле и лесок подается голосок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Он бежит по проводам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кажешь здесь,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 слышно та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юрий\Desktop\ДЕТСКИЕ ПРЕЗЕНТАЦИИ\БЫТОВЫЕ ПРИБОРЫ\телефон.jpg"/>
          <p:cNvPicPr/>
          <p:nvPr/>
        </p:nvPicPr>
        <p:blipFill>
          <a:blip r:embed="rId1"/>
          <a:stretch/>
        </p:blipFill>
        <p:spPr>
          <a:xfrm>
            <a:off x="0" y="1773360"/>
            <a:ext cx="4896000" cy="38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юрий\Desktop\ДЕТСКИЕ ПРЕЗЕНТАЦИИ\БЫТОВЫЕ ПРИБОРЫ\телефон2.jpg"/>
          <p:cNvPicPr/>
          <p:nvPr/>
        </p:nvPicPr>
        <p:blipFill>
          <a:blip r:embed="rId2"/>
          <a:stretch/>
        </p:blipFill>
        <p:spPr>
          <a:xfrm>
            <a:off x="5508720" y="2095560"/>
            <a:ext cx="2809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ша тетушка игла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рочку по полю вела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рочка в строчку, строчка в строчку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Будет платье вашей дочк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юрий\Desktop\ДЕТСКИЕ ПРЕЗЕНТАЦИИ\БЫТОВЫЕ ПРИБОРЫ\швейная.jpg"/>
          <p:cNvPicPr/>
          <p:nvPr/>
        </p:nvPicPr>
        <p:blipFill>
          <a:blip r:embed="rId1"/>
          <a:stretch/>
        </p:blipFill>
        <p:spPr>
          <a:xfrm>
            <a:off x="2268360" y="2332080"/>
            <a:ext cx="45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а что ни взглянет этот глаз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се на картинке передаст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юрий\Desktop\ДЕТСКИЕ ПРЕЗЕНТАЦИИ\БЫТОВЫЕ ПРИБОРЫ\фото.jpg"/>
          <p:cNvPicPr/>
          <p:nvPr/>
        </p:nvPicPr>
        <p:blipFill>
          <a:blip r:embed="rId1"/>
          <a:stretch/>
        </p:blipFill>
        <p:spPr>
          <a:xfrm>
            <a:off x="266688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гадай, кто ветром ду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зной прохладу всем дарует?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рий\Desktop\ДЕТСКИЕ ПРЕЗЕНТАЦИИ\БЫТОВЫЕ ПРИБОРЫ\вентилятор.jpeg"/>
          <p:cNvPicPr/>
          <p:nvPr/>
        </p:nvPicPr>
        <p:blipFill>
          <a:blip r:embed="rId1"/>
          <a:stretch/>
        </p:blipFill>
        <p:spPr>
          <a:xfrm>
            <a:off x="1258920" y="1197000"/>
            <a:ext cx="2592360" cy="5661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юрий\Desktop\ДЕТСКИЕ ПРЕЗЕНТАЦИИ\БЫТОВЫЕ ПРИБОРЫ\вентилятор2.jpg"/>
          <p:cNvPicPr/>
          <p:nvPr/>
        </p:nvPicPr>
        <p:blipFill>
          <a:blip r:embed="rId2"/>
          <a:stretch/>
        </p:blipFill>
        <p:spPr>
          <a:xfrm>
            <a:off x="5364000" y="3933720"/>
            <a:ext cx="28800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Умный друг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ам без рук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а чужими пользуе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юрий\Desktop\ДЕТСКИЕ ПРЕЗЕНТАЦИИ\БЫТОВЫЕ ПРИБОРЫ\комп.jpg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ушит ветер-суховей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Кудри мамочки мо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юрий\Desktop\ДЕТСКИЕ ПРЕЗЕНТАЦИИ\БЫТОВЫЕ ПРИБОРЫ\фен.jpg"/>
          <p:cNvPicPr/>
          <p:nvPr/>
        </p:nvPicPr>
        <p:blipFill>
          <a:blip r:embed="rId1"/>
          <a:stretch/>
        </p:blipFill>
        <p:spPr>
          <a:xfrm>
            <a:off x="2019240" y="1600200"/>
            <a:ext cx="510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учат, стуча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Не велят скучать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дут, иду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А все тут, да ту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юрий\Desktop\ДЕТСКИЕ ПРЕЗЕНТАЦИИ\БЫТОВЫЕ ПРИБОРЫ\часы.jpg"/>
          <p:cNvPicPr/>
          <p:nvPr/>
        </p:nvPicPr>
        <p:blipFill>
          <a:blip r:embed="rId1"/>
          <a:stretch/>
        </p:blipFill>
        <p:spPr>
          <a:xfrm>
            <a:off x="2843280" y="2565360"/>
            <a:ext cx="3591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нашей кухне целый год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ед Мороз в шкафу жив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юрий\Desktop\ДЕТСКИЕ ПРЕЗЕНТАЦИИ\БЫТОВЫЕ ПРИБОРЫ\xolodilnik_bol.jpg"/>
          <p:cNvPicPr/>
          <p:nvPr/>
        </p:nvPicPr>
        <p:blipFill>
          <a:blip r:embed="rId1"/>
          <a:stretch/>
        </p:blipFill>
        <p:spPr>
          <a:xfrm>
            <a:off x="2556000" y="1125360"/>
            <a:ext cx="41781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Закипает изнутр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 И пускает пузыр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юрий\Desktop\ДЕТСКИЕ ПРЕЗЕНТАЦИИ\БЫТОВЫЕ ПРИБОРЫ\чайник.jpg"/>
          <p:cNvPicPr/>
          <p:nvPr/>
        </p:nvPicPr>
        <p:blipFill>
          <a:blip r:embed="rId1"/>
          <a:stretch/>
        </p:blipFill>
        <p:spPr>
          <a:xfrm>
            <a:off x="2700360" y="1916280"/>
            <a:ext cx="3908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Ей набили мясом ро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 она его жу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Жует, жует и не глотает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тарелку отправляе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юрий\Desktop\ДЕТСКИЕ ПРЕЗЕНТАЦИИ\БЫТОВЫЕ ПРИБОРЫ\мясорубка.jpg"/>
          <p:cNvPicPr/>
          <p:nvPr/>
        </p:nvPicPr>
        <p:blipFill>
          <a:blip r:embed="rId1"/>
          <a:stretch/>
        </p:blipFill>
        <p:spPr>
          <a:xfrm>
            <a:off x="2843280" y="2421000"/>
            <a:ext cx="39322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Быстро он коктейль взбивает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И уставшим не быва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рий\Desktop\ДЕТСКИЕ ПРЕЗЕНТАЦИИ\БЫТОВЫЕ ПРИБОРЫ\миксер.jpg"/>
          <p:cNvPicPr/>
          <p:nvPr/>
        </p:nvPicPr>
        <p:blipFill>
          <a:blip r:embed="rId1"/>
          <a:stretch/>
        </p:blipFill>
        <p:spPr>
          <a:xfrm>
            <a:off x="1763640" y="1844640"/>
            <a:ext cx="558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ццу, курицу, котлеты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реет нам зимой и летом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реет быстро, очень ловко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едь она -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юрий\Desktop\ДЕТСКИЕ ПРЕЗЕНТАЦИИ\БЫТОВЫЕ ПРИБОРЫ\микроволновка.jpg"/>
          <p:cNvPicPr/>
          <p:nvPr/>
        </p:nvPicPr>
        <p:blipFill>
          <a:blip r:embed="rId1"/>
          <a:stretch/>
        </p:blipFill>
        <p:spPr>
          <a:xfrm>
            <a:off x="1187280" y="2276640"/>
            <a:ext cx="67788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 кухне есть силач один –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делал соком апельси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юрий\Desktop\ДЕТСКИЕ ПРЕЗЕНТАЦИИ\БЫТОВЫЕ ПРИБОРЫ\сок2.jpeg"/>
          <p:cNvPicPr/>
          <p:nvPr/>
        </p:nvPicPr>
        <p:blipFill>
          <a:blip r:embed="rId1"/>
          <a:stretch/>
        </p:blipFill>
        <p:spPr>
          <a:xfrm>
            <a:off x="2843280" y="1484280"/>
            <a:ext cx="4095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Ходит-бродит по коврам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одит носом по углам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де прошел – там пыли нет,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ыль и сор – его обед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юрий\Desktop\ДЕТСКИЕ ПРЕЗЕНТАЦИИ\БЫТОВЫЕ ПРИБОРЫ\пылесос.jpg"/>
          <p:cNvPicPr/>
          <p:nvPr/>
        </p:nvPicPr>
        <p:blipFill>
          <a:blip r:embed="rId1"/>
          <a:stretch/>
        </p:blipFill>
        <p:spPr>
          <a:xfrm>
            <a:off x="3059280" y="2332080"/>
            <a:ext cx="3035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ривела я солнце за свое оконце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К потолку подвесила -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Стало дома весел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юрий\Desktop\ДЕТСКИЕ ПРЕЗЕНТАЦИИ\БЫТОВЫЕ ПРИБОРЫ\люстра.jpg"/>
          <p:cNvPicPr/>
          <p:nvPr/>
        </p:nvPicPr>
        <p:blipFill>
          <a:blip r:embed="rId1"/>
          <a:stretch/>
        </p:blipFill>
        <p:spPr>
          <a:xfrm>
            <a:off x="2843280" y="1773360"/>
            <a:ext cx="36320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7:12:54Z</dcterms:created>
  <dc:creator>юрий</dc:creator>
  <dc:description/>
  <dc:language>en-US</dc:language>
  <cp:lastModifiedBy>PC</cp:lastModifiedBy>
  <dcterms:modified xsi:type="dcterms:W3CDTF">2020-11-21T17:09:06Z</dcterms:modified>
  <cp:revision>21</cp:revision>
  <dc:subject/>
  <dc:title>ПРЕЗЕНТАЦИЯ  ПО  ТЕМЕ «БЫТОВЫЕ  ЭЛЕКТРОПРИБОРЫ»</dc:title>
</cp:coreProperties>
</file>