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EAF-76E8-45EA-BD4D-D277FE96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CA0-E746-4110-BC66-0DEC0975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9943-96C6-46C8-90E1-21BCE9A5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D7C-CBC2-4C5F-B117-145F530B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95D-2ABD-4435-ABB3-2AC0418A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934-DC9F-4D89-95FE-5E60CED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FC1-504A-4957-9ED1-0B2F89AB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80E-DDEE-4358-A6B2-ECB25AD9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180-F9AF-4EF9-BD2E-C18C63A3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753-5F87-459D-B3C4-AB2FC72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928-1AD3-41F4-B51A-2C20127A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5CF-9E6E-4474-ABE8-FA369E14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B0AA-56AD-4019-9715-36204BC42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5560" y="-1116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БЫТОВЫЕ  ЭЛЕКТРОПРИБОР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юрий\Desktop\ДЕТСКИЕ ПРЕЗЕНТАЦИИ\БЫТОВЫЕ ПРИБОРЫ\приборы.jpg"/>
          <p:cNvPicPr/>
          <p:nvPr/>
        </p:nvPicPr>
        <p:blipFill>
          <a:blip r:embed="rId1"/>
          <a:stretch/>
        </p:blipFill>
        <p:spPr>
          <a:xfrm>
            <a:off x="0" y="2133720"/>
            <a:ext cx="9083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Эта прачка-автомат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м стирает всё подря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юрий\Desktop\ДЕТСКИЕ ПРЕЗЕНТАЦИИ\БЫТОВЫЕ ПРИБОРЫ\стиралка.jpg"/>
          <p:cNvPicPr/>
          <p:nvPr/>
        </p:nvPicPr>
        <p:blipFill>
          <a:blip r:embed="rId1"/>
          <a:stretch/>
        </p:blipFill>
        <p:spPr>
          <a:xfrm>
            <a:off x="2700360" y="148428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Гладит все, чего касается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А дотронешься - кусае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юрий\Desktop\ДЕТСКИЕ ПРЕЗЕНТАЦИИ\БЫТОВЫЕ ПРИБОРЫ\утюг.jpg"/>
          <p:cNvPicPr/>
          <p:nvPr/>
        </p:nvPicPr>
        <p:blipFill>
          <a:blip r:embed="rId1"/>
          <a:stretch/>
        </p:blipFill>
        <p:spPr>
          <a:xfrm>
            <a:off x="2340000" y="1844640"/>
            <a:ext cx="4608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Чудо-ящик – в нем окно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том окошечке – кин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юрий\Desktop\ДЕТСКИЕ ПРЕЗЕНТАЦИИ\БЫТОВЫЕ ПРИБОРЫ\телик.jpg"/>
          <p:cNvPicPr/>
          <p:nvPr/>
        </p:nvPicPr>
        <p:blipFill>
          <a:blip r:embed="rId1"/>
          <a:stretch/>
        </p:blipFill>
        <p:spPr>
          <a:xfrm>
            <a:off x="250920" y="1268280"/>
            <a:ext cx="51480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юрий\Desktop\ДЕТСКИЕ ПРЕЗЕНТАЦИИ\БЫТОВЫЕ ПРИБОРЫ\телевизор.jpg"/>
          <p:cNvPicPr/>
          <p:nvPr/>
        </p:nvPicPr>
        <p:blipFill>
          <a:blip r:embed="rId2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Через поле и лесок подается голосок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Он бежит по проводам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кажешь здесь,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а слышно та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юрий\Desktop\ДЕТСКИЕ ПРЕЗЕНТАЦИИ\БЫТОВЫЕ ПРИБОРЫ\телефон.jpg"/>
          <p:cNvPicPr/>
          <p:nvPr/>
        </p:nvPicPr>
        <p:blipFill>
          <a:blip r:embed="rId1"/>
          <a:stretch/>
        </p:blipFill>
        <p:spPr>
          <a:xfrm>
            <a:off x="0" y="1773360"/>
            <a:ext cx="4896000" cy="388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юрий\Desktop\ДЕТСКИЕ ПРЕЗЕНТАЦИИ\БЫТОВЫЕ ПРИБОРЫ\телефон2.jpg"/>
          <p:cNvPicPr/>
          <p:nvPr/>
        </p:nvPicPr>
        <p:blipFill>
          <a:blip r:embed="rId2"/>
          <a:stretch/>
        </p:blipFill>
        <p:spPr>
          <a:xfrm>
            <a:off x="5508720" y="2095560"/>
            <a:ext cx="2809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ша тетушка игла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трочку по полю вела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трочка в строчку, строчка в строчку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Будет платье вашей дочк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юрий\Desktop\ДЕТСКИЕ ПРЕЗЕНТАЦИИ\БЫТОВЫЕ ПРИБОРЫ\швейная.jpg"/>
          <p:cNvPicPr/>
          <p:nvPr/>
        </p:nvPicPr>
        <p:blipFill>
          <a:blip r:embed="rId1"/>
          <a:stretch/>
        </p:blipFill>
        <p:spPr>
          <a:xfrm>
            <a:off x="2268360" y="2332080"/>
            <a:ext cx="4526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 что ни взглянет этот глаз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се на картинке передаст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юрий\Desktop\ДЕТСКИЕ ПРЕЗЕНТАЦИИ\БЫТОВЫЕ ПРИБОРЫ\фото.jpg"/>
          <p:cNvPicPr/>
          <p:nvPr/>
        </p:nvPicPr>
        <p:blipFill>
          <a:blip r:embed="rId1"/>
          <a:stretch/>
        </p:blipFill>
        <p:spPr>
          <a:xfrm>
            <a:off x="266688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Угадай, кто ветром дуе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зной прохладу всем дарует?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1258920" y="1197000"/>
            <a:ext cx="2592360" cy="5661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юрий\Desktop\ДЕТСКИЕ ПРЕЗЕНТАЦИИ\БЫТОВЫЕ ПРИБОРЫ\вентилятор2.jpg"/>
          <p:cNvPicPr/>
          <p:nvPr/>
        </p:nvPicPr>
        <p:blipFill>
          <a:blip r:embed="rId2"/>
          <a:stretch/>
        </p:blipFill>
        <p:spPr>
          <a:xfrm>
            <a:off x="5364000" y="3933720"/>
            <a:ext cx="288000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Умный друг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ам без рук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а чужими пользуе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юрий\Desktop\ДЕТСКИЕ ПРЕЗЕНТАЦИИ\БЫТОВЫЕ ПРИБОРЫ\комп.jpg"/>
          <p:cNvPicPr/>
          <p:nvPr/>
        </p:nvPicPr>
        <p:blipFill>
          <a:blip r:embed="rId1"/>
          <a:stretch/>
        </p:blipFill>
        <p:spPr>
          <a:xfrm>
            <a:off x="1692360" y="1700280"/>
            <a:ext cx="590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ушит ветер-суховей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Кудри мамочки мо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юрий\Desktop\ДЕТСКИЕ ПРЕЗЕНТАЦИИ\БЫТОВЫЕ ПРИБОРЫ\фен.jpg"/>
          <p:cNvPicPr/>
          <p:nvPr/>
        </p:nvPicPr>
        <p:blipFill>
          <a:blip r:embed="rId1"/>
          <a:stretch/>
        </p:blipFill>
        <p:spPr>
          <a:xfrm>
            <a:off x="2019240" y="1600200"/>
            <a:ext cx="510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тучат, стуча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е велят скучать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Идут, иду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А все тут, да ту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юрий\Desktop\ДЕТСКИЕ ПРЕЗЕНТАЦИИ\БЫТОВЫЕ ПРИБОРЫ\часы.jpg"/>
          <p:cNvPicPr/>
          <p:nvPr/>
        </p:nvPicPr>
        <p:blipFill>
          <a:blip r:embed="rId1"/>
          <a:stretch/>
        </p:blipFill>
        <p:spPr>
          <a:xfrm>
            <a:off x="2843280" y="2565360"/>
            <a:ext cx="3591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нашей кухне целый год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ед Мороз в шкафу жив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юрий\Desktop\ДЕТСКИЕ ПРЕЗЕНТАЦИИ\БЫТОВЫЕ ПРИБОРЫ\xolodilnik_bol.jpg"/>
          <p:cNvPicPr/>
          <p:nvPr/>
        </p:nvPicPr>
        <p:blipFill>
          <a:blip r:embed="rId1"/>
          <a:stretch/>
        </p:blipFill>
        <p:spPr>
          <a:xfrm>
            <a:off x="2556000" y="1125360"/>
            <a:ext cx="41781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Закипает изнутри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И пускает пузыр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юрий\Desktop\ДЕТСКИЕ ПРЕЗЕНТАЦИИ\БЫТОВЫЕ ПРИБОРЫ\чайник.jpg"/>
          <p:cNvPicPr/>
          <p:nvPr/>
        </p:nvPicPr>
        <p:blipFill>
          <a:blip r:embed="rId1"/>
          <a:stretch/>
        </p:blipFill>
        <p:spPr>
          <a:xfrm>
            <a:off x="2700360" y="1916280"/>
            <a:ext cx="390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Ей набили мясом ро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И она его жуе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Жует, жует и не глотает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тарелку отправля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юрий\Desktop\ДЕТСКИЕ ПРЕЗЕНТАЦИИ\БЫТОВЫЕ ПРИБОРЫ\мясорубка.jpg"/>
          <p:cNvPicPr/>
          <p:nvPr/>
        </p:nvPicPr>
        <p:blipFill>
          <a:blip r:embed="rId1"/>
          <a:stretch/>
        </p:blipFill>
        <p:spPr>
          <a:xfrm>
            <a:off x="2843280" y="2421000"/>
            <a:ext cx="39322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Быстро он коктейль взбивает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И уставшим не быва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юрий\Desktop\ДЕТСКИЕ ПРЕЗЕНТАЦИИ\БЫТОВЫЕ ПРИБОРЫ\миксер.jpg"/>
          <p:cNvPicPr/>
          <p:nvPr/>
        </p:nvPicPr>
        <p:blipFill>
          <a:blip r:embed="rId1"/>
          <a:stretch/>
        </p:blipFill>
        <p:spPr>
          <a:xfrm>
            <a:off x="1763640" y="1844640"/>
            <a:ext cx="558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иццу, курицу, котлеты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Греет нам зимой и летом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Греет быстро, очень ловко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едь она -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1187280" y="2276640"/>
            <a:ext cx="67788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кухне есть силач один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делал соком апельс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юрий\Desktop\ДЕТСКИЕ ПРЕЗЕНТАЦИИ\БЫТОВЫЕ ПРИБОРЫ\сок2.jpeg"/>
          <p:cNvPicPr/>
          <p:nvPr/>
        </p:nvPicPr>
        <p:blipFill>
          <a:blip r:embed="rId1"/>
          <a:stretch/>
        </p:blipFill>
        <p:spPr>
          <a:xfrm>
            <a:off x="2843280" y="1484280"/>
            <a:ext cx="4095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Ходит-бродит по коврам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одит носом по углам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Где прошел – там пыли не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ыль и сор – его обе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юрий\Desktop\ДЕТСКИЕ ПРЕЗЕНТАЦИИ\БЫТОВЫЕ ПРИБОРЫ\пылесос.jpg"/>
          <p:cNvPicPr/>
          <p:nvPr/>
        </p:nvPicPr>
        <p:blipFill>
          <a:blip r:embed="rId1"/>
          <a:stretch/>
        </p:blipFill>
        <p:spPr>
          <a:xfrm>
            <a:off x="3059280" y="2332080"/>
            <a:ext cx="303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ривела я солнце за свое оконце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К потолку подвесила -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тало дома весе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юрий\Desktop\ДЕТСКИЕ ПРЕЗЕНТАЦИИ\БЫТОВЫЕ ПРИБОРЫ\люстра.jpg"/>
          <p:cNvPicPr/>
          <p:nvPr/>
        </p:nvPicPr>
        <p:blipFill>
          <a:blip r:embed="rId1"/>
          <a:stretch/>
        </p:blipFill>
        <p:spPr>
          <a:xfrm>
            <a:off x="2843280" y="1773360"/>
            <a:ext cx="36320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7:12:54Z</dcterms:created>
  <dc:creator>юрий</dc:creator>
  <dc:description/>
  <dc:language>en-US</dc:language>
  <cp:lastModifiedBy>PC</cp:lastModifiedBy>
  <dcterms:modified xsi:type="dcterms:W3CDTF">2020-11-21T17:09:06Z</dcterms:modified>
  <cp:revision>21</cp:revision>
  <dc:subject/>
  <dc:title>ПРЕЗЕНТАЦИЯ  ПО  ТЕМЕ «БЫТОВЫЕ  ЭЛЕКТРОПРИБОРЫ»</dc:title>
</cp:coreProperties>
</file>