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6B3F-ED11-40E3-9299-297C41BA2F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1B91-D869-4E3E-A9BF-E48A9EBF79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817-1995-4CA1-BF6E-2D6A3942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C18-3556-46FD-892E-56C87AB0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E80-EB54-4B1D-A18A-664F9DE2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869-F29F-4CD1-BF78-4600F3A3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D719-CC89-405D-857E-F7A0A1CF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4DC9-5B40-4444-9E4F-2D6026F8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1AE9-BAC0-48D8-8800-9213A7F9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6BFB-B4A3-45B3-A6A2-1FE7ADB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CBE7-0E85-4F4D-A2AD-9B8D56C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2451-83A0-40A4-96C1-4C503A6C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7A96-C631-44D5-85F2-7F36F123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A31-2C9F-4759-B747-1C03198F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6614-B47D-4A41-81AE-AFF8E33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E5F-1483-429D-A9F9-F9D9255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892-F20B-42CA-88BD-77BAD89A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937D-B092-4AA1-8619-A4582651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EF2-9099-4358-9DFF-D7433782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DE40B-F53A-4EC7-AA6E-C5F1364F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107D9-F1B2-464F-A698-8B2DE208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53AB8-8AF8-4B12-A5A4-6B8DAC51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BF334-5CA4-4366-8E8B-B6838FA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4ABD1-D776-444D-93AE-9E42D58D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FF1-7073-43B4-96C0-3F9F4C07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9A090-15E0-4272-A6D2-7A064A9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F880F-D93A-4063-9D8B-F4791417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7F82D-A93C-4121-B887-2FD37FF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24E03-29E2-4587-9278-8EE0791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61C44-6BC5-40D1-A8D6-0E91325F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1BF4B-C0E1-4379-9A59-76C37BC0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D961F-0708-4FE8-9E77-C957EFB0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258A6-7B1A-4D3E-A70A-E88F54C0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D6CD-D440-4146-B156-55CDF10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A50D-9ED5-4385-B771-84D45F0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52F-B8C8-46C4-9E67-FB7ADE4E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A13C-2698-4D39-BC50-FC196E44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9CC7-8C7E-4011-AD96-ECF3A828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7A22-3D47-40A3-BB10-BF301A32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499B-AFDD-45C1-9F66-429AC724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CBD3-2214-4069-9779-9FA17311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A0E0-A41A-4529-80B1-372702D5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57910-6082-4A83-A484-FB283947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80E1-A7BC-49D1-A60A-FE445467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9F5C1-1EA0-4DFE-A477-7B884B83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34B774-0859-448D-9599-6C49FDA4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785-8E56-4101-9752-45E3513E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2A039-5640-40E9-882C-80B849EB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657EE-FCEE-43ED-8FC6-B388F9F6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F8DC0-8D69-405F-B3BD-5BBCE54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2B9D2-E762-42BE-8F2F-E680765B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FB905-2B58-4F45-8D7A-43CC44F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E3663-8D8C-4FA2-AE0A-495C65D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53E27-EA21-4C2E-96D5-A0EAA977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7347B-3ADC-4D91-8B55-601A0F14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D28F2-035C-4208-AC50-9735D6A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95B08-09E8-442A-9B7A-5BEB0CE1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1A9-30A9-4040-BA93-FAD19F17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96068-414C-4923-9C8A-256B65B1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33C22-2A91-4D56-84C1-D520978D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1C031-7A6A-4A2C-BA95-93E799B7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281CF-D0E2-4C28-AD06-D1AFA0E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176BD-F343-4B0D-A8A2-F8014C41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4325F-981C-412E-A510-3291D7DE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49C1E-7D89-4C25-AC0B-F299418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5D5D77-35FB-412A-84BA-9F4BB78F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3D7D1-CE4A-4A5C-AEC0-CED555F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E8E74-4E31-4F77-8872-9FA4B9F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AFA-3FC4-4107-A0E0-285A7279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CA336-0B25-41E2-8F44-69E8DD54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46B98-9DEA-4590-88E4-000C5A8A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96FC18-8F1A-4FC1-A66A-9022AF2F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2FDE6-DFDE-43EC-9D6A-04FDBB9C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138B9-869A-4279-A351-0D1EE60D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2AEE0-124F-4E55-AB25-3D72EC4C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26615-DC7D-4DF0-994D-7DC1E08E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6A26E-7040-4387-A68A-447F31E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1AAC4-7209-4D51-9EB7-3E7095AD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D5E96-7D80-42C8-BE56-2F67F33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4C5-299D-438E-814F-8B713E9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CC36EA-E32E-4F28-9ECE-CA63673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CD740-F06C-4666-8BD4-201AFA6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A3E89-44E5-4732-993E-1C07C28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DBDD0-D558-4721-87DD-6C210378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EA701-4D5C-4532-8369-6274E0F2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3FA-7863-4CC4-BE86-36AA477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29F7-6ADF-4D09-94ED-4797C495F4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74F9-89AC-4593-8866-D518436461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3AED-1633-48A9-8631-0150CC98EB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DE41-5F65-4F96-AE55-1E4EA2180F4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0681-7EB0-4975-94E5-63F3381617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30B5-EBF3-4B46-8D41-6A7374E5D6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3193-90CE-445E-ABA6-6EB5A0FD01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8" descr="http://im3-tub-ru.yandex.net/i?id=65005027-37-72&amp;n=21"/>
          <p:cNvPicPr/>
          <p:nvPr/>
        </p:nvPicPr>
        <p:blipFill>
          <a:blip r:embed="rId1"/>
          <a:stretch/>
        </p:blipFill>
        <p:spPr>
          <a:xfrm>
            <a:off x="678672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07640" y="1916280"/>
            <a:ext cx="6494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4e5b6f"/>
                </a:solidFill>
                <a:latin typeface="Century Schoolbook"/>
              </a:rPr>
              <a:t>РОЛЬ ВОСПИТАТЕЛЯ</a:t>
            </a:r>
            <a:br>
              <a:rPr sz="2400"/>
            </a:br>
            <a:r>
              <a:rPr b="1" lang="ru-RU" sz="2400" spc="-1" strike="noStrike">
                <a:solidFill>
                  <a:srgbClr val="4e5b6f"/>
                </a:solidFill>
                <a:latin typeface="Century Schoolbook"/>
              </a:rPr>
              <a:t>НА НЕПОСРЕДСТВЕННО ОБРАЗОВАТЕЛЬНОЙ ДЕЯТЕЛЬНОСТИ  ПО ФИЗИЧЕСКОМУ ВОСПИТАНИЮ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Century Schoolbook"/>
              </a:rPr>
              <a:t>Подготовила 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Century Schoolbook"/>
              </a:rPr>
              <a:t>Воспитатель Чуркина Ольга Анатол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ПАМЯТКА ВОСПИТАТЕЛЮ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6" name="Содержимое 6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749304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http://im2-tub-ru.yandex.net/i?id=302018814-49-72&amp;n=21"/>
          <p:cNvPicPr/>
          <p:nvPr/>
        </p:nvPicPr>
        <p:blipFill>
          <a:blip r:embed="rId1"/>
          <a:stretch/>
        </p:blipFill>
        <p:spPr>
          <a:xfrm>
            <a:off x="2114640" y="2139840"/>
            <a:ext cx="5200560" cy="431028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324000"/>
            <a:ext cx="84614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ШКОЛЬНЫЙ ВОЗРАСТ ИГРАЕТ ЗНАЧИТЕЛЬНУЮ РОЛЬ В СОЗДАНИИ УСЛОВИЙ ДЛЯ ДАЛЬНЕЙШЕГО РАЗВИТИЯ ЧЕЛОВЕКА, А ГАРМОНИЧНОЕ РАЗВИТИЕ НЕВОЗМОЖНО БЕЗ ФИЗИЧЕСКОГО ВОСПИТАНИЯ»</a:t>
            </a:r>
            <a:endParaRPr b="0" lang="en-US" sz="2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900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 физического воспитания в дошкольном учреждении – формирование у детей основ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http://im4-tub-ru.yandex.net/i?id=160047712-50-72&amp;n=21"/>
          <p:cNvPicPr/>
          <p:nvPr/>
        </p:nvPicPr>
        <p:blipFill>
          <a:blip r:embed="rId1"/>
          <a:stretch/>
        </p:blipFill>
        <p:spPr>
          <a:xfrm>
            <a:off x="357120" y="1714680"/>
            <a:ext cx="2286000" cy="1585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F:\воронина\68127504_veselo.jpg"/>
          <p:cNvPicPr/>
          <p:nvPr/>
        </p:nvPicPr>
        <p:blipFill>
          <a:blip r:embed="rId2"/>
          <a:stretch/>
        </p:blipFill>
        <p:spPr>
          <a:xfrm>
            <a:off x="3214800" y="1714680"/>
            <a:ext cx="1857240" cy="1643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F:\воронина\21244193.m.jpeg"/>
          <p:cNvPicPr/>
          <p:nvPr/>
        </p:nvPicPr>
        <p:blipFill>
          <a:blip r:embed="rId3"/>
          <a:stretch/>
        </p:blipFill>
        <p:spPr>
          <a:xfrm>
            <a:off x="5572080" y="1643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4674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НЕПОСРЕДСТВЕННО ОБРАЗОВАТЕЛЬНАЯ ДЕЯТЕЛЬНОСТЬ </a:t>
            </a:r>
            <a:br>
              <a:rPr sz="2000"/>
            </a:b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ПО ФИЗИЧЕСКОЙ КУЛЬТУРЕ - </a:t>
            </a:r>
            <a:br>
              <a:rPr sz="2000"/>
            </a:b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ЭТО ОСНОВНАЯ ФОРМА ОРГАНИЗАЦИИ ФИЗИЧЕСКОГО ВОСПИТАНИЯ В ДОУ</a:t>
            </a:r>
            <a:br>
              <a:rPr sz="2000"/>
            </a:br>
            <a:r>
              <a:rPr b="0" lang="ru-RU" sz="2000" spc="-1" strike="noStrike">
                <a:solidFill>
                  <a:srgbClr val="4e5b6f"/>
                </a:solidFill>
                <a:latin typeface="Century Schoolbook"/>
              </a:rPr>
              <a:t>ДЛЯ ТОГО, ЧТОБЫ НОД ПРОШЛА ЭФФЕКТИВНО НЕОБХОДИМЫ СЛАЖЕННЫЕ ДЕЙСТВИЯ ИНСТРУКТОРА ПО Ф.К И ВОСПИТАТЕЛЯ</a:t>
            </a:r>
            <a:br>
              <a:rPr sz="2700"/>
            </a:br>
            <a:endParaRPr b="0" lang="en-US" sz="2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67" name="Содержимое 8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7900920" cy="2859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http://im4-tub-ru.yandex.net/i?id=956742218-22-72&amp;n=21"/>
          <p:cNvPicPr/>
          <p:nvPr/>
        </p:nvPicPr>
        <p:blipFill>
          <a:blip r:embed="rId2"/>
          <a:stretch/>
        </p:blipFill>
        <p:spPr>
          <a:xfrm>
            <a:off x="3000240" y="2857680"/>
            <a:ext cx="2857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5b6f"/>
                </a:solidFill>
                <a:latin typeface="Century Schoolbook"/>
              </a:rPr>
              <a:t>ЭТАПЫ ПОДГОТОВКИ К НОД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70" name="Содержимое 3" descr=""/>
          <p:cNvPicPr/>
          <p:nvPr/>
        </p:nvPicPr>
        <p:blipFill>
          <a:blip r:embed="rId1"/>
          <a:stretch/>
        </p:blipFill>
        <p:spPr>
          <a:xfrm>
            <a:off x="268200" y="1590840"/>
            <a:ext cx="7669440" cy="488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http://im6-tub-ru.yandex.net/i?id=555803054-59-72&amp;n=21"/>
          <p:cNvPicPr/>
          <p:nvPr/>
        </p:nvPicPr>
        <p:blipFill>
          <a:blip r:embed="rId2"/>
          <a:stretch/>
        </p:blipFill>
        <p:spPr>
          <a:xfrm>
            <a:off x="571680" y="285840"/>
            <a:ext cx="1000080" cy="121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http://im6-tub-ru.yandex.net/i?id=555803054-59-72&amp;n=21"/>
          <p:cNvPicPr/>
          <p:nvPr/>
        </p:nvPicPr>
        <p:blipFill>
          <a:blip r:embed="rId3"/>
          <a:stretch/>
        </p:blipFill>
        <p:spPr>
          <a:xfrm>
            <a:off x="1571760" y="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http://im6-tub-ru.yandex.net/i?id=555803054-59-72&amp;n=21"/>
          <p:cNvPicPr/>
          <p:nvPr/>
        </p:nvPicPr>
        <p:blipFill>
          <a:blip r:embed="rId4"/>
          <a:stretch/>
        </p:blipFill>
        <p:spPr>
          <a:xfrm>
            <a:off x="2428920" y="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http://im6-tub-ru.yandex.net/i?id=555803054-59-72&amp;n=21"/>
          <p:cNvPicPr/>
          <p:nvPr/>
        </p:nvPicPr>
        <p:blipFill>
          <a:blip r:embed="rId5"/>
          <a:stretch/>
        </p:blipFill>
        <p:spPr>
          <a:xfrm>
            <a:off x="7715160" y="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http://im6-tub-ru.yandex.net/i?id=555803054-59-72&amp;n=21"/>
          <p:cNvPicPr/>
          <p:nvPr/>
        </p:nvPicPr>
        <p:blipFill>
          <a:blip r:embed="rId6"/>
          <a:stretch/>
        </p:blipFill>
        <p:spPr>
          <a:xfrm>
            <a:off x="6572160" y="0"/>
            <a:ext cx="1000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хема 4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7900920" cy="149220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3" descr=""/>
          <p:cNvPicPr/>
          <p:nvPr/>
        </p:nvPicPr>
        <p:blipFill>
          <a:blip r:embed="rId2"/>
          <a:stretch/>
        </p:blipFill>
        <p:spPr>
          <a:xfrm>
            <a:off x="566640" y="1487520"/>
            <a:ext cx="80168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7" descr=""/>
          <p:cNvPicPr/>
          <p:nvPr/>
        </p:nvPicPr>
        <p:blipFill>
          <a:blip r:embed="rId2"/>
          <a:stretch/>
        </p:blipFill>
        <p:spPr>
          <a:xfrm>
            <a:off x="914400" y="249120"/>
            <a:ext cx="7259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5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7480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5:43:51Z</dcterms:created>
  <dc:creator>Лёха</dc:creator>
  <dc:description/>
  <dc:language>en-US</dc:language>
  <cp:lastModifiedBy>Олюня</cp:lastModifiedBy>
  <dcterms:modified xsi:type="dcterms:W3CDTF">2020-11-21T14:23:03Z</dcterms:modified>
  <cp:revision>48</cp:revision>
  <dc:subject/>
  <dc:title>Роль воспитателя  на непосредственно образовательной деятельности  по физическому воспитанию</dc:title>
</cp:coreProperties>
</file>