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CE51-FFA1-4144-85C9-2401E90FC3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81C7-77F5-47F1-8B2F-A9D2123772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A8A-13CD-4F52-8BA3-813B4C02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11E-DDF3-4722-BC34-327C43F9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F29-2761-423E-B2E5-746BE0E3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B22-63DE-49F7-B7BD-6286B4C5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CD97-A91F-4CEF-9E70-566D2BD5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ECBA-8AC4-402F-8273-AE0891CB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608C-FA05-4223-A230-816CB730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EB1C-0691-42C5-B83F-5677CFA2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258-278F-4353-97C5-061F84E4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9D4A-0AD2-4341-BBAC-BA78B066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BF81-E2B3-4A22-9ADA-400A6089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566-850F-49C2-B950-395C4940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6E6-E9C5-4D0E-8695-B09B8879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9419-9159-454C-B88D-B91F2D4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0A88-42CD-47AB-813F-953F8038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B9EE-78A3-4B73-B6DE-861C1718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FD13-7C2B-4ED9-834D-F17B4B22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D40C1-F5D5-4EFA-B60C-6806B17F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8260C-F22B-49D3-BFD7-3C16CACB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69A12-55DC-4A98-BC51-7A3E9225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E2616-786A-47BF-8EFD-96C116C7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A666B-2872-4830-8373-4A24F155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945-A454-40C3-A9F8-B8243214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E95BD-F4DF-4450-BC2C-B5C26683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49E72-0E2E-41A5-96EE-E9B2C60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81A83-8254-4843-B181-9410116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46F5D-AF84-4AD0-9578-C903FFCD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868F0-C00E-4EAA-8383-D50F083B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8030F-176C-4B48-8617-E34D1030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FA3F5-40D5-4275-8C50-AB7BF969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4C95-8363-4092-805D-A8574A5D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869DD-045B-4A63-97D2-74A399E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9565-EEAD-4B0F-8C30-FC5A9C63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9FA-233B-4B92-B627-1B84ECE5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0669-D871-4C52-ABEC-C3D041D6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DC31B-3CE7-42B2-8210-8DA357B4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2E38-9DD5-4993-B0FD-6F5749D8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650C1-56FC-43B5-B08C-F55A5328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A3F9-E9F0-4499-8DCC-CEDD0AD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B3F9-ACA2-4D17-82C1-C4D7A53E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F60F-D6CE-4A3C-AB19-FD8D4B3C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CC26A-251D-4D56-911F-3E3F92B4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5DB4-7AE4-4FAD-9BE3-D76DC2DA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E78D9-5685-47EC-805F-3AF0399C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F38-115B-4768-AF30-5A0043A5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ACD13-BD44-4FFB-8869-3B71C5FA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05918-69A1-447B-8563-1CD5D89D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DCDB7-172B-46C1-BE08-E62D6CA2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7B922-7CD8-4305-900E-FCAD396C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6934F-21CB-4450-9DEF-4F76DA4C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6D416-9236-4C4A-9EFD-553C8E20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5E760-A708-4929-B3D1-A5379440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4A8B0-22BF-4901-B72B-C12E5B89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E4F9C-0966-413E-B06F-F905C78D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88E55-4DB9-4B57-8C84-DF8F6B03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DF5-8555-4CC8-A030-0699B1D9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BCFAB-CCCD-4C64-BDD0-6CD94305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2E522-3968-40C1-84F2-745A3C52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3C777-B55C-4949-AA2C-1465B2B8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54799-8FF6-4A0E-AFB3-18498274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7208B-37FB-4CF2-8A99-051A3C17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397A3-FB13-43F7-A982-E72E32AF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444DD-1D41-4868-A235-3AA6D16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23E1F-281D-4E37-A03E-32E6B12D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307D7-6CDF-470C-93FC-26916C6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880AD-5A4A-4A57-9AF5-641C897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DD4-C225-4DAB-AAF6-225D188F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55A13-2C73-4D3E-B8C2-D2B772E4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72E41-EA15-4248-976D-0669B30D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E3914-E5F2-4F5B-9449-B51B50E1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9D0D3-0F79-4CFA-8CFA-13A0FA5A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8736F-43FB-44C6-9329-60274BF5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237DA-BC9C-4227-A64B-79D37A5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4E2B4-6EB8-4B31-8009-7CE0552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83B09-F05B-4BC8-9D78-FD2908D8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457A4-1853-4F45-9FD7-9DE11861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31838-12DD-43DB-A47C-D775FBFB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AF2-E836-46FA-8061-48CBD195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3061C-A3A2-4587-8819-BBFC68DF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8651A-EAE7-4755-8DF6-13364006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D91FF-2A37-4FB7-A57E-CE15358A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51A84-8563-4643-87EA-2BC02B3E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5B531-1AC9-48A5-902C-A4B5DAE2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31B-F306-447F-8318-00EC4C51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2EC1-7BFF-4640-9764-EB722482FB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5F34-B0E2-4592-9ED4-41A4BD906D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E161-EC7B-453C-999F-1B1C9F48F7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27D8-DF75-449D-B0C3-52F12BA8D4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8D08-8292-48DC-A963-E55D242D22F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C542-625B-4265-8EA7-D53A35747C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5129-F764-4E74-BB01-41896F986D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8" descr="http://im3-tub-ru.yandex.net/i?id=65005027-37-72&amp;n=21"/>
          <p:cNvPicPr/>
          <p:nvPr/>
        </p:nvPicPr>
        <p:blipFill>
          <a:blip r:embed="rId1"/>
          <a:stretch/>
        </p:blipFill>
        <p:spPr>
          <a:xfrm>
            <a:off x="678672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07640" y="1916280"/>
            <a:ext cx="6494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4e5b6f"/>
                </a:solidFill>
                <a:latin typeface="Century Schoolbook"/>
              </a:rPr>
              <a:t>РОЛЬ ВОСПИТАТЕЛЯ</a:t>
            </a:r>
            <a:br>
              <a:rPr sz="2400"/>
            </a:br>
            <a:r>
              <a:rPr b="1" lang="ru-RU" sz="2400" spc="-1" strike="noStrike">
                <a:solidFill>
                  <a:srgbClr val="4e5b6f"/>
                </a:solidFill>
                <a:latin typeface="Century Schoolbook"/>
              </a:rPr>
              <a:t>НА НЕПОСРЕДСТВЕННО ОБРАЗОВАТЕЛЬНОЙ ДЕЯТЕЛЬНОСТИ  ПО ФИЗИЧЕСКОМУ ВОСПИТАНИЮ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Century Schoolbook"/>
              </a:rPr>
              <a:t>Подготовила 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Century Schoolbook"/>
              </a:rPr>
              <a:t>Воспитатель Чуркина Ольга Анатолье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ПАМЯТКА ВОСПИТАТЕЛЮ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86" name="Содержимое 6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74930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http://im2-tub-ru.yandex.net/i?id=302018814-49-72&amp;n=21"/>
          <p:cNvPicPr/>
          <p:nvPr/>
        </p:nvPicPr>
        <p:blipFill>
          <a:blip r:embed="rId1"/>
          <a:stretch/>
        </p:blipFill>
        <p:spPr>
          <a:xfrm>
            <a:off x="2114640" y="2139840"/>
            <a:ext cx="5200560" cy="431028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324000"/>
            <a:ext cx="84614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ШКОЛЬНЫЙ ВОЗРАСТ ИГРАЕТ ЗНАЧИТЕЛЬНУЮ РОЛЬ В СОЗДАНИИ УСЛОВИЙ ДЛЯ ДАЛЬНЕЙШЕГО РАЗВИТИЯ ЧЕЛОВЕКА, А ГАРМОНИЧНОЕ РАЗВИТИЕ НЕВОЗМОЖНО БЕЗ ФИЗИЧЕСКОГО ВОСПИТАНИЯ»</a:t>
            </a:r>
            <a:endParaRPr b="0" lang="en-US" sz="2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900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 физического воспитания в дошкольном учреждении – формирование у детей основ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http://im4-tub-ru.yandex.net/i?id=160047712-50-72&amp;n=21"/>
          <p:cNvPicPr/>
          <p:nvPr/>
        </p:nvPicPr>
        <p:blipFill>
          <a:blip r:embed="rId1"/>
          <a:stretch/>
        </p:blipFill>
        <p:spPr>
          <a:xfrm>
            <a:off x="357120" y="1714680"/>
            <a:ext cx="2286000" cy="1585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F:\воронина\68127504_veselo.jpg"/>
          <p:cNvPicPr/>
          <p:nvPr/>
        </p:nvPicPr>
        <p:blipFill>
          <a:blip r:embed="rId2"/>
          <a:stretch/>
        </p:blipFill>
        <p:spPr>
          <a:xfrm>
            <a:off x="3214800" y="171468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F:\воронина\21244193.m.jpeg"/>
          <p:cNvPicPr/>
          <p:nvPr/>
        </p:nvPicPr>
        <p:blipFill>
          <a:blip r:embed="rId3"/>
          <a:stretch/>
        </p:blipFill>
        <p:spPr>
          <a:xfrm>
            <a:off x="5572080" y="1643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74674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5b6f"/>
                </a:solidFill>
                <a:latin typeface="Century Schoolbook"/>
              </a:rPr>
              <a:t>НЕПОСРЕДСТВЕННО ОБРАЗОВАТЕЛЬНАЯ ДЕЯТЕЛЬНОСТЬ </a:t>
            </a:r>
            <a:br>
              <a:rPr sz="2000"/>
            </a:br>
            <a:r>
              <a:rPr b="0" lang="ru-RU" sz="2000" spc="-1" strike="noStrike">
                <a:solidFill>
                  <a:srgbClr val="4e5b6f"/>
                </a:solidFill>
                <a:latin typeface="Century Schoolbook"/>
              </a:rPr>
              <a:t>ПО ФИЗИЧЕСКОЙ КУЛЬТУРЕ - </a:t>
            </a:r>
            <a:br>
              <a:rPr sz="2000"/>
            </a:br>
            <a:r>
              <a:rPr b="0" lang="ru-RU" sz="2000" spc="-1" strike="noStrike">
                <a:solidFill>
                  <a:srgbClr val="4e5b6f"/>
                </a:solidFill>
                <a:latin typeface="Century Schoolbook"/>
              </a:rPr>
              <a:t>ЭТО ОСНОВНАЯ ФОРМА ОРГАНИЗАЦИИ ФИЗИЧЕСКОГО ВОСПИТАНИЯ В ДОУ</a:t>
            </a:r>
            <a:br>
              <a:rPr sz="2000"/>
            </a:br>
            <a:r>
              <a:rPr b="0" lang="ru-RU" sz="2000" spc="-1" strike="noStrike">
                <a:solidFill>
                  <a:srgbClr val="4e5b6f"/>
                </a:solidFill>
                <a:latin typeface="Century Schoolbook"/>
              </a:rPr>
              <a:t>ДЛЯ ТОГО, ЧТОБЫ НОД ПРОШЛА ЭФФЕКТИВНО НЕОБХОДИМЫ СЛАЖЕННЫЕ ДЕЙСТВИЯ ИНСТРУКТОРА ПО Ф.К И ВОСПИТАТЕЛЯ</a:t>
            </a:r>
            <a:br>
              <a:rPr sz="2700"/>
            </a:br>
            <a:endParaRPr b="0" lang="en-US" sz="2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7" name="Содержимое 8" descr=""/>
          <p:cNvPicPr/>
          <p:nvPr/>
        </p:nvPicPr>
        <p:blipFill>
          <a:blip r:embed="rId1"/>
          <a:stretch/>
        </p:blipFill>
        <p:spPr>
          <a:xfrm>
            <a:off x="457200" y="2425680"/>
            <a:ext cx="7900920" cy="2859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http://im4-tub-ru.yandex.net/i?id=956742218-22-72&amp;n=21"/>
          <p:cNvPicPr/>
          <p:nvPr/>
        </p:nvPicPr>
        <p:blipFill>
          <a:blip r:embed="rId2"/>
          <a:stretch/>
        </p:blipFill>
        <p:spPr>
          <a:xfrm>
            <a:off x="3000240" y="2857680"/>
            <a:ext cx="2857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5b6f"/>
                </a:solidFill>
                <a:latin typeface="Century Schoolbook"/>
              </a:rPr>
              <a:t>ЭТАПЫ ПОДГОТОВКИ К НОД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70" name="Содержимое 3" descr=""/>
          <p:cNvPicPr/>
          <p:nvPr/>
        </p:nvPicPr>
        <p:blipFill>
          <a:blip r:embed="rId1"/>
          <a:stretch/>
        </p:blipFill>
        <p:spPr>
          <a:xfrm>
            <a:off x="268200" y="1590840"/>
            <a:ext cx="7669440" cy="488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http://im6-tub-ru.yandex.net/i?id=555803054-59-72&amp;n=21"/>
          <p:cNvPicPr/>
          <p:nvPr/>
        </p:nvPicPr>
        <p:blipFill>
          <a:blip r:embed="rId2"/>
          <a:stretch/>
        </p:blipFill>
        <p:spPr>
          <a:xfrm>
            <a:off x="571680" y="285840"/>
            <a:ext cx="1000080" cy="121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http://im6-tub-ru.yandex.net/i?id=555803054-59-72&amp;n=21"/>
          <p:cNvPicPr/>
          <p:nvPr/>
        </p:nvPicPr>
        <p:blipFill>
          <a:blip r:embed="rId3"/>
          <a:stretch/>
        </p:blipFill>
        <p:spPr>
          <a:xfrm>
            <a:off x="1571760" y="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http://im6-tub-ru.yandex.net/i?id=555803054-59-72&amp;n=21"/>
          <p:cNvPicPr/>
          <p:nvPr/>
        </p:nvPicPr>
        <p:blipFill>
          <a:blip r:embed="rId4"/>
          <a:stretch/>
        </p:blipFill>
        <p:spPr>
          <a:xfrm>
            <a:off x="2428920" y="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http://im6-tub-ru.yandex.net/i?id=555803054-59-72&amp;n=21"/>
          <p:cNvPicPr/>
          <p:nvPr/>
        </p:nvPicPr>
        <p:blipFill>
          <a:blip r:embed="rId5"/>
          <a:stretch/>
        </p:blipFill>
        <p:spPr>
          <a:xfrm>
            <a:off x="7715160" y="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http://im6-tub-ru.yandex.net/i?id=555803054-59-72&amp;n=21"/>
          <p:cNvPicPr/>
          <p:nvPr/>
        </p:nvPicPr>
        <p:blipFill>
          <a:blip r:embed="rId6"/>
          <a:stretch/>
        </p:blipFill>
        <p:spPr>
          <a:xfrm>
            <a:off x="6572160" y="0"/>
            <a:ext cx="1000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хема 4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7900920" cy="149220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3" descr=""/>
          <p:cNvPicPr/>
          <p:nvPr/>
        </p:nvPicPr>
        <p:blipFill>
          <a:blip r:embed="rId2"/>
          <a:stretch/>
        </p:blipFill>
        <p:spPr>
          <a:xfrm>
            <a:off x="566640" y="1487520"/>
            <a:ext cx="80168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7" descr=""/>
          <p:cNvPicPr/>
          <p:nvPr/>
        </p:nvPicPr>
        <p:blipFill>
          <a:blip r:embed="rId2"/>
          <a:stretch/>
        </p:blipFill>
        <p:spPr>
          <a:xfrm>
            <a:off x="914400" y="249120"/>
            <a:ext cx="7259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5:43:51Z</dcterms:created>
  <dc:creator>Лёха</dc:creator>
  <dc:description/>
  <dc:language>en-US</dc:language>
  <cp:lastModifiedBy>Олюня</cp:lastModifiedBy>
  <dcterms:modified xsi:type="dcterms:W3CDTF">2020-11-21T14:23:03Z</dcterms:modified>
  <cp:revision>48</cp:revision>
  <dc:subject/>
  <dc:title>Роль воспитателя  на непосредственно образовательной деятельности  по физическому воспитанию</dc:title>
</cp:coreProperties>
</file>