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8AD4-AF70-4ADF-9CFD-6DAA55A62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97C5-4927-4BB3-8199-956129AA8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D081-BA30-4348-9229-1FF117473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F8D5-8D68-4BAF-80A5-A07F6AF83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0FADB-9521-4917-9F68-5413D4F4D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E6BB0-4A2F-46BB-A72D-2273FD58E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1290E-7907-472D-AE7A-897445DB1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BC5CB-13B7-4443-9A04-9A6ABED29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888CC-8942-4D60-8A6C-00D87B7EF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66D30-3438-43D1-8FAD-BB0B2D2A7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16237-D727-4EC3-A1CF-B1C6F0EF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3424-D1CD-4C0A-B830-FF37ED95D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C0808-3523-4764-8DFD-D81312AC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C18B4-C8C9-4858-B684-7E7663C2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4E01D-E12A-429F-8C81-EE3705B48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651B5-B119-41FA-B873-E96C9E9C1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6F342-0BAA-4112-9BB5-6514F027B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25E0-FB7F-47A6-86D8-B42426791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0D84-9393-4E28-8664-ECF0C63F7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4591-0377-4A35-B4CA-5F55C373D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BDDD-2F51-457B-8FB6-74DF8996A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6ED8-D704-4931-BA82-9BE2AC8F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A6A2-82FF-4F55-BBD6-ABBDC115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AC2F-3B11-416C-9D3D-D2748C90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5235C-612C-41EF-8EFE-7CF2FBFF2EE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B3686-9A90-4637-BA32-9A4746BFA4D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dbbd71"/>
                </a:solidFill>
                <a:latin typeface="Times New Roman"/>
                <a:ea typeface="Times New Roman"/>
              </a:rPr>
              <a:t>Кофейное дерево </a:t>
            </a:r>
            <a:endParaRPr b="0" lang="en-US" sz="6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5508720" y="6093000"/>
            <a:ext cx="352728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Юный цветовод» 3 г.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Выращивани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начала в рассаднике, где обеспечивается нужное количество солнечного света и тени, сажают специально выведенные семена. Примерно через полгода сеянцы пересаживают на поле, почва которого подготовлена для них с помощью удобрений. Кофейные сеянцы сажаются рядами, расстояние между которыми делается с расчётом ухода за саженцами и землёй, а также для уборки урожа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одоносят растения только при круглогодичном уходе, в который входят прополка сорняков и регулярная обработка деревьев фунгицидами и инсектицидами с целью защитить их от вредителей и болезней, таких, как бобовый сверлильщик или кофейная ржавчи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одоносить молодое растение начинает самое малое через два года. Кофе лучше собирать вручную, снимая только спелые ягоды одну за другой; именно так и делается в Колумбии, Коста-Рике и других странах, когда компании специально нанимают сезонных рабочи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64072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бранные вручную ягоды обычно подвергаются обработке влажным способом. Они помещаются в протирочную машину, которая снимает с семян большую часть мякоти. Затем семена на один-три дня кладутся в баки, где под действием энзимов, возникающих естественным путём, оставшаяся мякоть разлагается в процессе ферментации. После этого семена промывают, удаляя последние остатки мякоти. Часть из них сушат под солнцем на бетонных террасах или сушильных столах, а часть — пропуская через сушилки с горячим воздухом. Вслед за этим механически удаляются покрывающие семена слои сухой кожицы, которая состоит из пергаментной и серебристой оболоче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457200" y="549360"/>
            <a:ext cx="8229600" cy="55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08000" y="188640"/>
            <a:ext cx="8928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ерментация, которая осуществляется при обработке влажным способом, наряду с использованием только полностью созревших ягод позволяет получать мягкий кофе отличного каче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Бразилии, главной стране по производству кофе, на плантациях чаще всего применяется уборочный метод, известный как derriça. Кофе собирают вручную, снимая с ветвей все до единой ягоды, независимо от степени их спелости. Недавно на некоторых плантациях для улучшения качества продукции и повышения производительности труда стали переходить на механизированные и полумеханизированные методы уборки. При одном из них используется ручной пневматический инструмент, трясущий ветви, в результате чего ягоды падают на земл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павшие плоды собирают граблями и, чтобы удалить листья, грязь и палочки, просеивают либо вручную, либо механически. Затем кофейные ягоды складываются в большие 60-литровые корзины. Просеянные ягоды моют в бетонном корыте или в специально предназначенной для этого машине. Во время мойки спелые плоды отделяются от старых сухих, которые начали гни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3" descr=""/>
          <p:cNvPicPr/>
          <p:nvPr/>
        </p:nvPicPr>
        <p:blipFill>
          <a:blip r:embed="rId1"/>
          <a:stretch/>
        </p:blipFill>
        <p:spPr>
          <a:xfrm>
            <a:off x="457200" y="333360"/>
            <a:ext cx="8229600" cy="57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08000" y="764640"/>
            <a:ext cx="885672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мытый кофе раскладывают на большой бетонной террасе для просушивания на солнце в течение 15—20 дней. В это время, чтобы зёрна просохли как следует, их переворачивают примерно каждые 20 минут. Иногда, чтобы они высохли скорее, используются механические сушилки. Необходимо следить за содержанием в зёрнах влаги, иначе они могут пересохнуть, отчего станут хрупкими и начнут ломаться — а из-за этого снизится их ценность. Когда достигнута идеальная влажность — между 11 и 12 процентами, — зёрна механически очищаются от шелухи. Затем их раскладывают в мешки и отправляют на предприятия, где его классифицируют и подвергают дальнейшей обработк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Классификация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764640"/>
            <a:ext cx="822960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лее берутся пробы с каждого мешка завоз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 взятия проб, кофе из разных завозов складывается вместе и подвергается дальнейшей обработке для улучшения качества. Продукция проходит через очистительную машину, затем через механическое сито, разделяющее зёрна по размеру, а затем они поступают на вибрирующий стол, который сортирует их по весу. После этого продукт направляется в электронный сепаратор, удаляющий чёрные и зелёные зёрна, которые портят вкус сваренного кофе. Все, что осталось, поступает в складской резервуар и расфасовывается в мешки. В мешках хранятся зёрна единого размера и качества, которые можно экспортировать или продавать местным покупателя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бы, взятые раньше классифицируют для определения цены на продукцию. В первую очередь образчики распределяются по типам на основании количества дефектов в 300 граммах кофе. К дефектам относятся чёрные, зелёные и сломанные семена, а также шелуха, палочки и камушки. Затем зёрна просеиваются через несколько сит и распределяются по размер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457200" y="836640"/>
            <a:ext cx="82296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конец кофе отправляют на дегустацию. Образчик слегка поджаривают, измельчают и раскладывают в несколько стаканов отмеренными порциями. Добавляют кипяток, содержимое стаканов перемешивают, и опытный дегустатор оценивает запах, исходящий от каждой пробы. Дав образчику остыть и частичкам кофе осесть, он зачерпывает немного маленьким половником, берет кофе-образчик в рот, сразу же сплёвывает и быстро переходит к следующему стакану, где все повторяет сначала. Попробовав все образчики, он дает кофе разные оценки: от «мягкий» (приятный, нетерпкий, почти сладкий) до «жёсткий» (с резким, йодистым вкусом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бы безошибочно определять многие едва различимые привкусы, дегустатор должен обладать тонким вкусом, обширными знаниями и богатым опытом. Результаты дегустации не только служат основанием для определения цены, но и важны на следующем этапе производства высококачественного коф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Приготовление коф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мешива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помощью смешивания получают кофе с дополняющими друг друга свойствами для получения сбалансированного продукта, в котором усилены такие желательные качества, как приятный вкус, аромат, насыщенность и привлекательный внешний вид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Коф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́фе — напиток, изготавливаемый из жареных зёрен кофейного дерева. Благодаря содержанию кофеина оказывает стимулирующее действ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4" descr="200px-A_small_cup_of_coffee"/>
          <p:cNvPicPr/>
          <p:nvPr/>
        </p:nvPicPr>
        <p:blipFill>
          <a:blip r:embed="rId1"/>
          <a:stretch/>
        </p:blipFill>
        <p:spPr>
          <a:xfrm>
            <a:off x="6372360" y="4508640"/>
            <a:ext cx="25398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Обжарк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жарка — один из главных этапов в получении хорошего кофе. При обжарке зелёные кофейные зёрна увеличиваются в объёме и меняют цвет с зелёного на коричневы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кус кофе формируется благодаря многим сложным ароматическим химическим соединениям. В зависимости от того, проявления каких соединений хочет добиться обжарщик, подбирается оптимальный режим обжар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правило выделяют 4 степени обжарки. Самая лёгкая степень обжарки обычно называется скандинавской, более тёмная — венской, ещё темнее французская обжарка. Самая тёмная степень обжарки называется итальянско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Помол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лотый кофе довольно быстро теряет часть вкуса и аромата, поэтому рекомендуется молоть зёрна непосредственно перед употребление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Рисунок 1" descr=""/>
          <p:cNvPicPr/>
          <p:nvPr/>
        </p:nvPicPr>
        <p:blipFill>
          <a:blip r:embed="rId1"/>
          <a:stretch/>
        </p:blipFill>
        <p:spPr>
          <a:xfrm>
            <a:off x="1763640" y="3211560"/>
            <a:ext cx="5413320" cy="35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164040" y="1420920"/>
            <a:ext cx="2560320" cy="25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Конец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87" name="Рисунок 1" descr=""/>
          <p:cNvPicPr/>
          <p:nvPr/>
        </p:nvPicPr>
        <p:blipFill>
          <a:blip r:embed="rId1"/>
          <a:stretch/>
        </p:blipFill>
        <p:spPr>
          <a:xfrm>
            <a:off x="5724360" y="1420920"/>
            <a:ext cx="3027600" cy="346068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2" descr=""/>
          <p:cNvPicPr/>
          <p:nvPr/>
        </p:nvPicPr>
        <p:blipFill>
          <a:blip r:embed="rId2"/>
          <a:stretch/>
        </p:blipFill>
        <p:spPr>
          <a:xfrm>
            <a:off x="3276720" y="4881600"/>
            <a:ext cx="2638440" cy="176832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5" descr=""/>
          <p:cNvPicPr/>
          <p:nvPr/>
        </p:nvPicPr>
        <p:blipFill>
          <a:blip r:embed="rId3"/>
          <a:stretch/>
        </p:blipFill>
        <p:spPr>
          <a:xfrm>
            <a:off x="395280" y="1420920"/>
            <a:ext cx="276876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Места́ выращивания кофе в прошлом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о XIV века кофе произрастал в Эфиопии в диком виде. После кофейное дерево было привезено на Аравийский полуостров. В конце XVI века европейские торговцы начали закупать кофе в арабских портах и привозить в Европу в 1600-е гг. Согласно легенде, в середине XVII века мусульманский пилигрим тайно вывез кофейные зерна в Южную Индию. Оттуда в конце XVII века голландские торговцы тайно вывезли кофейное дерево на Яву и Суматру. Это послужило концом арабской монополии на выращивание коф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тем, в 1706 году голландские колонисты прислали саженец кофейного дерева в ботанический сад Амстердама, и с этого дерева началось выращивание растения в колониях Нового Света. Через несколько лет французский король получает в подарок саженец дерева от голландцев, и вскоре французы вывозят сорта мокко из Йемена на о. Бурбон (ныне — Реюньон, рядом с островом Мадагаскар). Так началась история известного сорта арабики, называемой «бурбон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457200" y="476280"/>
            <a:ext cx="822960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dbbd71"/>
                </a:solidFill>
                <a:latin typeface="Times New Roman"/>
                <a:ea typeface="Times New Roman"/>
              </a:rPr>
              <a:t>История</a:t>
            </a:r>
            <a:endParaRPr b="0" lang="en-US" sz="6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721 году закладываются плантации в Гвиане и на Мартинике. В 1727 — в Бразилии, в 1730 году — на Ямайке (начало знаменитого сорта Blue Mountain), 1748 год — на Кубе, 1760 — в Гватемале, 1779 — в Коста-Рике, и к началу XIX века кофейный пояс Земли замкнулся. Всего за несколько веков кофе стал популярным на обоих полушариях, являясь неплохим источником доход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Виды коф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природе существует около 70 видов кофейных деревьев — от карликовых кустарников до 10-метровых великан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уществует два основных ботанических вида кофейных деревьев и, соответственно, зёрен, получаемых из плодов этих деревьев: арабика и робуста, которую иногда называют конголезским кофе. Этот объём делится в соотношении 70 % — арабика, 30 % — робус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иболее распространённый сорт кофе, арабика, произрастает на высоте от 600 до 2000 метров над уровнем моря. Красивые по форме зёрна как правило имеют продолговатую форму, гладкую поверхность, слегка изогнутую в форме буквы «S» линию, в которой обычно после лёгкой обжарки остаются невыгоревшие частицы кофейной ягод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1403280" y="404640"/>
            <a:ext cx="6707160" cy="587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1128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 робуста является быстрорастущим и более устойчивым к вредителям, чем арабика, и произрастает примерно от 0 до 600 м над уровнем моря, прежде всего — в тропических районах Африки, Индии и Индонезии. Зёрна имеют округлую форму, цвет — от светло-коричневого до серовато-зелёног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буста обычно считается менее изысканным кофе с точки зрения аромата. В то же время он содержит больше кофеина, а также часто используется в эспрессо-смесях, что позволяет добиваться более качественной кофейной пенки и удешевляет смес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ругие сорта, например, либерика и эксцельса — не имеют промышленного значения. Однако некоторые сорта, например, произрастающий в Африке сорт «Копи Лювак» или «Капе Аламид» является самым дорогим кофе (около 750 рублей за чашку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авно появился и более дешёвый (в 10 раз) аналог Копи Лювак, «Monkey Coffee», с тайваньских плантаций на склонах Формозских гор, со сложной цепочкой обработки сырых зёре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История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гласно самой распространённой легенде, тонизирующие свойства кофе были открыты эфиопским пастухом по имени Калди, заметившим, что его козы, наевшись днем плотных листьев и темно-красных плодов кофейного дерева, начинают вести себя по ночам возбуждённо безо всякой очевидной причины. Он рассказал об этом странном случае настоятелю монастыря, и тот решил испробовать на себе действие необычных зёре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стоятель был поражён силой воздействия напитка и, дабы поддержать бодрость монахов, засыпавших во время ночных молебнов, повелел им пить этот отвар. Впоследствии монахи научились обжаривать и молоть зёрна. Полученный напиток снимал усталость, давал свежие сил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17:20:50Z</dcterms:created>
  <dc:creator>Стася</dc:creator>
  <dc:description/>
  <dc:language>en-US</dc:language>
  <cp:lastModifiedBy>натальяfyyf новокрещенова</cp:lastModifiedBy>
  <dcterms:modified xsi:type="dcterms:W3CDTF">2017-01-23T17:40:36Z</dcterms:modified>
  <cp:revision>12</cp:revision>
  <dc:subject/>
  <dc:title>Презентация по вкусовым товарам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0d0000000000010290110207f7000400038000</vt:lpwstr>
  </property>
</Properties>
</file>