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440-3D09-4FCB-AFCC-2AFE1283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084-7577-4CDF-9519-08AE3EB1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FAA-5936-47FC-A236-05C3EBC6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9AF-4414-4E7C-A026-95D79F60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27E-95B1-4B4F-AD72-E7AC0543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77E7-B24E-425A-B473-903BC78F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D443-BA6E-4685-9131-7AF60FCF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4870-28C9-4962-A2A4-3BE47625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F3CE-D5AD-4B6B-A2BC-B91999AB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F40F-CDE6-4746-809B-F3EF0FAC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FCC3-0ACD-46AF-B046-8F69A04A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54F-037D-4AD8-80AA-15F774AC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D244-B773-4BAB-8E55-CBE8A3A4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9560-EF32-40B3-8068-B96C7DF2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55E7-9CAE-498C-A678-36F5ADD4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BE66-3008-4AC3-81DA-202E9B6D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F384-4166-4908-8A1C-65430D85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6B8-6ACD-4091-8F74-597E7A60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C72-6661-425D-A3C5-0A8FF8E7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211-AC6A-4D03-90B7-69601E1A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A79-04D8-4171-A289-4F8156A8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580-F83A-4DCE-AA03-E7D3BDE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C5D-6C5A-4EF1-A54A-4E3785EF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C77-5DE8-4BEB-A19E-7F956024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B649-2C72-455C-9F1C-CC00660DDC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9356-D7B2-4292-8245-8E9B80F2D2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Кофейное дерево 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508720" y="6093000"/>
            <a:ext cx="3527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Юный цветовод» 3 г.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ыращив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чала в рассаднике, где обеспечивается нужное количество солнечного света и тени, сажают специально выведенные семена. Примерно через полгода сеянцы пересаживают на поле, почва которого подготовлена для них с помощью удобрений. Кофейные сеянцы сажаются рядами, расстояние между которыми делается с расчётом ухода за саженцами и землёй, а также для уборки урож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оносят растения только при круглогодичном уходе, в который входят прополка сорняков и регулярная обработка деревьев фунгицидами и инсектицидами с целью защитить их от вредителей и болезней, таких, как бобовый сверлильщик или кофейная ржавч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оносить молодое растение начинает самое малое через два года. Кофе лучше собирать вручную, снимая только спелые ягоды одну за другой; именно так и делается в Колумбии, Коста-Рике и других странах, когда компании специально нанимают сезонных рабоч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640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ранные вручную ягоды обычно подвергаются обработке влажным способом. Они помещаются в протирочную машину, которая снимает с семян большую часть мякоти. Затем семена на один-три дня кладутся в баки, где под действием энзимов, возникающих естественным путём, оставшаяся мякоть разлагается в процессе ферментации. После этого семена промывают, удаляя последние остатки мякоти. Часть из них сушат под солнцем на бетонных террасах или сушильных столах, а часть — пропуская через сушилки с горячим воздухом. Вслед за этим механически удаляются покрывающие семена слои сухой кожицы, которая состоит из пергаментной и серебристой оболоч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рментация, которая осуществляется при обработке влажным способом, наряду с использованием только полностью созревших ягод позволяет получать мягкий кофе отличного ка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разилии, главной стране по производству кофе, на плантациях чаще всего применяется уборочный метод, известный как derriça. Кофе собирают вручную, снимая с ветвей все до единой ягоды, независимо от степени их спелости. Недавно на некоторых плантациях для улучшения качества продукции и повышения производительности труда стали переходить на механизированные и полумеханизированные методы уборки. При одном из них используется ручной пневматический инструмент, трясущий ветви, в результате чего ягоды падают на земл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авшие плоды собирают граблями и, чтобы удалить листья, грязь и палочки, просеивают либо вручную, либо механически. Затем кофейные ягоды складываются в большие 60-литровые корзины. Просеянные ягоды моют в бетонном корыте или в специально предназначенной для этого машине. Во время мойки спелые плоды отделяются от старых сухих, которые начали гн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мытый кофе раскладывают на большой бетонной террасе для просушивания на солнце в течение 15—20 дней. В это время, чтобы зёрна просохли как следует, их переворачивают примерно каждые 20 минут. Иногда, чтобы они высохли скорее, используются механические сушилки. Необходимо следить за содержанием в зёрнах влаги, иначе они могут пересохнуть, отчего станут хрупкими и начнут ломаться — а из-за этого снизится их ценность. Когда достигнута идеальная влажность — между 11 и 12 процентами, — зёрна механически очищаются от шелухи. Затем их раскладывают в мешки и отправляют на предприятия, где его классифицируют и подвергают дальнейшей обработ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ассификац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ее берутся пробы с каждого мешка заво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взятия проб, кофе из разных завозов складывается вместе и подвергается дальнейшей обработке для улучшения качества. Продукция проходит через очистительную машину, затем через механическое сито, разделяющее зёрна по размеру, а затем они поступают на вибрирующий стол, который сортирует их по весу. После этого продукт направляется в электронный сепаратор, удаляющий чёрные и зелёные зёрна, которые портят вкус сваренного кофе. Все, что осталось, поступает в складской резервуар и расфасовывается в мешки. В мешках хранятся зёрна единого размера и качества, которые можно экспортировать или продавать местным покупател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ы, взятые раньше классифицируют для определения цены на продукцию. В первую очередь образчики распределяются по типам на основании количества дефектов в 300 граммах кофе. К дефектам относятся чёрные, зелёные и сломанные семена, а также шелуха, палочки и камушки. Затем зёрна просеиваются через несколько сит и распределяются по разме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ец кофе отправляют на дегустацию. Образчик слегка поджаривают, измельчают и раскладывают в несколько стаканов отмеренными порциями. Добавляют кипяток, содержимое стаканов перемешивают, и опытный дегустатор оценивает запах, исходящий от каждой пробы. Дав образчику остыть и частичкам кофе осесть, он зачерпывает немного маленьким половником, берет кофе-образчик в рот, сразу же сплёвывает и быстро переходит к следующему стакану, где все повторяет сначала. Попробовав все образчики, он дает кофе разные оценки: от «мягкий» (приятный, нетерпкий, почти сладкий) до «жёсткий» (с резким, йодистым вкусом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безошибочно определять многие едва различимые привкусы, дегустатор должен обладать тонким вкусом, обширными знаниями и богатым опытом. Результаты дегустации не только служат основанием для определения цены, но и важны на следующем этапе производства высококачественного коф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иготовление коф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еши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мощью смешивания получают кофе с дополняющими друг друга свойствами для получения сбалансированного продукта, в котором усилены такие желательные качества, как приятный вкус, аромат, насыщенность и привлекательный внешний ви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ф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́фе — напиток, изготавливаемый из жареных зёрен кофейного дерева. Благодаря содержанию кофеина оказывает стимулирующее действ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200px-A_small_cup_of_coffee"/>
          <p:cNvPicPr/>
          <p:nvPr/>
        </p:nvPicPr>
        <p:blipFill>
          <a:blip r:embed="rId1"/>
          <a:stretch/>
        </p:blipFill>
        <p:spPr>
          <a:xfrm>
            <a:off x="6372360" y="4508640"/>
            <a:ext cx="2539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бжар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жарка — один из главных этапов в получении хорошего кофе. При обжарке зелёные кофейные зёрна увеличиваются в объёме и меняют цвет с зелёного на коричнев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ус кофе формируется благодаря многим сложным ароматическим химическим соединениям. В зависимости от того, проявления каких соединений хочет добиться обжарщик, подбирается оптимальный режим обжа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авило выделяют 4 степени обжарки. Самая лёгкая степень обжарки обычно называется скандинавской, более тёмная — венской, ещё темнее французская обжарка. Самая тёмная степень обжарки называется итальянс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м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тый кофе довольно быстро теряет часть вкуса и аромата, поэтому рекомендуется молоть зёрна непосредственно перед употребл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763640" y="3211560"/>
            <a:ext cx="54133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64040" y="1420920"/>
            <a:ext cx="256032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ец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5724360" y="1420920"/>
            <a:ext cx="3027600" cy="34606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" descr=""/>
          <p:cNvPicPr/>
          <p:nvPr/>
        </p:nvPicPr>
        <p:blipFill>
          <a:blip r:embed="rId2"/>
          <a:stretch/>
        </p:blipFill>
        <p:spPr>
          <a:xfrm>
            <a:off x="3276720" y="4881600"/>
            <a:ext cx="2638440" cy="17683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"/>
          <p:cNvPicPr/>
          <p:nvPr/>
        </p:nvPicPr>
        <p:blipFill>
          <a:blip r:embed="rId3"/>
          <a:stretch/>
        </p:blipFill>
        <p:spPr>
          <a:xfrm>
            <a:off x="395280" y="1420920"/>
            <a:ext cx="27687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еста́ выращивания кофе в прошлом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XIV века кофе произрастал в Эфиопии в диком виде. После кофейное дерево было привезено на Аравийский полуостров. В конце XVI века европейские торговцы начали закупать кофе в арабских портах и привозить в Европу в 1600-е гг. Согласно легенде, в середине XVII века мусульманский пилигрим тайно вывез кофейные зерна в Южную Индию. Оттуда в конце XVII века голландские торговцы тайно вывезли кофейное дерево на Яву и Суматру. Это послужило концом арабской монополии на выращивание коф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ем, в 1706 году голландские колонисты прислали саженец кофейного дерева в ботанический сад Амстердама, и с этого дерева началось выращивание растения в колониях Нового Света. Через несколько лет французский король получает в подарок саженец дерева от голландцев, и вскоре французы вывозят сорта мокко из Йемена на о. Бурбон (ныне — Реюньон, рядом с островом Мадагаскар). Так началась история известного сорта арабики, называемой «бурбон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История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21 году закладываются плантации в Гвиане и на Мартинике. В 1727 — в Бразилии, в 1730 году — на Ямайке (начало знаменитого сорта Blue Mountain), 1748 год — на Кубе, 1760 — в Гватемале, 1779 — в Коста-Рике, и к началу XIX века кофейный пояс Земли замкнулся. Всего за несколько веков кофе стал популярным на обоих полушариях, являясь неплохим источником дох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коф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ироде существует около 70 видов кофейных деревьев — от карликовых кустарников до 10-метровых великан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два основных ботанических вида кофейных деревьев и, соответственно, зёрен, получаемых из плодов этих деревьев: арабика и робуста, которую иногда называют конголезским кофе. Этот объём делится в соотношении 70 % — арабика, 30 % — робу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более распространённый сорт кофе, арабика, произрастает на высоте от 600 до 2000 метров над уровнем моря. Красивые по форме зёрна как правило имеют продолговатую форму, гладкую поверхность, слегка изогнутую в форме буквы «S» линию, в которой обычно после лёгкой обжарки остаются невыгоревшие частицы кофейной яг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70716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робуста является быстрорастущим и более устойчивым к вредителям, чем арабика, и произрастает примерно от 0 до 600 м над уровнем моря, прежде всего — в тропических районах Африки, Индии и Индонезии. Зёрна имеют округлую форму, цвет — от светло-коричневого до серовато-зелён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буста обычно считается менее изысканным кофе с точки зрения аромата. В то же время он содержит больше кофеина, а также часто используется в эспрессо-смесях, что позволяет добиваться более качественной кофейной пенки и удешевляет сме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е сорта, например, либерика и эксцельса — не имеют промышленного значения. Однако некоторые сорта, например, произрастающий в Африке сорт «Копи Лювак» или «Капе Аламид» является самым дорогим кофе (около 750 рублей за чашк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вно появился и более дешёвый (в 10 раз) аналог Копи Лювак, «Monkey Coffee», с тайваньских плантаций на склонах Формозских гор, со сложной цепочкой обработки сырых зёр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самой распространённой легенде, тонизирующие свойства кофе были открыты эфиопским пастухом по имени Калди, заметившим, что его козы, наевшись днем плотных листьев и темно-красных плодов кофейного дерева, начинают вести себя по ночам возбуждённо безо всякой очевидной причины. Он рассказал об этом странном случае настоятелю монастыря, и тот решил испробовать на себе действие необычных зёр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оятель был поражён силой воздействия напитка и, дабы поддержать бодрость монахов, засыпавших во время ночных молебнов, повелел им пить этот отвар. Впоследствии монахи научились обжаривать и молоть зёрна. Полученный напиток снимал усталость, давал свежие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7:20:50Z</dcterms:created>
  <dc:creator>Стася</dc:creator>
  <dc:description/>
  <dc:language>en-US</dc:language>
  <cp:lastModifiedBy>натальяfyyf новокрещенова</cp:lastModifiedBy>
  <dcterms:modified xsi:type="dcterms:W3CDTF">2017-01-23T17:40:36Z</dcterms:modified>
  <cp:revision>12</cp:revision>
  <dc:subject/>
  <dc:title>Презентация по вкусовым товара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d0000000000010290110207f7000400038000</vt:lpwstr>
  </property>
</Properties>
</file>