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5CE9-8066-4912-B22B-CDAD52D49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EA77-EEC6-4AA3-9BCE-062B15F7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C039-CFB4-4179-8FB0-903EA4083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FE9E-F365-4C2B-A61E-E9AEF2C6B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509B-8259-4609-B691-B20886CE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FF0D-E5A6-4D38-BF4F-A9537C04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6358-B133-455C-A8DC-BF2CCF70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86C3-05A9-475B-92F3-D0481EC2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A297-B275-435F-98C9-F98699D6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00CF-5EB1-4960-BB29-F76DFCD8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6844-5E97-4A7D-A653-54EA89BE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687B-24C3-47A9-B95F-D10CD776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1152-1863-4762-A8FC-4C3A4E254F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4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dz_05_zolotaya_niva_41"/>
          <p:cNvPicPr/>
          <p:nvPr/>
        </p:nvPicPr>
        <p:blipFill>
          <a:blip r:embed="rId1"/>
          <a:srcRect l="8399" t="19025" r="8399" b="15854"/>
          <a:stretch/>
        </p:blipFill>
        <p:spPr>
          <a:xfrm>
            <a:off x="0" y="0"/>
            <a:ext cx="9144000" cy="4741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80" y="4941720"/>
            <a:ext cx="8748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«Метро – удивительный</a:t>
            </a:r>
            <a:br>
              <a:rPr sz="4800"/>
            </a:b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подземный мир»</a:t>
            </a:r>
            <a:br>
              <a:rPr sz="4800"/>
            </a:b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Шорина Таня  2 «А»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1775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4"/>
          <p:cNvSpPr/>
          <p:nvPr/>
        </p:nvSpPr>
        <p:spPr>
          <a:xfrm>
            <a:off x="250920" y="3357720"/>
            <a:ext cx="8497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1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Метро – самый быстрый и удобный вид городского транспорта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Достоинства метро – это скорость, комфорт, экономичность и экологичность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Основные недостатки метро – толчея в часы пик, нехватка станций, сильный шум. Для борьбы с недостатками строят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вые станции, проводят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конструкцию старых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лучшают поез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3279960" y="189000"/>
            <a:ext cx="266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ВЫ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324000" y="907920"/>
            <a:ext cx="84247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1333623935_180771401_6"/>
          <p:cNvPicPr/>
          <p:nvPr/>
        </p:nvPicPr>
        <p:blipFill>
          <a:blip r:embed="rId2"/>
          <a:stretch/>
        </p:blipFill>
        <p:spPr>
          <a:xfrm>
            <a:off x="6804000" y="4653000"/>
            <a:ext cx="2160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1775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358920" y="1700280"/>
            <a:ext cx="878508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ро (или метрополитен) – это подземная городская железная дорог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Первое метро появилось в Лондоне 153 года назад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тем метро было открыто в Нью-Йорке, Будапеште, Париже, Берлине и других крупных городах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В Москве метро было открыто в 1935 году. Движение началось от станции «Сокольники» до станции «Парк культуры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901440" y="189000"/>
            <a:ext cx="744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ОЯВЛЕНИЕ МЕТРОПОЛИТ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7"/>
          <p:cNvSpPr/>
          <p:nvPr/>
        </p:nvSpPr>
        <p:spPr>
          <a:xfrm>
            <a:off x="395280" y="981000"/>
            <a:ext cx="84247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"/>
          <p:cNvPicPr/>
          <p:nvPr/>
        </p:nvPicPr>
        <p:blipFill>
          <a:blip r:embed="rId2"/>
          <a:stretch/>
        </p:blipFill>
        <p:spPr>
          <a:xfrm>
            <a:off x="2556000" y="2997360"/>
            <a:ext cx="364320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1775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250920" y="1557360"/>
            <a:ext cx="88930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рополитен – это не только средство передвижения, но и настоящий подземный музей! Над оформлением станций метро трудились лучшие архитекторы, художники, скульпторы и дизайнеры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Попав в метро, можно изучать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стори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ультур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ародов. Например, на московской станции «Площадь революции» установлено 76 бронзовых скульпту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1765800" y="260280"/>
            <a:ext cx="556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ОВРЕМЕННОЕ МЕТР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324000" y="1197000"/>
            <a:ext cx="84247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DSC06907-копия-200x300"/>
          <p:cNvPicPr/>
          <p:nvPr/>
        </p:nvPicPr>
        <p:blipFill>
          <a:blip r:embed="rId2"/>
          <a:stretch/>
        </p:blipFill>
        <p:spPr>
          <a:xfrm>
            <a:off x="971640" y="4221000"/>
            <a:ext cx="1566720" cy="2349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DSC06900-200x300"/>
          <p:cNvPicPr/>
          <p:nvPr/>
        </p:nvPicPr>
        <p:blipFill>
          <a:blip r:embed="rId3"/>
          <a:stretch/>
        </p:blipFill>
        <p:spPr>
          <a:xfrm>
            <a:off x="2771640" y="4221000"/>
            <a:ext cx="1567080" cy="2349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DSC06908-200x300"/>
          <p:cNvPicPr/>
          <p:nvPr/>
        </p:nvPicPr>
        <p:blipFill>
          <a:blip r:embed="rId4"/>
          <a:stretch/>
        </p:blipFill>
        <p:spPr>
          <a:xfrm>
            <a:off x="6516720" y="4221000"/>
            <a:ext cx="1566720" cy="2349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DSC06904-200x300"/>
          <p:cNvPicPr/>
          <p:nvPr/>
        </p:nvPicPr>
        <p:blipFill>
          <a:blip r:embed="rId5"/>
          <a:stretch/>
        </p:blipFill>
        <p:spPr>
          <a:xfrm>
            <a:off x="4643280" y="4221000"/>
            <a:ext cx="156708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1775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250920" y="1413000"/>
            <a:ext cx="86421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сковский метрополитен состоит из 12 линий и 200 станций. По количеству станций он находится на 8 месте в мире. Каждый день в Москве более 7 миллионов человек пользуются метр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1910880" y="260280"/>
            <a:ext cx="523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МОСКОВСКОЕ МЕТР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7"/>
          <p:cNvSpPr/>
          <p:nvPr/>
        </p:nvSpPr>
        <p:spPr>
          <a:xfrm>
            <a:off x="324000" y="1197000"/>
            <a:ext cx="84247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1" descr=""/>
          <p:cNvPicPr/>
          <p:nvPr/>
        </p:nvPicPr>
        <p:blipFill>
          <a:blip r:embed="rId2"/>
          <a:srcRect l="27672" t="14766" r="27672" b="14766"/>
          <a:stretch/>
        </p:blipFill>
        <p:spPr>
          <a:xfrm>
            <a:off x="2556000" y="2781360"/>
            <a:ext cx="4370400" cy="387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1775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6"/>
          <p:cNvSpPr/>
          <p:nvPr/>
        </p:nvSpPr>
        <p:spPr>
          <a:xfrm>
            <a:off x="179280" y="2349360"/>
            <a:ext cx="86043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Метро - самый быстрый вид городского транспорта. В метро не бывает заторов. Поезда отправляются каждые 2-3 минуты в любую погоду. Пассажир может точно рассчитать время прибытия на нужную станцию. Таким образом, скорость – это главный плюс метро, который перекрывает  все его минусы.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f5TqJrNxaDE"/>
          <p:cNvPicPr/>
          <p:nvPr/>
        </p:nvPicPr>
        <p:blipFill>
          <a:blip r:embed="rId2"/>
          <a:srcRect l="51882" t="0" r="0" b="0"/>
          <a:stretch/>
        </p:blipFill>
        <p:spPr>
          <a:xfrm>
            <a:off x="324000" y="333360"/>
            <a:ext cx="1176120" cy="11588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"/>
          <p:cNvSpPr/>
          <p:nvPr/>
        </p:nvSpPr>
        <p:spPr>
          <a:xfrm>
            <a:off x="2771640" y="549360"/>
            <a:ext cx="36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СКОР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train-in-a-tunnel"/>
          <p:cNvPicPr/>
          <p:nvPr/>
        </p:nvPicPr>
        <p:blipFill>
          <a:blip r:embed="rId3"/>
          <a:stretch/>
        </p:blipFill>
        <p:spPr>
          <a:xfrm>
            <a:off x="2627280" y="4581360"/>
            <a:ext cx="3687840" cy="20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1775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250920" y="1773360"/>
            <a:ext cx="8604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етро комфортно и красиво. Для удобства пассажиров при спуске и подъёме имеются эскалаторы. Современные вагоны оборудованы кондиционерами для борьбы с жарой и духотой. Есть интернет и мобильная связ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f5TqJrNxaDE"/>
          <p:cNvPicPr/>
          <p:nvPr/>
        </p:nvPicPr>
        <p:blipFill>
          <a:blip r:embed="rId2"/>
          <a:srcRect l="51882" t="0" r="0" b="0"/>
          <a:stretch/>
        </p:blipFill>
        <p:spPr>
          <a:xfrm>
            <a:off x="324000" y="333360"/>
            <a:ext cx="1176120" cy="11588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7"/>
          <p:cNvSpPr/>
          <p:nvPr/>
        </p:nvSpPr>
        <p:spPr>
          <a:xfrm>
            <a:off x="2771640" y="549360"/>
            <a:ext cx="36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КОМФОР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matro"/>
          <p:cNvPicPr/>
          <p:nvPr/>
        </p:nvPicPr>
        <p:blipFill>
          <a:blip r:embed="rId3"/>
          <a:srcRect l="0" t="0" r="17717" b="0"/>
          <a:stretch/>
        </p:blipFill>
        <p:spPr>
          <a:xfrm>
            <a:off x="5796000" y="3284640"/>
            <a:ext cx="3081240" cy="2108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doc6izfqcirh1j4r7xy8he_800_480"/>
          <p:cNvPicPr/>
          <p:nvPr/>
        </p:nvPicPr>
        <p:blipFill>
          <a:blip r:embed="rId4"/>
          <a:stretch/>
        </p:blipFill>
        <p:spPr>
          <a:xfrm>
            <a:off x="250920" y="3284640"/>
            <a:ext cx="3168720" cy="2006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ity_metro_moscow"/>
          <p:cNvPicPr/>
          <p:nvPr/>
        </p:nvPicPr>
        <p:blipFill>
          <a:blip r:embed="rId5"/>
          <a:stretch/>
        </p:blipFill>
        <p:spPr>
          <a:xfrm>
            <a:off x="3059280" y="436572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177517"/>
          <p:cNvPicPr/>
          <p:nvPr/>
        </p:nvPicPr>
        <p:blipFill>
          <a:blip r:embed="rId1"/>
          <a:stretch/>
        </p:blipFill>
        <p:spPr>
          <a:xfrm>
            <a:off x="0" y="41400"/>
            <a:ext cx="919656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250920" y="1773360"/>
            <a:ext cx="8604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ро – самый экономный вид городского транспорта. Можно проехать с одного конца Москвы на друго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го за 26 рубл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f5TqJrNxaDE"/>
          <p:cNvPicPr/>
          <p:nvPr/>
        </p:nvPicPr>
        <p:blipFill>
          <a:blip r:embed="rId2"/>
          <a:srcRect l="51882" t="0" r="0" b="0"/>
          <a:stretch/>
        </p:blipFill>
        <p:spPr>
          <a:xfrm>
            <a:off x="324000" y="333360"/>
            <a:ext cx="1176120" cy="11588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2771640" y="549360"/>
            <a:ext cx="36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ЭКОНОМ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savings-box-161876__180"/>
          <p:cNvPicPr/>
          <p:nvPr/>
        </p:nvPicPr>
        <p:blipFill>
          <a:blip r:embed="rId3"/>
          <a:stretch/>
        </p:blipFill>
        <p:spPr>
          <a:xfrm>
            <a:off x="289080" y="3048120"/>
            <a:ext cx="2952720" cy="2460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f5TqJrNxaDE"/>
          <p:cNvPicPr/>
          <p:nvPr/>
        </p:nvPicPr>
        <p:blipFill>
          <a:blip r:embed="rId4"/>
          <a:srcRect l="51882" t="0" r="0" b="0"/>
          <a:stretch/>
        </p:blipFill>
        <p:spPr>
          <a:xfrm>
            <a:off x="3321000" y="3630600"/>
            <a:ext cx="117648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"/>
          <p:cNvSpPr/>
          <p:nvPr/>
        </p:nvSpPr>
        <p:spPr>
          <a:xfrm>
            <a:off x="4351320" y="3835440"/>
            <a:ext cx="47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ЭКОЛОГИЧ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2"/>
          <p:cNvSpPr/>
          <p:nvPr/>
        </p:nvSpPr>
        <p:spPr>
          <a:xfrm flipV="1" rot="10800000">
            <a:off x="3309840" y="4929840"/>
            <a:ext cx="549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ро работает на электрической энергии. Нет вредных выбросов в окружающую сре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177517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250920" y="1341360"/>
            <a:ext cx="86040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тром и вечером метро сильно перегружено. Теснота в вагонах, давка на станц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1908000" y="26028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олчея в часы п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1" descr="f5TqJrNxaDE"/>
          <p:cNvPicPr/>
          <p:nvPr/>
        </p:nvPicPr>
        <p:blipFill>
          <a:blip r:embed="rId2"/>
          <a:srcRect l="0" t="0" r="51882" b="0"/>
          <a:stretch/>
        </p:blipFill>
        <p:spPr>
          <a:xfrm>
            <a:off x="250920" y="189000"/>
            <a:ext cx="1152360" cy="1136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877285"/>
          <p:cNvPicPr/>
          <p:nvPr/>
        </p:nvPicPr>
        <p:blipFill>
          <a:blip r:embed="rId3"/>
          <a:stretch/>
        </p:blipFill>
        <p:spPr>
          <a:xfrm>
            <a:off x="468360" y="2205000"/>
            <a:ext cx="3565440" cy="2673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"/>
          <p:cNvPicPr/>
          <p:nvPr/>
        </p:nvPicPr>
        <p:blipFill>
          <a:blip r:embed="rId4"/>
          <a:stretch/>
        </p:blipFill>
        <p:spPr>
          <a:xfrm>
            <a:off x="4716360" y="2205000"/>
            <a:ext cx="3780000" cy="27147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6"/>
          <p:cNvSpPr/>
          <p:nvPr/>
        </p:nvSpPr>
        <p:spPr>
          <a:xfrm>
            <a:off x="3995640" y="4941720"/>
            <a:ext cx="484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отрудники метро Токио «утрамбовываю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людей в вагоны в часы п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5589720"/>
            <a:ext cx="9144000" cy="1268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574560" y="5734080"/>
            <a:ext cx="856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шение пробл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Строительство новых станций, реконструкция стар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Дополнительные кассы и автоматы продажи бил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1775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250920" y="1628640"/>
            <a:ext cx="86040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новые станции метро оборудованы специальными лифтами и пандусами. На старых станциях их нет. Инвалиды и родители с детскими колясками не могут попасть в метр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1476360" y="33336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тсутствие условий для инвалидов и пассажиров с детскими коляс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f5TqJrNxaDE"/>
          <p:cNvPicPr/>
          <p:nvPr/>
        </p:nvPicPr>
        <p:blipFill>
          <a:blip r:embed="rId2"/>
          <a:srcRect l="0" t="0" r="51882" b="0"/>
          <a:stretch/>
        </p:blipFill>
        <p:spPr>
          <a:xfrm>
            <a:off x="250920" y="189000"/>
            <a:ext cx="1152360" cy="11365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0" y="5589720"/>
            <a:ext cx="9144000" cy="1268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324000" y="587700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шение пробл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конструкция старых стан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1" descr=""/>
          <p:cNvPicPr/>
          <p:nvPr/>
        </p:nvPicPr>
        <p:blipFill>
          <a:blip r:embed="rId3"/>
          <a:srcRect l="18232" t="0" r="0" b="0"/>
          <a:stretch/>
        </p:blipFill>
        <p:spPr>
          <a:xfrm>
            <a:off x="900000" y="2997360"/>
            <a:ext cx="3121200" cy="2374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0_6c40a_b4eb0d5b_XXL"/>
          <p:cNvPicPr/>
          <p:nvPr/>
        </p:nvPicPr>
        <p:blipFill>
          <a:blip r:embed="rId4"/>
          <a:stretch/>
        </p:blipFill>
        <p:spPr>
          <a:xfrm>
            <a:off x="4716360" y="2997360"/>
            <a:ext cx="3530880" cy="23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1T22:17:02Z</dcterms:created>
  <dc:creator>admin</dc:creator>
  <dc:description/>
  <dc:language>en-US</dc:language>
  <cp:lastModifiedBy>User</cp:lastModifiedBy>
  <dcterms:modified xsi:type="dcterms:W3CDTF">2020-11-21T15:19:20Z</dcterms:modified>
  <cp:revision>62</cp:revision>
  <dc:subject/>
  <dc:title>Слайд 1</dc:title>
</cp:coreProperties>
</file>