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663-E2EB-400E-86EA-D90CDD57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3AE-C5B5-4780-B1A7-ED9D38E0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6CD-E090-4E09-9DA0-3A2A2A1C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3A5-DECE-49A5-B6C0-523B70F0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575-F1BF-4F60-8B1C-4B1F0521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9D2-2AAF-470F-80AE-C34BAE6C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35B-FD81-47C8-8B33-A450A0C7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54A-0F3C-45FE-89A4-6AEE618D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A80-1303-4608-BCA4-BFAB7B02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619-3DE4-4B45-ACBA-985620C2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A66-9F49-46C6-82B6-CC91779D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8AC-3813-437B-82ED-BB57FC83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0893-2DDD-4635-B1A0-544AEE8FC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z_05_zolotaya_niva_41"/>
          <p:cNvPicPr/>
          <p:nvPr/>
        </p:nvPicPr>
        <p:blipFill>
          <a:blip r:embed="rId1"/>
          <a:srcRect l="8399" t="19025" r="8399" b="15854"/>
          <a:stretch/>
        </p:blipFill>
        <p:spPr>
          <a:xfrm>
            <a:off x="0" y="0"/>
            <a:ext cx="9144000" cy="474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4941720"/>
            <a:ext cx="8748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«Метро – удивительный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подземный мир»</a:t>
            </a:r>
            <a:br>
              <a:rPr sz="4800"/>
            </a:b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Шорина Таня  2 «А»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250920" y="335772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Метро – самый быстрый и удобный вид городского транспорт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Достоинства метро – это скорость, комфорт, экономичность и экологичность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новные недостатки метро – толчея в часы пик, нехватка станций, сильный шум. Для борьбы с недостатками строя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ые станции, проводя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онструкцию стары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лучшают по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79960" y="18900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324000" y="907920"/>
            <a:ext cx="8424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1333623935_180771401_6"/>
          <p:cNvPicPr/>
          <p:nvPr/>
        </p:nvPicPr>
        <p:blipFill>
          <a:blip r:embed="rId2"/>
          <a:stretch/>
        </p:blipFill>
        <p:spPr>
          <a:xfrm>
            <a:off x="6804000" y="4653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58920" y="1700280"/>
            <a:ext cx="8785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ро (или метрополитен) – это подземная городская железная дорог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Первое метро появилось в Лондоне 153 года назад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ем метро было открыто в Нью-Йорке, Будапеште, Париже, Берлине и других крупных городах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В Москве метро было открыто в 1935 году. Движение началось от станции «Сокольники» до станции «Парк культур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901440" y="189000"/>
            <a:ext cx="74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ЯВЛЕНИЕ МЕТРОПОЛИТ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395280" y="981000"/>
            <a:ext cx="8424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56000" y="2997360"/>
            <a:ext cx="36432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50920" y="1557360"/>
            <a:ext cx="8893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рополитен – это не только средство передвижения, но и настоящий подземный музей! Над оформлением станций метро трудились лучшие архитекторы, художники, скульпторы и дизайнер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Попав в метро, можно изуча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тор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ультур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родов. Например, на московской станции «Площадь революции» установлено 76 бронзовых скульпту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765800" y="260280"/>
            <a:ext cx="55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ОВРЕМЕННОЕ МЕ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DSC06907-копия-200x300"/>
          <p:cNvPicPr/>
          <p:nvPr/>
        </p:nvPicPr>
        <p:blipFill>
          <a:blip r:embed="rId2"/>
          <a:stretch/>
        </p:blipFill>
        <p:spPr>
          <a:xfrm>
            <a:off x="971640" y="4221000"/>
            <a:ext cx="1566720" cy="234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DSC06900-200x300"/>
          <p:cNvPicPr/>
          <p:nvPr/>
        </p:nvPicPr>
        <p:blipFill>
          <a:blip r:embed="rId3"/>
          <a:stretch/>
        </p:blipFill>
        <p:spPr>
          <a:xfrm>
            <a:off x="2771640" y="4221000"/>
            <a:ext cx="1567080" cy="234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DSC06908-200x300"/>
          <p:cNvPicPr/>
          <p:nvPr/>
        </p:nvPicPr>
        <p:blipFill>
          <a:blip r:embed="rId4"/>
          <a:stretch/>
        </p:blipFill>
        <p:spPr>
          <a:xfrm>
            <a:off x="6516720" y="4221000"/>
            <a:ext cx="1566720" cy="234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DSC06904-200x300"/>
          <p:cNvPicPr/>
          <p:nvPr/>
        </p:nvPicPr>
        <p:blipFill>
          <a:blip r:embed="rId5"/>
          <a:stretch/>
        </p:blipFill>
        <p:spPr>
          <a:xfrm>
            <a:off x="4643280" y="4221000"/>
            <a:ext cx="156708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50920" y="1413000"/>
            <a:ext cx="8642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овский метрополитен состоит из 12 линий и 200 станций. По количеству станций он находится на 8 месте в мире. Каждый день в Москве более 7 миллионов человек пользуются ме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910880" y="260280"/>
            <a:ext cx="52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СКОВСКОЕ МЕ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rcRect l="27672" t="14766" r="27672" b="14766"/>
          <a:stretch/>
        </p:blipFill>
        <p:spPr>
          <a:xfrm>
            <a:off x="2556000" y="2781360"/>
            <a:ext cx="4370400" cy="38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79280" y="2349360"/>
            <a:ext cx="860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Метро - самый быстрый вид городского транспорта. В метро не бывает заторов. Поезда отправляются каждые 2-3 минуты в любую погоду. Пассажир может точно рассчитать время прибытия на нужную станцию. Таким образом, скорость – это главный плюс метро, который перекрывает  все его минусы.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f5TqJrNxaDE"/>
          <p:cNvPicPr/>
          <p:nvPr/>
        </p:nvPicPr>
        <p:blipFill>
          <a:blip r:embed="rId2"/>
          <a:srcRect l="51882" t="0" r="0" b="0"/>
          <a:stretch/>
        </p:blipFill>
        <p:spPr>
          <a:xfrm>
            <a:off x="324000" y="333360"/>
            <a:ext cx="117612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771640" y="54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train-in-a-tunnel"/>
          <p:cNvPicPr/>
          <p:nvPr/>
        </p:nvPicPr>
        <p:blipFill>
          <a:blip r:embed="rId3"/>
          <a:stretch/>
        </p:blipFill>
        <p:spPr>
          <a:xfrm>
            <a:off x="2627280" y="4581360"/>
            <a:ext cx="368784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50920" y="1773360"/>
            <a:ext cx="860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тро комфортно и красиво. Для удобства пассажиров при спуске и подъёме имеются эскалаторы. Современные вагоны оборудованы кондиционерами для борьбы с жарой и духотой. Есть интернет и мобильная 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f5TqJrNxaDE"/>
          <p:cNvPicPr/>
          <p:nvPr/>
        </p:nvPicPr>
        <p:blipFill>
          <a:blip r:embed="rId2"/>
          <a:srcRect l="51882" t="0" r="0" b="0"/>
          <a:stretch/>
        </p:blipFill>
        <p:spPr>
          <a:xfrm>
            <a:off x="324000" y="333360"/>
            <a:ext cx="117612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2771640" y="54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ОМФ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matro"/>
          <p:cNvPicPr/>
          <p:nvPr/>
        </p:nvPicPr>
        <p:blipFill>
          <a:blip r:embed="rId3"/>
          <a:srcRect l="0" t="0" r="17717" b="0"/>
          <a:stretch/>
        </p:blipFill>
        <p:spPr>
          <a:xfrm>
            <a:off x="5796000" y="3284640"/>
            <a:ext cx="3081240" cy="210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doc6izfqcirh1j4r7xy8he_800_480"/>
          <p:cNvPicPr/>
          <p:nvPr/>
        </p:nvPicPr>
        <p:blipFill>
          <a:blip r:embed="rId4"/>
          <a:stretch/>
        </p:blipFill>
        <p:spPr>
          <a:xfrm>
            <a:off x="250920" y="3284640"/>
            <a:ext cx="3168720" cy="2006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ity_metro_moscow"/>
          <p:cNvPicPr/>
          <p:nvPr/>
        </p:nvPicPr>
        <p:blipFill>
          <a:blip r:embed="rId5"/>
          <a:stretch/>
        </p:blipFill>
        <p:spPr>
          <a:xfrm>
            <a:off x="3059280" y="4365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77517"/>
          <p:cNvPicPr/>
          <p:nvPr/>
        </p:nvPicPr>
        <p:blipFill>
          <a:blip r:embed="rId1"/>
          <a:stretch/>
        </p:blipFill>
        <p:spPr>
          <a:xfrm>
            <a:off x="0" y="4140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50920" y="1773360"/>
            <a:ext cx="860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 – самый экономный вид городского транспорта. Можно проехать с одного конца Москвы на друг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 за 26 руб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f5TqJrNxaDE"/>
          <p:cNvPicPr/>
          <p:nvPr/>
        </p:nvPicPr>
        <p:blipFill>
          <a:blip r:embed="rId2"/>
          <a:srcRect l="51882" t="0" r="0" b="0"/>
          <a:stretch/>
        </p:blipFill>
        <p:spPr>
          <a:xfrm>
            <a:off x="324000" y="333360"/>
            <a:ext cx="117612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771640" y="54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ЭКОНОМ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savings-box-161876__180"/>
          <p:cNvPicPr/>
          <p:nvPr/>
        </p:nvPicPr>
        <p:blipFill>
          <a:blip r:embed="rId3"/>
          <a:stretch/>
        </p:blipFill>
        <p:spPr>
          <a:xfrm>
            <a:off x="289080" y="3048120"/>
            <a:ext cx="2952720" cy="246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f5TqJrNxaDE"/>
          <p:cNvPicPr/>
          <p:nvPr/>
        </p:nvPicPr>
        <p:blipFill>
          <a:blip r:embed="rId4"/>
          <a:srcRect l="51882" t="0" r="0" b="0"/>
          <a:stretch/>
        </p:blipFill>
        <p:spPr>
          <a:xfrm>
            <a:off x="3321000" y="3630600"/>
            <a:ext cx="117648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4351320" y="3835440"/>
            <a:ext cx="47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ЭКОЛОГИ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 flipV="1" rot="10800000">
            <a:off x="3309840" y="4929840"/>
            <a:ext cx="54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 работает на электрической энергии. Нет вредных выбросов в окружающ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7751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250920" y="1341360"/>
            <a:ext cx="860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и вечером метро сильно перегружено. Теснота в вагонах, давка на стан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908000" y="260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олчея в часы п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f5TqJrNxaDE"/>
          <p:cNvPicPr/>
          <p:nvPr/>
        </p:nvPicPr>
        <p:blipFill>
          <a:blip r:embed="rId2"/>
          <a:srcRect l="0" t="0" r="51882" b="0"/>
          <a:stretch/>
        </p:blipFill>
        <p:spPr>
          <a:xfrm>
            <a:off x="250920" y="189000"/>
            <a:ext cx="1152360" cy="113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877285"/>
          <p:cNvPicPr/>
          <p:nvPr/>
        </p:nvPicPr>
        <p:blipFill>
          <a:blip r:embed="rId3"/>
          <a:stretch/>
        </p:blipFill>
        <p:spPr>
          <a:xfrm>
            <a:off x="468360" y="2205000"/>
            <a:ext cx="3565440" cy="267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4716360" y="2205000"/>
            <a:ext cx="378000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6"/>
          <p:cNvSpPr/>
          <p:nvPr/>
        </p:nvSpPr>
        <p:spPr>
          <a:xfrm>
            <a:off x="3995640" y="4941720"/>
            <a:ext cx="48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трудники метро Токио «утрамбовываю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юдей в вагоны в часы 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574560" y="573408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троительство новых станций, реконструкция стар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Дополнительные кассы и автоматы продажи би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50920" y="1628640"/>
            <a:ext cx="860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новые станции метро оборудованы специальными лифтами и пандусами. На старых станциях их нет. Инвалиды и родители с детскими колясками не могут попасть в метр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47636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сутствие условий для инвалидов и пассажиров с детскими коля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f5TqJrNxaDE"/>
          <p:cNvPicPr/>
          <p:nvPr/>
        </p:nvPicPr>
        <p:blipFill>
          <a:blip r:embed="rId2"/>
          <a:srcRect l="0" t="0" r="51882" b="0"/>
          <a:stretch/>
        </p:blipFill>
        <p:spPr>
          <a:xfrm>
            <a:off x="250920" y="189000"/>
            <a:ext cx="1152360" cy="1136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324000" y="587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нструкция старых 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3"/>
          <a:srcRect l="18232" t="0" r="0" b="0"/>
          <a:stretch/>
        </p:blipFill>
        <p:spPr>
          <a:xfrm>
            <a:off x="900000" y="2997360"/>
            <a:ext cx="3121200" cy="237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0_6c40a_b4eb0d5b_XXL"/>
          <p:cNvPicPr/>
          <p:nvPr/>
        </p:nvPicPr>
        <p:blipFill>
          <a:blip r:embed="rId4"/>
          <a:stretch/>
        </p:blipFill>
        <p:spPr>
          <a:xfrm>
            <a:off x="4716360" y="2997360"/>
            <a:ext cx="35308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22:17:02Z</dcterms:created>
  <dc:creator>admin</dc:creator>
  <dc:description/>
  <dc:language>en-US</dc:language>
  <cp:lastModifiedBy>User</cp:lastModifiedBy>
  <dcterms:modified xsi:type="dcterms:W3CDTF">2020-11-21T15:19:20Z</dcterms:modified>
  <cp:revision>62</cp:revision>
  <dc:subject/>
  <dc:title>Слайд 1</dc:title>
</cp:coreProperties>
</file>