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0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492-A9A7-4440-ACBC-B60C434D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2AF-AFA1-4A7A-A4DF-F402251E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FC8-1325-4B67-9101-3320616B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41E7-1AAB-44D6-A956-DB5259E0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782F-6AE5-498D-931C-C08FB1AF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BDAF-A86F-49E2-9E2B-C03D1ED5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9F6C-4892-4057-AA58-3C23F016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E072-3325-481C-9DC5-1D395DA7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F46E-C631-4D49-B53A-0EB3F56A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FFA8-494C-483E-92CB-3F5EFDA2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3BE7-1C09-4023-889D-78EB4B93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5AB-D775-4263-B4E4-20D274FF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104B-6FC4-48DB-B0B4-303B113A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6FB6-7AE2-4D8C-B591-7A3F97AD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93DC-1373-405B-B965-C186E5DD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8FDA-1A1C-4667-A7A1-771C8875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FFC4-DEE6-4628-B1B1-C314A850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B63D6-FE9C-47A9-B331-312D1046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9FE34-4A3D-4EA9-9F72-39A83D34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B3E9E-C8DA-442F-AF03-389F0605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69D33-AE38-4EF2-9B95-C5E8E509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78CDE-1FF1-49F1-BEEC-0FA3FAC9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3026-D230-4593-BA81-B91A32A4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F9790-406F-41A2-89AF-22747BB2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09E4A-A8EE-4655-9416-D8F0E493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26241-DC7D-493C-BFC8-08C5037C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21033-C41A-4FC4-B34A-2CB4B5DD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58254-5642-4518-898F-05C7F039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4E53-3657-494D-996A-25D980A1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2F874-CF6C-4B11-AC01-DF1D0159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B7C04-C1A5-43F0-8CAA-3D98CDA6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94E0C-821C-4D28-98B0-5A583D4A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99365-4767-47E8-99AA-EE8CD298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5BCD-6D4A-4B0A-B4EB-23AEE90A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CC68D-663E-44E6-9497-88985D96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140A9-2C0A-422D-BE50-D5DBC277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32795-1B15-4D6D-912B-A0C353E2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F3481-B907-4165-A487-DBEC2B91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FD884-1662-411B-AE84-08BAA632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843C9-EB54-4FD7-867A-95000502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AC47A-FD04-4BF5-AC0B-B3772E9C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D49EF-EF7D-41EE-8306-8795B2F0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253E0-A162-4210-9102-6BB1C240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2FC04-0FDB-432C-9177-3168EE0F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0C4B-3E90-4E4D-BC51-9C6F9847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2A9A5-B86B-42A5-871B-03A2D5AB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4998E-37C1-4E87-A1BE-1EA85707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1EC7A-9446-4EA9-848B-6AD6C903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93178-9E57-47CF-B5BA-44074703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C0093-5948-43A6-B141-FEE12BB9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3AB65-88AE-4261-A267-D2C4B16D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D8EE0-B67D-4070-A2E5-5553AB5B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8440A-2A60-48EB-8D5E-0F96D61C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AF03C-5014-4DEC-9886-02681C16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D1F83-02B4-42EC-9B3F-CF05D58D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2B8-9DA7-4F87-A12B-2E0E5E27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378AA-86A0-4813-909E-D177139D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3A1A8-08D5-45DA-9840-4E9AD3B8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B6273-34A2-49EC-95EE-5BA5786D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94D02-B9F9-45ED-A592-69D1FC93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2A570-FBD3-4137-94E5-D6E4CFD7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9EEEC-3246-4809-92E5-9B4309CF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3FBB4-BE27-4FC9-B917-445F1424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85B4A-BF19-4263-9023-E7214450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E7BD0-6B4D-4D6D-B88D-03904479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914E3-E4CF-4683-AB25-1BD51278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CA2-F0E5-4F88-860D-54DC38EC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85982-02DA-4274-8AD5-DAC8E483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B3288-C342-4303-AD34-A1891A1B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84DC3-90B3-43BE-89A0-57C66808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7CA-6478-44E2-B112-50B8C66F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C7F-6768-43C1-9A40-F649DC2A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8AF6-A0F9-4C5D-8469-02EAD0E3F8DA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ddddd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dddddd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dddddd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dddddd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ddddd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dddddd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dddddd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27A6-5041-4F23-992F-3F71BD451C5A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ddddd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dddddd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dddddd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dddddd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ddddd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dddddd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dddddd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C23C-E9D4-43D5-A77D-D656DE3737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DAA1-698D-4409-9176-5B72F4D986E0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C3FF-5E2F-4A34-A013-DB29C9130888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6B41-191D-4875-BB3B-0E05BF37AD8D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4432320" y="182520"/>
            <a:ext cx="3309840" cy="20480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2-1"/>
          <p:cNvPicPr/>
          <p:nvPr/>
        </p:nvPicPr>
        <p:blipFill>
          <a:blip r:embed="rId2"/>
          <a:stretch/>
        </p:blipFill>
        <p:spPr>
          <a:xfrm>
            <a:off x="2411280" y="2205000"/>
            <a:ext cx="2305080" cy="2664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2-3"/>
          <p:cNvPicPr/>
          <p:nvPr/>
        </p:nvPicPr>
        <p:blipFill>
          <a:blip r:embed="rId3"/>
          <a:stretch/>
        </p:blipFill>
        <p:spPr>
          <a:xfrm>
            <a:off x="250920" y="2205000"/>
            <a:ext cx="2017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1706400" y="1895400"/>
            <a:ext cx="660888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3" descr="2-5"/>
          <p:cNvPicPr/>
          <p:nvPr/>
        </p:nvPicPr>
        <p:blipFill>
          <a:blip r:embed="rId1"/>
          <a:stretch/>
        </p:blipFill>
        <p:spPr>
          <a:xfrm>
            <a:off x="1042920" y="1125360"/>
            <a:ext cx="7162920" cy="42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987480" y="1895400"/>
            <a:ext cx="7394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3" descr="2-6"/>
          <p:cNvPicPr/>
          <p:nvPr/>
        </p:nvPicPr>
        <p:blipFill>
          <a:blip r:embed="rId1"/>
          <a:stretch/>
        </p:blipFill>
        <p:spPr>
          <a:xfrm>
            <a:off x="1042920" y="907920"/>
            <a:ext cx="7315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1420920" y="1895400"/>
            <a:ext cx="696096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3" descr="2-7"/>
          <p:cNvPicPr/>
          <p:nvPr/>
        </p:nvPicPr>
        <p:blipFill>
          <a:blip r:embed="rId1"/>
          <a:stretch/>
        </p:blipFill>
        <p:spPr>
          <a:xfrm>
            <a:off x="1116000" y="907920"/>
            <a:ext cx="7315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1"/>
          <a:stretch/>
        </p:blipFill>
        <p:spPr>
          <a:xfrm>
            <a:off x="682560" y="1481040"/>
            <a:ext cx="78519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2-8"/>
          <p:cNvPicPr/>
          <p:nvPr/>
        </p:nvPicPr>
        <p:blipFill>
          <a:blip r:embed="rId1"/>
          <a:stretch/>
        </p:blipFill>
        <p:spPr>
          <a:xfrm>
            <a:off x="1476360" y="1341360"/>
            <a:ext cx="64008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Rectangle 2" descr=""/>
          <p:cNvPicPr/>
          <p:nvPr/>
        </p:nvPicPr>
        <p:blipFill>
          <a:blip r:embed="rId1"/>
          <a:stretch/>
        </p:blipFill>
        <p:spPr>
          <a:xfrm>
            <a:off x="1206360" y="1822320"/>
            <a:ext cx="72486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3" descr="2-9"/>
          <p:cNvPicPr/>
          <p:nvPr/>
        </p:nvPicPr>
        <p:blipFill>
          <a:blip r:embed="rId1"/>
          <a:stretch/>
        </p:blipFill>
        <p:spPr>
          <a:xfrm>
            <a:off x="2987640" y="620640"/>
            <a:ext cx="3521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1736640" y="1895400"/>
            <a:ext cx="68644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2-1"/>
          <p:cNvPicPr/>
          <p:nvPr/>
        </p:nvPicPr>
        <p:blipFill>
          <a:blip r:embed="rId1"/>
          <a:stretch/>
        </p:blipFill>
        <p:spPr>
          <a:xfrm>
            <a:off x="2195640" y="981000"/>
            <a:ext cx="4952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1633680" y="1822320"/>
            <a:ext cx="689436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3" descr="2-2"/>
          <p:cNvPicPr/>
          <p:nvPr/>
        </p:nvPicPr>
        <p:blipFill>
          <a:blip r:embed="rId1"/>
          <a:stretch/>
        </p:blipFill>
        <p:spPr>
          <a:xfrm>
            <a:off x="2556000" y="763560"/>
            <a:ext cx="4117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1779480" y="2041560"/>
            <a:ext cx="667548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3" descr="2-3"/>
          <p:cNvPicPr/>
          <p:nvPr/>
        </p:nvPicPr>
        <p:blipFill>
          <a:blip r:embed="rId1"/>
          <a:stretch/>
        </p:blipFill>
        <p:spPr>
          <a:xfrm>
            <a:off x="2916360" y="692280"/>
            <a:ext cx="3470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1852560" y="1895400"/>
            <a:ext cx="667548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3" descr="2-4"/>
          <p:cNvPicPr/>
          <p:nvPr/>
        </p:nvPicPr>
        <p:blipFill>
          <a:blip r:embed="rId1"/>
          <a:stretch/>
        </p:blipFill>
        <p:spPr>
          <a:xfrm>
            <a:off x="971640" y="981000"/>
            <a:ext cx="7315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5T19:16:15Z</dcterms:created>
  <dc:creator>Маша</dc:creator>
  <dc:description/>
  <dc:language>en-US</dc:language>
  <cp:lastModifiedBy>User</cp:lastModifiedBy>
  <dcterms:modified xsi:type="dcterms:W3CDTF">2018-04-25T16:45:50Z</dcterms:modified>
  <cp:revision>35</cp:revision>
  <dc:subject/>
  <dc:title>ОБЪЕКТЫ ПРИРОДЫ</dc:title>
</cp:coreProperties>
</file>