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A24-CF16-4D69-A4D1-FF8113A6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E55-327E-43F2-8162-C60B86EC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AFE-7BDA-460B-B387-4CAD3333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6E9-95C5-4571-8D6B-65808976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7245-11EA-4FA4-9162-8742266E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665F-671C-4E12-85AB-D1D79D7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885-7924-4AF2-880E-412160C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0C37-8A74-496C-903A-27920B00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574-167C-4606-9B45-06EE1AD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724-4036-4F0D-ACC2-D0E8EA8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10C5-B28A-427B-8AE5-EC839DBF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FF1-0913-4C7C-9839-FAB8322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D4D-B2AB-4ED4-B772-F4F5D28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3947-4D9A-41E7-AEBC-1B33581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140-45D2-415E-A982-1233170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2646-4C55-45DE-B034-633D8B78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FE6B-5A53-44C4-9591-0DEA15B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F0CF-610F-493B-BAFE-F4842D6E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0678-8BC5-4F95-9950-391F1E2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6961-FA72-482E-8CE3-16584F40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2094D-EB6F-4DE4-9FEC-1CEDA2ED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8FD1-7EBE-44D7-B143-232FD74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ACC-0E3B-4FD1-909D-70E772E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CC81-F2AD-4DAE-A06A-C3A6B7A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3A48-E3EB-472F-A361-2A1BE16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77BA-4C65-47E0-9B46-DDA23B2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0DC87-9F47-4D26-9915-67B2362C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C990-1168-4755-9FF5-AEE9BA28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2F6B-F785-4470-B322-7E10EEEA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066A-AD7B-410D-9804-EE8C5264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6AD1B-0E89-4A4D-B400-C6C58C64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66B4A-7064-4468-A89B-735006F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05608-0A19-4CA9-B9A4-1D9D5DD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10A-E2F6-4E4A-9D91-56493306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D682-8BCE-408B-9BD5-185ADA2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3E5A-3C40-4B73-B1B7-DDDA9027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738C-B199-491C-A46E-61E1EBCE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FA1C-AC0F-4281-AD6F-75BE9A2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01E6C-D3FD-408C-A92E-534DEEB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A9BE-474A-4CC0-A335-0BFAC82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B176-6353-4905-A646-96AA8A2E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DCEC-AE8C-450E-A949-500E926E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3F38-6C1A-44D7-B074-966351AA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24BB-9AFE-4194-A824-454AF1FA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9E9-53DD-454E-A89E-F14673DE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261D-BC52-4230-8DA8-BE59A25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D85B2-CCD1-4A22-9D1D-88840A5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637F-7CDB-4D09-880F-670A7A2D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3E16-1356-4885-AE42-01FE965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A742-4E1A-418E-8074-A445398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A68D-5EBA-4FF5-8B6E-B7E3D25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A2BF-E999-4B96-A99A-498D4D5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C0BE-CCCC-421B-87B7-5BE8B4F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1094-2835-4F88-85A2-AF762015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C22E-C71E-4F46-9EEF-2C456B7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CB6-429C-42CF-B21C-0EFDFB05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17906-9CE3-459F-BA5D-EA294BE9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D14A-39AC-42B8-80C5-C95F9EFE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9945-57A0-41D3-A597-AE8827F5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D224-F38F-4F84-BB6E-2A8E933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D86F-F978-49C7-9059-876A318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5243-B6EB-42DC-8C89-2BD3AAA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58EA-9811-448F-A17C-44B5ACB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17CD4-C31F-47B5-B386-666A9EB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3206-A390-4307-8637-681089A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4847-C735-4708-9B9E-EF184F7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C4E-737E-452C-A838-FDBDC99A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5C88-6CC9-4D61-AA78-9D3B8D54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A662-BECA-4114-AD98-5892752A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1EF2-F752-4C51-A32A-4C13790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306-A0B8-45CB-8D80-2A53D00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C45-7138-452A-A601-71126AE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2F9F-C81B-4695-8F5C-D4EE4AB2740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452-FB12-48A3-BE9B-5A4C2EF00FD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9EC-FD30-4D29-B76C-A055A35458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5046-3C2E-49DF-A9AC-7033B894ECF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95E8-7EC3-4472-B219-45CE9B3A38A9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78F-9E7A-417B-AAB8-7E785954D7D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432320" y="182520"/>
            <a:ext cx="3309840" cy="2048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2-1"/>
          <p:cNvPicPr/>
          <p:nvPr/>
        </p:nvPicPr>
        <p:blipFill>
          <a:blip r:embed="rId2"/>
          <a:stretch/>
        </p:blipFill>
        <p:spPr>
          <a:xfrm>
            <a:off x="2411280" y="2205000"/>
            <a:ext cx="2305080" cy="266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2-3"/>
          <p:cNvPicPr/>
          <p:nvPr/>
        </p:nvPicPr>
        <p:blipFill>
          <a:blip r:embed="rId3"/>
          <a:stretch/>
        </p:blipFill>
        <p:spPr>
          <a:xfrm>
            <a:off x="250920" y="2205000"/>
            <a:ext cx="201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1706400" y="1895400"/>
            <a:ext cx="6608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987480" y="1895400"/>
            <a:ext cx="7394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420920" y="1895400"/>
            <a:ext cx="69609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682560" y="1481040"/>
            <a:ext cx="78519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1206360" y="1822320"/>
            <a:ext cx="7248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736640" y="1895400"/>
            <a:ext cx="6864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1633680" y="1822320"/>
            <a:ext cx="68943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779480" y="2041560"/>
            <a:ext cx="6675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852560" y="1895400"/>
            <a:ext cx="66754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User</cp:lastModifiedBy>
  <dcterms:modified xsi:type="dcterms:W3CDTF">2018-04-25T16:45:50Z</dcterms:modified>
  <cp:revision>35</cp:revision>
  <dc:subject/>
  <dc:title>ОБЪЕКТЫ ПРИРОДЫ</dc:title>
</cp:coreProperties>
</file>