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CC9-BD2E-44DC-859B-6A1941F8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53B-3256-4A53-BA8D-AFC5AE1B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5E9-C772-4840-A655-B445BF5D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534-26DA-472F-9FAD-13661FB0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F13-7CE5-4E86-97B5-026A4F4D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E5F-D60C-4520-B1C2-5DA4CA0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8DB-DCAA-4721-94E1-8FBDCE04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C78-CAA0-4DAD-9369-1AEE468B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090-AFF9-4B43-9A33-8E53732B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BDA-2802-4D36-9AD9-3D71CF0F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DA0-BFB1-4AC3-9958-0AA8C54E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7E2-DA46-4F5F-8790-86E7E46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064-82C5-47AE-ABC0-91349F4FB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ИЛИПОВИЧ КСЕНИЯ АЛЕКСАНДРО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476360" y="1366920"/>
            <a:ext cx="6288120" cy="3930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001320" y="5300640"/>
            <a:ext cx="32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арха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66440" y="1440000"/>
            <a:ext cx="217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фе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095160" y="1413000"/>
            <a:ext cx="25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сероф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1978920" y="692280"/>
            <a:ext cx="432360" cy="72144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80" name="Прямая со стрелкой 7"/>
          <p:cNvCxnSpPr/>
          <p:nvPr/>
        </p:nvCxnSpPr>
        <p:spPr>
          <a:xfrm>
            <a:off x="6443280" y="692280"/>
            <a:ext cx="361080" cy="72144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81" name="TextBox 10"/>
          <p:cNvSpPr/>
          <p:nvPr/>
        </p:nvSpPr>
        <p:spPr>
          <a:xfrm>
            <a:off x="108000" y="256536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ннецветущи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643280" y="25653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сухоустойчив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8" descr=""/>
          <p:cNvPicPr/>
          <p:nvPr/>
        </p:nvPicPr>
        <p:blipFill>
          <a:blip r:embed="rId1"/>
          <a:stretch/>
        </p:blipFill>
        <p:spPr>
          <a:xfrm>
            <a:off x="2050920" y="1461960"/>
            <a:ext cx="5423040" cy="3903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3693600" y="5313240"/>
            <a:ext cx="213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8" descr=""/>
          <p:cNvPicPr/>
          <p:nvPr/>
        </p:nvPicPr>
        <p:blipFill>
          <a:blip r:embed="rId1"/>
          <a:stretch/>
        </p:blipFill>
        <p:spPr>
          <a:xfrm>
            <a:off x="2050920" y="1461960"/>
            <a:ext cx="5423040" cy="3903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2833560" y="5384880"/>
            <a:ext cx="385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юльпа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8" descr=""/>
          <p:cNvPicPr/>
          <p:nvPr/>
        </p:nvPicPr>
        <p:blipFill>
          <a:blip r:embed="rId1"/>
          <a:stretch/>
        </p:blipFill>
        <p:spPr>
          <a:xfrm>
            <a:off x="2160720" y="1461960"/>
            <a:ext cx="5205240" cy="3903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3501000" y="5373720"/>
            <a:ext cx="25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рис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73320" y="1484280"/>
            <a:ext cx="5599080" cy="3724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3279240" y="5373720"/>
            <a:ext cx="338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рокус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8" descr=""/>
          <p:cNvPicPr/>
          <p:nvPr/>
        </p:nvPicPr>
        <p:blipFill>
          <a:blip r:embed="rId1"/>
          <a:stretch/>
        </p:blipFill>
        <p:spPr>
          <a:xfrm>
            <a:off x="2811600" y="1461960"/>
            <a:ext cx="3903480" cy="3903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3483360" y="5373720"/>
            <a:ext cx="298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аксау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8" descr=""/>
          <p:cNvPicPr/>
          <p:nvPr/>
        </p:nvPicPr>
        <p:blipFill>
          <a:blip r:embed="rId1"/>
          <a:stretch/>
        </p:blipFill>
        <p:spPr>
          <a:xfrm>
            <a:off x="1806480" y="1306440"/>
            <a:ext cx="6334200" cy="4067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873440" y="5408640"/>
            <a:ext cx="619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есчаная акац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8" descr=""/>
          <p:cNvPicPr/>
          <p:nvPr/>
        </p:nvPicPr>
        <p:blipFill>
          <a:blip r:embed="rId1"/>
          <a:stretch/>
        </p:blipFill>
        <p:spPr>
          <a:xfrm>
            <a:off x="1476360" y="1538280"/>
            <a:ext cx="5959440" cy="3959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666000" y="5546880"/>
            <a:ext cx="75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ерблюжья колюч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8" descr=""/>
          <p:cNvPicPr/>
          <p:nvPr/>
        </p:nvPicPr>
        <p:blipFill>
          <a:blip r:embed="rId1"/>
          <a:stretch/>
        </p:blipFill>
        <p:spPr>
          <a:xfrm>
            <a:off x="2411280" y="1616040"/>
            <a:ext cx="4880160" cy="3757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3271320" y="5373720"/>
            <a:ext cx="316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олынь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иродная зона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255680" y="2390760"/>
            <a:ext cx="178452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17040" y="1700280"/>
            <a:ext cx="6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078720" y="17287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714120" y="2459160"/>
            <a:ext cx="99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9" descr=""/>
          <p:cNvPicPr/>
          <p:nvPr/>
        </p:nvPicPr>
        <p:blipFill>
          <a:blip r:embed="rId2"/>
          <a:stretch/>
        </p:blipFill>
        <p:spPr>
          <a:xfrm>
            <a:off x="4815000" y="2273400"/>
            <a:ext cx="1941480" cy="1941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6762240" y="1700280"/>
            <a:ext cx="6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601040" y="2421000"/>
            <a:ext cx="7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tretch/>
        </p:blipFill>
        <p:spPr>
          <a:xfrm>
            <a:off x="1514520" y="1411200"/>
            <a:ext cx="667368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3146400" y="5229360"/>
            <a:ext cx="341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аракур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8" descr=""/>
          <p:cNvPicPr/>
          <p:nvPr/>
        </p:nvPicPr>
        <p:blipFill>
          <a:blip r:embed="rId1"/>
          <a:stretch/>
        </p:blipFill>
        <p:spPr>
          <a:xfrm>
            <a:off x="1989000" y="1411200"/>
            <a:ext cx="572472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3119400" y="5229360"/>
            <a:ext cx="405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ушкан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8" descr=""/>
          <p:cNvPicPr/>
          <p:nvPr/>
        </p:nvPicPr>
        <p:blipFill>
          <a:blip r:embed="rId1"/>
          <a:stretch/>
        </p:blipFill>
        <p:spPr>
          <a:xfrm>
            <a:off x="1990800" y="1411200"/>
            <a:ext cx="5721120" cy="3816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9"/>
          <p:cNvSpPr/>
          <p:nvPr/>
        </p:nvSpPr>
        <p:spPr>
          <a:xfrm>
            <a:off x="3688200" y="5230800"/>
            <a:ext cx="232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ара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8" descr=""/>
          <p:cNvPicPr/>
          <p:nvPr/>
        </p:nvPicPr>
        <p:blipFill>
          <a:blip r:embed="rId1"/>
          <a:stretch/>
        </p:blipFill>
        <p:spPr>
          <a:xfrm>
            <a:off x="2394000" y="1411200"/>
            <a:ext cx="491652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2596680" y="5275440"/>
            <a:ext cx="450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Ушастый е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1"/>
          <a:stretch/>
        </p:blipFill>
        <p:spPr>
          <a:xfrm>
            <a:off x="1989000" y="1411200"/>
            <a:ext cx="572472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560" y="5268960"/>
            <a:ext cx="255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айга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8" descr=""/>
          <p:cNvPicPr/>
          <p:nvPr/>
        </p:nvPicPr>
        <p:blipFill>
          <a:blip r:embed="rId1"/>
          <a:stretch/>
        </p:blipFill>
        <p:spPr>
          <a:xfrm>
            <a:off x="2071800" y="1411200"/>
            <a:ext cx="5559480" cy="3816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1089000" y="5272200"/>
            <a:ext cx="75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Двугорбый верблю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ение цепей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1217520" y="1454040"/>
            <a:ext cx="224316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2"/>
          <a:stretch/>
        </p:blipFill>
        <p:spPr>
          <a:xfrm>
            <a:off x="5513400" y="144288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5657760" y="39337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2592360" cy="172728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9"/>
          <p:cNvCxnSpPr/>
          <p:nvPr/>
        </p:nvCxnSpPr>
        <p:spPr>
          <a:xfrm>
            <a:off x="3634920" y="2133360"/>
            <a:ext cx="158508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>
            <a:off x="6808320" y="3169800"/>
            <a:ext cx="1080" cy="7642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33" name="Прямая со стрелкой 13"/>
          <p:cNvCxnSpPr/>
          <p:nvPr/>
        </p:nvCxnSpPr>
        <p:spPr>
          <a:xfrm flipH="1">
            <a:off x="3995280" y="4797000"/>
            <a:ext cx="151848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34" name="TextBox 16"/>
          <p:cNvSpPr/>
          <p:nvPr/>
        </p:nvSpPr>
        <p:spPr>
          <a:xfrm>
            <a:off x="1675800" y="314496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ы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6814440" y="3244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шкан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1804320" y="5661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6073560" y="5661000"/>
            <a:ext cx="14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сча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в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Занятия населения: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котоводств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5"/>
          <p:cNvSpPr/>
          <p:nvPr/>
        </p:nvSpPr>
        <p:spPr>
          <a:xfrm>
            <a:off x="3564000" y="2637000"/>
            <a:ext cx="230328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395280" y="404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х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395280" y="1628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395280" y="2852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395280" y="4076640"/>
            <a:ext cx="230508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3419640" y="40464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6443640" y="404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2"/>
          <p:cNvSpPr/>
          <p:nvPr/>
        </p:nvSpPr>
        <p:spPr>
          <a:xfrm>
            <a:off x="6443640" y="1628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кса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3"/>
          <p:cNvSpPr/>
          <p:nvPr/>
        </p:nvSpPr>
        <p:spPr>
          <a:xfrm>
            <a:off x="6443640" y="2852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и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4"/>
          <p:cNvSpPr/>
          <p:nvPr/>
        </p:nvSpPr>
        <p:spPr>
          <a:xfrm>
            <a:off x="6443640" y="4076640"/>
            <a:ext cx="237636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5"/>
          <p:cNvSpPr/>
          <p:nvPr/>
        </p:nvSpPr>
        <p:spPr>
          <a:xfrm>
            <a:off x="6443640" y="544500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3419640" y="544500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блю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395280" y="544500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астый 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Прямая со стрелкой 2"/>
          <p:cNvCxnSpPr/>
          <p:nvPr/>
        </p:nvCxnSpPr>
        <p:spPr>
          <a:xfrm>
            <a:off x="4642920" y="1413000"/>
            <a:ext cx="1080" cy="10800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3" name="Прямая со стрелкой 4"/>
          <p:cNvCxnSpPr/>
          <p:nvPr/>
        </p:nvCxnSpPr>
        <p:spPr>
          <a:xfrm>
            <a:off x="2843280" y="1412640"/>
            <a:ext cx="721440" cy="864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4" name="Прямая со стрелкой 19"/>
          <p:cNvCxnSpPr/>
          <p:nvPr/>
        </p:nvCxnSpPr>
        <p:spPr>
          <a:xfrm flipH="1">
            <a:off x="5724000" y="1412640"/>
            <a:ext cx="504000" cy="864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5" name="Прямая со стрелкой 21"/>
          <p:cNvCxnSpPr/>
          <p:nvPr/>
        </p:nvCxnSpPr>
        <p:spPr>
          <a:xfrm>
            <a:off x="2842920" y="3284280"/>
            <a:ext cx="57708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6" name="Прямая со стрелкой 23"/>
          <p:cNvCxnSpPr/>
          <p:nvPr/>
        </p:nvCxnSpPr>
        <p:spPr>
          <a:xfrm>
            <a:off x="2842920" y="2276280"/>
            <a:ext cx="577080" cy="36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7" name="Прямая со стрелкой 25"/>
          <p:cNvCxnSpPr/>
          <p:nvPr/>
        </p:nvCxnSpPr>
        <p:spPr>
          <a:xfrm flipV="1">
            <a:off x="2842920" y="3860640"/>
            <a:ext cx="577080" cy="648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8" name="Прямая со стрелкой 27"/>
          <p:cNvCxnSpPr/>
          <p:nvPr/>
        </p:nvCxnSpPr>
        <p:spPr>
          <a:xfrm flipV="1">
            <a:off x="2987280" y="4076280"/>
            <a:ext cx="793080" cy="1224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9" name="Прямая со стрелкой 29"/>
          <p:cNvCxnSpPr/>
          <p:nvPr/>
        </p:nvCxnSpPr>
        <p:spPr>
          <a:xfrm flipV="1">
            <a:off x="4716000" y="4184280"/>
            <a:ext cx="1080" cy="900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0" name="Прямая со стрелкой 31"/>
          <p:cNvCxnSpPr/>
          <p:nvPr/>
        </p:nvCxnSpPr>
        <p:spPr>
          <a:xfrm flipH="1" flipV="1">
            <a:off x="5579280" y="4076280"/>
            <a:ext cx="648360" cy="1224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1" name="Прямая со стрелкой 33"/>
          <p:cNvCxnSpPr/>
          <p:nvPr/>
        </p:nvCxnSpPr>
        <p:spPr>
          <a:xfrm flipH="1" flipV="1">
            <a:off x="5977080" y="3860280"/>
            <a:ext cx="250920" cy="216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2" name="Прямая со стрелкой 35"/>
          <p:cNvCxnSpPr/>
          <p:nvPr/>
        </p:nvCxnSpPr>
        <p:spPr>
          <a:xfrm flipH="1">
            <a:off x="6084360" y="3284280"/>
            <a:ext cx="32472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3" name="Прямая со стрелкой 37"/>
          <p:cNvCxnSpPr/>
          <p:nvPr/>
        </p:nvCxnSpPr>
        <p:spPr>
          <a:xfrm flipH="1">
            <a:off x="5976720" y="2060280"/>
            <a:ext cx="467280" cy="577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2" descr=""/>
          <p:cNvPicPr/>
          <p:nvPr/>
        </p:nvPicPr>
        <p:blipFill>
          <a:blip r:embed="rId1"/>
          <a:stretch/>
        </p:blipFill>
        <p:spPr>
          <a:xfrm>
            <a:off x="487440" y="438120"/>
            <a:ext cx="3616200" cy="33116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3"/>
          <p:cNvSpPr/>
          <p:nvPr/>
        </p:nvSpPr>
        <p:spPr>
          <a:xfrm>
            <a:off x="4113360" y="43812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астение. Его корни проникают на глубину почти двадцать метров. Самая известная колючка в пусты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Ёж с большими ушами обитающий в пусты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Валы из пе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устарник, у которого роль листьев выполняют зелёные ве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Растрескавшийся глинистый участок в пусты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Крупный жук-навозник. В Египте это насекомое считается священ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иродная зона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2576880" y="2060640"/>
            <a:ext cx="43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устын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109520" y="277920"/>
            <a:ext cx="6564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5"/>
          <p:cNvSpPr/>
          <p:nvPr/>
        </p:nvSpPr>
        <p:spPr>
          <a:xfrm>
            <a:off x="3564000" y="2637000"/>
            <a:ext cx="230328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95280" y="404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х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95280" y="1628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395280" y="2852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395280" y="4076640"/>
            <a:ext cx="230508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3419640" y="40464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6443640" y="404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6443640" y="1628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кса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6443640" y="2852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и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6443640" y="4076640"/>
            <a:ext cx="237636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5"/>
          <p:cNvSpPr/>
          <p:nvPr/>
        </p:nvSpPr>
        <p:spPr>
          <a:xfrm>
            <a:off x="6443640" y="544500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6"/>
          <p:cNvSpPr/>
          <p:nvPr/>
        </p:nvSpPr>
        <p:spPr>
          <a:xfrm>
            <a:off x="3419640" y="544500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блю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395280" y="544500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астый 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8360" y="2133720"/>
          <a:ext cx="8280360" cy="4176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ное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ркое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оздуха больше +3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вы до +8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рка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ного осад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торные цветения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ровая: -35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снег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х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 теплеет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адк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недели пустыня – ковер ц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климата зоны пусты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1523880" y="1268280"/>
            <a:ext cx="5907240" cy="3889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262680" y="5300640"/>
            <a:ext cx="293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акыр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1886040" y="1268280"/>
            <a:ext cx="5182920" cy="3889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3049200" y="5300640"/>
            <a:ext cx="350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Гаммад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4T13:54:45Z</dcterms:created>
  <dc:creator>Ксения</dc:creator>
  <dc:description/>
  <dc:language>en-US</dc:language>
  <cp:lastModifiedBy>KSENIIA FILIPOVICH</cp:lastModifiedBy>
  <dcterms:modified xsi:type="dcterms:W3CDTF">2020-11-21T20:45:16Z</dcterms:modified>
  <cp:revision>18</cp:revision>
  <dc:subject/>
  <dc:title>Природная зона</dc:title>
</cp:coreProperties>
</file>