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40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3.jpeg" ContentType="image/jpeg"/>
  <Override PartName="/ppt/media/image32.jpeg" ContentType="image/jpeg"/>
  <Override PartName="/ppt/media/image38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4E3-58F6-47A6-ACCE-682FAE79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465-4723-49FB-97E3-0E31201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538-2A18-4CC0-8C9E-ABB1EB41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5B2-6481-4140-97D3-3CA338BD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5EA-C524-467F-9B11-54C6C2A7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227-0561-4472-909C-9F59B7D0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8B4-902A-4DCA-9248-C9A9B6CF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889-259B-4836-879C-2F3EDD77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AD3-F473-49B2-A3A5-259556A1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29E-E63E-4340-A018-2A6DE3AB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959-9B76-4EC6-9A3F-F1D170D7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7C5-92F4-434C-A4F7-78D0FEA7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B09C-0372-4F31-99D0-B7F18389E82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and-303680__340"/>
          <p:cNvPicPr/>
          <p:nvPr/>
        </p:nvPicPr>
        <p:blipFill>
          <a:blip r:embed="rId1"/>
          <a:stretch/>
        </p:blipFill>
        <p:spPr>
          <a:xfrm rot="18667200">
            <a:off x="2847600" y="2886120"/>
            <a:ext cx="3448080" cy="3238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синяя"/>
          <p:cNvPicPr/>
          <p:nvPr/>
        </p:nvPicPr>
        <p:blipFill>
          <a:blip r:embed="rId2"/>
          <a:stretch/>
        </p:blipFill>
        <p:spPr>
          <a:xfrm rot="17520000">
            <a:off x="2809800" y="339048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бирюза"/>
          <p:cNvPicPr/>
          <p:nvPr/>
        </p:nvPicPr>
        <p:blipFill>
          <a:blip r:embed="rId3"/>
          <a:stretch/>
        </p:blipFill>
        <p:spPr>
          <a:xfrm rot="6859200">
            <a:off x="4941360" y="4425840"/>
            <a:ext cx="129528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желтая"/>
          <p:cNvPicPr/>
          <p:nvPr/>
        </p:nvPicPr>
        <p:blipFill>
          <a:blip r:embed="rId4"/>
          <a:stretch/>
        </p:blipFill>
        <p:spPr>
          <a:xfrm>
            <a:off x="4356000" y="1981080"/>
            <a:ext cx="1282680" cy="1447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зеленая"/>
          <p:cNvPicPr/>
          <p:nvPr/>
        </p:nvPicPr>
        <p:blipFill>
          <a:blip r:embed="rId5"/>
          <a:stretch/>
        </p:blipFill>
        <p:spPr>
          <a:xfrm rot="19951200">
            <a:off x="3225600" y="2133360"/>
            <a:ext cx="1346040" cy="1511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красн"/>
          <p:cNvPicPr/>
          <p:nvPr/>
        </p:nvPicPr>
        <p:blipFill>
          <a:blip r:embed="rId6"/>
          <a:stretch/>
        </p:blipFill>
        <p:spPr>
          <a:xfrm rot="13271400">
            <a:off x="3348000" y="4365000"/>
            <a:ext cx="1409760" cy="160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оранд"/>
          <p:cNvPicPr/>
          <p:nvPr/>
        </p:nvPicPr>
        <p:blipFill>
          <a:blip r:embed="rId7"/>
          <a:stretch/>
        </p:blipFill>
        <p:spPr>
          <a:xfrm rot="3835200">
            <a:off x="5222880" y="2616120"/>
            <a:ext cx="1333440" cy="162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розовая"/>
          <p:cNvPicPr/>
          <p:nvPr/>
        </p:nvPicPr>
        <p:blipFill>
          <a:blip r:embed="rId8"/>
          <a:stretch/>
        </p:blipFill>
        <p:spPr>
          <a:xfrm rot="19345200">
            <a:off x="3917880" y="2997000"/>
            <a:ext cx="130824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салат"/>
          <p:cNvPicPr/>
          <p:nvPr/>
        </p:nvPicPr>
        <p:blipFill>
          <a:blip r:embed="rId9"/>
          <a:stretch/>
        </p:blipFill>
        <p:spPr>
          <a:xfrm rot="2026200">
            <a:off x="4932000" y="3428640"/>
            <a:ext cx="1440000" cy="13572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3"/>
          <p:cNvSpPr txBox="1"/>
          <p:nvPr/>
        </p:nvSpPr>
        <p:spPr>
          <a:xfrm>
            <a:off x="403200" y="620640"/>
            <a:ext cx="8336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такие волонтеры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895320" y="620640"/>
            <a:ext cx="7353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гра "Какой волонтер?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Picture 5" descr="boy-1300136__340"/>
          <p:cNvPicPr/>
          <p:nvPr/>
        </p:nvPicPr>
        <p:blipFill>
          <a:blip r:embed="rId1"/>
          <a:stretch/>
        </p:blipFill>
        <p:spPr>
          <a:xfrm>
            <a:off x="2146320" y="1844640"/>
            <a:ext cx="4849920" cy="3592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 rot="19725000">
            <a:off x="1332360" y="1628280"/>
            <a:ext cx="25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ДОБ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 rot="1316400">
            <a:off x="4349160" y="1722600"/>
            <a:ext cx="41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ТЗЫВЧ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 rot="1738800">
            <a:off x="-360" y="342864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ВНИМАТЕ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 rot="898800">
            <a:off x="3058560" y="5734080"/>
            <a:ext cx="40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ЗАБОТ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 rot="20319000">
            <a:off x="360" y="5300280"/>
            <a:ext cx="40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ЕРДЕЧ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 rot="20007600">
            <a:off x="4437360" y="4225680"/>
            <a:ext cx="47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"/>
              </a:rPr>
              <a:t>БЕСКОРЫСТ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БАБУШКА КИНО"/>
          <p:cNvPicPr/>
          <p:nvPr/>
        </p:nvPicPr>
        <p:blipFill>
          <a:blip r:embed="rId2"/>
          <a:stretch/>
        </p:blipFill>
        <p:spPr>
          <a:xfrm>
            <a:off x="468360" y="0"/>
            <a:ext cx="2521080" cy="1419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БАБУШКА ДАРИТ"/>
          <p:cNvPicPr/>
          <p:nvPr/>
        </p:nvPicPr>
        <p:blipFill>
          <a:blip r:embed="rId3"/>
          <a:stretch/>
        </p:blipFill>
        <p:spPr>
          <a:xfrm>
            <a:off x="3311640" y="0"/>
            <a:ext cx="25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ЕРВ КИНО"/>
          <p:cNvPicPr/>
          <p:nvPr/>
        </p:nvPicPr>
        <p:blipFill>
          <a:blip r:embed="rId4"/>
          <a:stretch/>
        </p:blipFill>
        <p:spPr>
          <a:xfrm>
            <a:off x="6156360" y="0"/>
            <a:ext cx="25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ВТОРОЙ КИН"/>
          <p:cNvPicPr/>
          <p:nvPr/>
        </p:nvPicPr>
        <p:blipFill>
          <a:blip r:embed="rId5"/>
          <a:stretch/>
        </p:blipFill>
        <p:spPr>
          <a:xfrm>
            <a:off x="468360" y="1413000"/>
            <a:ext cx="2519280" cy="141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ТРЕТ КИНО"/>
          <p:cNvPicPr/>
          <p:nvPr/>
        </p:nvPicPr>
        <p:blipFill>
          <a:blip r:embed="rId6"/>
          <a:stretch/>
        </p:blipFill>
        <p:spPr>
          <a:xfrm>
            <a:off x="3300480" y="1413000"/>
            <a:ext cx="2543040" cy="143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ЧЕТВ КИНО"/>
          <p:cNvPicPr/>
          <p:nvPr/>
        </p:nvPicPr>
        <p:blipFill>
          <a:blip r:embed="rId7"/>
          <a:stretch/>
        </p:blipFill>
        <p:spPr>
          <a:xfrm>
            <a:off x="6156360" y="1413000"/>
            <a:ext cx="2486160" cy="1398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ПЯТ КИНО"/>
          <p:cNvPicPr/>
          <p:nvPr/>
        </p:nvPicPr>
        <p:blipFill>
          <a:blip r:embed="rId8"/>
          <a:stretch/>
        </p:blipFill>
        <p:spPr>
          <a:xfrm>
            <a:off x="468360" y="2924280"/>
            <a:ext cx="2519280" cy="1415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ШЕСТ КИНО"/>
          <p:cNvPicPr/>
          <p:nvPr/>
        </p:nvPicPr>
        <p:blipFill>
          <a:blip r:embed="rId9"/>
          <a:stretch/>
        </p:blipFill>
        <p:spPr>
          <a:xfrm>
            <a:off x="3270240" y="2924280"/>
            <a:ext cx="2602080" cy="146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СЕДЬМ КИНО"/>
          <p:cNvPicPr/>
          <p:nvPr/>
        </p:nvPicPr>
        <p:blipFill>
          <a:blip r:embed="rId10"/>
          <a:stretch/>
        </p:blipFill>
        <p:spPr>
          <a:xfrm>
            <a:off x="6156360" y="2924280"/>
            <a:ext cx="2592360" cy="145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5"/>
          <p:cNvSpPr/>
          <p:nvPr/>
        </p:nvSpPr>
        <p:spPr>
          <a:xfrm>
            <a:off x="0" y="4437000"/>
            <a:ext cx="9144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вспомним сказку Валентина Катаева «Цветик-семицветик». Отрывая лепестки цветика, девочка Женя могла загадывать желание и оно исполнялось. Первым желанием Жени было оказаться дома с бубликами, второе – склеить разбитую вазу, третье – оказаться на северном полюсе, четвертое – посадить белого медведя в клетку, пятое – много игрушек, шестое – вернуть игрушки в магазин, седьмое – чтобы мальчик Витя был здо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вы думаете какие из семи желаний Жени будут добрыми поступк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sun-310144__340"/>
          <p:cNvPicPr/>
          <p:nvPr/>
        </p:nvPicPr>
        <p:blipFill>
          <a:blip r:embed="rId2"/>
          <a:stretch/>
        </p:blipFill>
        <p:spPr>
          <a:xfrm>
            <a:off x="4572000" y="0"/>
            <a:ext cx="4729320" cy="4687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260280"/>
            <a:ext cx="521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вы хотели бы стать волонтерами? Молодцы! А начать можно вот с чего: будьте добры с теми, кто вас окружает: позаботьтесь о  младшей сестричке или братишке, помогите маме или папе по хозяйству, покормите домашних животных, помогите воспитателям накрыть на стол или убрать с него, уступите пожилому человеку место в транспорте, и просто… улыбни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895320" y="620640"/>
            <a:ext cx="7353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имвол волонтеров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14200" y="1341360"/>
            <a:ext cx="8713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бята, а теперь я предлагаю вам изготовить символ волонтерского движения – открытую ладонь и сердц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ьмите лист цветной бумаги, положите на него вашу ладонь и обведите. Вырежьте получившийся силуэт. На красной бумаге нарисуйте сердечко, вырежьте и наклейте его на руку. Символ волонтеров го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розовая"/>
          <p:cNvPicPr/>
          <p:nvPr/>
        </p:nvPicPr>
        <p:blipFill>
          <a:blip r:embed="rId2"/>
          <a:stretch/>
        </p:blipFill>
        <p:spPr>
          <a:xfrm>
            <a:off x="755640" y="3078000"/>
            <a:ext cx="3816360" cy="378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heart-157895__340"/>
          <p:cNvPicPr/>
          <p:nvPr/>
        </p:nvPicPr>
        <p:blipFill>
          <a:blip r:embed="rId3"/>
          <a:stretch/>
        </p:blipFill>
        <p:spPr>
          <a:xfrm>
            <a:off x="5940360" y="4653000"/>
            <a:ext cx="144000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14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404640"/>
            <a:ext cx="86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волонтер – настоящий гер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онтеры очень хотят сделать мир лучше и добрее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superhero-304713__340"/>
          <p:cNvPicPr/>
          <p:nvPr/>
        </p:nvPicPr>
        <p:blipFill>
          <a:blip r:embed="rId2"/>
          <a:stretch/>
        </p:blipFill>
        <p:spPr>
          <a:xfrm>
            <a:off x="1979640" y="1484280"/>
            <a:ext cx="48578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7"/>
          <p:cNvSpPr txBox="1"/>
          <p:nvPr/>
        </p:nvSpPr>
        <p:spPr>
          <a:xfrm>
            <a:off x="250920" y="4581360"/>
            <a:ext cx="8569080" cy="19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ешите делать добро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hild-774063__340"/>
          <p:cNvPicPr/>
          <p:nvPr/>
        </p:nvPicPr>
        <p:blipFill>
          <a:blip r:embed="rId1"/>
          <a:stretch/>
        </p:blipFill>
        <p:spPr>
          <a:xfrm>
            <a:off x="250920" y="189000"/>
            <a:ext cx="2700360" cy="179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og-2170565__340"/>
          <p:cNvPicPr/>
          <p:nvPr/>
        </p:nvPicPr>
        <p:blipFill>
          <a:blip r:embed="rId2"/>
          <a:stretch/>
        </p:blipFill>
        <p:spPr>
          <a:xfrm>
            <a:off x="3203640" y="189000"/>
            <a:ext cx="2735280" cy="182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kids-674513__340"/>
          <p:cNvPicPr/>
          <p:nvPr/>
        </p:nvPicPr>
        <p:blipFill>
          <a:blip r:embed="rId3"/>
          <a:stretch/>
        </p:blipFill>
        <p:spPr>
          <a:xfrm>
            <a:off x="6156360" y="189000"/>
            <a:ext cx="2771640" cy="18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hilippines-2191486__340"/>
          <p:cNvPicPr/>
          <p:nvPr/>
        </p:nvPicPr>
        <p:blipFill>
          <a:blip r:embed="rId4"/>
          <a:stretch/>
        </p:blipFill>
        <p:spPr>
          <a:xfrm>
            <a:off x="250920" y="4797360"/>
            <a:ext cx="2736720" cy="1820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volunteer-3355065__340"/>
          <p:cNvPicPr/>
          <p:nvPr/>
        </p:nvPicPr>
        <p:blipFill>
          <a:blip r:embed="rId5"/>
          <a:stretch/>
        </p:blipFill>
        <p:spPr>
          <a:xfrm>
            <a:off x="6156360" y="4797360"/>
            <a:ext cx="2735280" cy="18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poor-1775239__340"/>
          <p:cNvPicPr/>
          <p:nvPr/>
        </p:nvPicPr>
        <p:blipFill>
          <a:blip r:embed="rId6"/>
          <a:stretch/>
        </p:blipFill>
        <p:spPr>
          <a:xfrm>
            <a:off x="3220920" y="4797360"/>
            <a:ext cx="2700360" cy="1800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431640" y="2133720"/>
            <a:ext cx="8280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лонтер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люди, которые помогают тем, кто оказался в трудной ситуации. Это помощь бесплатная, из добрых чув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cf2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23720" y="4869000"/>
            <a:ext cx="829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думаете, что такое добро? Какие поступки можно назвать добр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help-1300942__340"/>
          <p:cNvPicPr/>
          <p:nvPr/>
        </p:nvPicPr>
        <p:blipFill>
          <a:blip r:embed="rId1"/>
          <a:stretch/>
        </p:blipFill>
        <p:spPr>
          <a:xfrm>
            <a:off x="1692360" y="0"/>
            <a:ext cx="5757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Проект 1 00-00-000"/>
          <p:cNvPicPr/>
          <p:nvPr/>
        </p:nvPicPr>
        <p:blipFill>
          <a:blip r:embed="rId1"/>
          <a:stretch/>
        </p:blipFill>
        <p:spPr>
          <a:xfrm>
            <a:off x="647640" y="765000"/>
            <a:ext cx="7848720" cy="44164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341280" y="476280"/>
            <a:ext cx="846000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гра "Сундучок добрых дел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127080" y="4869000"/>
            <a:ext cx="93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в этот сундучок мы будем складывать ваши добрые поступки. Вспомните какие добрые дела вы сделали за последние 2 недели в детском саду, дома, на улице, в общественных местах, на природ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4140360" y="3429000"/>
            <a:ext cx="2662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Book Antiqua"/>
              </a:rPr>
              <a:t>сундучок добрых де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pic>
        <p:nvPicPr>
          <p:cNvPr id="64" name="Picture 12" descr="heart-157895__340"/>
          <p:cNvPicPr/>
          <p:nvPr/>
        </p:nvPicPr>
        <p:blipFill>
          <a:blip r:embed="rId2"/>
          <a:stretch/>
        </p:blipFill>
        <p:spPr>
          <a:xfrm rot="19817400">
            <a:off x="-2412720" y="1989000"/>
            <a:ext cx="1081080" cy="101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heart-157895__340"/>
          <p:cNvPicPr/>
          <p:nvPr/>
        </p:nvPicPr>
        <p:blipFill>
          <a:blip r:embed="rId3"/>
          <a:stretch/>
        </p:blipFill>
        <p:spPr>
          <a:xfrm rot="1878000">
            <a:off x="9143640" y="1268280"/>
            <a:ext cx="1150920" cy="108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heart-157895__340"/>
          <p:cNvPicPr/>
          <p:nvPr/>
        </p:nvPicPr>
        <p:blipFill>
          <a:blip r:embed="rId4"/>
          <a:stretch/>
        </p:blipFill>
        <p:spPr>
          <a:xfrm rot="19817400">
            <a:off x="-2690640" y="3751200"/>
            <a:ext cx="934920" cy="1017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heart-157895__340"/>
          <p:cNvPicPr/>
          <p:nvPr/>
        </p:nvPicPr>
        <p:blipFill>
          <a:blip r:embed="rId5"/>
          <a:stretch/>
        </p:blipFill>
        <p:spPr>
          <a:xfrm rot="1878000">
            <a:off x="9143640" y="1268280"/>
            <a:ext cx="115092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art-157895__340"/>
          <p:cNvPicPr/>
          <p:nvPr/>
        </p:nvPicPr>
        <p:blipFill>
          <a:blip r:embed="rId6"/>
          <a:stretch/>
        </p:blipFill>
        <p:spPr>
          <a:xfrm rot="19817400">
            <a:off x="9396360" y="2919240"/>
            <a:ext cx="1081080" cy="101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heart-157895__340"/>
          <p:cNvPicPr/>
          <p:nvPr/>
        </p:nvPicPr>
        <p:blipFill>
          <a:blip r:embed="rId7"/>
          <a:stretch/>
        </p:blipFill>
        <p:spPr>
          <a:xfrm rot="19817400">
            <a:off x="-2700000" y="333360"/>
            <a:ext cx="1081080" cy="101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heart-157895__340"/>
          <p:cNvPicPr/>
          <p:nvPr/>
        </p:nvPicPr>
        <p:blipFill>
          <a:blip r:embed="rId8"/>
          <a:stretch/>
        </p:blipFill>
        <p:spPr>
          <a:xfrm rot="1878000">
            <a:off x="9143640" y="1268280"/>
            <a:ext cx="1150920" cy="10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heart-157895__340"/>
          <p:cNvPicPr/>
          <p:nvPr/>
        </p:nvPicPr>
        <p:blipFill>
          <a:blip r:embed="rId9"/>
          <a:stretch/>
        </p:blipFill>
        <p:spPr>
          <a:xfrm rot="19817400">
            <a:off x="-2196720" y="2205000"/>
            <a:ext cx="108108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316 0.08171 C 0.07743 0.00648 0.12361 -0.06852 0.18368 -0.1088 C 0.24323 -0.14861 0.32639 -0.14931 0.39167 -0.15903 C 0.45677 -0.16898 0.52622 -0.18056 0.57309 -0.16806 C 0.62032 -0.15556 0.65243 -0.11088 0.67466 -0.0838 C 0.69618 -0.05694 0.69948 -0.01921 0.70469 -0.00625 E">
                                      <p:cBhvr>
                                        <p:cTn id="4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03073 -0.07778 C -0.12483 -0.12037 -0.21875 -0.16296 -0.29566 -0.17338 C -0.37257 -0.1838 -0.44844 -0.16366 -0.49236 -0.14005 C -0.53629 -0.11644 -0.55521 -0.08102 -0.55903 -0.03102 C -0.56285 0.01898 -0.52361 0.12731 -0.51563 0.15995 E">
                                      <p:cBhvr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0.01077 -0.04745 C 0.05834 -0.12291 0.10608 -0.19791 0.16823 -0.23796 C 0.23004 -0.278 0.3158 -0.2787 0.38334 -0.28842 C 0.4507 -0.29837 0.52257 -0.30995 0.57119 -0.29745 C 0.61997 -0.28495 0.6533 -0.24027 0.67622 -0.21319 C 0.69862 -0.18634 0.70191 -0.14861 0.70747 -0.13564 E">
                                      <p:cBhvr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-0.03073 -0.07778 C -0.12483 -0.12037 -0.21875 -0.16296 -0.29566 -0.17338 C -0.37257 -0.1838 -0.44844 -0.16366 -0.49236 -0.14005 C -0.53629 -0.11644 -0.55521 -0.08102 -0.55903 -0.03102 C -0.56285 0.01898 -0.52361 0.12731 -0.51563 0.15995 E">
                                      <p:cBhvr>
                                        <p:cTn id="6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1.94444E-006 1.48148E-006 C -0.03489 -0.08426 -0.06805 -0.16829 -0.1125 -0.2132 C -0.15521 -0.2581 -0.21684 -0.25857 -0.26441 -0.26968 C -0.3118 -0.28079 -0.3625 -0.29375 -0.39739 -0.27986 C -0.43212 -0.26574 -0.45434 -0.21574 -0.4717 -0.18542 C -0.4875 -0.15533 -0.48906 -0.1132 -0.49219 -0.09838 E">
                                      <p:cBhvr>
                                        <p:cTn id="6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-0.01997 0.20925 C 0.0408 0.28842 0.10208 0.37037 0.18142 0.41458 C 0.25989 0.45671 0.36944 0.45671 0.4559 0.46689 C 0.54201 0.47939 0.63351 0.49259 0.69618 0.47777 C 0.75851 0.46458 0.80069 0.4162 0.83021 0.38726 C 0.85868 0.35787 0.86319 0.31805 0.86996 0.30324 E">
                                      <p:cBhvr>
                                        <p:cTn id="6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0.03073 -0.07778 C -0.12483 -0.12037 -0.21875 -0.16296 -0.29566 -0.17338 C -0.37257 -0.1838 -0.44844 -0.16366 -0.49236 -0.14005 C -0.53629 -0.11644 -0.55521 -0.08102 -0.55903 -0.03102 C -0.56285 0.01898 -0.52361 0.12731 -0.51563 0.15995 E">
                                      <p:cBhvr>
                                        <p:cTn id="7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2.77778E-007 -2.96296E-006 C 0.18923 -0.03889 0.37864 -0.07778 0.49167 -0.02662 C 0.60469 0.02454 0.64132 0.16551 0.67812 0.30671 E">
                                      <p:cBhvr>
                                        <p:cTn id="7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reaching-40805__340"/>
          <p:cNvPicPr/>
          <p:nvPr/>
        </p:nvPicPr>
        <p:blipFill>
          <a:blip r:embed="rId1"/>
          <a:stretch/>
        </p:blipFill>
        <p:spPr>
          <a:xfrm>
            <a:off x="0" y="1125360"/>
            <a:ext cx="4459320" cy="515808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41280" y="476280"/>
            <a:ext cx="846000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Что делают волонтеры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492360" y="1341360"/>
            <a:ext cx="536436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нтеры и добровольцы помог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жи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ли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ан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нтеры и добровольц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храняют памя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ают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вуют в организации спортивных, культурных, экологических и др. меропри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дети-сироты"/>
          <p:cNvPicPr/>
          <p:nvPr/>
        </p:nvPicPr>
        <p:blipFill>
          <a:blip r:embed="rId1"/>
          <a:stretch/>
        </p:blipFill>
        <p:spPr>
          <a:xfrm>
            <a:off x="0" y="-20520"/>
            <a:ext cx="9721800" cy="6878520"/>
          </a:xfrm>
          <a:prstGeom prst="rect">
            <a:avLst/>
          </a:prstGeom>
          <a:ln w="0">
            <a:noFill/>
          </a:ln>
        </p:spPr>
      </p:pic>
      <p:sp>
        <p:nvSpPr>
          <p:cNvPr id="76" name="WordArt 4"/>
          <p:cNvSpPr txBox="1"/>
          <p:nvPr/>
        </p:nvSpPr>
        <p:spPr>
          <a:xfrm>
            <a:off x="341280" y="476280"/>
            <a:ext cx="846000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мощь детя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0920" y="138744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мощи нуждаются дети-сироты, которые остались без родителей; тяжело-больные дети; дети-инвалиды; дети, которые живут в бе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324000" y="3429000"/>
            <a:ext cx="5113080" cy="14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ты можешь помочь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50920" y="3789360"/>
            <a:ext cx="5184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ть вещи и игрушки из которых ты вырос, а родители отвезут их в фонд 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 участвовать в благотворительных акциях, концертах, мероприятиях для нуждающихс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бабуш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81" name="WordArt 6"/>
          <p:cNvSpPr txBox="1"/>
          <p:nvPr/>
        </p:nvSpPr>
        <p:spPr>
          <a:xfrm>
            <a:off x="522360" y="549360"/>
            <a:ext cx="815328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мощь пожилым, инвалидам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етерана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880920" y="1484280"/>
            <a:ext cx="73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мощи нуждаются пожилые люди, инвалиды – люди с ограниченными возможностями, ветераны – участники Великой Отечественной Войны и друг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8"/>
          <p:cNvSpPr txBox="1"/>
          <p:nvPr/>
        </p:nvSpPr>
        <p:spPr>
          <a:xfrm>
            <a:off x="324000" y="3141720"/>
            <a:ext cx="594828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ты можешь помочь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68360" y="3716280"/>
            <a:ext cx="550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ить подарки, сделанные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вовать в арт-волонтерстве, когда творческие люди делятся своим талантом, обучают пожилых, инвалидов, ветер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вовать в мероприятиях, направленных на освоении современных технологий пожилыми людьми (планшет, смартфон, компьютер, интерн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вовать в благотворительных концер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giraffe-2659347__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895320" y="333360"/>
            <a:ext cx="735336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126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омощь животны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382920" y="981000"/>
            <a:ext cx="57610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мощи нуждаются многие бездомные животные. Для них волонтеры устраивают питомники, собирают деньги на корм, стараются найти 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кие животные нуждаются также в защите. Они страдают от загрязнения окружающей среды, браконьерства, вырубки лесов. Добровольцы работают в лесопарках, организовывают субботники по уборке и сортировке мусора, очистки лесов и рек 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2987640" y="3645000"/>
            <a:ext cx="59482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ты можешь помочь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050920" y="5013360"/>
            <a:ext cx="68421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жать деревья и кустарники. Участвовать в субботниках, сортировать мусор, правильно утилизировать батарейки. Собирать макулатуру. Экономить дома электричество и воду. Мастерить кормушки для птиц и зверей, подкармливать их зимой. Беречь природу. Твоя семья может взять шефство  над животным в Зоопарке, это тоже вид волонте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25280" y="333360"/>
            <a:ext cx="88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айте послушаем стихотворение Йоанны Берн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979640" y="981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– волонтер и Ты – волонте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16000" y="1628640"/>
            <a:ext cx="43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– волонтер и Ты – волон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инем над миром счастья ша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обою мы сможем все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жем природу восстанови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жем ребенку, как правильно ж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м детей мы играть, рисова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жем, как правильно надо писа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– волонтер и Я – волон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оем над миром дружбы ша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жем медбрату больного лечит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жем ребятам, как надо люби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зей и родных, свой край и стран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мир, а не только гордыню свою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м мы старших всегда уваж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обрым словом их слух ублажать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788000" y="1959120"/>
            <a:ext cx="41050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– волонтер и Ты – волон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оем над миром мы света ша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наполним мы радостью до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уку крепко ребенка возьме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де и невзгодах не подведе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ь Ты – волонтер и Я – волонтер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е несчастье переживем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ы мы лишь в мир этот радость нест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трудной дороге не подвести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6T15:55:27Z</dcterms:created>
  <dc:creator>Наталья</dc:creator>
  <dc:description/>
  <dc:language>en-US</dc:language>
  <cp:lastModifiedBy>Оля</cp:lastModifiedBy>
  <dcterms:modified xsi:type="dcterms:W3CDTF">2020-10-25T14:28:30Z</dcterms:modified>
  <cp:revision>31</cp:revision>
  <dc:subject/>
  <dc:title>Слайд 1</dc:title>
</cp:coreProperties>
</file>