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8.png" ContentType="image/png"/>
  <Override PartName="/ppt/media/image15.gif" ContentType="image/gif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9F6E-9A31-491E-A1D9-9D1BF561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3D1-D6E3-4B09-B04F-6DAE973B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2E843-44D8-414C-AB1D-5C8CA236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A8080-F0EE-4BF1-ADF2-00294ED8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EC61A-05C6-4A06-80A4-EED2A1FA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C48B6-977C-47DA-9D5C-14E96E97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275EA-6393-46F2-AF96-FBDDBA17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45ECC-7552-4367-89C1-D6829B78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B9D30-7F80-4E4C-B5E2-9F354012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B8EF3-17DD-4696-B5EC-8E733C71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C6566-A118-4870-BEF7-B38B6B4F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67A-B30A-482B-A584-5085EAC4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4DB-E56D-49E9-B6FE-2B7D387D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2713-AB53-4175-955B-8352DA17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9C88-25A1-4482-B7DD-0496C5B7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6EF0-2E93-4E84-B155-D1D1AE9A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DEC6-156E-45ED-B092-CAB60693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331C-E1C8-4426-AFDA-71C4E400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B7DE-BA4A-42C7-BBF2-F1940480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BD84-F831-4D64-B893-5F30600D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1F2-C248-4673-B465-4297DF82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4952-6AD4-4BBA-9502-AC5924FB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F4EE-9295-4E06-9062-B7EF0F9A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3E12-D369-4D28-B1D8-EFDE951E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DF22-F633-44AF-8A03-B9B5F5FF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88BD-5078-4442-BC0E-4C3BC421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4F1A-71AB-47E6-8CC1-B8587A5B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59FDF-F761-4BFC-A0BC-A59929AC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382DC-7AA9-4B6F-9584-7C119AEE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A1EF2-2423-478A-8E6C-B996BADC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83FC7-CA52-4312-9994-9B226488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8D5-9797-49FF-AA0B-2C4EFCA8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186B4-0983-440D-8038-AC25D371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3143-7458-4E39-8124-8AD5519B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9F17A-4B15-4E2B-8420-DD51FF4B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48D7F-C452-4BE5-B615-C321E3F3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20D1D-2513-40F1-AF03-A596EA21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643C3-BF6A-4BE1-9618-B2EC1D41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885A-2DD5-4277-B0D8-AB381FBF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E7FD6-AB60-4788-99F9-70CFA2F7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0543A-1BA3-4BE9-9622-B1DF306B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92292-19D6-49E2-B20F-B75507FF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E2F-506E-425D-9199-B66B26AC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DAE9A-607C-45AB-A6A0-C0198404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8EE6C-D4EE-408D-A8FC-CEDA1A05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540C9-D3CB-43D4-AD8F-A6D8BCC6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7A374-BACE-44C3-8E1C-9F2A395A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131AA-3469-470A-80BA-FD6BC25D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F081E-FCED-451C-9A6D-B27130E0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F5ADB-8650-4811-8DD0-F80E51A0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87EC-BAEF-46D5-A48B-477189AD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5C63C-D7D0-4095-B176-6B5E7ECA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E6478-2509-4742-AFAD-8A00CC2C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A8E-D6E8-4293-9302-C043E8A6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7E77F-A358-49F1-9E88-E2585349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B488D-7CCF-4C4C-936A-57A1F9A3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AF0CA-01B9-42A1-9A76-B3166694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E9F6A-C1F3-45C9-96F1-72AF55A6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AC9E1-AC93-49B9-972A-B1CE9AE6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5AE5E-683A-43AB-874B-AB3588E0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E96E4-6416-49E9-8AAE-347F051A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4E773-3292-484C-AA75-47B66DC8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04325-4D0E-4B69-BDDC-7D926C19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5AAB2-D075-4C48-9452-639200CC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1BC-F7AE-4CD9-BFA8-0FD4A0ED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983AA-78A6-4046-BB37-C9C6B513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0804E-C2B4-493C-AE5C-9E5C25B8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11D66-DC05-485F-8956-8014808D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973A3-36D4-4086-AFFD-F479B154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078BA-7060-4E0A-BAED-69B9EB23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9FCF4-1685-435A-AAB7-4D8B5066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59FC0-47F3-4B1F-8CAB-B2E45F52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2E7E8-AB0D-4837-A36A-2EFD481E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FE857-78E8-4E9F-8CFC-CDEC1B3E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3DA3D-6955-4849-A4F5-2FDECFA4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6CA-7DC0-4322-A103-7FF7D2EC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0252E-C85B-4602-84EB-ED0F6A82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3C2BB-21C5-4C70-9F49-73A79DE2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10730-802A-4B88-9452-E9609459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6CB08-7B6A-4B7E-B5EA-D0995A66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1DE69-62B2-4972-A436-A4B7DE7E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0F875-94A5-4B64-92BF-A2A0B085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88D7E-6E1E-4BAE-8070-40F75D2B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321AC-5BF8-45F3-8F6E-77402212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9E47A-2011-4C79-ABB4-DC5C3B0B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4509C-4E24-44B1-846A-B562F985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34D-DCFE-42E5-A132-1860FF09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4DDD3-28D8-40DE-A82A-CE42A018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A10E8-0AA3-49CB-9CA2-9EC951F1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E96AE-A1DE-4DDD-945E-A61DF28C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E1C0E-F7E8-4934-AB4F-2BA526FA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1972D-25EA-445A-8839-995AE488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01A80-BF08-4C21-80B8-4A0BB3E0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032A2-10ED-49E5-B709-152089C5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38332-DE3A-4348-AA8C-ECD82087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D88C1-8CDA-43A2-A931-3F3ED137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1BBF4-1970-4B43-9B04-A1B5BF2A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527-D048-437C-8B0C-5E580EF6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0DDC4-2BAF-483A-826D-1B817874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E3C22-5609-4256-B644-37B8F46B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33CF7-58FA-4F67-91D6-C46A550F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6C0CC-8750-47A5-B54F-5A7A717F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AE709-1B2D-4B21-8CF1-14B5B5FD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5106D-2C31-433F-8683-28883E4B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C9A1A-E534-4F4A-BE61-4CC7849B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AE169-6CA1-4ED8-BA0F-EFB9C693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04BC5-7CE6-42A9-8C64-97FA23B9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A4FE4-2C74-41F0-88E7-885EF806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61.xml"/><Relationship Id="rId20" Type="http://schemas.openxmlformats.org/officeDocument/2006/relationships/slideLayout" Target="../slideLayouts/slideLayout62.xml"/><Relationship Id="rId21" Type="http://schemas.openxmlformats.org/officeDocument/2006/relationships/slideLayout" Target="../slideLayouts/slideLayout63.xml"/><Relationship Id="rId22" Type="http://schemas.openxmlformats.org/officeDocument/2006/relationships/slideLayout" Target="../slideLayouts/slideLayout64.xml"/><Relationship Id="rId23" Type="http://schemas.openxmlformats.org/officeDocument/2006/relationships/slideLayout" Target="../slideLayouts/slideLayout65.xml"/><Relationship Id="rId24" Type="http://schemas.openxmlformats.org/officeDocument/2006/relationships/slideLayout" Target="../slideLayouts/slideLayout66.xml"/><Relationship Id="rId25" Type="http://schemas.openxmlformats.org/officeDocument/2006/relationships/slideLayout" Target="../slideLayouts/slideLayout67.xml"/><Relationship Id="rId26" Type="http://schemas.openxmlformats.org/officeDocument/2006/relationships/slideLayout" Target="../slideLayouts/slideLayout68.xml"/><Relationship Id="rId27" Type="http://schemas.openxmlformats.org/officeDocument/2006/relationships/slideLayout" Target="../slideLayouts/slideLayout69.xml"/><Relationship Id="rId28" Type="http://schemas.openxmlformats.org/officeDocument/2006/relationships/slideLayout" Target="../slideLayouts/slideLayout70.xml"/><Relationship Id="rId29" Type="http://schemas.openxmlformats.org/officeDocument/2006/relationships/slideLayout" Target="../slideLayouts/slideLayout71.xml"/><Relationship Id="rId3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73.xml"/><Relationship Id="rId20" Type="http://schemas.openxmlformats.org/officeDocument/2006/relationships/slideLayout" Target="../slideLayouts/slideLayout74.xml"/><Relationship Id="rId21" Type="http://schemas.openxmlformats.org/officeDocument/2006/relationships/slideLayout" Target="../slideLayouts/slideLayout75.xml"/><Relationship Id="rId22" Type="http://schemas.openxmlformats.org/officeDocument/2006/relationships/slideLayout" Target="../slideLayouts/slideLayout76.xml"/><Relationship Id="rId23" Type="http://schemas.openxmlformats.org/officeDocument/2006/relationships/slideLayout" Target="../slideLayouts/slideLayout77.xml"/><Relationship Id="rId24" Type="http://schemas.openxmlformats.org/officeDocument/2006/relationships/slideLayout" Target="../slideLayouts/slideLayout78.xml"/><Relationship Id="rId25" Type="http://schemas.openxmlformats.org/officeDocument/2006/relationships/slideLayout" Target="../slideLayouts/slideLayout79.xml"/><Relationship Id="rId26" Type="http://schemas.openxmlformats.org/officeDocument/2006/relationships/slideLayout" Target="../slideLayouts/slideLayout80.xml"/><Relationship Id="rId27" Type="http://schemas.openxmlformats.org/officeDocument/2006/relationships/slideLayout" Target="../slideLayouts/slideLayout81.xml"/><Relationship Id="rId28" Type="http://schemas.openxmlformats.org/officeDocument/2006/relationships/slideLayout" Target="../slideLayouts/slideLayout82.xml"/><Relationship Id="rId29" Type="http://schemas.openxmlformats.org/officeDocument/2006/relationships/slideLayout" Target="../slideLayouts/slideLayout83.xml"/><Relationship Id="rId3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85.xml"/><Relationship Id="rId20" Type="http://schemas.openxmlformats.org/officeDocument/2006/relationships/slideLayout" Target="../slideLayouts/slideLayout86.xml"/><Relationship Id="rId21" Type="http://schemas.openxmlformats.org/officeDocument/2006/relationships/slideLayout" Target="../slideLayouts/slideLayout87.xml"/><Relationship Id="rId22" Type="http://schemas.openxmlformats.org/officeDocument/2006/relationships/slideLayout" Target="../slideLayouts/slideLayout88.xml"/><Relationship Id="rId23" Type="http://schemas.openxmlformats.org/officeDocument/2006/relationships/slideLayout" Target="../slideLayouts/slideLayout89.xml"/><Relationship Id="rId24" Type="http://schemas.openxmlformats.org/officeDocument/2006/relationships/slideLayout" Target="../slideLayouts/slideLayout90.xml"/><Relationship Id="rId25" Type="http://schemas.openxmlformats.org/officeDocument/2006/relationships/slideLayout" Target="../slideLayouts/slideLayout91.xml"/><Relationship Id="rId26" Type="http://schemas.openxmlformats.org/officeDocument/2006/relationships/slideLayout" Target="../slideLayouts/slideLayout92.xml"/><Relationship Id="rId27" Type="http://schemas.openxmlformats.org/officeDocument/2006/relationships/slideLayout" Target="../slideLayouts/slideLayout93.xml"/><Relationship Id="rId28" Type="http://schemas.openxmlformats.org/officeDocument/2006/relationships/slideLayout" Target="../slideLayouts/slideLayout94.xml"/><Relationship Id="rId29" Type="http://schemas.openxmlformats.org/officeDocument/2006/relationships/slideLayout" Target="../slideLayouts/slideLayout95.xml"/><Relationship Id="rId3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97.xml"/><Relationship Id="rId20" Type="http://schemas.openxmlformats.org/officeDocument/2006/relationships/slideLayout" Target="../slideLayouts/slideLayout98.xml"/><Relationship Id="rId21" Type="http://schemas.openxmlformats.org/officeDocument/2006/relationships/slideLayout" Target="../slideLayouts/slideLayout99.xml"/><Relationship Id="rId22" Type="http://schemas.openxmlformats.org/officeDocument/2006/relationships/slideLayout" Target="../slideLayouts/slideLayout100.xml"/><Relationship Id="rId23" Type="http://schemas.openxmlformats.org/officeDocument/2006/relationships/slideLayout" Target="../slideLayouts/slideLayout101.xml"/><Relationship Id="rId24" Type="http://schemas.openxmlformats.org/officeDocument/2006/relationships/slideLayout" Target="../slideLayouts/slideLayout102.xml"/><Relationship Id="rId25" Type="http://schemas.openxmlformats.org/officeDocument/2006/relationships/slideLayout" Target="../slideLayouts/slideLayout103.xml"/><Relationship Id="rId26" Type="http://schemas.openxmlformats.org/officeDocument/2006/relationships/slideLayout" Target="../slideLayouts/slideLayout104.xml"/><Relationship Id="rId27" Type="http://schemas.openxmlformats.org/officeDocument/2006/relationships/slideLayout" Target="../slideLayouts/slideLayout105.xml"/><Relationship Id="rId28" Type="http://schemas.openxmlformats.org/officeDocument/2006/relationships/slideLayout" Target="../slideLayouts/slideLayout106.xml"/><Relationship Id="rId29" Type="http://schemas.openxmlformats.org/officeDocument/2006/relationships/slideLayout" Target="../slideLayouts/slideLayout107.xml"/><Relationship Id="rId3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3F30-0260-4C03-9820-2590ED019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D9AD-89F7-4289-9FD4-A795488989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5861-1487-47E8-85D8-87850D0656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BF03-64F8-4468-9133-7B92BB4969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6765-B416-401B-BD0F-E69DA2A92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C:\Documents and Settings\Admin\Мои документы\Мои рисунки\Рисунок1.gif"/>
          <p:cNvPicPr/>
          <p:nvPr/>
        </p:nvPicPr>
        <p:blipFill>
          <a:blip r:embed="rId7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8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Admin\Рабочий стол\Новая папка\Скворечник забор птичка облака\Новая папка\прозр.gif"/>
          <p:cNvPicPr/>
          <p:nvPr/>
        </p:nvPicPr>
        <p:blipFill>
          <a:blip r:embed="rId9"/>
          <a:stretch/>
        </p:blipFill>
        <p:spPr>
          <a:xfrm>
            <a:off x="6924600" y="1785960"/>
            <a:ext cx="2219400" cy="4543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10"/>
          <a:stretch/>
        </p:blipFill>
        <p:spPr>
          <a:xfrm>
            <a:off x="8058240" y="2714760"/>
            <a:ext cx="108576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1"/>
          <a:stretch/>
        </p:blipFill>
        <p:spPr>
          <a:xfrm>
            <a:off x="5572080" y="5372280"/>
            <a:ext cx="2857680" cy="1485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2"/>
          <a:stretch/>
        </p:blipFill>
        <p:spPr>
          <a:xfrm>
            <a:off x="3071880" y="5372280"/>
            <a:ext cx="2671560" cy="1485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3"/>
          <a:stretch/>
        </p:blipFill>
        <p:spPr>
          <a:xfrm>
            <a:off x="8215200" y="4714920"/>
            <a:ext cx="714600" cy="2143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14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Documents and Settings\Admin\Рабочий стол\Новая папка\Скворечник забор птичка облака\Новая папка\пр8.gif"/>
          <p:cNvPicPr/>
          <p:nvPr/>
        </p:nvPicPr>
        <p:blipFill>
          <a:blip r:embed="rId15"/>
          <a:stretch/>
        </p:blipFill>
        <p:spPr>
          <a:xfrm>
            <a:off x="3071880" y="6072120"/>
            <a:ext cx="1662120" cy="785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6"/>
          <a:stretch/>
        </p:blipFill>
        <p:spPr>
          <a:xfrm>
            <a:off x="2786040" y="5143680"/>
            <a:ext cx="571680" cy="1714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C:\Documents and Settings\Admin\Мои документы\Мои рисунки\Рисунок2.gif"/>
          <p:cNvPicPr/>
          <p:nvPr/>
        </p:nvPicPr>
        <p:blipFill>
          <a:blip r:embed="rId17"/>
          <a:stretch/>
        </p:blipFill>
        <p:spPr>
          <a:xfrm>
            <a:off x="0" y="142920"/>
            <a:ext cx="3409920" cy="2381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F:\КАРТИНКИ 2\bv-b.gif"/>
          <p:cNvPicPr/>
          <p:nvPr/>
        </p:nvPicPr>
        <p:blipFill>
          <a:blip r:embed="rId18"/>
          <a:stretch/>
        </p:blipFill>
        <p:spPr>
          <a:xfrm>
            <a:off x="8277120" y="6649920"/>
            <a:ext cx="866880" cy="2080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8986-7391-4500-BF78-3AD921BCC2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9"/>
    <p:sldLayoutId id="2147483715" r:id="rId20"/>
    <p:sldLayoutId id="2147483716" r:id="rId21"/>
    <p:sldLayoutId id="2147483717" r:id="rId22"/>
    <p:sldLayoutId id="2147483718" r:id="rId23"/>
    <p:sldLayoutId id="2147483719" r:id="rId24"/>
    <p:sldLayoutId id="2147483720" r:id="rId25"/>
    <p:sldLayoutId id="2147483721" r:id="rId26"/>
    <p:sldLayoutId id="2147483722" r:id="rId27"/>
    <p:sldLayoutId id="2147483723" r:id="rId28"/>
    <p:sldLayoutId id="2147483724" r:id="rId29"/>
    <p:sldLayoutId id="2147483725" r:id="rId3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C:\Documents and Settings\Admin\Мои документы\Мои рисунки\Рисунок1.gif"/>
          <p:cNvPicPr/>
          <p:nvPr/>
        </p:nvPicPr>
        <p:blipFill>
          <a:blip r:embed="rId7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8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Documents and Settings\Admin\Рабочий стол\Новая папка\Скворечник забор птичка облака\Новая папка\прозр.gif"/>
          <p:cNvPicPr/>
          <p:nvPr/>
        </p:nvPicPr>
        <p:blipFill>
          <a:blip r:embed="rId9"/>
          <a:stretch/>
        </p:blipFill>
        <p:spPr>
          <a:xfrm>
            <a:off x="6924600" y="1785960"/>
            <a:ext cx="2219400" cy="4543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10"/>
          <a:stretch/>
        </p:blipFill>
        <p:spPr>
          <a:xfrm>
            <a:off x="8058240" y="2714760"/>
            <a:ext cx="1085760" cy="838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1"/>
          <a:stretch/>
        </p:blipFill>
        <p:spPr>
          <a:xfrm>
            <a:off x="5572080" y="5372280"/>
            <a:ext cx="2857680" cy="1485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2"/>
          <a:stretch/>
        </p:blipFill>
        <p:spPr>
          <a:xfrm>
            <a:off x="3071880" y="5372280"/>
            <a:ext cx="2671560" cy="1485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3"/>
          <a:stretch/>
        </p:blipFill>
        <p:spPr>
          <a:xfrm>
            <a:off x="8215200" y="4714920"/>
            <a:ext cx="714600" cy="2143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14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C:\Documents and Settings\Admin\Рабочий стол\Новая папка\Скворечник забор птичка облака\Новая папка\пр8.gif"/>
          <p:cNvPicPr/>
          <p:nvPr/>
        </p:nvPicPr>
        <p:blipFill>
          <a:blip r:embed="rId15"/>
          <a:stretch/>
        </p:blipFill>
        <p:spPr>
          <a:xfrm>
            <a:off x="3071880" y="6072120"/>
            <a:ext cx="1662120" cy="785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6"/>
          <a:stretch/>
        </p:blipFill>
        <p:spPr>
          <a:xfrm>
            <a:off x="2786040" y="5143680"/>
            <a:ext cx="571680" cy="1714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C:\Documents and Settings\Admin\Мои документы\Мои рисунки\Рисунок2.gif"/>
          <p:cNvPicPr/>
          <p:nvPr/>
        </p:nvPicPr>
        <p:blipFill>
          <a:blip r:embed="rId17"/>
          <a:stretch/>
        </p:blipFill>
        <p:spPr>
          <a:xfrm>
            <a:off x="0" y="142920"/>
            <a:ext cx="3409920" cy="2381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4" descr="F:\КАРТИНКИ 2\bv-b.gif"/>
          <p:cNvPicPr/>
          <p:nvPr/>
        </p:nvPicPr>
        <p:blipFill>
          <a:blip r:embed="rId18"/>
          <a:stretch/>
        </p:blipFill>
        <p:spPr>
          <a:xfrm>
            <a:off x="8277120" y="6649920"/>
            <a:ext cx="866880" cy="2080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9B52-C68F-44C0-938D-9029958941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9"/>
    <p:sldLayoutId id="2147483728" r:id="rId20"/>
    <p:sldLayoutId id="2147483729" r:id="rId21"/>
    <p:sldLayoutId id="2147483730" r:id="rId22"/>
    <p:sldLayoutId id="2147483731" r:id="rId23"/>
    <p:sldLayoutId id="2147483732" r:id="rId24"/>
    <p:sldLayoutId id="2147483733" r:id="rId25"/>
    <p:sldLayoutId id="2147483734" r:id="rId26"/>
    <p:sldLayoutId id="2147483735" r:id="rId27"/>
    <p:sldLayoutId id="2147483736" r:id="rId28"/>
    <p:sldLayoutId id="2147483737" r:id="rId29"/>
    <p:sldLayoutId id="2147483738" r:id="rId3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C:\Documents and Settings\Admin\Мои документы\Мои рисунки\Рисунок1.gif"/>
          <p:cNvPicPr/>
          <p:nvPr/>
        </p:nvPicPr>
        <p:blipFill>
          <a:blip r:embed="rId7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8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C:\Documents and Settings\Admin\Рабочий стол\Новая папка\Скворечник забор птичка облака\Новая папка\прозр.gif"/>
          <p:cNvPicPr/>
          <p:nvPr/>
        </p:nvPicPr>
        <p:blipFill>
          <a:blip r:embed="rId9"/>
          <a:stretch/>
        </p:blipFill>
        <p:spPr>
          <a:xfrm>
            <a:off x="6924600" y="1785960"/>
            <a:ext cx="2219400" cy="4543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10"/>
          <a:stretch/>
        </p:blipFill>
        <p:spPr>
          <a:xfrm>
            <a:off x="8058240" y="2714760"/>
            <a:ext cx="1085760" cy="838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1"/>
          <a:stretch/>
        </p:blipFill>
        <p:spPr>
          <a:xfrm>
            <a:off x="5572080" y="5372280"/>
            <a:ext cx="2857680" cy="1485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2"/>
          <a:stretch/>
        </p:blipFill>
        <p:spPr>
          <a:xfrm>
            <a:off x="3071880" y="5372280"/>
            <a:ext cx="2671560" cy="1485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3"/>
          <a:stretch/>
        </p:blipFill>
        <p:spPr>
          <a:xfrm>
            <a:off x="8215200" y="4714920"/>
            <a:ext cx="714600" cy="2143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14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C:\Documents and Settings\Admin\Рабочий стол\Новая папка\Скворечник забор птичка облака\Новая папка\пр8.gif"/>
          <p:cNvPicPr/>
          <p:nvPr/>
        </p:nvPicPr>
        <p:blipFill>
          <a:blip r:embed="rId15"/>
          <a:stretch/>
        </p:blipFill>
        <p:spPr>
          <a:xfrm>
            <a:off x="3071880" y="6072120"/>
            <a:ext cx="1662120" cy="7858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6"/>
          <a:stretch/>
        </p:blipFill>
        <p:spPr>
          <a:xfrm>
            <a:off x="2786040" y="5143680"/>
            <a:ext cx="571680" cy="17143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C:\Documents and Settings\Admin\Мои документы\Мои рисунки\Рисунок2.gif"/>
          <p:cNvPicPr/>
          <p:nvPr/>
        </p:nvPicPr>
        <p:blipFill>
          <a:blip r:embed="rId17"/>
          <a:stretch/>
        </p:blipFill>
        <p:spPr>
          <a:xfrm>
            <a:off x="0" y="142920"/>
            <a:ext cx="3409920" cy="2381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F:\КАРТИНКИ 2\bv-b.gif"/>
          <p:cNvPicPr/>
          <p:nvPr/>
        </p:nvPicPr>
        <p:blipFill>
          <a:blip r:embed="rId18"/>
          <a:stretch/>
        </p:blipFill>
        <p:spPr>
          <a:xfrm>
            <a:off x="8277120" y="6649920"/>
            <a:ext cx="866880" cy="2080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7E42-7CD1-4188-BACD-B1464B54A8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9"/>
    <p:sldLayoutId id="2147483741" r:id="rId20"/>
    <p:sldLayoutId id="2147483742" r:id="rId21"/>
    <p:sldLayoutId id="2147483743" r:id="rId22"/>
    <p:sldLayoutId id="2147483744" r:id="rId23"/>
    <p:sldLayoutId id="2147483745" r:id="rId24"/>
    <p:sldLayoutId id="2147483746" r:id="rId25"/>
    <p:sldLayoutId id="2147483747" r:id="rId26"/>
    <p:sldLayoutId id="2147483748" r:id="rId27"/>
    <p:sldLayoutId id="2147483749" r:id="rId28"/>
    <p:sldLayoutId id="2147483750" r:id="rId29"/>
    <p:sldLayoutId id="2147483751" r:id="rId3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1" descr="C:\Documents and Settings\Admin\Мои документы\Мои рисунки\Рисунок1.gif"/>
          <p:cNvPicPr/>
          <p:nvPr/>
        </p:nvPicPr>
        <p:blipFill>
          <a:blip r:embed="rId7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8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Documents and Settings\Admin\Рабочий стол\Новая папка\Скворечник забор птичка облака\Новая папка\прозр.gif"/>
          <p:cNvPicPr/>
          <p:nvPr/>
        </p:nvPicPr>
        <p:blipFill>
          <a:blip r:embed="rId9"/>
          <a:stretch/>
        </p:blipFill>
        <p:spPr>
          <a:xfrm>
            <a:off x="6924600" y="1785960"/>
            <a:ext cx="2219400" cy="4543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10"/>
          <a:stretch/>
        </p:blipFill>
        <p:spPr>
          <a:xfrm>
            <a:off x="8058240" y="2714760"/>
            <a:ext cx="1085760" cy="838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1"/>
          <a:stretch/>
        </p:blipFill>
        <p:spPr>
          <a:xfrm>
            <a:off x="5572080" y="5372280"/>
            <a:ext cx="2857680" cy="1485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2"/>
          <a:stretch/>
        </p:blipFill>
        <p:spPr>
          <a:xfrm>
            <a:off x="3071880" y="5372280"/>
            <a:ext cx="2671560" cy="1485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3"/>
          <a:stretch/>
        </p:blipFill>
        <p:spPr>
          <a:xfrm>
            <a:off x="8215200" y="4714920"/>
            <a:ext cx="714600" cy="2143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14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C:\Documents and Settings\Admin\Рабочий стол\Новая папка\Скворечник забор птичка облака\Новая папка\пр8.gif"/>
          <p:cNvPicPr/>
          <p:nvPr/>
        </p:nvPicPr>
        <p:blipFill>
          <a:blip r:embed="rId15"/>
          <a:stretch/>
        </p:blipFill>
        <p:spPr>
          <a:xfrm>
            <a:off x="3071880" y="6072120"/>
            <a:ext cx="1662120" cy="785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6"/>
          <a:stretch/>
        </p:blipFill>
        <p:spPr>
          <a:xfrm>
            <a:off x="2786040" y="5143680"/>
            <a:ext cx="571680" cy="17143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C:\Documents and Settings\Admin\Мои документы\Мои рисунки\Рисунок2.gif"/>
          <p:cNvPicPr/>
          <p:nvPr/>
        </p:nvPicPr>
        <p:blipFill>
          <a:blip r:embed="rId17"/>
          <a:stretch/>
        </p:blipFill>
        <p:spPr>
          <a:xfrm>
            <a:off x="0" y="142920"/>
            <a:ext cx="3409920" cy="2381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4" descr="F:\КАРТИНКИ 2\bv-b.gif"/>
          <p:cNvPicPr/>
          <p:nvPr/>
        </p:nvPicPr>
        <p:blipFill>
          <a:blip r:embed="rId18"/>
          <a:stretch/>
        </p:blipFill>
        <p:spPr>
          <a:xfrm>
            <a:off x="8277120" y="6649920"/>
            <a:ext cx="866880" cy="2080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3427-99C9-486A-AFFD-721D50ECBE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9"/>
    <p:sldLayoutId id="2147483754" r:id="rId20"/>
    <p:sldLayoutId id="2147483755" r:id="rId21"/>
    <p:sldLayoutId id="2147483756" r:id="rId22"/>
    <p:sldLayoutId id="2147483757" r:id="rId23"/>
    <p:sldLayoutId id="2147483758" r:id="rId24"/>
    <p:sldLayoutId id="2147483759" r:id="rId25"/>
    <p:sldLayoutId id="2147483760" r:id="rId26"/>
    <p:sldLayoutId id="2147483761" r:id="rId27"/>
    <p:sldLayoutId id="2147483762" r:id="rId28"/>
    <p:sldLayoutId id="2147483763" r:id="rId29"/>
    <p:sldLayoutId id="2147483764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1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450" name="TextBox 2"/>
          <p:cNvSpPr/>
          <p:nvPr/>
        </p:nvSpPr>
        <p:spPr>
          <a:xfrm>
            <a:off x="1600200" y="533520"/>
            <a:ext cx="57913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ff"/>
                </a:solidFill>
                <a:latin typeface="Calibri"/>
              </a:rPr>
              <a:t>Приёмы       письменных вычислен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ыполнила 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льшанникова А.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Calibri"/>
              </a:rPr>
              <a:t>Подведём итог уро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alibri"/>
              </a:rPr>
              <a:t>Что было сложным на урок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Что  у тебя получилось лучше все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Какое задание было самым интересны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515880" y="1143000"/>
            <a:ext cx="3446640" cy="495288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8"/>
          <p:cNvSpPr/>
          <p:nvPr/>
        </p:nvSpPr>
        <p:spPr>
          <a:xfrm>
            <a:off x="3429000" y="1523880"/>
            <a:ext cx="5686560" cy="3438720"/>
          </a:xfrm>
          <a:prstGeom prst="cloudCallout">
            <a:avLst>
              <a:gd name="adj1" fmla="val -54296"/>
              <a:gd name="adj2" fmla="val 24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alibri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1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452" name="WordArt 4" descr=""/>
          <p:cNvPicPr/>
          <p:nvPr/>
        </p:nvPicPr>
        <p:blipFill>
          <a:blip r:embed="rId3"/>
          <a:stretch/>
        </p:blipFill>
        <p:spPr>
          <a:xfrm>
            <a:off x="689040" y="225360"/>
            <a:ext cx="7845480" cy="71928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6"/>
          <p:cNvSpPr/>
          <p:nvPr/>
        </p:nvSpPr>
        <p:spPr>
          <a:xfrm>
            <a:off x="3581280" y="18288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457200" y="1523880"/>
            <a:ext cx="73915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930-300=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340+50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340+60=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980-8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270-50=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720-4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360-70=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180-9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750+50=   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640-8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505320" y="2819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2" descr="6236068"/>
          <p:cNvPicPr/>
          <p:nvPr/>
        </p:nvPicPr>
        <p:blipFill>
          <a:blip r:embed="rId4"/>
          <a:stretch/>
        </p:blipFill>
        <p:spPr>
          <a:xfrm>
            <a:off x="7620120" y="2286000"/>
            <a:ext cx="11430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абота над задачами</a:t>
            </a:r>
            <a:br>
              <a:rPr sz="4400"/>
            </a:br>
            <a:r>
              <a:rPr b="0" lang="ru-RU" sz="4400" spc="-1" strike="noStrike">
                <a:solidFill>
                  <a:srgbClr val="3333cc"/>
                </a:solidFill>
                <a:latin typeface="Calibri"/>
              </a:rPr>
              <a:t>назови решение и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1.    В коробке 5 карандашей. Сколько таких карандашей в 9 таких коробк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2.    К чаю подали 5 тарелок с пирожками по 7 на каждой. Сколько пирожков подали к ча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3.    Дети посадили 8 рядов яблонь по 9 яблонь в ряду. Сколько яблонь посадили де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+45=       340+450=   345+457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6-56=        760-540=    761-543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67+22=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670+220=   678+225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ff"/>
                </a:solidFill>
                <a:latin typeface="Calibri"/>
              </a:rPr>
              <a:t>Тема урока</a:t>
            </a:r>
            <a:br>
              <a:rPr sz="4800"/>
            </a:br>
            <a:r>
              <a:rPr b="1" lang="ru-RU" sz="4400" spc="-1" strike="noStrike">
                <a:solidFill>
                  <a:srgbClr val="ff00ff"/>
                </a:solidFill>
                <a:latin typeface="Calibri"/>
              </a:rPr>
              <a:t>Приёмы письменных вычислений 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Calibri"/>
              </a:rPr>
              <a:t>Алгоритм  сложения  трёхзначных чис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Пишу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Складываю  единицы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Складываю десятки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Складываю сотни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Читаю отв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671000" y="1922040"/>
            <a:ext cx="3335040" cy="232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хвально!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 теперь – отдохнём!!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533520" y="1063800"/>
            <a:ext cx="4114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"/>
          <p:cNvPicPr/>
          <p:nvPr/>
        </p:nvPicPr>
        <p:blipFill>
          <a:blip r:embed="rId2"/>
          <a:stretch/>
        </p:blipFill>
        <p:spPr>
          <a:xfrm>
            <a:off x="533520" y="-3636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крепление знаний</a:t>
            </a:r>
            <a:br>
              <a:rPr sz="3600"/>
            </a:b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№2 на стр.70,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№3 на стр. 70.</a:t>
            </a:r>
            <a:br>
              <a:rPr sz="4800"/>
            </a:b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ла</cp:lastModifiedBy>
  <dcterms:modified xsi:type="dcterms:W3CDTF">2020-05-22T14:59:0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190000000000010243100207f6000400038000</vt:lpwstr>
  </property>
  <property fmtid="{D5CDD505-2E9C-101B-9397-08002B2CF9AE}" pid="3" name="Version">
    <vt:r8>1</vt:r8>
  </property>
</Properties>
</file>