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8.png" ContentType="image/png"/>
  <Override PartName="/ppt/media/image15.gif" ContentType="image/gif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476-B7AC-4E1B-9C75-40EA14FA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23C-F0EF-4D5D-9579-C3FE633F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C78E5-780C-456D-93D1-920864EE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D6705-BC73-4F6A-A58E-ECD89A9B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7D46D-31F5-4AF5-825E-D503DC44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0F3B4-E4A1-45FC-A5C9-D04165F8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C783B-4221-47EF-AEC1-5D62BCC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0BCFC-E94E-4884-B69F-3EFA9159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2B452-6452-447A-B05D-FCEAE87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19A76-F141-4710-A630-2EE51333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9A6C3-3E21-410D-B504-85F9B64C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6AF-7E3F-4D1A-8767-FDF0A378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8D6-46D0-45B4-9B48-5236C872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3B20-A5B6-4D4E-8815-B9774F18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B349-F9C7-4D32-9466-C0CE6D1D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5600-18FA-457F-9ED1-DEC0C3B5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E072-02F2-49A5-8B63-0EC568E9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1748-A28C-4578-B9F8-194407F6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6B8F-7F85-4D8D-9F57-B655A27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7282-4473-4C81-B80C-ECAE1CD8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487-6713-4DAF-A0A6-7F29F161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6964-677E-4BC5-96FF-2F4E55F7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213E-EEBF-48DC-AB6A-B0E5232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1FF7-4566-4513-8F4C-47EC92B9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0C35-5DE5-422A-98D3-532EE264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A9AC-DAD7-4256-8DD5-BDC193C8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E419-763D-442F-8710-B7202C60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7E63-BF3F-4EDE-A165-0D6A3619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9E70-0F1A-4384-9DD9-9948377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4DDD-76D9-4233-818F-9DF8004F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A341-A3F4-47BC-9146-4729506A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4BC-FF08-4295-AA51-C6D166B3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9751-BE63-4902-ABA8-65EB20F7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5CA4-C1B6-42CF-8E48-9CE29F51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8BB0-12FA-4378-BAED-3E1DCD74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8FDC-0C48-4F2E-AD8A-3F448E5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C7D7-499B-47F3-BEE5-3C122729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AF76-D0A5-46F8-870D-ECD80C9B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8409-BC53-400F-B3EF-5726D8A4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E1AAC-251E-4D28-89FF-935830BD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77F3-015F-48A3-9726-C168ED66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F1633-340E-4749-BA84-93F791FE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BF7-B26D-47FE-9177-C7B7383A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4E1D7-C927-4D5A-B114-0236533E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8A5B-CC0C-417B-88E7-870FD77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0A6A-73DF-4006-9C1C-03D7C393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DB14-F865-47D5-98C2-AD991A7E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ADC6-FE6B-449C-B70C-D809B2B2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D401-315F-480D-A4EA-42496F36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00CA-609F-4E1E-8AFE-83E94239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2B468-D53D-48E8-9BE4-068F4B27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1B5A-8A29-40BA-9FEC-4B75E0A9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6D79A-31AE-4639-9943-28F260F2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294-9120-48A2-B27E-C270F248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13C1-CE3A-412A-B62E-0AFEB2EC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E44A6-8036-4D4E-98C3-3D16A6BF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1A57-0088-4F84-9DD1-2A7560DE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A7475-28EA-4911-9DF8-01389862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0F788-FCD4-41AE-A2DC-11BB47FA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CD57-E8E0-4400-92DF-CFE3FA96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1036-9A80-43FC-B4A0-AA33C4B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B108-8DA4-407C-B0B5-BA461E7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E7B92-5502-4E8D-8FBE-E4E1794A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6AE36-885D-488B-8BE6-63D82F7A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81D-4C59-4470-A78B-A62172CA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791F8-DD6D-444F-9B07-963A3973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12057-727E-48D9-82C5-EB1B308D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7FFA-A00F-46D2-83EA-6108C539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9A2FF-92F9-4CA8-858F-7EFD2F83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50CF-BA31-4841-BF43-1A3F14CB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DA87F-42DD-45B8-88DD-58F0475E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2D15-9D99-44E2-A226-45F4945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0BA2-7528-472F-A89B-C7D1285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458A5-255D-4E20-B8F6-554C94EE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74F46-373C-4B85-9EE4-EE6CDCF3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979-A4B8-4BFB-864B-F7364CE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D91B2-13B3-410D-B22D-B2BA239B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B75A7-9B3A-4C37-9D84-0E322710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45925-AA5E-4F22-93CD-237DB25B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7E292-26DF-420A-AAC2-198FF0EA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A9A0A-B9E4-4FE2-B609-01322E5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60306-A89C-406C-A308-044A3749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77D14-1FC0-481C-BBDD-BF405E6C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691BE-6AE1-4D8F-A3CF-B6FA8900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1689-DB15-435B-AB8E-2F747C1F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7B5D7-CD5A-4FC5-A846-63D7464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492-BD08-4B61-A2D7-7C69593C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39F8-E2AF-4F7A-A2D4-5E898E4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8016D-4218-4667-8D86-A7AE3849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8269-2B71-4D5A-B8B3-E39FCF8D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1782C-0ECB-43B2-8587-94E89F82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2C55D-E50F-498D-82CE-C1CACB48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7B8E8-3199-4683-AB6D-9366E407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BBB16-9869-4A8D-AAAE-80361AAD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225EE-11E4-4ECB-8699-92353ADB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73F35-48E6-40D8-9F2E-020921EB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41212-2BB9-4B5C-A126-FD5E6DB2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69C-93EA-4A66-AA31-041D47DC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5B078-EF4E-4327-89D4-F30EA210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C9CF4-0A2E-424F-A756-823571C6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AE72D-9F87-46A2-8178-A14C26F0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67FE3-B81D-4479-9998-B216C0EF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697A2-0DA6-4450-8B53-797E6369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55BBC-7D2E-47A0-953E-54B56CB1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E71C3-FD6D-4C6B-9C73-C5D85D68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9F1AD-A0FD-4207-BB02-A4E983A2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88292-CF80-4D58-B60A-EC85641C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3949F-5A3A-45BF-9798-17D6C331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61.xml"/><Relationship Id="rId20" Type="http://schemas.openxmlformats.org/officeDocument/2006/relationships/slideLayout" Target="../slideLayouts/slideLayout62.xml"/><Relationship Id="rId21" Type="http://schemas.openxmlformats.org/officeDocument/2006/relationships/slideLayout" Target="../slideLayouts/slideLayout63.xml"/><Relationship Id="rId22" Type="http://schemas.openxmlformats.org/officeDocument/2006/relationships/slideLayout" Target="../slideLayouts/slideLayout64.xml"/><Relationship Id="rId23" Type="http://schemas.openxmlformats.org/officeDocument/2006/relationships/slideLayout" Target="../slideLayouts/slideLayout65.xml"/><Relationship Id="rId24" Type="http://schemas.openxmlformats.org/officeDocument/2006/relationships/slideLayout" Target="../slideLayouts/slideLayout66.xml"/><Relationship Id="rId25" Type="http://schemas.openxmlformats.org/officeDocument/2006/relationships/slideLayout" Target="../slideLayouts/slideLayout67.xml"/><Relationship Id="rId26" Type="http://schemas.openxmlformats.org/officeDocument/2006/relationships/slideLayout" Target="../slideLayouts/slideLayout68.xml"/><Relationship Id="rId27" Type="http://schemas.openxmlformats.org/officeDocument/2006/relationships/slideLayout" Target="../slideLayouts/slideLayout69.xml"/><Relationship Id="rId28" Type="http://schemas.openxmlformats.org/officeDocument/2006/relationships/slideLayout" Target="../slideLayouts/slideLayout70.xml"/><Relationship Id="rId29" Type="http://schemas.openxmlformats.org/officeDocument/2006/relationships/slideLayout" Target="../slideLayouts/slideLayout71.xml"/><Relationship Id="rId3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73.xml"/><Relationship Id="rId20" Type="http://schemas.openxmlformats.org/officeDocument/2006/relationships/slideLayout" Target="../slideLayouts/slideLayout74.xml"/><Relationship Id="rId21" Type="http://schemas.openxmlformats.org/officeDocument/2006/relationships/slideLayout" Target="../slideLayouts/slideLayout75.xml"/><Relationship Id="rId22" Type="http://schemas.openxmlformats.org/officeDocument/2006/relationships/slideLayout" Target="../slideLayouts/slideLayout76.xml"/><Relationship Id="rId23" Type="http://schemas.openxmlformats.org/officeDocument/2006/relationships/slideLayout" Target="../slideLayouts/slideLayout77.xml"/><Relationship Id="rId24" Type="http://schemas.openxmlformats.org/officeDocument/2006/relationships/slideLayout" Target="../slideLayouts/slideLayout78.xml"/><Relationship Id="rId25" Type="http://schemas.openxmlformats.org/officeDocument/2006/relationships/slideLayout" Target="../slideLayouts/slideLayout79.xml"/><Relationship Id="rId26" Type="http://schemas.openxmlformats.org/officeDocument/2006/relationships/slideLayout" Target="../slideLayouts/slideLayout80.xml"/><Relationship Id="rId27" Type="http://schemas.openxmlformats.org/officeDocument/2006/relationships/slideLayout" Target="../slideLayouts/slideLayout81.xml"/><Relationship Id="rId28" Type="http://schemas.openxmlformats.org/officeDocument/2006/relationships/slideLayout" Target="../slideLayouts/slideLayout82.xml"/><Relationship Id="rId29" Type="http://schemas.openxmlformats.org/officeDocument/2006/relationships/slideLayout" Target="../slideLayouts/slideLayout83.xml"/><Relationship Id="rId3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85.xml"/><Relationship Id="rId20" Type="http://schemas.openxmlformats.org/officeDocument/2006/relationships/slideLayout" Target="../slideLayouts/slideLayout86.xml"/><Relationship Id="rId21" Type="http://schemas.openxmlformats.org/officeDocument/2006/relationships/slideLayout" Target="../slideLayouts/slideLayout87.xml"/><Relationship Id="rId22" Type="http://schemas.openxmlformats.org/officeDocument/2006/relationships/slideLayout" Target="../slideLayouts/slideLayout88.xml"/><Relationship Id="rId23" Type="http://schemas.openxmlformats.org/officeDocument/2006/relationships/slideLayout" Target="../slideLayouts/slideLayout89.xml"/><Relationship Id="rId24" Type="http://schemas.openxmlformats.org/officeDocument/2006/relationships/slideLayout" Target="../slideLayouts/slideLayout90.xml"/><Relationship Id="rId25" Type="http://schemas.openxmlformats.org/officeDocument/2006/relationships/slideLayout" Target="../slideLayouts/slideLayout91.xml"/><Relationship Id="rId26" Type="http://schemas.openxmlformats.org/officeDocument/2006/relationships/slideLayout" Target="../slideLayouts/slideLayout92.xml"/><Relationship Id="rId27" Type="http://schemas.openxmlformats.org/officeDocument/2006/relationships/slideLayout" Target="../slideLayouts/slideLayout93.xml"/><Relationship Id="rId28" Type="http://schemas.openxmlformats.org/officeDocument/2006/relationships/slideLayout" Target="../slideLayouts/slideLayout94.xml"/><Relationship Id="rId29" Type="http://schemas.openxmlformats.org/officeDocument/2006/relationships/slideLayout" Target="../slideLayouts/slideLayout95.xml"/><Relationship Id="rId3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97.xml"/><Relationship Id="rId20" Type="http://schemas.openxmlformats.org/officeDocument/2006/relationships/slideLayout" Target="../slideLayouts/slideLayout98.xml"/><Relationship Id="rId21" Type="http://schemas.openxmlformats.org/officeDocument/2006/relationships/slideLayout" Target="../slideLayouts/slideLayout99.xml"/><Relationship Id="rId22" Type="http://schemas.openxmlformats.org/officeDocument/2006/relationships/slideLayout" Target="../slideLayouts/slideLayout100.xml"/><Relationship Id="rId23" Type="http://schemas.openxmlformats.org/officeDocument/2006/relationships/slideLayout" Target="../slideLayouts/slideLayout101.xml"/><Relationship Id="rId24" Type="http://schemas.openxmlformats.org/officeDocument/2006/relationships/slideLayout" Target="../slideLayouts/slideLayout102.xml"/><Relationship Id="rId25" Type="http://schemas.openxmlformats.org/officeDocument/2006/relationships/slideLayout" Target="../slideLayouts/slideLayout103.xml"/><Relationship Id="rId26" Type="http://schemas.openxmlformats.org/officeDocument/2006/relationships/slideLayout" Target="../slideLayouts/slideLayout104.xml"/><Relationship Id="rId27" Type="http://schemas.openxmlformats.org/officeDocument/2006/relationships/slideLayout" Target="../slideLayouts/slideLayout105.xml"/><Relationship Id="rId28" Type="http://schemas.openxmlformats.org/officeDocument/2006/relationships/slideLayout" Target="../slideLayouts/slideLayout106.xml"/><Relationship Id="rId29" Type="http://schemas.openxmlformats.org/officeDocument/2006/relationships/slideLayout" Target="../slideLayouts/slideLayout107.xml"/><Relationship Id="rId3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707F-B613-4871-ADCD-5341DAEC1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564-54C5-4A19-A389-7B708AFC1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9781-B832-42FC-8468-C1D22A8C04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837-0415-4146-9219-1886CF427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5C6E-0842-4BF1-B597-A3B55000C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66C-128A-456C-BDE4-278D4BB02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9"/>
    <p:sldLayoutId id="2147483715" r:id="rId20"/>
    <p:sldLayoutId id="2147483716" r:id="rId21"/>
    <p:sldLayoutId id="2147483717" r:id="rId22"/>
    <p:sldLayoutId id="2147483718" r:id="rId23"/>
    <p:sldLayoutId id="2147483719" r:id="rId24"/>
    <p:sldLayoutId id="2147483720" r:id="rId25"/>
    <p:sldLayoutId id="2147483721" r:id="rId26"/>
    <p:sldLayoutId id="2147483722" r:id="rId27"/>
    <p:sldLayoutId id="2147483723" r:id="rId28"/>
    <p:sldLayoutId id="2147483724" r:id="rId29"/>
    <p:sldLayoutId id="2147483725" r:id="rId3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65F8-17FE-4FDD-8988-02D827C55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9"/>
    <p:sldLayoutId id="2147483728" r:id="rId20"/>
    <p:sldLayoutId id="2147483729" r:id="rId21"/>
    <p:sldLayoutId id="2147483730" r:id="rId22"/>
    <p:sldLayoutId id="2147483731" r:id="rId23"/>
    <p:sldLayoutId id="2147483732" r:id="rId24"/>
    <p:sldLayoutId id="2147483733" r:id="rId25"/>
    <p:sldLayoutId id="2147483734" r:id="rId26"/>
    <p:sldLayoutId id="2147483735" r:id="rId27"/>
    <p:sldLayoutId id="2147483736" r:id="rId28"/>
    <p:sldLayoutId id="2147483737" r:id="rId29"/>
    <p:sldLayoutId id="2147483738" r:id="rId3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19E7-9DBE-4A0D-A962-609DBDE62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9"/>
    <p:sldLayoutId id="2147483741" r:id="rId20"/>
    <p:sldLayoutId id="2147483742" r:id="rId21"/>
    <p:sldLayoutId id="2147483743" r:id="rId22"/>
    <p:sldLayoutId id="2147483744" r:id="rId23"/>
    <p:sldLayoutId id="2147483745" r:id="rId24"/>
    <p:sldLayoutId id="2147483746" r:id="rId25"/>
    <p:sldLayoutId id="2147483747" r:id="rId26"/>
    <p:sldLayoutId id="2147483748" r:id="rId27"/>
    <p:sldLayoutId id="2147483749" r:id="rId28"/>
    <p:sldLayoutId id="2147483750" r:id="rId29"/>
    <p:sldLayoutId id="2147483751" r:id="rId3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1" descr="C:\Documents and Settings\Admin\Мои документы\Мои рисунки\Рисунок1.gif"/>
          <p:cNvPicPr/>
          <p:nvPr/>
        </p:nvPicPr>
        <p:blipFill>
          <a:blip r:embed="rId3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4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5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6"/>
          <a:stretch/>
        </p:blipFill>
        <p:spPr>
          <a:xfrm>
            <a:off x="8286840" y="357120"/>
            <a:ext cx="716040" cy="552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1" descr="C:\Documents and Settings\Admin\Мои документы\Мои рисунки\Рисунок1.gif"/>
          <p:cNvPicPr/>
          <p:nvPr/>
        </p:nvPicPr>
        <p:blipFill>
          <a:blip r:embed="rId7"/>
          <a:stretch/>
        </p:blipFill>
        <p:spPr>
          <a:xfrm>
            <a:off x="5286240" y="-285840"/>
            <a:ext cx="3248280" cy="2210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8"/>
          <a:stretch/>
        </p:blipFill>
        <p:spPr>
          <a:xfrm>
            <a:off x="500040" y="5372280"/>
            <a:ext cx="2671920" cy="1485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Admin\Рабочий стол\Новая папка\Скворечник забор птичка облака\Новая папка\прозр.gif"/>
          <p:cNvPicPr/>
          <p:nvPr/>
        </p:nvPicPr>
        <p:blipFill>
          <a:blip r:embed="rId9"/>
          <a:stretch/>
        </p:blipFill>
        <p:spPr>
          <a:xfrm>
            <a:off x="6924600" y="1785960"/>
            <a:ext cx="2219400" cy="4543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Admin\Рабочий стол\Новая папка\Скворечник забор птичка облака\Новая папка\пр2.gif"/>
          <p:cNvPicPr/>
          <p:nvPr/>
        </p:nvPicPr>
        <p:blipFill>
          <a:blip r:embed="rId10"/>
          <a:stretch/>
        </p:blipFill>
        <p:spPr>
          <a:xfrm>
            <a:off x="8058240" y="2714760"/>
            <a:ext cx="1085760" cy="838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1"/>
          <a:stretch/>
        </p:blipFill>
        <p:spPr>
          <a:xfrm>
            <a:off x="5572080" y="5372280"/>
            <a:ext cx="2857680" cy="1485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Admin\Рабочий стол\Новая папка\Скворечник забор птичка облака\Новая папка\пр4.gif"/>
          <p:cNvPicPr/>
          <p:nvPr/>
        </p:nvPicPr>
        <p:blipFill>
          <a:blip r:embed="rId12"/>
          <a:stretch/>
        </p:blipFill>
        <p:spPr>
          <a:xfrm>
            <a:off x="3071880" y="5372280"/>
            <a:ext cx="2671560" cy="1485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3"/>
          <a:stretch/>
        </p:blipFill>
        <p:spPr>
          <a:xfrm>
            <a:off x="8215200" y="4714920"/>
            <a:ext cx="714600" cy="2143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C:\Documents and Settings\Admin\Рабочий стол\Новая папка\Скворечник забор птичка облака\Новая папка\кот-пр.gif"/>
          <p:cNvPicPr/>
          <p:nvPr/>
        </p:nvPicPr>
        <p:blipFill>
          <a:blip r:embed="rId14"/>
          <a:stretch/>
        </p:blipFill>
        <p:spPr>
          <a:xfrm>
            <a:off x="357120" y="4143240"/>
            <a:ext cx="1419120" cy="1482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C:\Documents and Settings\Admin\Рабочий стол\Новая папка\Скворечник забор птичка облака\Новая папка\пр8.gif"/>
          <p:cNvPicPr/>
          <p:nvPr/>
        </p:nvPicPr>
        <p:blipFill>
          <a:blip r:embed="rId15"/>
          <a:stretch/>
        </p:blipFill>
        <p:spPr>
          <a:xfrm>
            <a:off x="3071880" y="6072120"/>
            <a:ext cx="1662120" cy="785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C:\Documents and Settings\Admin\Рабочий стол\Новая папка\Скворечник забор птичка облака\Новая папка\пр7.gif"/>
          <p:cNvPicPr/>
          <p:nvPr/>
        </p:nvPicPr>
        <p:blipFill>
          <a:blip r:embed="rId16"/>
          <a:stretch/>
        </p:blipFill>
        <p:spPr>
          <a:xfrm>
            <a:off x="2786040" y="5143680"/>
            <a:ext cx="571680" cy="1714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C:\Documents and Settings\Admin\Мои документы\Мои рисунки\Рисунок2.gif"/>
          <p:cNvPicPr/>
          <p:nvPr/>
        </p:nvPicPr>
        <p:blipFill>
          <a:blip r:embed="rId17"/>
          <a:stretch/>
        </p:blipFill>
        <p:spPr>
          <a:xfrm>
            <a:off x="0" y="142920"/>
            <a:ext cx="3409920" cy="2381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F:\КАРТИНКИ 2\bv-b.gif"/>
          <p:cNvPicPr/>
          <p:nvPr/>
        </p:nvPicPr>
        <p:blipFill>
          <a:blip r:embed="rId18"/>
          <a:stretch/>
        </p:blipFill>
        <p:spPr>
          <a:xfrm>
            <a:off x="8277120" y="6649920"/>
            <a:ext cx="866880" cy="208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5868-4BD2-4697-A163-E333DBB26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9"/>
    <p:sldLayoutId id="2147483754" r:id="rId20"/>
    <p:sldLayoutId id="2147483755" r:id="rId21"/>
    <p:sldLayoutId id="2147483756" r:id="rId22"/>
    <p:sldLayoutId id="2147483757" r:id="rId23"/>
    <p:sldLayoutId id="2147483758" r:id="rId24"/>
    <p:sldLayoutId id="2147483759" r:id="rId25"/>
    <p:sldLayoutId id="2147483760" r:id="rId26"/>
    <p:sldLayoutId id="2147483761" r:id="rId27"/>
    <p:sldLayoutId id="2147483762" r:id="rId28"/>
    <p:sldLayoutId id="2147483763" r:id="rId29"/>
    <p:sldLayoutId id="2147483764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50" name="TextBox 2"/>
          <p:cNvSpPr/>
          <p:nvPr/>
        </p:nvSpPr>
        <p:spPr>
          <a:xfrm>
            <a:off x="1600200" y="533520"/>
            <a:ext cx="57913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ff"/>
                </a:solidFill>
                <a:latin typeface="Calibri"/>
              </a:rPr>
              <a:t>Приёмы       письменных вычислен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полнила 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льшанникова А.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Calibri"/>
              </a:rPr>
              <a:t>Подведём итог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Что было сложным на уро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Что  у тебя получилось лучше все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Какое задание было самым интересны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515880" y="1143000"/>
            <a:ext cx="3446640" cy="49528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8"/>
          <p:cNvSpPr/>
          <p:nvPr/>
        </p:nvSpPr>
        <p:spPr>
          <a:xfrm>
            <a:off x="3429000" y="1523880"/>
            <a:ext cx="5686560" cy="3438720"/>
          </a:xfrm>
          <a:prstGeom prst="cloudCallout">
            <a:avLst>
              <a:gd name="adj1" fmla="val -54296"/>
              <a:gd name="adj2" fmla="val 24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alibri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452" name="WordArt 4" descr=""/>
          <p:cNvPicPr/>
          <p:nvPr/>
        </p:nvPicPr>
        <p:blipFill>
          <a:blip r:embed="rId3"/>
          <a:stretch/>
        </p:blipFill>
        <p:spPr>
          <a:xfrm>
            <a:off x="689040" y="225360"/>
            <a:ext cx="7845480" cy="7192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6"/>
          <p:cNvSpPr/>
          <p:nvPr/>
        </p:nvSpPr>
        <p:spPr>
          <a:xfrm>
            <a:off x="3581280" y="18288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457200" y="1523880"/>
            <a:ext cx="73915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930-30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340+50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340+6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980-8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270-5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720-4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360-70=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180-9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750+50=   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640-8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505320" y="2819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2" descr="6236068"/>
          <p:cNvPicPr/>
          <p:nvPr/>
        </p:nvPicPr>
        <p:blipFill>
          <a:blip r:embed="rId4"/>
          <a:stretch/>
        </p:blipFill>
        <p:spPr>
          <a:xfrm>
            <a:off x="7620120" y="2286000"/>
            <a:ext cx="1143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бота над задачами</a:t>
            </a:r>
            <a:br>
              <a:rPr sz="4400"/>
            </a:br>
            <a:r>
              <a:rPr b="0" lang="ru-RU" sz="4400" spc="-1" strike="noStrike">
                <a:solidFill>
                  <a:srgbClr val="3333cc"/>
                </a:solidFill>
                <a:latin typeface="Calibri"/>
              </a:rPr>
              <a:t>назови решение и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1.    В коробке 5 карандашей. Сколько таких карандашей в 9 таких коробк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2.    К чаю подали 5 тарелок с пирожками по 7 на каждой. Сколько пирожков подали к ча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3.    Дети посадили 8 рядов яблонь по 9 яблонь в ряду. Сколько яблонь посадили де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+45=       340+450=   345+457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6-56=        760-540=    761-543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7+22=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670+220=   678+225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ff"/>
                </a:solidFill>
                <a:latin typeface="Calibri"/>
              </a:rPr>
              <a:t>Тема урока</a:t>
            </a:r>
            <a:br>
              <a:rPr sz="4800"/>
            </a:b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Приёмы письменных вычислений 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Calibri"/>
              </a:rPr>
              <a:t>Алгоритм  сложения  трёхзначных чис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Пишу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Складываю  единиц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Складываю десятки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Складываю сотни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Читаю отв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671000" y="1922040"/>
            <a:ext cx="3335040" cy="232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хвально!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 теперь – отдохнём!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533520" y="106380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tretch/>
        </p:blipFill>
        <p:spPr>
          <a:xfrm>
            <a:off x="533520" y="-3636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крепление знаний</a:t>
            </a:r>
            <a:br>
              <a:rPr sz="3600"/>
            </a:b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№2 на стр.70,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№3 на стр. 70.</a:t>
            </a:r>
            <a:br>
              <a:rPr sz="4800"/>
            </a:b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а</cp:lastModifiedBy>
  <dcterms:modified xsi:type="dcterms:W3CDTF">2020-05-22T14:59:0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190000000000010243100207f6000400038000</vt:lpwstr>
  </property>
  <property fmtid="{D5CDD505-2E9C-101B-9397-08002B2CF9AE}" pid="3" name="Version">
    <vt:r8>1</vt:r8>
  </property>
</Properties>
</file>