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11-15T12:03:19.784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816-AA29-4F28-AFB0-A3A0C290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E01-D024-46E6-9267-49D69299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BBE-EC9F-42DE-A5C9-A2BCE388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325-3944-49B4-B631-451FD643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03AB-1A38-4DBA-88EF-6228CEDC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4E33-51D7-4D0B-9981-EC83F9CE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3319-D04F-4819-BF66-FC943D57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18AB-A604-4BFE-AACE-9C5BA42F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E36A-30A5-4B9D-8618-8390B616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3EBA-2D76-400B-B5CD-772CC8E8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6132-D3DB-4D42-A0C7-5D02B583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10A-033D-4ADA-AB71-BD4F4FFF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BFEE-0DD6-45E6-9EC6-EF7EF57A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1446-1F05-4013-AECE-1C757B33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B873-4967-4207-A87B-96DEEB8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1694-55C9-4450-BEF3-5FC24BA8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F6C7-295E-48E3-806B-6B483B35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5DE-ABE0-4A1A-B8B6-69F0CAD0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322-E0FF-4DC2-AA1E-7CCA0F86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05A-6B2B-4A9A-84FF-CC9D434A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4D1-3992-4C07-9897-E344852E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8E8-C12C-4163-B2D3-04C9F1C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C74-95DD-46A4-9EDF-371E6E08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5B9-43DA-4E25-8F6F-15EB21F9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7DC1-37EC-42AF-B122-A498014A5E2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63000"/>
              <a:ext cx="3623040" cy="6129720"/>
              <a:chOff x="5407920" y="63000"/>
              <a:chExt cx="362304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584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9840"/>
                <a:ext cx="906840" cy="84240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1840"/>
                <a:ext cx="523800" cy="32666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41FE-195C-440B-945C-9C723FA5A05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Bradley Hand ITC"/>
              </a:rPr>
              <a:t> </a:t>
            </a:r>
            <a:br>
              <a:rPr sz="8000"/>
            </a:br>
            <a:r>
              <a:rPr b="0" lang="en-US" sz="8000" spc="-1" strike="noStrike">
                <a:solidFill>
                  <a:srgbClr val="006666"/>
                </a:solidFill>
                <a:latin typeface="Bradley Hand ITC"/>
              </a:rPr>
              <a:t>A Perfect School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9" descr="J0382954"/>
          <p:cNvPicPr/>
          <p:nvPr/>
        </p:nvPicPr>
        <p:blipFill>
          <a:blip r:embed="rId1"/>
          <a:stretch/>
        </p:blipFill>
        <p:spPr>
          <a:xfrm>
            <a:off x="1371600" y="2401920"/>
            <a:ext cx="634212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An ideal school is  in a modern and    beautiful building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Picture 6" descr="Рисунок2"/>
          <p:cNvPicPr/>
          <p:nvPr/>
        </p:nvPicPr>
        <p:blipFill>
          <a:blip r:embed="rId1"/>
          <a:stretch/>
        </p:blipFill>
        <p:spPr>
          <a:xfrm>
            <a:off x="228600" y="1523880"/>
            <a:ext cx="8915400" cy="533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essons should begin at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10 o'cloc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12" descr="MCj04282850000[1]"/>
          <p:cNvPicPr/>
          <p:nvPr/>
        </p:nvPicPr>
        <p:blipFill>
          <a:blip r:embed="rId1"/>
          <a:stretch/>
        </p:blipFill>
        <p:spPr>
          <a:xfrm>
            <a:off x="7010280" y="0"/>
            <a:ext cx="184464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6" descr="333_800"/>
          <p:cNvPicPr/>
          <p:nvPr/>
        </p:nvPicPr>
        <p:blipFill>
          <a:blip r:embed="rId2"/>
          <a:stretch/>
        </p:blipFill>
        <p:spPr>
          <a:xfrm>
            <a:off x="2868480" y="1600200"/>
            <a:ext cx="34070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school bus should call in on pupils.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                  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MPj0422813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541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food in the canteen should  be cheaper and tastier than it is no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12" descr="MPj04329630000[1]"/>
          <p:cNvPicPr/>
          <p:nvPr/>
        </p:nvPicPr>
        <p:blipFill>
          <a:blip r:embed="rId1"/>
          <a:stretch/>
        </p:blipFill>
        <p:spPr>
          <a:xfrm>
            <a:off x="838080" y="1981080"/>
            <a:ext cx="7620120" cy="467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eachers should put only good marks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41" descr="1303440437_62324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n ideal school should have its own park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Picture 12" descr="s-dom30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In ideal school  should be a room for  the rest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12" descr="0_5ae0_e5d4336c_XL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"/>
              </a:rPr>
              <a:t>should be 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7" descr="MPj03996890000[1]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MCj03454820000[1]"/>
          <p:cNvPicPr/>
          <p:nvPr/>
        </p:nvPicPr>
        <p:blipFill>
          <a:blip r:embed="rId2"/>
          <a:stretch/>
        </p:blipFill>
        <p:spPr>
          <a:xfrm>
            <a:off x="6821640" y="0"/>
            <a:ext cx="2322360" cy="171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Олеся</cp:lastModifiedBy>
  <cp:lastPrinted>2015-11-15T09:07:18Z</cp:lastPrinted>
  <dcterms:modified xsi:type="dcterms:W3CDTF">2020-11-22T16:23:3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