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11-15T12:03:19.7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44C-1DD4-46BE-A389-4E3B2D85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598-75C8-41F0-9751-4C24CF05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AC7-E4D1-4F13-9D31-FDFF55B2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4B2-6F6E-4290-84F4-1644869A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3055-AFDD-47F0-9E05-0FF4E3EA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967D-6D80-4792-9259-B6E03EC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235A-CDB6-4B73-9677-2B4C5D8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53B1-1D38-4310-BB31-FB973AC6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631-A1C4-4671-87BA-79B1FD0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52F9-CC59-46AE-966C-AAEAFE22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32F3-CD91-432E-AEB6-EEE89CF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181-A7BD-49B5-B442-06B0AEE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1B4-B585-46B0-8242-5F38C4D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842C-FF60-4252-8C9B-A85F464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772-412A-4063-8162-CD43C12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B65-E1BE-4A73-ADFF-BD5A4E9F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87A-0FBF-4819-9BF4-0E163C17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93F-5EA9-409F-AE2E-92A3A2D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0A9-A83D-40B2-91AE-ABF6355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A3C-BFE2-4751-AF5D-42E3844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751-A7DB-4B6F-98DD-7E4B71B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50C-FC81-497D-86BC-33A1ABF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82E-21AE-4667-92AE-BBD90575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EEE-4FF1-410D-8671-83ECB46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FD65-5E32-4824-A363-6CA9B127FA9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3040" cy="6129720"/>
              <a:chOff x="5407920" y="63000"/>
              <a:chExt cx="362304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58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840"/>
                <a:ext cx="906840" cy="84240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7B67-2B4D-4871-9825-3172B59F326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Bradley Hand ITC"/>
              </a:rPr>
              <a:t> </a:t>
            </a:r>
            <a:br>
              <a:rPr sz="8000"/>
            </a:br>
            <a:r>
              <a:rPr b="0" lang="en-US" sz="8000" spc="-1" strike="noStrike">
                <a:solidFill>
                  <a:srgbClr val="006666"/>
                </a:solidFill>
                <a:latin typeface="Bradley Hand ITC"/>
              </a:rPr>
              <a:t>A Perfect School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9" descr="J0382954"/>
          <p:cNvPicPr/>
          <p:nvPr/>
        </p:nvPicPr>
        <p:blipFill>
          <a:blip r:embed="rId1"/>
          <a:stretch/>
        </p:blipFill>
        <p:spPr>
          <a:xfrm>
            <a:off x="1371600" y="2401920"/>
            <a:ext cx="634212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An ideal school is  in a modern and    beautiful building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6" descr="Рисунок2"/>
          <p:cNvPicPr/>
          <p:nvPr/>
        </p:nvPicPr>
        <p:blipFill>
          <a:blip r:embed="rId1"/>
          <a:stretch/>
        </p:blipFill>
        <p:spPr>
          <a:xfrm>
            <a:off x="228600" y="1523880"/>
            <a:ext cx="891540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ssons should begin at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10 o'cloc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12" descr="MCj04282850000[1]"/>
          <p:cNvPicPr/>
          <p:nvPr/>
        </p:nvPicPr>
        <p:blipFill>
          <a:blip r:embed="rId1"/>
          <a:stretch/>
        </p:blipFill>
        <p:spPr>
          <a:xfrm>
            <a:off x="7010280" y="0"/>
            <a:ext cx="184464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6" descr="333_800"/>
          <p:cNvPicPr/>
          <p:nvPr/>
        </p:nvPicPr>
        <p:blipFill>
          <a:blip r:embed="rId2"/>
          <a:stretch/>
        </p:blipFill>
        <p:spPr>
          <a:xfrm>
            <a:off x="2868480" y="1600200"/>
            <a:ext cx="34070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school bus should call in on pupils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                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MPj0422813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food in the canteen should  be cheaper and tastier than it is now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12" descr="MPj04329630000[1]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467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eachers should put only good marks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1" descr="1303440437_62324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 ideal school should have its own park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12" descr="s-dom30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In ideal school  should be a room for  the rest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12" descr="0_5ae0_e5d4336c_XL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"/>
              </a:rPr>
              <a:t>should be 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7" descr="MPj03996890000[1]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MCj03454820000[1]"/>
          <p:cNvPicPr/>
          <p:nvPr/>
        </p:nvPicPr>
        <p:blipFill>
          <a:blip r:embed="rId2"/>
          <a:stretch/>
        </p:blipFill>
        <p:spPr>
          <a:xfrm>
            <a:off x="6821640" y="0"/>
            <a:ext cx="232236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Олеся</cp:lastModifiedBy>
  <cp:lastPrinted>2015-11-15T09:07:18Z</cp:lastPrinted>
  <dcterms:modified xsi:type="dcterms:W3CDTF">2020-11-22T16:23:3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