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78C-7866-45B3-AE57-72B4E0D7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9D1-3ED1-4A29-8964-282EA2D2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3D9-0649-4A10-9D87-4C4663D4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3EA-0F6E-4294-82DE-E5E02180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78C-1BB0-4A20-A973-5A36221B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A53-9B81-4937-A33C-A6C4E5A1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981-5181-44BF-9D03-53F68F65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247-AE69-4B07-8285-B0782694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124-34BD-4F3F-B059-50A6B4FA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B54-0AF1-4F16-B740-C7F165A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EEF-13B9-4E59-9202-7E367712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5C3-F160-4819-B1B5-C9592F01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bbe0e3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4132-D172-4060-A8F9-B355D614E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АВИЛА НАПИСАНИЯ ПИСЬМА ЛИЧНОГО ХАРАКТЕ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0b0f33b51db5"/>
          <p:cNvPicPr/>
          <p:nvPr/>
        </p:nvPicPr>
        <p:blipFill>
          <a:blip r:embed="rId1"/>
          <a:stretch/>
        </p:blipFill>
        <p:spPr>
          <a:xfrm>
            <a:off x="5791320" y="2286000"/>
            <a:ext cx="266688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https://xn--h1aliz.xn--80abbembcyvesfij3at4loa4ff.xn--p1ai/photos/1626500_1_b.JPG"/>
          <p:cNvPicPr/>
          <p:nvPr/>
        </p:nvPicPr>
        <p:blipFill>
          <a:blip r:embed="rId2"/>
          <a:stretch/>
        </p:blipFill>
        <p:spPr>
          <a:xfrm>
            <a:off x="0" y="3476520"/>
            <a:ext cx="32767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2020-2021\Spotlight - 9\Модуль 2\схема.jpg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 написании личного письма необходимо придерживаться следующих прави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раткий адрес располагают в правом верхнем уг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ovetski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Дату располагают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од адрес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22/05/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ветствие должно начинаться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Dear   _____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 которого ставится запя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228600" y="152280"/>
            <a:ext cx="135396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Абзацы текста начинают с «красной строки» либо пропускают строку перед новым абза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первого абзаца необходимо выразить благодарность за полученное пись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Thanks a lot for your l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Должна присутствовать фраза, указывающая на то, что общение уже продолжается какое-то врем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t was great to hear from you again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(I was) happy to hear from you again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t was great to get a letter from you again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228600" y="0"/>
            <a:ext cx="1216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28600" y="1371600"/>
            <a:ext cx="868680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 присутствовать извинение, объясняющее, почему автор давно не пис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 am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orry for not writing earlier, but I`ve been really busy with my ex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orry I haven`t written for so long, but I`ve just got back from my school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ответить на все вопросы (3), заданные другом по перепис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`ll happily answer your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`m always ready to answer your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n your letter you asked me about 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228600" y="0"/>
            <a:ext cx="1216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бязательно употребление в тексте средств логической связ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or me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…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Ч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 касается меня…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Personally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…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Лично я 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Well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…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у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ctually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…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ообще-т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owever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нако, тем не менее, вместе с т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Of course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…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онечн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lso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/_________ also ___________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Такж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That`s why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…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Вот почем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o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…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так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228600" y="0"/>
            <a:ext cx="1216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еобходимо объяснить причину, почему автор заканчивает пись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разить надежду на продолжение об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Well, that`s all for now. I`ve got loads of homework to do. Write back s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orry, I have to go now. My sister is calling me. I can`t wait to hear from you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а присутствовать стандартная завершающая фраза, после которой ставится запят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ll the b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Best wish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ou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7238880" y="4952880"/>
            <a:ext cx="16002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еобходимо поставить подпись – имя автора письм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без фамилии!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на отдельной строке. После неё точку не став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Количество слов в письме должно быть не менее 90, но и не более 132.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Помните, что адрес и дата входят в общее количество сл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228600" y="0"/>
            <a:ext cx="1216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22T13:59:00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