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23A-25AD-43FD-950D-B2A29BA0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C2C-1C71-456E-BD2D-3E7D8C85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1C4-F5F2-4B96-9A92-CD3E82E1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B3B-DDDD-45A9-A419-40398D9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E72-545E-4F99-933A-A62077CD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3CA-8D7F-45C3-936C-4F113245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061-094F-4632-BC49-A94AD0E0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B2E-7C30-44A9-96F3-A162CB9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498-9529-414B-A70E-B38F4D92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D47-26C5-424F-8A80-F2E5E62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730-4304-4E7F-B382-CBA5104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C20-D292-4A02-A51C-6651AEF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be0e3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F92-393D-4D09-B18F-E99EDEB44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НАПИСАНИЯ ПИСЬМА ЛИЧНОГО ХАРАКТ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0b0f33b51db5"/>
          <p:cNvPicPr/>
          <p:nvPr/>
        </p:nvPicPr>
        <p:blipFill>
          <a:blip r:embed="rId1"/>
          <a:stretch/>
        </p:blipFill>
        <p:spPr>
          <a:xfrm>
            <a:off x="5791320" y="228600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s://xn--h1aliz.xn--80abbembcyvesfij3at4loa4ff.xn--p1ai/photos/1626500_1_b.JPG"/>
          <p:cNvPicPr/>
          <p:nvPr/>
        </p:nvPicPr>
        <p:blipFill>
          <a:blip r:embed="rId2"/>
          <a:stretch/>
        </p:blipFill>
        <p:spPr>
          <a:xfrm>
            <a:off x="0" y="3476520"/>
            <a:ext cx="32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2020-2021\Spotlight - 9\Модуль 2\схема.jpg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 написании личного письма необходимо придерживаться следующих прави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раткий адрес располагают в правом верхнем уг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vetsk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Дату располаг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од адрес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2/05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ветствие должно начинаться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Dear   _____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ле которого ставится запя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152280"/>
            <a:ext cx="135396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бзацы текста начинают с «красной строки» либо пропускают строку перед новым абза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первого абзаца необходимо выразить благодарность за полученное пись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hanks a lot for your l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Должна присутствовать фраза, указывающая на то, что общение уже продолжается какое-то врем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t was great to hear from you again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(I was) happy to hear from you again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t was great to get a letter from you again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28600" y="1371600"/>
            <a:ext cx="86868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 присутствовать извинение, объясняющее, почему автор давно не пис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 am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rry for not writing earlier, but I`ve been really busy with my ex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rry I haven`t written for so long, but I`ve just got back from my school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ответить на все вопросы (3), заданные другом по перепис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`ll happily answe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`m always ready to answe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n your letter you asked me about 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бязательно употребление в тексте средств логической связ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or me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…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 касается меня…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Personally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Лично я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Well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у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ctually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…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обще-т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owever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нако, тем не менее, вместе с т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Of course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…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онеч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lso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/_________ also ___________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акж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That`s why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от почем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,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так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еобходимо объяснить причину, почему автор заканчивает пись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разить надежду на продолжение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Well, that`s all for now. I`ve got loads of homework to do. Write back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orry, I have to go now. My sister is calling me. I can`t wait to hear from you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а присутствовать стандартная завершающая фраза, после которой ставится зап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ll the 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Best wish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7238880" y="4952880"/>
            <a:ext cx="16002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еобходимо поставить подпись – имя автора письм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без фамилии!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 отдельной строке. После неё точку не став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Количество слов в письме должно быть не менее 90, но и не более 132.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Помните, что адрес и дата входят в общее количество сл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s://xn--h1aliz.xn--80abbembcyvesfij3at4loa4ff.xn--p1ai/photos/1626500_1_b.JPG"/>
          <p:cNvPicPr/>
          <p:nvPr/>
        </p:nvPicPr>
        <p:blipFill>
          <a:blip r:embed="rId1"/>
          <a:stretch/>
        </p:blipFill>
        <p:spPr>
          <a:xfrm>
            <a:off x="228600" y="0"/>
            <a:ext cx="1216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2T13:59:0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