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24.jpeg" ContentType="image/jpeg"/>
  <Override PartName="/ppt/media/image14.jpeg" ContentType="image/jpeg"/>
  <Override PartName="/ppt/media/image41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12.jpeg" ContentType="image/jpeg"/>
  <Override PartName="/ppt/media/image37.jpeg" ContentType="image/jpeg"/>
  <Override PartName="/ppt/media/image8.wmf" ContentType="image/x-wmf"/>
  <Override PartName="/ppt/media/image1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32.jpeg" ContentType="image/jpeg"/>
  <Override PartName="/ppt/media/image38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DB29-0B6C-494E-AE52-0C4050D0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73B-B1F7-4A49-B86F-2CFBEF4A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2F29-C657-4F1E-95AB-576607FD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D2E-A5E0-4E56-88B7-D65D055D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501-3C63-44FE-A484-8D43493B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DE9-5EB2-4FA4-9F53-E7C9B548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603-275D-474A-8B1D-646F08C9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DE4-16EB-414D-B024-E27C047B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621-841A-4342-B4CB-BCBCAEA0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18A-20D7-4AF5-A6F5-7270E3D8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77D-0027-4C35-99A2-2EAA1ED3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095-D3FC-46BC-BD1A-56EDCE3F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17D6-3F5A-437D-8F38-68E5900591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Презентация к проекту на тему: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7680" y="1285560"/>
            <a:ext cx="33573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ела вращен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полнил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рошина Валерия Леонид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еница 11А кла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«Средняя школа № 2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.Десногрс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уководи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чубей Лидия Владимир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016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14720" y="228240"/>
            <a:ext cx="36432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Вписанный и описанный цилиндр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4194000" cy="18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коло цилиндра всегда можно описать шар (сферу), причем он должен касаться всех точек окружностей, ограничивающих основания цилиндра. Его центр лежит на середине высоты цилиндр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+0,2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17"/>
          <p:cNvPicPr/>
          <p:nvPr/>
        </p:nvPicPr>
        <p:blipFill>
          <a:blip r:embed="rId1"/>
          <a:stretch/>
        </p:blipFill>
        <p:spPr>
          <a:xfrm>
            <a:off x="5148360" y="2014560"/>
            <a:ext cx="1709640" cy="14144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6000840" y="3714840"/>
            <a:ext cx="292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илиндр можно вписать шар, если диаметр основания цилиндра равен его высоте. Шар вписан в цилиндр, если поверхность шара касается оснований и всех его образующ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28920" y="228240"/>
            <a:ext cx="26431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Конус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1986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Конус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зывают часть пространства, ограниченную конической поверхностью и плоскостью, часть которой, расположенная внутри конической поверхности, является основанием конуса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8" descr="09"/>
          <p:cNvPicPr/>
          <p:nvPr/>
        </p:nvPicPr>
        <p:blipFill>
          <a:blip r:embed="rId1"/>
          <a:stretch/>
        </p:blipFill>
        <p:spPr>
          <a:xfrm>
            <a:off x="5857920" y="1000080"/>
            <a:ext cx="2000160" cy="14288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4286160" y="414324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сот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онуса называется перпендикуляр, опущенный из его вершины на плоскость основания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ь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ямого кругового конуса называется прямая, содержащая его высоту. Отрезки, соединяющие вершину конуса с точками его основания , называют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ующи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цилинд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01"/>
          <p:cNvPicPr/>
          <p:nvPr/>
        </p:nvPicPr>
        <p:blipFill>
          <a:blip r:embed="rId2"/>
          <a:stretch/>
        </p:blipFill>
        <p:spPr>
          <a:xfrm>
            <a:off x="1285920" y="3857760"/>
            <a:ext cx="2654280" cy="20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57400" y="428400"/>
            <a:ext cx="25714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Конус вращения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999720"/>
            <a:ext cx="85406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основание конуса -круг перпендикулярно оси - конус прямой круговой и его называют конусом вращ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3600360" y="18572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ус вращ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285840" y="2428920"/>
            <a:ext cx="85723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чение конуса плоскостью, проходящей через вершину конуса, является равнобедренным треугольник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ечение проходит через вершину конуса и его основание, то сечение называется осев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чение боковой поверхности конуса, полученное при помощи вращения плоскости, не пересекающей основание, как и у цилиндра, является эллип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Сечение конуса плоскостью, проходящей через вершину конуса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928440"/>
            <a:ext cx="4341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чение конуса плоскостью, проходящей через вершину конуса, является равнобедренным треугольником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0" descr="13"/>
          <p:cNvPicPr/>
          <p:nvPr/>
        </p:nvPicPr>
        <p:blipFill>
          <a:blip r:embed="rId1"/>
          <a:stretch/>
        </p:blipFill>
        <p:spPr>
          <a:xfrm>
            <a:off x="4286160" y="928800"/>
            <a:ext cx="1951200" cy="157140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291600" y="27860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евое с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03"/>
          <p:cNvPicPr/>
          <p:nvPr/>
        </p:nvPicPr>
        <p:blipFill>
          <a:blip r:embed="rId2"/>
          <a:stretch/>
        </p:blipFill>
        <p:spPr>
          <a:xfrm>
            <a:off x="428760" y="3214800"/>
            <a:ext cx="2390760" cy="1514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7"/>
          <p:cNvSpPr/>
          <p:nvPr/>
        </p:nvSpPr>
        <p:spPr>
          <a:xfrm>
            <a:off x="500040" y="478620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ечение проходит через вершину конуса и его основание, то сечение называется осев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10"/>
          <p:cNvSpPr/>
          <p:nvPr/>
        </p:nvSpPr>
        <p:spPr>
          <a:xfrm>
            <a:off x="3857760" y="282888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чение боковой поверхности конуса, полученное при помощи вращения плоскости, не пересекающей основание, как и у цилиндра, является эллип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1" descr="04"/>
          <p:cNvPicPr/>
          <p:nvPr/>
        </p:nvPicPr>
        <p:blipFill>
          <a:blip r:embed="rId3"/>
          <a:stretch/>
        </p:blipFill>
        <p:spPr>
          <a:xfrm>
            <a:off x="5500800" y="4214880"/>
            <a:ext cx="228276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28960" y="228240"/>
            <a:ext cx="428616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Гиперболические и параболические сечения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5" name="Picture 7" descr="05"/>
          <p:cNvPicPr/>
          <p:nvPr/>
        </p:nvPicPr>
        <p:blipFill>
          <a:blip r:embed="rId1"/>
          <a:stretch/>
        </p:blipFill>
        <p:spPr>
          <a:xfrm>
            <a:off x="1143000" y="1000080"/>
            <a:ext cx="1600200" cy="1508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07"/>
          <p:cNvPicPr/>
          <p:nvPr/>
        </p:nvPicPr>
        <p:blipFill>
          <a:blip r:embed="rId2"/>
          <a:stretch/>
        </p:blipFill>
        <p:spPr>
          <a:xfrm>
            <a:off x="5786280" y="928800"/>
            <a:ext cx="149256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43080" y="228240"/>
            <a:ext cx="392904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7e7ff"/>
                </a:solidFill>
                <a:uFillTx/>
                <a:latin typeface="Arial"/>
              </a:rPr>
              <a:t>Усеченный конус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320" y="928800"/>
            <a:ext cx="5056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Усеченным конус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называется пересечение конуса с полупространством, содержащим основание конуса и ограниченным плоскостью, которая параллельна плоскости основания конуса и пересекает данный кону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14"/>
          <p:cNvPicPr/>
          <p:nvPr/>
        </p:nvPicPr>
        <p:blipFill>
          <a:blip r:embed="rId1"/>
          <a:stretch/>
        </p:blipFill>
        <p:spPr>
          <a:xfrm>
            <a:off x="5578560" y="928800"/>
            <a:ext cx="1993680" cy="150012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4"/>
          <p:cNvSpPr/>
          <p:nvPr/>
        </p:nvSpPr>
        <p:spPr>
          <a:xfrm>
            <a:off x="428760" y="27147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исанный и описанный конус и усеченный кону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500040" y="3214800"/>
            <a:ext cx="864396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усеченный конус можно вписать шар (сферу) тогда, когда образующая равна сумме радиусов ос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оло усеченного конуса всегда можно описать шар (сферу). Его центр лежит на его высо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оло конуса всегда можно описать шар (сферу). Его центр лежит на оси конуса и совпадает с центром окружности, описанной около треугольника, являющегося осевым сечением кону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10"/>
          <p:cNvPicPr/>
          <p:nvPr/>
        </p:nvPicPr>
        <p:blipFill>
          <a:blip r:embed="rId2"/>
          <a:stretch/>
        </p:blipFill>
        <p:spPr>
          <a:xfrm>
            <a:off x="642960" y="507204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11"/>
          <p:cNvPicPr/>
          <p:nvPr/>
        </p:nvPicPr>
        <p:blipFill>
          <a:blip r:embed="rId3"/>
          <a:stretch/>
        </p:blipFill>
        <p:spPr>
          <a:xfrm>
            <a:off x="5143680" y="5143680"/>
            <a:ext cx="142848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Сфера и шар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176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Шаром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называется множество точек пространства, находящихся от  данной точки на расстоянии, не большем некоторого данного положительного расстояния. Указанная точка называется центром шара, а данное расстояние - радиусом ша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Сферой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называется множество точек пространства, удаленных от данной точки на заданное положительное расстояние. При этом данная точка называется центром сферы, а данное расстояние - её радиус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05"/>
          <p:cNvPicPr/>
          <p:nvPr/>
        </p:nvPicPr>
        <p:blipFill>
          <a:blip r:embed="rId1"/>
          <a:stretch/>
        </p:blipFill>
        <p:spPr>
          <a:xfrm>
            <a:off x="4896000" y="1844640"/>
            <a:ext cx="36176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уравнение сфе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ямоугольной системе координат уравнение сферы радиус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 цен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) имеет вид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324000" y="3933720"/>
                <a:ext cx="865800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Взаимное расположение сферы и плоскост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секущая плоскость не проходит через центр шара, т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0 и радиус сечения  , меньше радиуса шара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расстояние от центра сферы до плоскости равно радиусу сферы, то сфера плоскость имеют только одну общую точку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гда, если расстояние от центра сферы до плоскости больше радиуса сферы, то сфера плоскость не имеют общих точек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Взаимное расположение сферы и плоскост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4" name="Picture 9" descr="07"/>
          <p:cNvPicPr/>
          <p:nvPr/>
        </p:nvPicPr>
        <p:blipFill>
          <a:blip r:embed="rId1"/>
          <a:stretch/>
        </p:blipFill>
        <p:spPr>
          <a:xfrm>
            <a:off x="611280" y="1989000"/>
            <a:ext cx="2985840" cy="3240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08"/>
          <p:cNvPicPr/>
          <p:nvPr/>
        </p:nvPicPr>
        <p:blipFill>
          <a:blip r:embed="rId2"/>
          <a:stretch/>
        </p:blipFill>
        <p:spPr>
          <a:xfrm>
            <a:off x="6804000" y="1557360"/>
            <a:ext cx="2114640" cy="2449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09"/>
          <p:cNvPicPr/>
          <p:nvPr/>
        </p:nvPicPr>
        <p:blipFill>
          <a:blip r:embed="rId3"/>
          <a:stretch/>
        </p:blipFill>
        <p:spPr>
          <a:xfrm>
            <a:off x="4500720" y="4076640"/>
            <a:ext cx="206352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71480" y="228600"/>
            <a:ext cx="37861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Тела вращения вокруг нас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реди тел вращения в быту и технике чаще всего встречаются прямой круговой цилиндр, прямой круговой конус, усеченный конус, шар. Эту форму принимаю тела, начиная с футбольного мяча и настольной лампы, кончая составными частями двигателя автомобиля, микроскопа и формой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ланет…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10" descr="BD18212_"/>
          <p:cNvPicPr/>
          <p:nvPr/>
        </p:nvPicPr>
        <p:blipFill>
          <a:blip r:embed="rId1"/>
          <a:stretch/>
        </p:blipFill>
        <p:spPr>
          <a:xfrm>
            <a:off x="2071800" y="3857760"/>
            <a:ext cx="1143000" cy="928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j0234131"/>
          <p:cNvPicPr/>
          <p:nvPr/>
        </p:nvPicPr>
        <p:blipFill>
          <a:blip r:embed="rId2"/>
          <a:stretch/>
        </p:blipFill>
        <p:spPr>
          <a:xfrm>
            <a:off x="3929040" y="335772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j0299763"/>
          <p:cNvPicPr/>
          <p:nvPr/>
        </p:nvPicPr>
        <p:blipFill>
          <a:blip r:embed="rId3"/>
          <a:stretch/>
        </p:blipFill>
        <p:spPr>
          <a:xfrm>
            <a:off x="2357280" y="2857680"/>
            <a:ext cx="85752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j0305257"/>
          <p:cNvPicPr/>
          <p:nvPr/>
        </p:nvPicPr>
        <p:blipFill>
          <a:blip r:embed="rId4"/>
          <a:stretch/>
        </p:blipFill>
        <p:spPr>
          <a:xfrm>
            <a:off x="7000920" y="3429000"/>
            <a:ext cx="617400" cy="85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j0212219"/>
          <p:cNvPicPr/>
          <p:nvPr/>
        </p:nvPicPr>
        <p:blipFill>
          <a:blip r:embed="rId5"/>
          <a:stretch/>
        </p:blipFill>
        <p:spPr>
          <a:xfrm>
            <a:off x="500040" y="3286080"/>
            <a:ext cx="642960" cy="7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j0297185"/>
          <p:cNvPicPr/>
          <p:nvPr/>
        </p:nvPicPr>
        <p:blipFill>
          <a:blip r:embed="rId6"/>
          <a:stretch/>
        </p:blipFill>
        <p:spPr>
          <a:xfrm>
            <a:off x="5214960" y="3929040"/>
            <a:ext cx="1357200" cy="928800"/>
          </a:xfrm>
          <a:prstGeom prst="rect">
            <a:avLst/>
          </a:prstGeom>
          <a:ln w="0">
            <a:noFill/>
          </a:ln>
        </p:spPr>
      </p:pic>
    </p:spTree>
  </p:cSld>
  <p:transition advTm="20000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Шаровой сегмент, слой и сектор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426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екущая плоскость разбивает шар на два шаровых сегмен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6" descr="12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37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Шаровой слой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овым слоем называется часть шара, заключенная между двумя параллельными сечени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6" descr="13"/>
          <p:cNvPicPr/>
          <p:nvPr/>
        </p:nvPicPr>
        <p:blipFill>
          <a:blip r:embed="rId1"/>
          <a:stretch/>
        </p:blipFill>
        <p:spPr>
          <a:xfrm>
            <a:off x="4859280" y="2133720"/>
            <a:ext cx="331308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Шаровой сектор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ровым сектором называется фигура вращения кругового сектора вокруг не имеющего с ним общим внутренних точек диаметра кру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14"/>
          <p:cNvPicPr/>
          <p:nvPr/>
        </p:nvPicPr>
        <p:blipFill>
          <a:blip r:embed="rId1"/>
          <a:stretch/>
        </p:blipFill>
        <p:spPr>
          <a:xfrm>
            <a:off x="4788000" y="1916280"/>
            <a:ext cx="3600360" cy="32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описанная и вписанная сфер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ера описана около многогранника, если проходит через все его вершины. Центр описанной сферы лежит в плоскостях, перпендикулярных ребрам многогранника. проходящих через их середины. Радиус описанной сферы равен радиусу окружности, описанной около основания многогран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ера называется вписанной в многогранник, если она касается всех плоскостей, содержащих грани многогранника во внутренних точках гран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описанная и вписанная сфер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оло люб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угольной пирамиды можно описать сферу, когда около ее основания можно описать окруж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угольную пирамиду можно вписать сферу, когда биссекторные плоскости всех двугранных углов пирамиды имеют общую точ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16"/>
          <p:cNvPicPr/>
          <p:nvPr/>
        </p:nvPicPr>
        <p:blipFill>
          <a:blip r:embed="rId1"/>
          <a:stretch/>
        </p:blipFill>
        <p:spPr>
          <a:xfrm>
            <a:off x="5754600" y="1341360"/>
            <a:ext cx="241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9"/>
          <p:cNvPicPr/>
          <p:nvPr/>
        </p:nvPicPr>
        <p:blipFill>
          <a:blip r:embed="rId2"/>
          <a:stretch/>
        </p:blipFill>
        <p:spPr>
          <a:xfrm>
            <a:off x="5769000" y="4040280"/>
            <a:ext cx="247500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описанная и вписанная сфер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03" name="Picture 5" descr="18"/>
          <p:cNvPicPr/>
          <p:nvPr/>
        </p:nvPicPr>
        <p:blipFill>
          <a:blip r:embed="rId1"/>
          <a:stretch/>
        </p:blipFill>
        <p:spPr>
          <a:xfrm>
            <a:off x="720720" y="1484280"/>
            <a:ext cx="3227400" cy="3960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17"/>
          <p:cNvPicPr/>
          <p:nvPr/>
        </p:nvPicPr>
        <p:blipFill>
          <a:blip r:embed="rId2"/>
          <a:stretch/>
        </p:blipFill>
        <p:spPr>
          <a:xfrm>
            <a:off x="5580000" y="3429000"/>
            <a:ext cx="2879640" cy="27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-4451400" y="216000"/>
                <a:ext cx="952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1"/>
              <p:cNvSpPr txBox="1"/>
              <p:nvPr/>
            </p:nvSpPr>
            <p:spPr>
              <a:xfrm>
                <a:off x="-4451400" y="2384280"/>
                <a:ext cx="419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0"/>
              <p:cNvSpPr txBox="1"/>
              <p:nvPr/>
            </p:nvSpPr>
            <p:spPr>
              <a:xfrm>
                <a:off x="-4451400" y="2813040"/>
                <a:ext cx="914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-4451400" y="3968640"/>
                <a:ext cx="419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8"/>
              <p:cNvSpPr txBox="1"/>
              <p:nvPr/>
            </p:nvSpPr>
            <p:spPr>
              <a:xfrm>
                <a:off x="-4451400" y="4397400"/>
                <a:ext cx="914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7"/>
              <p:cNvSpPr txBox="1"/>
              <p:nvPr/>
            </p:nvSpPr>
            <p:spPr>
              <a:xfrm>
                <a:off x="-4451400" y="5553000"/>
                <a:ext cx="2133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6"/>
              <p:cNvSpPr txBox="1"/>
              <p:nvPr/>
            </p:nvSpPr>
            <p:spPr>
              <a:xfrm>
                <a:off x="-4451400" y="6794640"/>
                <a:ext cx="266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25"/>
          <p:cNvSpPr/>
          <p:nvPr/>
        </p:nvSpPr>
        <p:spPr>
          <a:xfrm>
            <a:off x="-4506480" y="690840"/>
            <a:ext cx="2361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как катет против угла 30</a:t>
            </a:r>
            <a:r>
              <a:rPr b="0" lang="ru-RU" sz="1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Из ∆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6"/>
          <p:cNvSpPr/>
          <p:nvPr/>
        </p:nvSpPr>
        <p:spPr>
          <a:xfrm>
            <a:off x="-4411800" y="1846440"/>
            <a:ext cx="226404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А 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АО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К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7"/>
          <p:cNvSpPr/>
          <p:nvPr/>
        </p:nvSpPr>
        <p:spPr>
          <a:xfrm>
            <a:off x="1187280" y="4149720"/>
            <a:ext cx="10585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-4450680" y="3449880"/>
            <a:ext cx="44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-4442760" y="5015160"/>
            <a:ext cx="55728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14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,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31"/>
          <p:cNvSpPr/>
          <p:nvPr/>
        </p:nvSpPr>
        <p:spPr>
          <a:xfrm>
            <a:off x="-4560840" y="6275880"/>
            <a:ext cx="299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не подходит по условию задач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-4450320" y="72792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0" y="-85680"/>
            <a:ext cx="8964720" cy="76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а 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ящик в виде правильной треугольной призмы, боковое ребро которой равно а, помещены два мяча.  Мяч радиусом 7а/16 касается трех боковых граней и одного из оснований. Другой мяч расположен так, что он касается первого мяча, другого основания и двух боковых граней. Вычислите  радиус второго мяч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диус другого мяча. О1О3=О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/16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диус нижнего мяча. А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7а/8.Из 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K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как катет против угла 30</a:t>
            </a:r>
            <a:r>
              <a:rPr b="0" lang="ru-RU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К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А К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А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К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,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 не подходит по условию задач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4"/>
              <p:cNvSpPr txBox="1"/>
              <p:nvPr/>
            </p:nvSpPr>
            <p:spPr>
              <a:xfrm>
                <a:off x="4284720" y="2924280"/>
                <a:ext cx="9525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Rectangle 37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6"/>
              <p:cNvSpPr txBox="1"/>
              <p:nvPr/>
            </p:nvSpPr>
            <p:spPr>
              <a:xfrm>
                <a:off x="1692360" y="3429000"/>
                <a:ext cx="51814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4" name="Rectangle 4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0"/>
              <p:cNvSpPr txBox="1"/>
              <p:nvPr/>
            </p:nvSpPr>
            <p:spPr>
              <a:xfrm>
                <a:off x="3203640" y="4437000"/>
                <a:ext cx="419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2"/>
              <p:cNvSpPr txBox="1"/>
              <p:nvPr/>
            </p:nvSpPr>
            <p:spPr>
              <a:xfrm>
                <a:off x="3708360" y="4292640"/>
                <a:ext cx="914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7" name="Rectangle 45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4"/>
              <p:cNvSpPr txBox="1"/>
              <p:nvPr/>
            </p:nvSpPr>
            <p:spPr>
              <a:xfrm>
                <a:off x="539640" y="5013360"/>
                <a:ext cx="4190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46"/>
              <p:cNvSpPr txBox="1"/>
              <p:nvPr/>
            </p:nvSpPr>
            <p:spPr>
              <a:xfrm>
                <a:off x="971640" y="4797360"/>
                <a:ext cx="9144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8"/>
              <p:cNvSpPr txBox="1"/>
              <p:nvPr/>
            </p:nvSpPr>
            <p:spPr>
              <a:xfrm>
                <a:off x="826920" y="5516640"/>
                <a:ext cx="2133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50"/>
              <p:cNvSpPr txBox="1"/>
              <p:nvPr/>
            </p:nvSpPr>
            <p:spPr>
              <a:xfrm>
                <a:off x="971640" y="6372360"/>
                <a:ext cx="2667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реферат подводит к самым современным и актуальным задачам не только математики и ее приложений, в частности, в вопросах оптимального планирования и управления, но и физики, астрономии, а также в любых отраслях промышл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еобразие геометрии, выделяющее ее среди других разделов математики и других наук для меня заключается в неразрывном органическом соединении живого воображения со строгой логи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ния о телах вращения широко используются в строительном деле, архитектуре, машиностроении, геодезии, во многих других областях науки и техники, поэтому эта тема была для меня наиболее привлекате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6840" y="228600"/>
            <a:ext cx="65725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7e7ff"/>
                </a:solidFill>
                <a:latin typeface="Arial"/>
              </a:rPr>
              <a:t>Геометрические тела вращения и их свойства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3" name="Picture 6" descr="05"/>
          <p:cNvPicPr/>
          <p:nvPr/>
        </p:nvPicPr>
        <p:blipFill>
          <a:blip r:embed="rId1"/>
          <a:stretch/>
        </p:blipFill>
        <p:spPr>
          <a:xfrm>
            <a:off x="1495440" y="1701720"/>
            <a:ext cx="933480" cy="122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01"/>
          <p:cNvPicPr/>
          <p:nvPr/>
        </p:nvPicPr>
        <p:blipFill>
          <a:blip r:embed="rId2"/>
          <a:stretch/>
        </p:blipFill>
        <p:spPr>
          <a:xfrm>
            <a:off x="5688000" y="1700280"/>
            <a:ext cx="1455840" cy="122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01"/>
          <p:cNvPicPr/>
          <p:nvPr/>
        </p:nvPicPr>
        <p:blipFill>
          <a:blip r:embed="rId3"/>
          <a:stretch/>
        </p:blipFill>
        <p:spPr>
          <a:xfrm>
            <a:off x="1547640" y="4365720"/>
            <a:ext cx="1524240" cy="120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14"/>
          <p:cNvPicPr/>
          <p:nvPr/>
        </p:nvPicPr>
        <p:blipFill>
          <a:blip r:embed="rId4"/>
          <a:stretch/>
        </p:blipFill>
        <p:spPr>
          <a:xfrm>
            <a:off x="6012000" y="4221000"/>
            <a:ext cx="1131840" cy="12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71600" y="228600"/>
            <a:ext cx="2071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7e7ff"/>
                </a:solidFill>
                <a:latin typeface="Arial"/>
              </a:rPr>
              <a:t>Цилиндр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91328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Цилиндр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зывается тело, которое состоит из двух кругов, не лежащих в одной плоскости и совмещаемых параллельным переносом, и всех отрезков, соединяющих соответствующие точки этих ос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2" descr="03"/>
          <p:cNvPicPr/>
          <p:nvPr/>
        </p:nvPicPr>
        <p:blipFill>
          <a:blip r:embed="rId1"/>
          <a:stretch/>
        </p:blipFill>
        <p:spPr>
          <a:xfrm>
            <a:off x="5500800" y="1714680"/>
            <a:ext cx="1928880" cy="15001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3286080" y="3786120"/>
            <a:ext cx="56437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Основаниями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линдра являются круги с центрами О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О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а отрезки  АВ и ММ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зываются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ующими цилиндрической поверхности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M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диус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илиндра называется радиус его основания (О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=О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сот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илиндра называется расстояние между плоскостями его оснований (Н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с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илиндра называется прямая, проходящая через центры оснований, она параллельна образующим, где точка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(середина отрезка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1" lang="ru-RU" sz="1800" spc="-1" strike="noStrike" u="sng" baseline="-25000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1" lang="ru-RU" sz="1800" spc="-1" strike="noStrike" u="sng" baseline="-25000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)- центр симметр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01"/>
          <p:cNvPicPr/>
          <p:nvPr/>
        </p:nvPicPr>
        <p:blipFill>
          <a:blip r:embed="rId2"/>
          <a:stretch/>
        </p:blipFill>
        <p:spPr>
          <a:xfrm>
            <a:off x="642960" y="4214880"/>
            <a:ext cx="228600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720" y="260280"/>
            <a:ext cx="47149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7e7ff"/>
                </a:solidFill>
                <a:latin typeface="Arial"/>
              </a:rPr>
              <a:t>Прямой круговой цилиндр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3749760" cy="12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"/>
              </a:rPr>
              <a:t>Цилиндр называется прямым круговым, если его образующие перпендикулярны плоскостям ос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38"/>
          <p:cNvGrpSpPr/>
          <p:nvPr/>
        </p:nvGrpSpPr>
        <p:grpSpPr>
          <a:xfrm>
            <a:off x="5076720" y="1773360"/>
            <a:ext cx="1067040" cy="1298520"/>
            <a:chOff x="5076720" y="1773360"/>
            <a:chExt cx="1067040" cy="1298520"/>
          </a:xfrm>
        </p:grpSpPr>
        <p:sp>
          <p:nvSpPr>
            <p:cNvPr id="65" name="Rectangle 7"/>
            <p:cNvSpPr/>
            <p:nvPr/>
          </p:nvSpPr>
          <p:spPr>
            <a:xfrm>
              <a:off x="5088240" y="2073600"/>
              <a:ext cx="1042560" cy="707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5076720" y="1965960"/>
              <a:ext cx="1067040" cy="1994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5076720" y="2669760"/>
              <a:ext cx="1067040" cy="200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5082120" y="2264400"/>
              <a:ext cx="0" cy="50328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5610240" y="2870640"/>
              <a:ext cx="2160" cy="20124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5610240" y="2065680"/>
              <a:ext cx="2160" cy="904320"/>
            </a:xfrm>
            <a:prstGeom prst="line">
              <a:avLst/>
            </a:prstGeom>
            <a:ln w="9360">
              <a:solidFill>
                <a:srgbClr val="0000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5610240" y="2771280"/>
              <a:ext cx="268200" cy="99000"/>
            </a:xfrm>
            <a:prstGeom prst="line">
              <a:avLst/>
            </a:prstGeom>
            <a:ln w="9360">
              <a:solidFill>
                <a:srgbClr val="0000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Line 15"/>
            <p:cNvSpPr/>
            <p:nvPr/>
          </p:nvSpPr>
          <p:spPr>
            <a:xfrm>
              <a:off x="5878440" y="2267280"/>
              <a:ext cx="0" cy="60336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Line 16"/>
            <p:cNvSpPr/>
            <p:nvPr/>
          </p:nvSpPr>
          <p:spPr>
            <a:xfrm flipV="1">
              <a:off x="5878440" y="2165400"/>
              <a:ext cx="0" cy="10152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Line 17"/>
            <p:cNvSpPr/>
            <p:nvPr/>
          </p:nvSpPr>
          <p:spPr>
            <a:xfrm flipV="1">
              <a:off x="5088240" y="2072520"/>
              <a:ext cx="0" cy="20196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 flipH="1" flipV="1">
              <a:off x="5609880" y="2065320"/>
              <a:ext cx="268200" cy="9972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20"/>
            <p:cNvSpPr/>
            <p:nvPr/>
          </p:nvSpPr>
          <p:spPr>
            <a:xfrm flipH="1">
              <a:off x="5076720" y="2065680"/>
              <a:ext cx="533520" cy="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21"/>
            <p:cNvSpPr/>
            <p:nvPr/>
          </p:nvSpPr>
          <p:spPr>
            <a:xfrm flipH="1">
              <a:off x="5076720" y="2771280"/>
              <a:ext cx="533520" cy="0"/>
            </a:xfrm>
            <a:prstGeom prst="line">
              <a:avLst/>
            </a:prstGeom>
            <a:ln w="9360">
              <a:solidFill>
                <a:srgbClr val="0000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Line 25"/>
            <p:cNvSpPr/>
            <p:nvPr/>
          </p:nvSpPr>
          <p:spPr>
            <a:xfrm flipV="1">
              <a:off x="5619240" y="1773360"/>
              <a:ext cx="0" cy="300240"/>
            </a:xfrm>
            <a:prstGeom prst="line">
              <a:avLst/>
            </a:prstGeom>
            <a:ln w="9360">
              <a:solidFill>
                <a:srgbClr val="0000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Прямоугольник 18"/>
          <p:cNvSpPr/>
          <p:nvPr/>
        </p:nvSpPr>
        <p:spPr>
          <a:xfrm>
            <a:off x="3462120" y="32446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7f73b"/>
                </a:solidFill>
                <a:latin typeface="Arial"/>
              </a:rPr>
              <a:t>Виды цилинд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36"/>
          <p:cNvGrpSpPr/>
          <p:nvPr/>
        </p:nvGrpSpPr>
        <p:grpSpPr>
          <a:xfrm>
            <a:off x="428760" y="3785760"/>
            <a:ext cx="1371600" cy="1162440"/>
            <a:chOff x="428760" y="3785760"/>
            <a:chExt cx="1371600" cy="1162440"/>
          </a:xfrm>
        </p:grpSpPr>
        <p:sp>
          <p:nvSpPr>
            <p:cNvPr id="81" name="AutoShape 37"/>
            <p:cNvSpPr/>
            <p:nvPr/>
          </p:nvSpPr>
          <p:spPr>
            <a:xfrm>
              <a:off x="428760" y="4561200"/>
              <a:ext cx="1371600" cy="309600"/>
            </a:xfrm>
            <a:prstGeom prst="parallelogram">
              <a:avLst>
                <a:gd name="adj" fmla="val 123103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8"/>
            <p:cNvSpPr/>
            <p:nvPr/>
          </p:nvSpPr>
          <p:spPr>
            <a:xfrm>
              <a:off x="789480" y="4018320"/>
              <a:ext cx="721800" cy="69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39"/>
            <p:cNvSpPr/>
            <p:nvPr/>
          </p:nvSpPr>
          <p:spPr>
            <a:xfrm>
              <a:off x="573120" y="4250880"/>
              <a:ext cx="1082520" cy="232560"/>
            </a:xfrm>
            <a:prstGeom prst="parallelogram">
              <a:avLst>
                <a:gd name="adj" fmla="val 129343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40"/>
            <p:cNvSpPr/>
            <p:nvPr/>
          </p:nvSpPr>
          <p:spPr>
            <a:xfrm>
              <a:off x="789480" y="3940920"/>
              <a:ext cx="721800" cy="1562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41"/>
            <p:cNvSpPr/>
            <p:nvPr/>
          </p:nvSpPr>
          <p:spPr>
            <a:xfrm>
              <a:off x="789480" y="4638600"/>
              <a:ext cx="721800" cy="1555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42"/>
            <p:cNvSpPr/>
            <p:nvPr/>
          </p:nvSpPr>
          <p:spPr>
            <a:xfrm>
              <a:off x="789480" y="4250880"/>
              <a:ext cx="721800" cy="1555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>
              <a:off x="1150560" y="4018320"/>
              <a:ext cx="0" cy="77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 flipV="1">
              <a:off x="1150560" y="3785760"/>
              <a:ext cx="0" cy="23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>
              <a:off x="1150560" y="4793760"/>
              <a:ext cx="0" cy="15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>
              <a:off x="1511640" y="4173480"/>
              <a:ext cx="0" cy="1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21"/>
          <p:cNvGrpSpPr/>
          <p:nvPr/>
        </p:nvGrpSpPr>
        <p:grpSpPr>
          <a:xfrm>
            <a:off x="3143160" y="3904200"/>
            <a:ext cx="1819440" cy="1023120"/>
            <a:chOff x="3143160" y="3904200"/>
            <a:chExt cx="1819440" cy="1023120"/>
          </a:xfrm>
        </p:grpSpPr>
        <p:sp>
          <p:nvSpPr>
            <p:cNvPr id="92" name="AutoShape 22"/>
            <p:cNvSpPr/>
            <p:nvPr/>
          </p:nvSpPr>
          <p:spPr>
            <a:xfrm>
              <a:off x="3143160" y="4382280"/>
              <a:ext cx="1819440" cy="545040"/>
            </a:xfrm>
            <a:prstGeom prst="parallelogram">
              <a:avLst>
                <a:gd name="adj" fmla="val 8345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23"/>
            <p:cNvSpPr/>
            <p:nvPr/>
          </p:nvSpPr>
          <p:spPr>
            <a:xfrm>
              <a:off x="3571200" y="4110120"/>
              <a:ext cx="856080" cy="545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24"/>
            <p:cNvSpPr/>
            <p:nvPr/>
          </p:nvSpPr>
          <p:spPr>
            <a:xfrm rot="10597800">
              <a:off x="3571200" y="4475880"/>
              <a:ext cx="856080" cy="362880"/>
            </a:xfrm>
            <a:prstGeom prst="flowChartDelay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25"/>
            <p:cNvSpPr/>
            <p:nvPr/>
          </p:nvSpPr>
          <p:spPr>
            <a:xfrm rot="10597800">
              <a:off x="3571200" y="3928680"/>
              <a:ext cx="856080" cy="363600"/>
            </a:xfrm>
            <a:prstGeom prst="flowChartDelay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3571200" y="4110120"/>
              <a:ext cx="0" cy="54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7"/>
            <p:cNvSpPr/>
            <p:nvPr/>
          </p:nvSpPr>
          <p:spPr>
            <a:xfrm>
              <a:off x="3891960" y="429192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28"/>
          <p:cNvGrpSpPr/>
          <p:nvPr/>
        </p:nvGrpSpPr>
        <p:grpSpPr>
          <a:xfrm>
            <a:off x="6572160" y="4000680"/>
            <a:ext cx="1919520" cy="998280"/>
            <a:chOff x="6572160" y="4000680"/>
            <a:chExt cx="1919520" cy="998280"/>
          </a:xfrm>
        </p:grpSpPr>
        <p:sp>
          <p:nvSpPr>
            <p:cNvPr id="99" name="AutoShape 29"/>
            <p:cNvSpPr/>
            <p:nvPr/>
          </p:nvSpPr>
          <p:spPr>
            <a:xfrm>
              <a:off x="6572160" y="4635720"/>
              <a:ext cx="1919520" cy="363240"/>
            </a:xfrm>
            <a:prstGeom prst="parallelogram">
              <a:avLst>
                <a:gd name="adj" fmla="val 132111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30"/>
            <p:cNvSpPr/>
            <p:nvPr/>
          </p:nvSpPr>
          <p:spPr>
            <a:xfrm>
              <a:off x="7105680" y="4092120"/>
              <a:ext cx="1067040" cy="724680"/>
            </a:xfrm>
            <a:prstGeom prst="parallelogram">
              <a:avLst>
                <a:gd name="adj" fmla="val 32175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1"/>
            <p:cNvSpPr/>
            <p:nvPr/>
          </p:nvSpPr>
          <p:spPr>
            <a:xfrm>
              <a:off x="7319520" y="4000680"/>
              <a:ext cx="853200" cy="1825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2"/>
            <p:cNvSpPr/>
            <p:nvPr/>
          </p:nvSpPr>
          <p:spPr>
            <a:xfrm>
              <a:off x="7105680" y="4726080"/>
              <a:ext cx="853920" cy="181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33"/>
            <p:cNvSpPr/>
            <p:nvPr/>
          </p:nvSpPr>
          <p:spPr>
            <a:xfrm flipV="1">
              <a:off x="7532640" y="4091760"/>
              <a:ext cx="213120" cy="723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34"/>
            <p:cNvSpPr/>
            <p:nvPr/>
          </p:nvSpPr>
          <p:spPr>
            <a:xfrm flipH="1">
              <a:off x="7638480" y="4182480"/>
              <a:ext cx="213840" cy="72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35"/>
            <p:cNvSpPr/>
            <p:nvPr/>
          </p:nvSpPr>
          <p:spPr>
            <a:xfrm flipH="1">
              <a:off x="7745760" y="4182480"/>
              <a:ext cx="213840" cy="72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14720" y="228600"/>
            <a:ext cx="392904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7e7ff"/>
                </a:solidFill>
                <a:latin typeface="Arial"/>
              </a:rPr>
              <a:t>Сечения цилиндров.</a:t>
            </a: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785520"/>
            <a:ext cx="61768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евое сеч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чение, перпендикулярное оси цилинд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с как с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28760" y="19288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евое сеч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3" descr="04"/>
          <p:cNvPicPr/>
          <p:nvPr/>
        </p:nvPicPr>
        <p:blipFill>
          <a:blip r:embed="rId4"/>
          <a:stretch/>
        </p:blipFill>
        <p:spPr>
          <a:xfrm>
            <a:off x="285840" y="2428920"/>
            <a:ext cx="1528560" cy="9237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26"/>
          <p:cNvGrpSpPr/>
          <p:nvPr/>
        </p:nvGrpSpPr>
        <p:grpSpPr>
          <a:xfrm>
            <a:off x="2060640" y="2428920"/>
            <a:ext cx="1289160" cy="995400"/>
            <a:chOff x="2060640" y="2428920"/>
            <a:chExt cx="1289160" cy="995400"/>
          </a:xfrm>
        </p:grpSpPr>
        <p:sp>
          <p:nvSpPr>
            <p:cNvPr id="111" name="Rectangle 24"/>
            <p:cNvSpPr/>
            <p:nvPr/>
          </p:nvSpPr>
          <p:spPr>
            <a:xfrm>
              <a:off x="2071800" y="2428920"/>
              <a:ext cx="1278000" cy="995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2413800" y="2637000"/>
              <a:ext cx="615960" cy="555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 rot="10098600">
              <a:off x="2104920" y="2637000"/>
              <a:ext cx="1109880" cy="552960"/>
            </a:xfrm>
            <a:prstGeom prst="parallelogram">
              <a:avLst>
                <a:gd name="adj" fmla="val 23956"/>
              </a:avLst>
            </a:prstGeom>
            <a:solidFill>
              <a:srgbClr val="ff99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2413800" y="2575080"/>
              <a:ext cx="615960" cy="124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2413800" y="3130560"/>
              <a:ext cx="615960" cy="123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2413800" y="2637000"/>
              <a:ext cx="0" cy="555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14"/>
            <p:cNvSpPr/>
            <p:nvPr/>
          </p:nvSpPr>
          <p:spPr>
            <a:xfrm flipV="1">
              <a:off x="3029760" y="2637000"/>
              <a:ext cx="360" cy="55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5"/>
            <p:cNvSpPr/>
            <p:nvPr/>
          </p:nvSpPr>
          <p:spPr>
            <a:xfrm flipV="1">
              <a:off x="2355840" y="2589840"/>
              <a:ext cx="603360" cy="8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 flipV="1">
              <a:off x="2391120" y="3155040"/>
              <a:ext cx="532800" cy="8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7"/>
            <p:cNvSpPr/>
            <p:nvPr/>
          </p:nvSpPr>
          <p:spPr>
            <a:xfrm>
              <a:off x="2722320" y="2637000"/>
              <a:ext cx="0" cy="6166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18"/>
            <p:cNvSpPr/>
            <p:nvPr/>
          </p:nvSpPr>
          <p:spPr>
            <a:xfrm>
              <a:off x="2722320" y="3254040"/>
              <a:ext cx="0" cy="123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Прямоугольник 18"/>
          <p:cNvSpPr/>
          <p:nvPr/>
        </p:nvSpPr>
        <p:spPr>
          <a:xfrm>
            <a:off x="0" y="350028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ankGothic Md BT"/>
              </a:rPr>
              <a:t>Если секущая плоскость проходит через ось цилиндра, то сечение представляет </a:t>
            </a:r>
            <a:r>
              <a:rPr b="0" lang="ru-RU" sz="1800" spc="-1" strike="noStrike">
                <a:solidFill>
                  <a:srgbClr val="ffffff"/>
                </a:solidFill>
                <a:latin typeface="BankGothic Md BT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BankGothic Md BT"/>
              </a:rPr>
              <a:t>собой  прямоугольник, две стороны  которого - образующие, а две другие – диаметры  оснований цилинд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ankGothic Md BT"/>
              </a:rPr>
              <a:t>Такое сечение называется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BankGothic Md BT"/>
              </a:rPr>
              <a:t>осевым</a:t>
            </a:r>
            <a:r>
              <a:rPr b="0" lang="ru-RU" sz="1800" spc="-1" strike="noStrike">
                <a:solidFill>
                  <a:srgbClr val="ffffff"/>
                </a:solidFill>
                <a:latin typeface="BankGothic Md B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9"/>
          <p:cNvSpPr/>
          <p:nvPr/>
        </p:nvSpPr>
        <p:spPr>
          <a:xfrm>
            <a:off x="3429000" y="17859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чение, перпендикулярное оси цилинд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05"/>
          <p:cNvPicPr/>
          <p:nvPr/>
        </p:nvPicPr>
        <p:blipFill>
          <a:blip r:embed="rId5"/>
          <a:stretch/>
        </p:blipFill>
        <p:spPr>
          <a:xfrm>
            <a:off x="5643720" y="2500200"/>
            <a:ext cx="1517400" cy="10828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1"/>
          <p:cNvSpPr/>
          <p:nvPr/>
        </p:nvSpPr>
        <p:spPr>
          <a:xfrm>
            <a:off x="4357800" y="3643200"/>
            <a:ext cx="42861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секущая плоскость перпендикулярна к оси цилиндра, то сечение является кругом. Она отсекает от данного цилиндра тело, также являющееся цилиндром, одно из оснований  которого и есть рассматриваемое сечение. Сечение, проходящее через точку С, делит цилиндр на два равных те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43080" y="228240"/>
            <a:ext cx="385776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Эллипс как сечение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19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оскости сечения, проходящие под углом к плоскостям оснований цилиндра  (отличным от 900 и 00),  могут принимать форму эллипса или его части. Эллипс является, по определению, параллельной проекцией окружности на плоск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9" descr="06"/>
          <p:cNvPicPr/>
          <p:nvPr/>
        </p:nvPicPr>
        <p:blipFill>
          <a:blip r:embed="rId1"/>
          <a:stretch/>
        </p:blipFill>
        <p:spPr>
          <a:xfrm>
            <a:off x="4932360" y="1700280"/>
            <a:ext cx="1854360" cy="1585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2"/>
          <p:cNvPicPr/>
          <p:nvPr/>
        </p:nvPicPr>
        <p:blipFill>
          <a:blip r:embed="rId2"/>
          <a:stretch/>
        </p:blipFill>
        <p:spPr>
          <a:xfrm>
            <a:off x="571680" y="4214880"/>
            <a:ext cx="3385800" cy="1143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4286160" y="3571920"/>
            <a:ext cx="48578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им, что боковую поверх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линдра разрезали  по образующей АВ и развернули таким образом, что все образующие оказались расположенными в некоторой плоск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В результате  в плоск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лучится прямоугольник АВВ'А'. Стороны АВ и А'В' прямоугольника представляют собой  два края разреза боковой поверх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линдра по образующей А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56920" y="228600"/>
            <a:ext cx="392940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e7ff"/>
                </a:solidFill>
                <a:latin typeface="Arial"/>
              </a:rPr>
              <a:t>Площадь поверхности цилиндра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857760"/>
            <a:ext cx="8362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ормула для вычисления площади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600" spc="-1" strike="noStrike" baseline="-25000">
                <a:solidFill>
                  <a:srgbClr val="ffffff"/>
                </a:solidFill>
                <a:latin typeface="Arial"/>
              </a:rPr>
              <a:t>б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боковой поверхности цилиндра радиус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высоты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лучается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547640" y="4365720"/>
            <a:ext cx="5832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5400" spc="-1" strike="noStrike" baseline="-25000">
                <a:solidFill>
                  <a:srgbClr val="ffffff"/>
                </a:solidFill>
                <a:latin typeface="Arial"/>
              </a:rPr>
              <a:t>бок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=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=2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l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1"/>
              <p:cNvSpPr txBox="1"/>
              <p:nvPr/>
            </p:nvSpPr>
            <p:spPr>
              <a:xfrm>
                <a:off x="3708360" y="4653000"/>
                <a:ext cx="60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2"/>
              <p:cNvSpPr txBox="1"/>
              <p:nvPr/>
            </p:nvSpPr>
            <p:spPr>
              <a:xfrm>
                <a:off x="5219640" y="4581360"/>
                <a:ext cx="720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Прямоугольник 7"/>
          <p:cNvSpPr/>
          <p:nvPr/>
        </p:nvSpPr>
        <p:spPr>
          <a:xfrm>
            <a:off x="785880" y="107172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щадью  полной поверхности цилиндра называется сумма площадей боковой поверхности и двух осн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928800" y="1857240"/>
            <a:ext cx="792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ци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S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бо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2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r+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42600" y="333360"/>
            <a:ext cx="81486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ставим, что боковую поверхность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илиндра разрезали  по образующей АВ и развернули таким образом, что все образующие оказались расположенными в некоторой плоскост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В результате  в плоскости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лучится прямоугольник АВВ'А'. Стороны АВ и А'В' прямоугольника представляют собой  два края разреза боковой поверхности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илиндра по образующей А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02"/>
          <p:cNvPicPr/>
          <p:nvPr/>
        </p:nvPicPr>
        <p:blipFill>
          <a:blip r:embed="rId1"/>
          <a:stretch/>
        </p:blipFill>
        <p:spPr>
          <a:xfrm>
            <a:off x="1143000" y="1714680"/>
            <a:ext cx="338616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3"/>
          <p:cNvSpPr/>
          <p:nvPr/>
        </p:nvSpPr>
        <p:spPr>
          <a:xfrm>
            <a:off x="3154320" y="324468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ъем цилиндра равен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3713040" y="3967200"/>
            <a:ext cx="171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3:59:14Z</dcterms:created>
  <dc:creator>Валерия</dc:creator>
  <dc:description/>
  <dc:language>en-US</dc:language>
  <cp:lastModifiedBy>hfg</cp:lastModifiedBy>
  <dcterms:modified xsi:type="dcterms:W3CDTF">2020-11-22T01:01:20Z</dcterms:modified>
  <cp:revision>28</cp:revision>
  <dc:subject/>
  <dc:title>Слайд 1</dc:title>
</cp:coreProperties>
</file>