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60A8-6B78-4D27-A54B-9AA36A83C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C5FA-C931-4401-8DAD-4BFB30135E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3F1B-0445-4F96-9C28-ABE12D992B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C13F-1C0B-4BAA-B2FF-DDCB42C7D2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71024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ff"/>
                </a:solidFill>
                <a:latin typeface="Microsoft Sans Serif"/>
              </a:rPr>
              <a:t>Родительский всеобуч</a:t>
            </a:r>
            <a:endParaRPr b="0" lang="en-US" sz="51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4929120" cy="5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icrosoft Sans Serif"/>
              </a:rPr>
              <a:t>«ЗАБОТА, КОНТРОЛЬ И ТРЕБОВАНИЯ РОДИТЕЛЕЙ</a:t>
            </a:r>
            <a:endParaRPr b="0" lang="en-US" sz="23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icrosoft Sans Serif"/>
              </a:rPr>
              <a:t>КАК ОСНОВНЫЕ  ФАКТОРЫ ВОСПИТАНИЯ РЕБЁНКА»</a:t>
            </a:r>
            <a:endParaRPr b="0" lang="en-US" sz="23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1320" y="533520"/>
            <a:ext cx="58676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Модели родительского контроля (Д.Баумринд)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990720" y="1905120"/>
            <a:ext cx="74674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ь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вторитетного родительского контр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и относятся к своим детям нежно, с теплотой и пониманием, доброжелательно, много с ними общаются, но контролируют детей, требуют осознанного пове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ь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ластного родительского контр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и жестко контролируют детей, часто применяют свою власть, не побуждают детей выражать свое собственное м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нисходительная мод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одители не поощряют детей, не обращают внимания на воспитание независимости ребенка и его уверенности в се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600" y="83772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Виды родительского  контрол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(И.А.Захаров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7720" y="20570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Microsoft Sans Serif"/>
              </a:rPr>
              <a:t>Разрешающий контроль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. Здесь допускаются полная активность и самостоятельность ребенка, отсутствуют порицания и наказания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Microsoft Sans Serif"/>
              </a:rPr>
              <a:t>Умеренный тип контроля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 сочетает как твердость родителей, не перерастающую в излишнюю принципиальность и настойчивость, так и определенную ситуативную уступчивость в отношении желаний и требований дете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Microsoft Sans Serif"/>
              </a:rPr>
              <a:t>Чрезмерный контроль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 проявляется в стремлении родителя следить за каждым шагом ребенка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6880" y="837720"/>
            <a:ext cx="60962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Формы отсутствия контроля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5280" y="2133720"/>
            <a:ext cx="70106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ffff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icrosoft Sans Serif"/>
              </a:rPr>
              <a:t>Гипопротекция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 – недостаток опеки и контроля, приводящий иногда к полной безнадзорности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700"/>
              </a:spcBef>
              <a:buClr>
                <a:srgbClr val="ffff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icrosoft Sans Serif"/>
              </a:rPr>
              <a:t>Потворствующая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 гиперпротекция, или воспитание ребёнка по типу «кумир  семьи»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914040"/>
            <a:ext cx="6705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«Я нужен и любим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а вы существуете ради меня»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1760" y="228600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Я-центр семьи, родители существуют ради меня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601"/>
              </a:spcBef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Мои пожелания и стремления-самые важные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Я должен их осуществлять во что бы то ни стало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3. Окружающие, даже если не говорят этого, восхищаются мною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4. Люди, которые не видят моего превосходства,-просто глупые. Я не хочу иметь с ними дела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5. Если другие люди думают и действуют не так, как я, они ошибаются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4419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Родительские требования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Овал 3"/>
          <p:cNvSpPr/>
          <p:nvPr/>
        </p:nvSpPr>
        <p:spPr>
          <a:xfrm>
            <a:off x="990720" y="1728720"/>
            <a:ext cx="4038480" cy="160020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ования-обяза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Овал 4"/>
          <p:cNvSpPr/>
          <p:nvPr/>
        </p:nvSpPr>
        <p:spPr>
          <a:xfrm>
            <a:off x="4038480" y="4419720"/>
            <a:ext cx="4038840" cy="160020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ования-запр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https://presentacii.ru/documents_4/f4c8092062a9f062261ebc005d360688/img18.jpg"/>
          <p:cNvPicPr/>
          <p:nvPr/>
        </p:nvPicPr>
        <p:blipFill>
          <a:blip r:embed="rId1"/>
          <a:srcRect l="5664" t="29317" r="3638" b="2318"/>
          <a:stretch/>
        </p:blipFill>
        <p:spPr>
          <a:xfrm>
            <a:off x="757080" y="3498840"/>
            <a:ext cx="325764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s://avatars.mds.yandex.net/get-zen_doc/222865/pub_5cc564f5f750ab00af5a8ce9_5cc58379427b3c00be03241f/scale_1200"/>
          <p:cNvPicPr/>
          <p:nvPr/>
        </p:nvPicPr>
        <p:blipFill>
          <a:blip r:embed="rId2"/>
          <a:stretch/>
        </p:blipFill>
        <p:spPr>
          <a:xfrm>
            <a:off x="5257800" y="1828800"/>
            <a:ext cx="32004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553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Требования  - обязанности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66680" y="220932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icrosoft Sans Serif"/>
              </a:rPr>
              <a:t>Чрезмерность требований-обязанностей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Родители любят не столько самого ребёнка, сколько его идеальный образ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icrosoft Sans Serif"/>
              </a:rPr>
              <a:t>Недостаточность требований-обязанностей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Ребёнок имеет минимальное количество обязанностей в семье. 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553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Требования  - запреты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2209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icrosoft Sans Serif"/>
              </a:rPr>
              <a:t>Чрезмерность требований-запретов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Ребёнку «ничего нельзя», ему предъявляется огромное количество требований, ограничивающих его свободу  и самостоятельность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icrosoft Sans Serif"/>
              </a:rPr>
              <a:t>Недостаточность требований-запретов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Ребёнку «всё можно». Даже если и существуют какие-либо запреты, ребёнок их легко нарушает, зная, что с него никто ничего не спросит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066680" y="20570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Microsoft Sans Serif"/>
              </a:rPr>
              <a:t>Авторитарная гиперсоциализация 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родители требуют от ребёнка безоговорочного послушания и дисциплины. Они стараются навязать ему свою волю и не желают встать на точку зрения ребёнка. За проявление своеволия ребёнка наказывают.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00040" y="609120"/>
            <a:ext cx="6095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Влияние родительского контроля   на развитие личности ребёнк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772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buClr>
                <a:srgbClr val="ffff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Microsoft Sans Serif"/>
              </a:rPr>
              <a:t>Демократический стиль 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определяется высоким уровнем вербального общения между родителями и детьми, включенностью детей в обсуждение семейных проблем, учётом их мнения; готовностью родителей прийти на помощь, если это потребуется, верой в успех самостоятельной деятельности ребён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2.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Microsoft Sans Serif"/>
              </a:rPr>
              <a:t>Контролирующий стиль</a:t>
            </a: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едполагает введение значительных ограничений на поведение детей, чёткое и ясное разъяснение ребёнку смысла ограничений, отсутствие разногласий между родителями и детьми по поводу дисциплинарных мер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914040"/>
            <a:ext cx="5715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Совокупность детских черт, связанных с фактором родительского контрол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(3 группы детей)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24382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Microsoft Sans Serif"/>
              </a:rPr>
              <a:t>Компетентные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 - с устойчиво хорошим настроением, уверенные в себе, с хорошо развитым самоконтролем поведения, умением устанавливать дружеские отношения со сверстниками, стремлением к исследованию, а не избеганию новых ситуаций.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Microsoft Sans Serif"/>
              </a:rPr>
              <a:t>Избегающие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 - с преобладанием уныло-грустного настроения, трудно устанавливающие контакты со сверстниками.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Microsoft Sans Serif"/>
              </a:rPr>
              <a:t>Незрелые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 - неуверенные в себе, с плохим самоконтролем,    с реакциями отказа во фрустрационных ситуациях (ситуации несоответствия желаний имеющимся возможностям)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19320" y="213336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Научить ребёнка быть счастливым нельзя, но воспитать его так, чтобы он был счастливым можно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А.Макаренко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0040" y="456840"/>
            <a:ext cx="5791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Комплекс черт компетентных родителей: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1260360" y="1959120"/>
            <a:ext cx="6096240" cy="685800"/>
          </a:xfrm>
          <a:prstGeom prst="rect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Стрелка вниз 4"/>
          <p:cNvSpPr/>
          <p:nvPr/>
        </p:nvSpPr>
        <p:spPr>
          <a:xfrm>
            <a:off x="4013280" y="2689200"/>
            <a:ext cx="355680" cy="457200"/>
          </a:xfrm>
          <a:prstGeom prst="downArrow">
            <a:avLst>
              <a:gd name="adj1" fmla="val 50000"/>
              <a:gd name="adj2" fmla="val 49804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249200" y="3147840"/>
            <a:ext cx="6096240" cy="685800"/>
          </a:xfrm>
          <a:prstGeom prst="rect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ТЕЛЬНОСТЬ К СОЦИАЛЬНОЙ ЗРЕЛ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Стрелка вниз 6"/>
          <p:cNvSpPr/>
          <p:nvPr/>
        </p:nvSpPr>
        <p:spPr>
          <a:xfrm>
            <a:off x="4121280" y="5126040"/>
            <a:ext cx="353880" cy="457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1295280" y="4375080"/>
            <a:ext cx="6096240" cy="685800"/>
          </a:xfrm>
          <a:prstGeom prst="rect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1260360" y="5583240"/>
            <a:ext cx="6096240" cy="685800"/>
          </a:xfrm>
          <a:prstGeom prst="rect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ОЦИОНАЛЬНАЯ ПОДДЕР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трелка вниз 9"/>
          <p:cNvSpPr/>
          <p:nvPr/>
        </p:nvSpPr>
        <p:spPr>
          <a:xfrm>
            <a:off x="4060800" y="3862440"/>
            <a:ext cx="353880" cy="457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Техники дисциплинирования ребёнк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25909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а) эмоциональное наказание;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б) техника, основанная на утверждении силы;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в) разъясняющая техника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430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Microsoft Sans Serif"/>
              </a:rPr>
              <a:t>Эмоциональное наказание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 - это такая дисциплинарная форма, при которой родители воздействуют на чувства ребенка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Это отказ разговаривать с ребенком, насмешки, нарочитое лишение его родительской любви ("мама такого не любит"), выражение нелюбви, изоляция ребенка, стимуляция чувства вины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Это наиболее сильный способ воздействия на ребенка, так как эмоциональное наказание может быть длительным, к тому же на ребенка в этом случае действует сильная угроза - страх потери объекта любви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1066680" y="21337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Техника, основанная на 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тверждении силы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ключает физические наказания, лишение удовольствий и материальных ресурсов, вербальные угрозы по отношению к ребен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м случае механизмом управления поведением ребенка является страх наказ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1143000" y="181764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Разъясняющая техн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является относительно мягким способом дисциплинирования, который характеризуется попытками родителей объясниться с ребенком в надежде, что он поймет, почему он должен изменить свое поведение. Например, можно разъяснить ребенку его поведение, взывая к его гордости, к желанию "быть взрослым", объяснить разумность соблюдения дисцип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14040" y="19051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icrosoft Sans Serif"/>
              </a:rPr>
              <a:t>Дисциплина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 – это путь сделать ребёнка более счастливым и успешным в достижении его целей. Это средство формирования у ребёнка самоконтроля  и самодисциплины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icrosoft Sans Serif"/>
              </a:rPr>
              <a:t>Физическое наказание 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порождает у ребёнка гнев, ощущение беспомощности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19320" y="1523880"/>
            <a:ext cx="769608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Понимание ребёнка, принятие его не только сердцем, но и умом, осознание ответственности за его судьбу поможет взрослым выбрать тот стиль воспитания, который принесёт благо и ребёнку и родителям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07" name="Picture 2" descr="http://naurusova.raduga7.edusite.ru/images/sem-ya.png"/>
          <p:cNvPicPr/>
          <p:nvPr/>
        </p:nvPicPr>
        <p:blipFill>
          <a:blip r:embed="rId1"/>
          <a:stretch/>
        </p:blipFill>
        <p:spPr>
          <a:xfrm>
            <a:off x="3429000" y="3886200"/>
            <a:ext cx="4081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7eff"/>
                </a:solidFill>
                <a:latin typeface="Microsoft Sans Serif"/>
              </a:rPr>
              <a:t>Родительская забота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cxnSp>
        <p:nvCxnSpPr>
          <p:cNvPr id="49" name="Прямая со стрелкой 2"/>
          <p:cNvCxnSpPr/>
          <p:nvPr/>
        </p:nvCxnSpPr>
        <p:spPr>
          <a:xfrm flipH="1">
            <a:off x="3580920" y="4266720"/>
            <a:ext cx="1067760" cy="762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" name="Прямоугольник 4"/>
          <p:cNvSpPr/>
          <p:nvPr/>
        </p:nvSpPr>
        <p:spPr>
          <a:xfrm>
            <a:off x="1905120" y="1260360"/>
            <a:ext cx="708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Родительская</a:t>
            </a: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 забота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выступает в качестве ведущей формы воспитания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Уровень заботы, или протекции, определяет, сколько сил и времени уделяют родители воспитанию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Можно выделить две крайние степени протекции: чрезмерную (гиперпротекция) и недостаточную (гипопротек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905120" y="4324320"/>
            <a:ext cx="6933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Microsoft Sans Serif"/>
              </a:rPr>
              <a:t>Родительская з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/>
          <p:nvPr/>
        </p:nvCxnSpPr>
        <p:spPr>
          <a:xfrm>
            <a:off x="5715000" y="5040000"/>
            <a:ext cx="534240" cy="44676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53" name="Прямая со стрелкой 14"/>
          <p:cNvCxnSpPr/>
          <p:nvPr/>
        </p:nvCxnSpPr>
        <p:spPr>
          <a:xfrm flipH="1">
            <a:off x="4266720" y="5029200"/>
            <a:ext cx="534240" cy="45792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54" name="Овал 28"/>
          <p:cNvSpPr/>
          <p:nvPr/>
        </p:nvSpPr>
        <p:spPr>
          <a:xfrm>
            <a:off x="2209680" y="5486400"/>
            <a:ext cx="2133720" cy="99072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иперпроте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Овал 31"/>
          <p:cNvSpPr/>
          <p:nvPr/>
        </p:nvSpPr>
        <p:spPr>
          <a:xfrm>
            <a:off x="6248520" y="5486400"/>
            <a:ext cx="2057400" cy="99072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ипопроте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066680" y="1676520"/>
            <a:ext cx="769644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иперпротекции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или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иперопеке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родители уделяют ребенку очень много времени и сил. Фактически воспитание становится для них смыслом все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пека выражается в стремлении родителей окружить ребенка повышенным вниманием, во всем защищать его, даже если в этом и нет реальной необходимости, сопровождать каждый его шаг, предохранять от мнимых опасностей, беспокоиться по поводу и без повода, удерживать ребенка возле себя, "привязывать" его к своим настроениям и чувствам, требовать от него определенных поступ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295280" y="1219320"/>
            <a:ext cx="7639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правило, забота нужна не столько детям, сколько самим родителям, восполняя у них нереализованную и нередко невротически заостренную потребность в привязанности и люб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емление матери "привязать" к себе ребенка имеет в своей основе и выраженное чувство беспокойства или трево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пека может быть мотивирована как тревогой, вызванной одиночеством родителей, так и инстинктивными опасениями, что с ребенком может случиться несчастье. Это может выражаться такими фразами: "Ты только не задерживайся, а то я буду волноваться", "Никуда не уходи без меня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1295280" y="1371600"/>
            <a:ext cx="760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попроте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ребенок находится на периферии внимания родителей, до него "не доходят руки", за воспитание родители берутся время от времени, когда случается что-либо серьезное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ние по типу гипопротекции означает пониженное внимание к ребён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туация бесконтрольности, а то и безнадзорности ребёнка обусловлена либо равнодушием родителей, либо их чрезмерной занято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6095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Степень удовлетворения потребностей ребёнк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7720" y="21333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Microsoft Sans Serif"/>
              </a:rPr>
              <a:t>Потворствование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  имеет место тогда, когда родители стремятся к максимальному и некритичному удовлетворению любых потребностей ребенка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Microsoft Sans Serif"/>
              </a:rPr>
              <a:t>Игнорирование 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такой стиль воспитания характеризуется недостаточным стремлением родителя к удовлетворению потребностей ребенка. Чаще всего страдает потребность ребенка в эмоциональном контакте с родителями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7eff"/>
                </a:solidFill>
                <a:latin typeface="Microsoft Sans Serif"/>
              </a:rPr>
              <a:t>Родительский  контроль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cxnSp>
        <p:nvCxnSpPr>
          <p:cNvPr id="62" name="Прямая со стрелкой 2"/>
          <p:cNvCxnSpPr/>
          <p:nvPr/>
        </p:nvCxnSpPr>
        <p:spPr>
          <a:xfrm flipH="1">
            <a:off x="3580920" y="4266720"/>
            <a:ext cx="1067760" cy="762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63" name="Rectangle 2"/>
          <p:cNvSpPr/>
          <p:nvPr/>
        </p:nvSpPr>
        <p:spPr>
          <a:xfrm>
            <a:off x="1905120" y="4324320"/>
            <a:ext cx="6933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Microsoft Sans Serif"/>
              </a:rPr>
              <a:t>Родительский 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вал 28"/>
          <p:cNvSpPr/>
          <p:nvPr/>
        </p:nvSpPr>
        <p:spPr>
          <a:xfrm>
            <a:off x="1981080" y="5486400"/>
            <a:ext cx="1905120" cy="99072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автоно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Овал 31"/>
          <p:cNvSpPr/>
          <p:nvPr/>
        </p:nvSpPr>
        <p:spPr>
          <a:xfrm>
            <a:off x="6858000" y="5486400"/>
            <a:ext cx="1828800" cy="99072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нтр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2209680" y="129528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о многим причинам нельзя предоставлять ребенку неограниченную свободу. Необходимы определенные ограничения и руководство, чтобы обеспечить его безопас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" name="Прямая со стрелкой 5"/>
          <p:cNvCxnSpPr/>
          <p:nvPr/>
        </p:nvCxnSpPr>
        <p:spPr>
          <a:xfrm>
            <a:off x="4114440" y="5981400"/>
            <a:ext cx="2439000" cy="10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685440"/>
            <a:ext cx="5943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Компоненты родительского контроля (Э.Маккоби)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143000" y="1828800"/>
            <a:ext cx="723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граничи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установление границ детской актив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ребова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ожидание высокого уровня ответственности у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рог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принуждение детей к чему-либ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вязчив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лияние на планы и отношения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извольное проявление вла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сихолог</cp:lastModifiedBy>
  <dcterms:modified xsi:type="dcterms:W3CDTF">2020-11-19T07:58:00Z</dcterms:modified>
  <cp:revision>99</cp:revision>
  <dc:subject/>
  <dc:title>Name of presentation</dc:title>
</cp:coreProperties>
</file>