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7400520" y="63086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99"/>
                </a:solidFill>
                <a:latin typeface="Arial"/>
              </a:rPr>
              <a:t>Page </a:t>
            </a:r>
            <a:fld id="{36CA8035-65A6-4B0A-8D4F-8122CD858D72}" type="slidenum">
              <a:rPr b="1" lang="fr-FR" sz="18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5" descr="Imcxwlezpage1fdslldsImage1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31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http://www.youtube.com/watch?v=3cpVDwwVlzs" TargetMode="External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do2.gendocs.ru/docs/index-409786.html" TargetMode="External"/><Relationship Id="rId2" Type="http://schemas.openxmlformats.org/officeDocument/2006/relationships/hyperlink" Target="http://www.zavuch.info/methodlib/142/67248/" TargetMode="External"/><Relationship Id="rId3" Type="http://schemas.openxmlformats.org/officeDocument/2006/relationships/hyperlink" Target="http://nsportal.ru/shkola/geografiya/library/urok-antarktida-zagadochnyi-krai" TargetMode="External"/><Relationship Id="rId4" Type="http://schemas.openxmlformats.org/officeDocument/2006/relationships/hyperlink" Target="http://im6-tub-ru.yandex.net/i?id=392328809-17-72&amp;n=21" TargetMode="External"/><Relationship Id="rId5" Type="http://schemas.openxmlformats.org/officeDocument/2006/relationships/hyperlink" Target="http://im3-tub-ru.yandex.net/i?id=63879093-39-72&amp;n=21" TargetMode="External"/><Relationship Id="rId6" Type="http://schemas.openxmlformats.org/officeDocument/2006/relationships/hyperlink" Target="http://im3-tub-ru.yandex.net/i?id=88709119-02-72&amp;n=21" TargetMode="External"/><Relationship Id="rId7" Type="http://schemas.openxmlformats.org/officeDocument/2006/relationships/hyperlink" Target="http://im8-tub-ru.yandex.net/i?id=43736540-68-72&amp;n=21" TargetMode="External"/><Relationship Id="rId8" Type="http://schemas.openxmlformats.org/officeDocument/2006/relationships/hyperlink" Target="http://im3-tub-ru.yandex.net/i?id=177519233-50-72&amp;n=21" TargetMode="External"/><Relationship Id="rId9" Type="http://schemas.openxmlformats.org/officeDocument/2006/relationships/hyperlink" Target="http://im2-tub-ru.yandex.net/i?id=109964585-56-72&amp;n=21" TargetMode="External"/><Relationship Id="rId10" Type="http://schemas.openxmlformats.org/officeDocument/2006/relationships/hyperlink" Target="http://im7-tub-ru.yandex.net/i?id=485127811-11-72&amp;n=21" TargetMode="External"/><Relationship Id="rId11" Type="http://schemas.openxmlformats.org/officeDocument/2006/relationships/hyperlink" Target="http://im6-tub-ru.yandex.net/i?id=262635912-70-72&amp;n=21" TargetMode="External"/><Relationship Id="rId12" Type="http://schemas.openxmlformats.org/officeDocument/2006/relationships/hyperlink" Target="http://im7-tub-ru.yandex.net/i?id=44913642-27-72&amp;n=21" TargetMode="External"/><Relationship Id="rId13" Type="http://schemas.openxmlformats.org/officeDocument/2006/relationships/hyperlink" Target="http://im4-tub-ru.yandex.net/i?id=54756201-57-72&amp;n=21" TargetMode="External"/><Relationship Id="rId14" Type="http://schemas.openxmlformats.org/officeDocument/2006/relationships/hyperlink" Target="http://im7-tub-ru.yandex.net/i?id=499041653-05-72&amp;n=21" TargetMode="External"/><Relationship Id="rId15" Type="http://schemas.openxmlformats.org/officeDocument/2006/relationships/hyperlink" Target="http://im0-tub-ru.yandex.net/i?id=189884419-33-72&amp;n=21" TargetMode="External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8-tub-ru.yandex.net/i?id=71207694-54-72&amp;n=21" TargetMode="External"/><Relationship Id="rId2" Type="http://schemas.openxmlformats.org/officeDocument/2006/relationships/hyperlink" Target="http://im3-tub-ru.yandex.net/i?id=479203085-24-72&amp;n=21" TargetMode="External"/><Relationship Id="rId3" Type="http://schemas.openxmlformats.org/officeDocument/2006/relationships/hyperlink" Target="http://im6-tub-ru.yandex.net/i?id=715441468-61-72&amp;n=21" TargetMode="External"/><Relationship Id="rId4" Type="http://schemas.openxmlformats.org/officeDocument/2006/relationships/hyperlink" Target="http://im5-tub-ru.yandex.net/i?id=235409247-49-72&amp;n=21" TargetMode="External"/><Relationship Id="rId5" Type="http://schemas.openxmlformats.org/officeDocument/2006/relationships/hyperlink" Target="http://im4-tub-ru.yandex.net/i?id=73762663-31-72&amp;n=21" TargetMode="External"/><Relationship Id="rId6" Type="http://schemas.openxmlformats.org/officeDocument/2006/relationships/hyperlink" Target="http://im2-tub-ru.yandex.net/i?id=332848407-25-72&amp;n=21" TargetMode="External"/><Relationship Id="rId7" Type="http://schemas.openxmlformats.org/officeDocument/2006/relationships/hyperlink" Target="http://im4-tub-ru.yandex.net/i?id=80632131-46-72&amp;n=21" TargetMode="External"/><Relationship Id="rId8" Type="http://schemas.openxmlformats.org/officeDocument/2006/relationships/hyperlink" Target="http://im2-tub-ru.yandex.net/i?id=238969344-45-72&amp;n=21" TargetMode="External"/><Relationship Id="rId9" Type="http://schemas.openxmlformats.org/officeDocument/2006/relationships/hyperlink" Target="http://im8-tub-ru.yandex.net/i?id=313094787-42-72&amp;n=21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4" descr="Imcxwlezpage1fdsll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542240" y="477720"/>
            <a:ext cx="649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Verdana"/>
              </a:rPr>
              <a:t>ПРИРОДА АНТАРКТ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16"/>
          <p:cNvSpPr/>
          <p:nvPr/>
        </p:nvSpPr>
        <p:spPr>
          <a:xfrm>
            <a:off x="4767120" y="4437000"/>
            <a:ext cx="311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7"/>
          <p:cNvSpPr/>
          <p:nvPr/>
        </p:nvSpPr>
        <p:spPr>
          <a:xfrm>
            <a:off x="4071960" y="457200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 Бурдакова Е.М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 ге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Кузинская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ебус на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2232000" cy="1644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5003640" y="2205000"/>
            <a:ext cx="2162160" cy="157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1524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68000" y="2349000"/>
            <a:ext cx="222732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Антаркт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° лета -30°С, зимы  -70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ая низкая температура зафиксирована на станции «Вос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89,2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обережье летом около 0°С, 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0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7307"/>
          <a:stretch/>
        </p:blipFill>
        <p:spPr>
          <a:xfrm>
            <a:off x="5219640" y="2637000"/>
            <a:ext cx="324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азисы в Антаркти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4941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о, лишенное ледникового покрова и сне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564000" y="234936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755640" y="2349360"/>
            <a:ext cx="213372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6300720" y="2349360"/>
            <a:ext cx="212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лые постро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895400" cy="15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81240" cy="142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97640" y="5124600"/>
            <a:ext cx="679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ания на сваях, прикреплены к грун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аллическими троса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3132000" y="3789360"/>
            <a:ext cx="2232000" cy="15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2162160" cy="151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4"/>
          <a:stretch/>
        </p:blipFill>
        <p:spPr>
          <a:xfrm>
            <a:off x="6372360" y="3789360"/>
            <a:ext cx="2160360" cy="1582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401040" y="5805360"/>
            <a:ext cx="84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ичные растения – мхи, лишайники, водоро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2519280" cy="1800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2589120" cy="18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2448000" cy="1644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1767960" y="6021360"/>
            <a:ext cx="560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арктида – царство пингв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651640" y="4508640"/>
            <a:ext cx="273672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73672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816360" cy="273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127240" y="522936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1763640" y="4005360"/>
            <a:ext cx="230364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5435640" y="1916280"/>
            <a:ext cx="2232000" cy="158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5940360" y="3933720"/>
            <a:ext cx="2449440" cy="17272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687960" y="595008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ой леоп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798880" y="59500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ской сл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2735280" cy="158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547640" y="4076640"/>
            <a:ext cx="215280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3"/>
          <a:stretch/>
        </p:blipFill>
        <p:spPr>
          <a:xfrm>
            <a:off x="5292720" y="4005360"/>
            <a:ext cx="2143080" cy="1439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1193400" y="566100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– чайки, альбатросы, буревес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5003640" y="1916280"/>
            <a:ext cx="285768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то эти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708360" y="1989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948360" y="1989000"/>
            <a:ext cx="140508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149544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4"/>
          <a:stretch/>
        </p:blipFill>
        <p:spPr>
          <a:xfrm>
            <a:off x="5796000" y="4149720"/>
            <a:ext cx="115236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5"/>
          <a:stretch/>
        </p:blipFill>
        <p:spPr>
          <a:xfrm>
            <a:off x="1042920" y="1989000"/>
            <a:ext cx="1463760" cy="1656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6"/>
          <p:cNvSpPr/>
          <p:nvPr/>
        </p:nvSpPr>
        <p:spPr>
          <a:xfrm>
            <a:off x="140508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4645080" y="364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745344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771640" y="573408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6158160" y="566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2581200" cy="151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859280" y="2637000"/>
            <a:ext cx="3025800" cy="2376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853920" y="583560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3cpVDwwVlz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2519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8508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982160" y="206064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222160" y="206064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052720" y="2637000"/>
            <a:ext cx="178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,б), 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022720" y="2565360"/>
            <a:ext cx="2348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а),б),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55640" y="2205000"/>
            <a:ext cx="6301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76908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248436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102040" y="1908000"/>
            <a:ext cx="497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её так назыв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од обла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мороз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стокого солн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ур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едяной матери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3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ое задание по жел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составить кроссворд по теме «Антарктида»;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написать рассказ-сочинение «Один день в Антарктиде»;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писать стихотворение про Антарктиду;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найти стихотворения, высказывания известных людей про Антаркти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2319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.В.Душина, В.А.Коринская,В.А.Щенев. География. Материки, океаны, народы и страны. Наш дом – Земля. М.: «Дрофа»,2008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ус М.В. Природные условия Антарктиды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2.gendocs.ru/docs/index-40978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щерякова О.Н. Антарктида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zavuch.info/methodlib/142/67248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дорова Т.А. Антарктида – загадоч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й.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sportal.ru/shkola/geografiya/library/urok-antarktida-zagadochnyi-kr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6-tub-ru.yandex.net/i?id=392328809-17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3-tub-ru.yandex.net/i?id=63879093-39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3-tub-ru.yandex.net/i?id=88709119-02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8-tub-ru.yandex.net/i?id=43736540-68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»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3-tub-ru.yandex.net/i?id=177519233-50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Эребу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2-tub-ru.yandex.net/i?id=109964585-56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m7-tub-ru.yandex.net/i?id=485127811-11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6-tub-ru.yandex.net/i?id=262635912-70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im7-tub-ru.yandex.net/i?id=44913642-27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рирода Антаркид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im4-tub-ru.yandex.net/i?id=54756201-57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ази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im7-tub-ru.yandex.net/i?id=499041653-0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ази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im0-tub-ru.yandex.net/i?id=189884419-33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Оазис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8-tub-ru.yandex.net/i?id=71207694-5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Растения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3-tub-ru.yandex.net/i?id=479203085-2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Растения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6-tub-ru.yandex.net/i?id=715441468-61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Дом в Антарктиде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5-tub-ru.yandex.net/i?id=235409247-49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тицы»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4-tub-ru.yandex.net/i?id=73762663-31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тиц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2-tub-ru.yandex.net/i?id=332848407-2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тиц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m4-tub-ru.yandex.net/i?id=80632131-46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2-tub-ru.yandex.net/i?id=238969344-4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im8-tub-ru.yandex.net/i?id=313094787-42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http://im7-tub-ru.yandex.net/i?id=263775240-62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Пингвины» http://im4-tub-ru.yandex.net/i?id=3644691-40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Тюлени» http://im7-tub-ru.yandex.net/i?id=150112757-29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ской леопард» http://im3-tub-ru.yandex.net/i?id=274794741-45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ской леопард» http://im3-tub-ru.yandex.net/i?id=366549442-2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Морской слон» http://im2-tub-ru.yandex.net/i?id=558100183-23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иты» http://im3-tub-ru.yandex.net/i?id=196454215-54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ображение «Киты» http://im4-tub-ru.yandex.net/i?id=465483623-13-72&amp;n=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означают эти д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20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12.191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.01.191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57-195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211140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059280" y="4653000"/>
            <a:ext cx="2149200" cy="14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1655640" y="2205000"/>
            <a:ext cx="6301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аркти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од обла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морозов и жестокого солн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ана пур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едяной матери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1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24144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2"/>
          <a:stretch/>
        </p:blipFill>
        <p:spPr>
          <a:xfrm>
            <a:off x="684360" y="4317840"/>
            <a:ext cx="31669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Эта страна обречена природой на вечный холод: она лишена теплых солнечных лучей и погребена под мощным слоем никогда нетающего снег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2"/>
          <p:cNvPicPr/>
          <p:nvPr/>
        </p:nvPicPr>
        <p:blipFill>
          <a:blip r:embed="rId1"/>
          <a:stretch/>
        </p:blipFill>
        <p:spPr>
          <a:xfrm>
            <a:off x="5148360" y="1916280"/>
            <a:ext cx="25905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25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5508720" y="1989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80836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дяной мат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ь рельефа – ледниковый пок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толщина льда –  200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ая – 4500 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7"/>
          <p:cNvSpPr/>
          <p:nvPr/>
        </p:nvSpPr>
        <p:spPr>
          <a:xfrm>
            <a:off x="1187280" y="2276640"/>
            <a:ext cx="244800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104292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542880" y="4724280"/>
            <a:ext cx="42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 движется от цент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раям матер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 flipV="1">
            <a:off x="2340000" y="2708280"/>
            <a:ext cx="719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 flipH="1" flipV="1">
            <a:off x="2268000" y="2421000"/>
            <a:ext cx="7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 flipV="1">
            <a:off x="1547280" y="285228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 flipH="1">
            <a:off x="1619280" y="3141720"/>
            <a:ext cx="7207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234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2340000" y="3141720"/>
            <a:ext cx="863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0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378160" cy="165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1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25210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619280" y="1969920"/>
            <a:ext cx="61927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школа</cp:lastModifiedBy>
  <dcterms:modified xsi:type="dcterms:W3CDTF">2020-11-22T06:53:17Z</dcterms:modified>
  <cp:revision>60</cp:revision>
  <dc:subject/>
  <dc:title>Flash Earth </dc:title>
</cp:coreProperties>
</file>