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46D-35DE-40EC-85C4-0C0DE645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BCB-EA4A-4774-B466-DFC4685D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EC9-53DA-46B5-AA92-03936177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9CD-3CD2-45F8-BA52-DD1EC1A2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1FB-A7BC-42BF-97E0-F26C0BB4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9BD2-8B93-4D1F-ADC6-E7D52D0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BAD0-38F1-4A4E-A338-163B1F1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6921-61C0-4DC8-AB51-65B8F92E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3C98-3FE4-4205-9F98-D823DD82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BBBE-2707-4676-B199-3FD2CD97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EE2F-666E-4898-8EE9-8FE0BB3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403-C194-45D4-BD96-6D60795D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AC09-63CF-4DFA-B2D5-434B333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D53F-B293-45E8-B09F-606EAFAD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DEC9-AFB9-4C14-ADF3-70F4132D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0738-9BDD-43BC-BCD4-8A149AB9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21B-9718-48D7-AEBB-2BA5ECEF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A342-82CA-4439-99E0-7D5E977A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3017-C8FE-40EB-BC02-28D8D61F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E54B-ACD8-4F27-B039-00D98F4E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C70A-2A62-4F97-A4C5-796F8CAD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4F54-A365-4071-B605-811641F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469-2350-4B0D-B055-B6E3CC7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8E02-FBDD-47A9-AAD4-F2312884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13D9-CF67-42F1-B3AF-BA334D08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270E-2006-4D14-BA3C-1A2CC25E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8895-ADDA-4366-AFE7-C58DAE9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7941-DE25-465C-943E-EC5F9CFE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EF5C-958B-4CA4-BD52-C6F69840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AF81-955D-4D0F-9EB9-F75D895C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4D3C-E6E6-45DE-874B-B21AC45A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C0B-1DEF-42D0-9F94-A8521AE5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DC4-6849-4A24-A25F-B14D8898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C4-8CBC-4015-8849-2976BD8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070-7CC9-40FE-9FA3-F9CAED35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549-6F17-4623-9DEA-B964279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BF443A-A411-486E-8677-B01657FED05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9814ED-4764-4096-B328-FED4B7D3F6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F5B721-6D58-43B4-B622-EA1FA39A154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lokolchik116.ru/pochem.ph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6" name="Прямоугольник 4"/>
          <p:cNvSpPr/>
          <p:nvPr/>
        </p:nvSpPr>
        <p:spPr>
          <a:xfrm>
            <a:off x="683640" y="620640"/>
            <a:ext cx="734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«Центр развития ребенка - детский сад «Дружба» </a:t>
            </a:r>
            <a:br>
              <a:rPr sz="1800"/>
            </a:b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Качканар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827640" y="2277000"/>
            <a:ext cx="79923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Проект  на тему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Развитие познавательной  активности детей в эксперимент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сских И. 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Качканар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31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, С.Н. Теория и методика экологического образования детей: Учеб. пособие для студ. высш. пед. учеб. заведений. - Москва: Издательский центр «Академия», 2002. - 33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. Николаева, С.Н. Экологическое воспитание младших дошкольников. Книга для воспитателей детского сада. - Москва: Мозаика-Синтез, 2004. - 9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 Римашевская, Л.С. Теории и технологии экологического развития детей дошкольного возраста. Программа учебного курса и методические рекомендации для самостоятельной работы студентов бакалавриата.: Учебно-методическое пособие / Л.С. Римашевская, Н.О. Никонова, Т.А. Ивченко. - Москва: Центр педагогического образования, 2008. - 128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ыжова, Н.А. Воздух вокруг нас: [метод. пособие] / Н.А. Рыжова, С.И. Мусиенко. – 2-е изд. – Москва: Обруч, 2013. – 208с.: 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истема экологического воспитания в дошкольных образовательных учреждениях: информационно-методические материалы, экологизация развивающей среды детского сада, разработки занятий по разделу «Мир природы», утренники, викторины, игры.- 2-е изд., стереотип. / авт.-сост. О.Ф. Горбатенко. - Волгоград: Учитель, 2008. - 28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Федотова, А.М. Познаем окружающий мир играя: сюжетно-дидактические игры для дошкольников. – Москва: ТЦ Сфера, 2015. – 112 с. – (Библиотека Воспитателя)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Экологические стихи и сказки клубов друзей WWF. / Сост. Е. Кузнецова. - Москва: Всемирный фонд дикой природы, 2006. - 104 с.: 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Ковинько, Л.В. Секреты природы - это так интересно! - М.: Линка-Пресс, 2004. – 72с.: ил. Знакомство со свойствами обычных веществ - воды, воздуха и почвы - одно из возможных направлений экологического воспитания. </a:t>
            </a:r>
            <a:br>
              <a:rPr sz="1800"/>
            </a:br>
            <a:br>
              <a:rPr sz="16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395640" y="1268640"/>
            <a:ext cx="835272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Лента лицом вниз 6"/>
          <p:cNvSpPr/>
          <p:nvPr/>
        </p:nvSpPr>
        <p:spPr>
          <a:xfrm>
            <a:off x="899640" y="2643120"/>
            <a:ext cx="7386840" cy="1285560"/>
          </a:xfrm>
          <a:prstGeom prst="ribbon">
            <a:avLst>
              <a:gd name="adj1" fmla="val 25501"/>
              <a:gd name="adj2" fmla="val 51649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С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Лента лицом вниз 3"/>
          <p:cNvSpPr/>
          <p:nvPr/>
        </p:nvSpPr>
        <p:spPr>
          <a:xfrm>
            <a:off x="1253160" y="642960"/>
            <a:ext cx="6048360" cy="99972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539640" y="1714320"/>
            <a:ext cx="806436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нний возраст – период активного  познания окружающего мира и исследовательской деятельности ребёнка с предметным миром. В этот период познавательная активность детей – это исследовательская деятельность с различными предметами. Ребёнок исследует различные свойства предметов: форму, величину, проводит простые  причинно – следственные связи между ними, изучает  характер движений и соотношений предметов. Эти действия психологи называются орудийными или предметными,  поскольку предполагают воздействие одним предметом на другой для достижения определённого результата. Смысл действий открывает для ребёнка взрослый. Вопрос о развитии познавательной активности у детей раннего возраста посредством исследовательской деятельности всегда был и остается актуален. Ребёнок,   исследуя     различные предметы и их свойства, проводит простые причинно – следственные связи, изучает характер движений   и соотношение предметов. Тем   самым   он   формирует свой интеллектуальный и   творческий   потенци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Лента лицом вниз 3"/>
          <p:cNvSpPr/>
          <p:nvPr/>
        </p:nvSpPr>
        <p:spPr>
          <a:xfrm>
            <a:off x="1500120" y="2857320"/>
            <a:ext cx="5500440" cy="64260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  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Лента лицом вниз 4"/>
          <p:cNvSpPr/>
          <p:nvPr/>
        </p:nvSpPr>
        <p:spPr>
          <a:xfrm>
            <a:off x="1571760" y="642960"/>
            <a:ext cx="5357520" cy="64260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 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642960" y="4071960"/>
            <a:ext cx="80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 познавательного интереса у детей раннего возраста через экспериментир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ствовать к участию детей в исследованиях и обобщению результатов опы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о свойствах и качествах предмет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857160" y="150012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 познавательного интереса у детей раннего возраста через эксперимент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699640" y="5805360"/>
            <a:ext cx="354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331640" y="3717000"/>
            <a:ext cx="3600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>
            <a:off x="428760" y="428760"/>
            <a:ext cx="5655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 создания оптимальной предметно – развивающей среды: разнообразие и насыщенность, неординарность и сменяемость предметной среды, включение в неё максимального количества предметов взрослого обихода, предоставление свободы исследования, резерв свободного места и времени для разворачивания игр, возможность брать любые игрушки и действовать с ними по собственному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714840" y="4000680"/>
            <a:ext cx="492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максимального уровня размещения игрушек и материалов согласно росту, универсальность предметно – игровой среды, позволяющей играть совместно, трансформировать её в соответствии с видом игры и содержанием, учёт опыта детей, способности к комбинированию, созданию но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Почемуч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04520" y="1381320"/>
            <a:ext cx="2343600" cy="2623320"/>
          </a:xfrm>
          <a:prstGeom prst="rect">
            <a:avLst/>
          </a:prstGeom>
          <a:ln w="9525">
            <a:noFill/>
          </a:ln>
        </p:spPr>
      </p:pic>
      <p:pic>
        <p:nvPicPr>
          <p:cNvPr id="145" name="Рисунок 6" descr="http://www.kolokolchik116.ru/images/groups/c09-32.gif"/>
          <p:cNvPicPr/>
          <p:nvPr/>
        </p:nvPicPr>
        <p:blipFill>
          <a:blip r:embed="rId4"/>
          <a:stretch/>
        </p:blipFill>
        <p:spPr>
          <a:xfrm>
            <a:off x="571320" y="3286080"/>
            <a:ext cx="2935080" cy="32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8" name="Лента лицом вниз 5"/>
          <p:cNvSpPr/>
          <p:nvPr/>
        </p:nvSpPr>
        <p:spPr>
          <a:xfrm>
            <a:off x="4714920" y="1143000"/>
            <a:ext cx="3928680" cy="11836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Сухой – сыпе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Лента лицом вниз 6"/>
          <p:cNvSpPr/>
          <p:nvPr/>
        </p:nvSpPr>
        <p:spPr>
          <a:xfrm>
            <a:off x="642960" y="4857840"/>
            <a:ext cx="3714480" cy="104076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Мокрый – лепи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Users\user1\Desktop\Новая папка\image (17).jpg"/>
          <p:cNvPicPr/>
          <p:nvPr/>
        </p:nvPicPr>
        <p:blipFill>
          <a:blip r:embed="rId2"/>
          <a:stretch/>
        </p:blipFill>
        <p:spPr>
          <a:xfrm>
            <a:off x="1907640" y="2091960"/>
            <a:ext cx="371844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1512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3636000" y="2061000"/>
            <a:ext cx="496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ента лицом вниз 6"/>
          <p:cNvSpPr/>
          <p:nvPr/>
        </p:nvSpPr>
        <p:spPr>
          <a:xfrm>
            <a:off x="642960" y="5000760"/>
            <a:ext cx="3428640" cy="107136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олшебные прищеп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Лента лицом вниз 7"/>
          <p:cNvSpPr/>
          <p:nvPr/>
        </p:nvSpPr>
        <p:spPr>
          <a:xfrm>
            <a:off x="4429080" y="1143000"/>
            <a:ext cx="385740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з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ти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user1\Desktop\Новая папка\image (13).jpg"/>
          <p:cNvPicPr/>
          <p:nvPr/>
        </p:nvPicPr>
        <p:blipFill>
          <a:blip r:embed="rId2"/>
          <a:stretch/>
        </p:blipFill>
        <p:spPr>
          <a:xfrm>
            <a:off x="395640" y="1556640"/>
            <a:ext cx="3799800" cy="284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user1\Desktop\Новая папка\image (11).jpg"/>
          <p:cNvPicPr/>
          <p:nvPr/>
        </p:nvPicPr>
        <p:blipFill>
          <a:blip r:embed="rId3"/>
          <a:stretch/>
        </p:blipFill>
        <p:spPr>
          <a:xfrm>
            <a:off x="4300920" y="2399400"/>
            <a:ext cx="4408200" cy="33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0" name="Лента лицом вниз 5"/>
          <p:cNvSpPr/>
          <p:nvPr/>
        </p:nvSpPr>
        <p:spPr>
          <a:xfrm>
            <a:off x="4572000" y="1571760"/>
            <a:ext cx="421452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онструктивные превра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Лента лицом вниз 6"/>
          <p:cNvSpPr/>
          <p:nvPr/>
        </p:nvSpPr>
        <p:spPr>
          <a:xfrm>
            <a:off x="571320" y="4572000"/>
            <a:ext cx="428580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ылови шарик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ser1\Desktop\Новая папка\image (14).jpg"/>
          <p:cNvPicPr/>
          <p:nvPr/>
        </p:nvPicPr>
        <p:blipFill>
          <a:blip r:embed="rId2"/>
          <a:stretch/>
        </p:blipFill>
        <p:spPr>
          <a:xfrm>
            <a:off x="556560" y="1484640"/>
            <a:ext cx="3959640" cy="296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user1\Desktop\Новая папка\image (19).jpg"/>
          <p:cNvPicPr/>
          <p:nvPr/>
        </p:nvPicPr>
        <p:blipFill>
          <a:blip r:embed="rId3"/>
          <a:stretch/>
        </p:blipFill>
        <p:spPr>
          <a:xfrm>
            <a:off x="4811400" y="2602080"/>
            <a:ext cx="3959640" cy="29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24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9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Лента лицом вниз 10"/>
          <p:cNvSpPr/>
          <p:nvPr/>
        </p:nvSpPr>
        <p:spPr>
          <a:xfrm>
            <a:off x="714240" y="1714320"/>
            <a:ext cx="3857400" cy="7138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Мыльные пузы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Лента лицом вниз 11"/>
          <p:cNvSpPr/>
          <p:nvPr/>
        </p:nvSpPr>
        <p:spPr>
          <a:xfrm>
            <a:off x="4786200" y="1714320"/>
            <a:ext cx="3785760" cy="7138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Холодная – тепл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user1\Desktop\Новая папка\image (2).jpg"/>
          <p:cNvPicPr/>
          <p:nvPr/>
        </p:nvPicPr>
        <p:blipFill>
          <a:blip r:embed="rId2"/>
          <a:stretch/>
        </p:blipFill>
        <p:spPr>
          <a:xfrm>
            <a:off x="2552760" y="2565000"/>
            <a:ext cx="403812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500040"/>
            <a:ext cx="8229240" cy="70920"/>
          </a:xfrm>
          <a:prstGeom prst="rect">
            <a:avLst/>
          </a:prstGeom>
          <a:noFill/>
          <a:ln w="0">
            <a:noFill/>
          </a:ln>
        </p:spPr>
        <p:txBody>
          <a:bodyPr tIns="35280" bIns="3528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сенова, З.Ф. Войди в природу другом. Экологическое воспитание дошкольников. – Москва: ТЦ Сфера, 2011. – 128 с. – (Библиотека воспитателя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орькова, Л.Г. Сценарии занятий по экологическому воспитанию дошкольников (средняя, старшая, подготовительная группы) / Л.Г. Горькова, А.В. Кочергина, Л.А. Обухова. - Москва: ВАКО, 2005. – 240 с. - (Дошкольники: учим, развиваем, воспитываем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горенков, Л.И. Экологическое воспитание дошкольников и младших школьников: Пособие для родителей, педагогов и воспитателей детских дошкольных учреждений, учителей начальных классов. - Москва: АРКТИ, 2001. - 128с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винько, Л.В. Секреты природы - это так интересно! - Москва: Линка-Пресс, 2004. – 72с.: ил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опатина, А.А. Сказы матушки земли. Экологическое воспитание через сказки, стихи и творческие задания / А. А.Лопатина, М.В. Скребцова. - 2-е изд. - Москва: Амрита-Русь, 2008. - 256 с. - (Образование и творчество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уконина, Н.Н. Утренники в детском саду: Сценарии о природе / Н.Н. Луконина, Л.Е. Чадова. - Москва: Айрис- пресс, 2002. - 240с.: ил. - (Внимание, дети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азильникова, Н.Н. Эколого-валеологическое воспитание дошкольников. Организация прогулок в летний период / Н.Н. Мазильникова, С.В. Терехина. – Санкт-Петербург: ООО «ИЗДАТЕЛЬСТВО «ДЕТСТВО-ПРЕСС», 2013. – 96с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Лента лицом вниз 4"/>
          <p:cNvSpPr/>
          <p:nvPr/>
        </p:nvSpPr>
        <p:spPr>
          <a:xfrm>
            <a:off x="714240" y="500040"/>
            <a:ext cx="6929280" cy="499680"/>
          </a:xfrm>
          <a:prstGeom prst="ribbon">
            <a:avLst>
              <a:gd name="adj1" fmla="val 33333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  <Words>504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1:05:40Z</dcterms:created>
  <dc:creator>Admin</dc:creator>
  <dc:description/>
  <dc:language>en-US</dc:language>
  <cp:lastModifiedBy>TOHIDA</cp:lastModifiedBy>
  <dcterms:modified xsi:type="dcterms:W3CDTF">2020-11-17T08:35:59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