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9F8-1376-4AC1-9B1A-4902D44E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0B8-F310-47F1-9628-6D8D02F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E4A-3705-4314-943E-8E53347B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182-8C46-4B88-89E9-5A23F0AC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5BC-4752-416F-A6E2-32867C43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0B9F-C480-4AC9-AA88-B34BBD5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826-6136-4410-9996-AAC294E0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A6B3-F7F4-4171-9026-9648609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26B-302B-4AE0-8149-78A21825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4D5E-E165-4503-8B19-EA68220E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D2C6-DFC1-4135-A0BE-4A328E2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C40-1888-4B7E-892D-A28AEA4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A69-CD05-4F99-993C-9902909C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59C8-F75A-4CE6-A272-0A6EE7AF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6DE6-7507-491E-8FFC-C6A0C95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186B-A6AC-43C5-847C-18625F7A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342E-F3D0-4992-9812-4CE31A43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AA1F-E4AC-4082-AEC4-25DDBE3E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8731-5A9A-48C3-ACAF-EB8E76F0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BA35-B1FD-4D03-8278-38FCD0E1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25B2-32B3-4C4F-89D0-1949542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E6C3-790E-40B1-A22C-55BA2458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FD5-0C46-4718-A34A-B533757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83BF-4CB5-42A6-9A4E-14E01937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F3FF-E0A5-47BB-ACDE-6302783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3C77-90C8-4BAF-AF3B-531F2372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5862-A9AF-48E6-8B3B-92C7408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4577-531A-42AB-8536-9ED0F6C1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0C70-1EFA-427B-AA15-32F107E2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6454-2114-4E13-83CD-C3460964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77D-DA46-4FB8-AFF4-42D9C37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986-43A3-4A99-BC63-E4730F23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50A-3833-442F-B059-A0C627D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934-DD22-46B4-A4A3-D253B7A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32D-E0F1-4D92-9A15-4AF6C59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A40-3163-4845-941F-AE91A97A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17B45D-5567-4F08-B2BF-083930392D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81657B-F11D-4C13-BBB2-C85A95D01E9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93E5C6-53B1-4F4B-9BF1-F45BFA69829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lokolchik116.ru/pochem.ph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6" name="Прямоугольник 4"/>
          <p:cNvSpPr/>
          <p:nvPr/>
        </p:nvSpPr>
        <p:spPr>
          <a:xfrm>
            <a:off x="683640" y="620640"/>
            <a:ext cx="734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«Центр развития ребенка - детский сад «Дружба» </a:t>
            </a:r>
            <a:br>
              <a:rPr sz="1800"/>
            </a:br>
            <a:r>
              <a:rPr b="1" i="1" lang="ru-RU" sz="1800" spc="-1" strike="noStrike">
                <a:solidFill>
                  <a:srgbClr val="10243e"/>
                </a:solidFill>
                <a:latin typeface="Times New Roman"/>
              </a:rPr>
              <a:t>Качканар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827640" y="2277000"/>
            <a:ext cx="79923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Проект  на тему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«Развитие познавательной  активности детей в экспериментально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сских И. 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. Качканар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229240" cy="63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31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ева, С.Н. Теория и методика экологического образования детей: Учеб. пособие для студ. высш. пед. учеб. заведений. - Москва: Издательский центр «Академия», 2002. - 33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. Николаева, С.Н. Экологическое воспитание младших дошкольников. Книга для воспитателей детского сада. - Москва: Мозаика-Синтез, 2004. - 9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 Римашевская, Л.С. Теории и технологии экологического развития детей дошкольного возраста. Программа учебного курса и методические рекомендации для самостоятельной работы студентов бакалавриата.: Учебно-методическое пособие / Л.С. Римашевская, Н.О. Никонова, Т.А. Ивченко. - Москва: Центр педагогического образования, 2008. - 128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Рыжова, Н.А. Воздух вокруг нас: [метод. пособие] / Н.А. Рыжова, С.И. Мусиенко. – 2-е изд. – Москва: Обруч, 2013. – 208с.: 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истема экологического воспитания в дошкольных образовательных учреждениях: информационно-методические материалы, экологизация развивающей среды детского сада, разработки занятий по разделу «Мир природы», утренники, викторины, игры.- 2-е изд., стереотип. / авт.-сост. О.Ф. Горбатенко. - Волгоград: Учитель, 2008. - 286с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Федотова, А.М. Познаем окружающий мир играя: сюжетно-дидактические игры для дошкольников. – Москва: ТЦ Сфера, 2015. – 112 с. – (Библиотека Воспитателя)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Экологические стихи и сказки клубов друзей WWF. / Сост. Е. Кузнецова. - Москва: Всемирный фонд дикой природы, 2006. - 104 с.: ил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Ковинько, Л.В. Секреты природы - это так интересно! - М.: Линка-Пресс, 2004. – 72с.: ил. Знакомство со свойствами обычных веществ - воды, воздуха и почвы - одно из возможных направлений экологического воспитания. </a:t>
            </a:r>
            <a:br>
              <a:rPr sz="1800"/>
            </a:br>
            <a:br>
              <a:rPr sz="16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395640" y="1268640"/>
            <a:ext cx="835272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Лента лицом вниз 6"/>
          <p:cNvSpPr/>
          <p:nvPr/>
        </p:nvSpPr>
        <p:spPr>
          <a:xfrm>
            <a:off x="899640" y="2643120"/>
            <a:ext cx="7386840" cy="1285560"/>
          </a:xfrm>
          <a:prstGeom prst="ribbon">
            <a:avLst>
              <a:gd name="adj1" fmla="val 25501"/>
              <a:gd name="adj2" fmla="val 51649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С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Лента лицом вниз 3"/>
          <p:cNvSpPr/>
          <p:nvPr/>
        </p:nvSpPr>
        <p:spPr>
          <a:xfrm>
            <a:off x="1253160" y="642960"/>
            <a:ext cx="6048360" cy="99972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539640" y="1714320"/>
            <a:ext cx="806436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нний возраст – период активного  познания окружающего мира и исследовательской деятельности ребёнка с предметным миром. В этот период познавательная активность детей – это исследовательская деятельность с различными предметами. Ребёнок исследует различные свойства предметов: форму, величину, проводит простые  причинно – следственные связи между ними, изучает  характер движений и соотношений предметов. Эти действия психологи называются орудийными или предметными,  поскольку предполагают воздействие одним предметом на другой для достижения определённого результата. Смысл действий открывает для ребёнка взрослый. Вопрос о развитии познавательной активности у детей раннего возраста посредством исследовательской деятельности всегда был и остается актуален. Ребёнок,   исследуя     различные предметы и их свойства, проводит простые причинно – следственные связи, изучает характер движений   и соотношение предметов. Тем   самым   он   формирует свой интеллектуальный и   творческий   потенци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Лента лицом вниз 3"/>
          <p:cNvSpPr/>
          <p:nvPr/>
        </p:nvSpPr>
        <p:spPr>
          <a:xfrm>
            <a:off x="1500120" y="2857320"/>
            <a:ext cx="5500440" cy="64260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  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Лента лицом вниз 4"/>
          <p:cNvSpPr/>
          <p:nvPr/>
        </p:nvSpPr>
        <p:spPr>
          <a:xfrm>
            <a:off x="1571760" y="642960"/>
            <a:ext cx="5357520" cy="642600"/>
          </a:xfrm>
          <a:prstGeom prst="ribbon">
            <a:avLst>
              <a:gd name="adj1" fmla="val 28425"/>
              <a:gd name="adj2" fmla="val 4784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 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642960" y="4071960"/>
            <a:ext cx="80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 познавательного интереса у детей раннего возраста через экспериментир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ствовать к участию детей в исследованиях и обобщению результатов опы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ть представления о свойствах и качествах предметного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857160" y="1500120"/>
            <a:ext cx="728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тие познавательного интереса у детей раннего возраста через эксперименти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2699640" y="5805360"/>
            <a:ext cx="3549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1331640" y="3717000"/>
            <a:ext cx="3600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"/>
          <p:cNvSpPr/>
          <p:nvPr/>
        </p:nvSpPr>
        <p:spPr>
          <a:xfrm>
            <a:off x="428760" y="428760"/>
            <a:ext cx="5655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я создания оптимальной предметно – развивающей среды: разнообразие и насыщенность, неординарность и сменяемость предметной среды, включение в неё максимального количества предметов взрослого обихода, предоставление свободы исследования, резерв свободного места и времени для разворачивания игр, возможность брать любые игрушки и действовать с ними по собственному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3714840" y="4000680"/>
            <a:ext cx="492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максимального уровня размещения игрушек и материалов согласно росту, универсальность предметно – игровой среды, позволяющей играть совместно, трансформировать её в соответствии с видом игры и содержанием, учёт опыта детей, способности к комбинированию, созданию нов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Почемучк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04520" y="1381320"/>
            <a:ext cx="2343600" cy="2623320"/>
          </a:xfrm>
          <a:prstGeom prst="rect">
            <a:avLst/>
          </a:prstGeom>
          <a:ln w="9525">
            <a:noFill/>
          </a:ln>
        </p:spPr>
      </p:pic>
      <p:pic>
        <p:nvPicPr>
          <p:cNvPr id="145" name="Рисунок 6" descr="http://www.kolokolchik116.ru/images/groups/c09-32.gif"/>
          <p:cNvPicPr/>
          <p:nvPr/>
        </p:nvPicPr>
        <p:blipFill>
          <a:blip r:embed="rId4"/>
          <a:stretch/>
        </p:blipFill>
        <p:spPr>
          <a:xfrm>
            <a:off x="571320" y="3286080"/>
            <a:ext cx="2935080" cy="32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8" name="Лента лицом вниз 5"/>
          <p:cNvSpPr/>
          <p:nvPr/>
        </p:nvSpPr>
        <p:spPr>
          <a:xfrm>
            <a:off x="4714920" y="1143000"/>
            <a:ext cx="3928680" cy="11836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 Сухой – сыпе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Лента лицом вниз 6"/>
          <p:cNvSpPr/>
          <p:nvPr/>
        </p:nvSpPr>
        <p:spPr>
          <a:xfrm>
            <a:off x="642960" y="4857840"/>
            <a:ext cx="3714480" cy="104076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Мокрый – лепитс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Users\user1\Desktop\Новая папка\image (17).jpg"/>
          <p:cNvPicPr/>
          <p:nvPr/>
        </p:nvPicPr>
        <p:blipFill>
          <a:blip r:embed="rId2"/>
          <a:stretch/>
        </p:blipFill>
        <p:spPr>
          <a:xfrm>
            <a:off x="1907640" y="2091960"/>
            <a:ext cx="3718440" cy="27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1512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3636000" y="2061000"/>
            <a:ext cx="496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ента лицом вниз 6"/>
          <p:cNvSpPr/>
          <p:nvPr/>
        </p:nvSpPr>
        <p:spPr>
          <a:xfrm>
            <a:off x="642960" y="5000760"/>
            <a:ext cx="3428640" cy="107136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олшебные прищеп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Лента лицом вниз 7"/>
          <p:cNvSpPr/>
          <p:nvPr/>
        </p:nvSpPr>
        <p:spPr>
          <a:xfrm>
            <a:off x="4429080" y="1143000"/>
            <a:ext cx="385740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з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ти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C:\Users\user1\Desktop\Новая папка\image (13).jpg"/>
          <p:cNvPicPr/>
          <p:nvPr/>
        </p:nvPicPr>
        <p:blipFill>
          <a:blip r:embed="rId2"/>
          <a:stretch/>
        </p:blipFill>
        <p:spPr>
          <a:xfrm>
            <a:off x="395640" y="1556640"/>
            <a:ext cx="3799800" cy="284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user1\Desktop\Новая папка\image (11).jpg"/>
          <p:cNvPicPr/>
          <p:nvPr/>
        </p:nvPicPr>
        <p:blipFill>
          <a:blip r:embed="rId3"/>
          <a:stretch/>
        </p:blipFill>
        <p:spPr>
          <a:xfrm>
            <a:off x="4300920" y="2399400"/>
            <a:ext cx="4408200" cy="33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0" name="Лента лицом вниз 5"/>
          <p:cNvSpPr/>
          <p:nvPr/>
        </p:nvSpPr>
        <p:spPr>
          <a:xfrm>
            <a:off x="4572000" y="1571760"/>
            <a:ext cx="421452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Конструктивные превращ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Лента лицом вниз 6"/>
          <p:cNvSpPr/>
          <p:nvPr/>
        </p:nvSpPr>
        <p:spPr>
          <a:xfrm>
            <a:off x="571320" y="4572000"/>
            <a:ext cx="4285800" cy="99972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ылови шарик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Users\user1\Desktop\Новая папка\image (14).jpg"/>
          <p:cNvPicPr/>
          <p:nvPr/>
        </p:nvPicPr>
        <p:blipFill>
          <a:blip r:embed="rId2"/>
          <a:stretch/>
        </p:blipFill>
        <p:spPr>
          <a:xfrm>
            <a:off x="556560" y="1484640"/>
            <a:ext cx="3959640" cy="296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user1\Desktop\Новая папка\image (19).jpg"/>
          <p:cNvPicPr/>
          <p:nvPr/>
        </p:nvPicPr>
        <p:blipFill>
          <a:blip r:embed="rId3"/>
          <a:stretch/>
        </p:blipFill>
        <p:spPr>
          <a:xfrm>
            <a:off x="4811400" y="2602080"/>
            <a:ext cx="3959640" cy="29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24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9000"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Лента лицом вниз 10"/>
          <p:cNvSpPr/>
          <p:nvPr/>
        </p:nvSpPr>
        <p:spPr>
          <a:xfrm>
            <a:off x="714240" y="1714320"/>
            <a:ext cx="3857400" cy="7138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Мыльные пузы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Лента лицом вниз 11"/>
          <p:cNvSpPr/>
          <p:nvPr/>
        </p:nvSpPr>
        <p:spPr>
          <a:xfrm>
            <a:off x="4786200" y="1714320"/>
            <a:ext cx="3785760" cy="713880"/>
          </a:xfrm>
          <a:prstGeom prst="ribbon">
            <a:avLst>
              <a:gd name="adj1" fmla="val 16667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Холодная – тепл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user1\Desktop\Новая папка\image (2).jpg"/>
          <p:cNvPicPr/>
          <p:nvPr/>
        </p:nvPicPr>
        <p:blipFill>
          <a:blip r:embed="rId2"/>
          <a:stretch/>
        </p:blipFill>
        <p:spPr>
          <a:xfrm>
            <a:off x="2552760" y="2565000"/>
            <a:ext cx="4038120" cy="3672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Admin\Desktop\фоны - эксп\фон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500040"/>
            <a:ext cx="8229240" cy="70920"/>
          </a:xfrm>
          <a:prstGeom prst="rect">
            <a:avLst/>
          </a:prstGeom>
          <a:noFill/>
          <a:ln w="0">
            <a:noFill/>
          </a:ln>
        </p:spPr>
        <p:txBody>
          <a:bodyPr tIns="35280" bIns="3528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сенова, З.Ф. Войди в природу другом. Экологическое воспитание дошкольников. – Москва: ТЦ Сфера, 2011. – 128 с. – (Библиотека воспитателя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орькова, Л.Г. Сценарии занятий по экологическому воспитанию дошкольников (средняя, старшая, подготовительная группы) / Л.Г. Горькова, А.В. Кочергина, Л.А. Обухова. - Москва: ВАКО, 2005. – 240 с. - (Дошкольники: учим, развиваем, воспитываем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горенков, Л.И. Экологическое воспитание дошкольников и младших школьников: Пособие для родителей, педагогов и воспитателей детских дошкольных учреждений, учителей начальных классов. - Москва: АРКТИ, 2001. - 128с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винько, Л.В. Секреты природы - это так интересно! - Москва: Линка-Пресс, 2004. – 72с.: ил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опатина, А.А. Сказы матушки земли. Экологическое воспитание через сказки, стихи и творческие задания / А. А.Лопатина, М.В. Скребцова. - 2-е изд. - Москва: Амрита-Русь, 2008. - 256 с. - (Образование и творчество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уконина, Н.Н. Утренники в детском саду: Сценарии о природе / Н.Н. Луконина, Л.Е. Чадова. - Москва: Айрис- пресс, 2002. - 240с.: ил. - (Внимание, дети)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азильникова, Н.Н. Эколого-валеологическое воспитание дошкольников. Организация прогулок в летний период / Н.Н. Мазильникова, С.В. Терехина. – Санкт-Петербург: ООО «ИЗДАТЕЛЬСТВО «ДЕТСТВО-ПРЕСС», 2013. – 96с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Лента лицом вниз 4"/>
          <p:cNvSpPr/>
          <p:nvPr/>
        </p:nvSpPr>
        <p:spPr>
          <a:xfrm>
            <a:off x="714240" y="500040"/>
            <a:ext cx="6929280" cy="499680"/>
          </a:xfrm>
          <a:prstGeom prst="ribbon">
            <a:avLst>
              <a:gd name="adj1" fmla="val 33333"/>
              <a:gd name="adj2" fmla="val 50000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  <Words>504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1:05:40Z</dcterms:created>
  <dc:creator>Admin</dc:creator>
  <dc:description/>
  <dc:language>en-US</dc:language>
  <cp:lastModifiedBy>TOHIDA</cp:lastModifiedBy>
  <dcterms:modified xsi:type="dcterms:W3CDTF">2020-11-17T08:35:59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