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5B5-A788-4BE2-AA2E-09DE4C62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548-34EB-4E11-8E6A-76260AC0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9B7-83EB-43D4-93E5-33129D9C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26B-7435-4B52-9876-03FBE134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BE4C-36A6-4CAB-A422-080FC77E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B3FF-D478-4886-A587-C0903D8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75A-141C-4F7D-AA11-18214380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40A0-32E3-4947-B8FB-F5E8F27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79E8-0F0D-4A7C-875E-FE79067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2DCC-191E-4D56-96FF-707B85F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37F2-FF31-4185-B21F-10925E0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438-66F9-484E-B00C-41C0B93F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5DC-5722-494C-A1BB-13051EC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D9F8-A3FA-4483-A3C1-4A5786C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77A3-9D54-4EA3-96CB-9FD9931A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D253-ED07-4C7E-89DB-AC9737D2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3067-7035-4AE6-B0A9-4E39B288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A60-FA67-42E3-A965-3F1C1C50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374-ED27-4E65-AD06-E79D99D1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B43-2D0F-4099-8BCC-F073317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29E-D86B-49F0-B457-2817EB0C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D89-D52F-495C-8300-67D3690F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825-5D91-4964-B12E-B1F265E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213-C743-4980-B2FD-8C3E724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B552-843E-46CE-94B0-E1FC32A95CF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C931-C6EC-469A-A66C-5EA84B64F3D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ила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орожного</a:t>
            </a:r>
            <a:r>
              <a:rPr b="1" lang="ru-RU" sz="4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33cc33"/>
                </a:solidFill>
                <a:latin typeface="Tahoma"/>
              </a:rPr>
              <a:t>движения для малыш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Picture 5" descr="0_a4fe2_6fd873d0_XL"/>
          <p:cNvPicPr/>
          <p:nvPr/>
        </p:nvPicPr>
        <p:blipFill>
          <a:blip r:embed="rId1"/>
          <a:stretch/>
        </p:blipFill>
        <p:spPr>
          <a:xfrm>
            <a:off x="3235320" y="1981080"/>
            <a:ext cx="320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916360" y="2709000"/>
            <a:ext cx="606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пособ безопасный самы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ерейти дорогу с ма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ж она не подведе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с за ручку довед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о гораздо будет лучш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Если нас она науч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к без бед и по у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делать это сам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siostra"/>
          <p:cNvPicPr/>
          <p:nvPr/>
        </p:nvPicPr>
        <p:blipFill>
          <a:blip r:embed="rId1"/>
          <a:stretch/>
        </p:blipFill>
        <p:spPr>
          <a:xfrm>
            <a:off x="3924360" y="115920"/>
            <a:ext cx="3851280" cy="255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siostra"/>
          <p:cNvPicPr/>
          <p:nvPr/>
        </p:nvPicPr>
        <p:blipFill>
          <a:blip r:embed="rId2"/>
          <a:srcRect l="71155" t="64319" r="0" b="0"/>
          <a:stretch/>
        </p:blipFill>
        <p:spPr>
          <a:xfrm>
            <a:off x="395280" y="4076640"/>
            <a:ext cx="230508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svetofor"/>
          <p:cNvPicPr/>
          <p:nvPr/>
        </p:nvPicPr>
        <p:blipFill>
          <a:blip r:embed="rId3"/>
          <a:stretch/>
        </p:blipFill>
        <p:spPr>
          <a:xfrm>
            <a:off x="468360" y="3789360"/>
            <a:ext cx="2525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ltr-lc30_xl"/>
          <p:cNvPicPr/>
          <p:nvPr/>
        </p:nvPicPr>
        <p:blipFill>
          <a:blip r:embed="rId1"/>
          <a:srcRect l="2205" t="2205" r="0" b="6520"/>
          <a:stretch/>
        </p:blipFill>
        <p:spPr>
          <a:xfrm>
            <a:off x="179280" y="3284640"/>
            <a:ext cx="3527640" cy="3292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572000" y="2990880"/>
            <a:ext cx="41799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Транспорт разный на дорог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Легковой и грузово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Государственный и частный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ассажирский городс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7" descr="1277372349_101616698_1----42191--1277372349"/>
          <p:cNvPicPr/>
          <p:nvPr/>
        </p:nvPicPr>
        <p:blipFill>
          <a:blip r:embed="rId2"/>
          <a:stretch/>
        </p:blipFill>
        <p:spPr>
          <a:xfrm>
            <a:off x="179280" y="115920"/>
            <a:ext cx="5329440" cy="319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груз"/>
          <p:cNvPicPr/>
          <p:nvPr/>
        </p:nvPicPr>
        <p:blipFill>
          <a:blip r:embed="rId3"/>
          <a:srcRect l="10758" t="6047" r="4989" b="6689"/>
          <a:stretch/>
        </p:blipFill>
        <p:spPr>
          <a:xfrm>
            <a:off x="5435640" y="115920"/>
            <a:ext cx="37083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51181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ahoma"/>
              </a:rPr>
              <a:t>Спецтранспорт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250920" y="432360"/>
            <a:ext cx="35989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шат по дорогам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ашины, машины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ише ход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по дорог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пецтранспорт идёт!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Должны  уступ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се им дор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едь спешат к людя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и на подмогу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У спецмашины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ложна и трудна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Но как она людям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всюду нужна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1358"/>
          <p:cNvPicPr/>
          <p:nvPr/>
        </p:nvPicPr>
        <p:blipFill>
          <a:blip r:embed="rId1"/>
          <a:srcRect l="9598" t="26380" r="6945" b="20120"/>
          <a:stretch/>
        </p:blipFill>
        <p:spPr>
          <a:xfrm>
            <a:off x="3708360" y="3213000"/>
            <a:ext cx="5435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jkjl"/>
          <p:cNvPicPr/>
          <p:nvPr/>
        </p:nvPicPr>
        <p:blipFill>
          <a:blip r:embed="rId1"/>
          <a:stretch/>
        </p:blipFill>
        <p:spPr>
          <a:xfrm>
            <a:off x="2843280" y="2133720"/>
            <a:ext cx="5734080" cy="45115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2500920" y="257400"/>
            <a:ext cx="61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сторонитесь! Дорогу! Дорогу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Скорая помощь летит на подмогу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риказ постового: "Стоять! Хода нет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Только для "Скорой" Зеленый свет!"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miliciya(1)"/>
          <p:cNvPicPr/>
          <p:nvPr/>
        </p:nvPicPr>
        <p:blipFill>
          <a:blip r:embed="rId1"/>
          <a:stretch/>
        </p:blipFill>
        <p:spPr>
          <a:xfrm>
            <a:off x="2268360" y="2276640"/>
            <a:ext cx="6409080" cy="4273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2340000" y="160920"/>
            <a:ext cx="63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лицейская маш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Нам мелькает глазом синим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А её сирены зв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ышен далеко вокр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acp66"/>
          <p:cNvPicPr/>
          <p:nvPr/>
        </p:nvPicPr>
        <p:blipFill>
          <a:blip r:embed="rId1"/>
          <a:stretch/>
        </p:blipFill>
        <p:spPr>
          <a:xfrm>
            <a:off x="1835280" y="1916280"/>
            <a:ext cx="6900840" cy="4760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2268360" y="186840"/>
            <a:ext cx="54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Мчат пожарные машины. 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В них отважные мужч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 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Едут быстро на пожар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  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Побеждать огонь и жа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7" descr="000011"/>
          <p:cNvPicPr/>
          <p:nvPr/>
        </p:nvPicPr>
        <p:blipFill>
          <a:blip r:embed="rId1"/>
          <a:srcRect l="8618" t="2476" r="11425" b="3650"/>
          <a:stretch/>
        </p:blipFill>
        <p:spPr>
          <a:xfrm>
            <a:off x="6300720" y="189000"/>
            <a:ext cx="2665440" cy="5472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1619280" y="140760"/>
            <a:ext cx="3848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площадей и перекрестков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меня глядит в упор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 виду грозный и серьезны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олговязый светофо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 вежливый, и строгий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известен на весь мир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на улице широкий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амый главный командир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У него глаза цветные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 глаза, а три огня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Он по очереди ими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мотрит сверху на мен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его конечно знаю.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а и как его не знать!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Я отлично понимаю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Все, что хочет он сказат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33810e682165"/>
          <p:cNvPicPr/>
          <p:nvPr/>
        </p:nvPicPr>
        <p:blipFill>
          <a:blip r:embed="rId1"/>
          <a:stretch/>
        </p:blipFill>
        <p:spPr>
          <a:xfrm>
            <a:off x="1332000" y="1844640"/>
            <a:ext cx="6408720" cy="48085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395280" y="15768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олосатый переход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Пешеходов разных ждет: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коляской мама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Идет с собачкой дама, 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5003640" y="189000"/>
            <a:ext cx="3861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есет малыш иг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тарик ведет старушку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Две девочки идут, 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ашины смирно жду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2e0c04edb8fd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4788000" y="799920"/>
            <a:ext cx="396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Делаем ребятам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едостережение: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Выучите срочно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РАВИЛА ДВИЖЕНИЯ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не волнов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Каждый день родител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Чтоб спокойно мчались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Улицей водител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763280" y="1915920"/>
            <a:ext cx="6102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Презентацию подготовила Атаева Эльмира Муртазалиев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воспитат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МДОУ «Детский сад  «Огонёк» г.Нады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8" descr="62907538_474167l68h9nknqq"/>
          <p:cNvPicPr/>
          <p:nvPr/>
        </p:nvPicPr>
        <p:blipFill>
          <a:blip r:embed="rId1"/>
          <a:stretch/>
        </p:blipFill>
        <p:spPr>
          <a:xfrm>
            <a:off x="5435640" y="260280"/>
            <a:ext cx="3529080" cy="135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62907538_474167l68h9nknqq"/>
          <p:cNvPicPr/>
          <p:nvPr/>
        </p:nvPicPr>
        <p:blipFill>
          <a:blip r:embed="rId2"/>
          <a:stretch/>
        </p:blipFill>
        <p:spPr>
          <a:xfrm rot="16200000">
            <a:off x="-429840" y="4903920"/>
            <a:ext cx="2448000" cy="939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62907538_474167l68h9nknqq"/>
          <p:cNvPicPr/>
          <p:nvPr/>
        </p:nvPicPr>
        <p:blipFill>
          <a:blip r:embed="rId3"/>
          <a:stretch/>
        </p:blipFill>
        <p:spPr>
          <a:xfrm>
            <a:off x="1763640" y="476280"/>
            <a:ext cx="2087640" cy="801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62907538_474167l68h9nknqq"/>
          <p:cNvPicPr/>
          <p:nvPr/>
        </p:nvPicPr>
        <p:blipFill>
          <a:blip r:embed="rId4"/>
          <a:stretch/>
        </p:blipFill>
        <p:spPr>
          <a:xfrm>
            <a:off x="7093080" y="5419800"/>
            <a:ext cx="1942920" cy="74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62907538_474167l68h9nknqq"/>
          <p:cNvPicPr/>
          <p:nvPr/>
        </p:nvPicPr>
        <p:blipFill>
          <a:blip r:embed="rId5"/>
          <a:stretch/>
        </p:blipFill>
        <p:spPr>
          <a:xfrm>
            <a:off x="2627280" y="5950080"/>
            <a:ext cx="28814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915920"/>
            <a:ext cx="300060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Изучаем правила дорожного движения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4" descr="1293397147_dorozhn-fon"/>
          <p:cNvPicPr/>
          <p:nvPr/>
        </p:nvPicPr>
        <p:blipFill>
          <a:blip r:embed="rId1"/>
          <a:stretch/>
        </p:blipFill>
        <p:spPr>
          <a:xfrm>
            <a:off x="4227480" y="333360"/>
            <a:ext cx="4743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684360" y="864360"/>
            <a:ext cx="3743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егулирует движ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ложное приспособленье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Под названьем СВЕТОФ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Светит ярко он нам с вами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Разноцветными огнями, </a:t>
            </a:r>
            <a:br>
              <a:rPr sz="2800"/>
            </a:br>
            <a:r>
              <a:rPr b="1" lang="ru-RU" sz="2800" spc="-1" strike="noStrike">
                <a:solidFill>
                  <a:srgbClr val="66ccff"/>
                </a:solidFill>
                <a:latin typeface="Tahoma"/>
              </a:rPr>
              <a:t>И про них наш разгово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5003640" y="307800"/>
            <a:ext cx="3616560" cy="63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468360" y="1579680"/>
            <a:ext cx="439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Загорелся </a:t>
            </a: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красный Свет,</a:t>
            </a: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Это значит – хода нет.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ветофор сигналит строго: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«Не ходите на дорогу!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5132520" y="463680"/>
            <a:ext cx="38955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6135813_imgi7196w640"/>
          <p:cNvPicPr/>
          <p:nvPr/>
        </p:nvPicPr>
        <p:blipFill>
          <a:blip r:embed="rId1"/>
          <a:srcRect l="14443" t="2839" r="30758" b="3078"/>
          <a:stretch/>
        </p:blipFill>
        <p:spPr>
          <a:xfrm>
            <a:off x="5878440" y="189000"/>
            <a:ext cx="2828880" cy="6480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2050920" y="777600"/>
            <a:ext cx="288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Если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желтый свет горит</a:t>
            </a: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,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Tahoma"/>
              </a:rPr>
              <a:t>Подождать он нам велит.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zheltyi-signal-svetofora-0000950235-preview"/>
          <p:cNvPicPr/>
          <p:nvPr/>
        </p:nvPicPr>
        <p:blipFill>
          <a:blip r:embed="rId2"/>
          <a:srcRect l="13644" t="14360" r="9856" b="11920"/>
          <a:stretch/>
        </p:blipFill>
        <p:spPr>
          <a:xfrm>
            <a:off x="250920" y="4365720"/>
            <a:ext cx="19209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"/>
          <p:cNvSpPr/>
          <p:nvPr/>
        </p:nvSpPr>
        <p:spPr>
          <a:xfrm>
            <a:off x="250920" y="271080"/>
            <a:ext cx="460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А когда </a:t>
            </a:r>
            <a:r>
              <a:rPr b="1" lang="ru-RU" sz="4000" spc="-1" strike="noStrike">
                <a:solidFill>
                  <a:srgbClr val="33cc33"/>
                </a:solidFill>
                <a:latin typeface="Tahoma"/>
              </a:rPr>
              <a:t>горит зелёный,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Это значит – путь свободный.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Светофор вам говорит: 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Tahoma"/>
              </a:rPr>
              <a:t>«Переход для вас открыт!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1"/>
          <a:srcRect l="0" t="13823" r="0" b="13823"/>
          <a:stretch/>
        </p:blipFill>
        <p:spPr>
          <a:xfrm>
            <a:off x="4865760" y="1052640"/>
            <a:ext cx="4227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339e42e7119a6a4eb028cc49458a0c8f6dad4488218811"/>
          <p:cNvPicPr/>
          <p:nvPr/>
        </p:nvPicPr>
        <p:blipFill>
          <a:blip r:embed="rId1"/>
          <a:srcRect l="25907" t="0" r="24384" b="-1512"/>
          <a:stretch/>
        </p:blipFill>
        <p:spPr>
          <a:xfrm>
            <a:off x="6012000" y="189000"/>
            <a:ext cx="2714400" cy="554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1476360" y="835560"/>
            <a:ext cx="403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У любого перекрёстка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Нас встречает светофор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И заводит очень просто </a:t>
            </a:r>
            <a:br>
              <a:rPr sz="3200"/>
            </a:br>
            <a:r>
              <a:rPr b="1" lang="ru-RU" sz="3200" spc="-1" strike="noStrike">
                <a:solidFill>
                  <a:srgbClr val="66ccff"/>
                </a:solidFill>
                <a:latin typeface="Tahoma"/>
              </a:rPr>
              <a:t>С пешеходом разговор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356000" y="115560"/>
            <a:ext cx="417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Полосатая лошад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вам подскажет на пут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Где дорогу перейти... </a:t>
            </a:r>
            <a:br>
              <a:rPr sz="2800"/>
            </a:br>
            <a:r>
              <a:rPr b="1" lang="ru-RU" sz="1400" spc="-1" strike="noStrike">
                <a:solidFill>
                  <a:srgbClr val="66ccff"/>
                </a:solidFill>
                <a:latin typeface="Tahoma"/>
              </a:rPr>
              <a:t>(Пешеходный переход - "Зебра") </a:t>
            </a:r>
            <a:br>
              <a:rPr sz="1400"/>
            </a:b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1"/>
          <p:cNvPicPr/>
          <p:nvPr/>
        </p:nvPicPr>
        <p:blipFill>
          <a:blip r:embed="rId1"/>
          <a:srcRect l="5914" t="3751" r="4014" b="1748"/>
          <a:stretch/>
        </p:blipFill>
        <p:spPr>
          <a:xfrm>
            <a:off x="1403280" y="115920"/>
            <a:ext cx="26496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50920" y="460044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330026694634_66125_peshexod-2"/>
          <p:cNvPicPr/>
          <p:nvPr/>
        </p:nvPicPr>
        <p:blipFill>
          <a:blip r:embed="rId2"/>
          <a:stretch/>
        </p:blipFill>
        <p:spPr>
          <a:xfrm>
            <a:off x="5076720" y="2637000"/>
            <a:ext cx="391644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7"/>
          <p:cNvSpPr/>
          <p:nvPr/>
        </p:nvSpPr>
        <p:spPr>
          <a:xfrm>
            <a:off x="250920" y="2842920"/>
            <a:ext cx="39607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 пути ребят – дорога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ранспорт ездит быстро, много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Светофора рядом нет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Знак дорожный даст совет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Надо, чуть вперед пройти,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Там, где «Зебра» на пути.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«Пешеходный переход» –</a:t>
            </a:r>
            <a:br>
              <a:rPr sz="2000"/>
            </a:br>
            <a:r>
              <a:rPr b="1" lang="ru-RU" sz="2000" spc="-1" strike="noStrike">
                <a:solidFill>
                  <a:srgbClr val="66ccff"/>
                </a:solidFill>
                <a:latin typeface="Tahoma"/>
              </a:rPr>
              <a:t>Можно двигаться вперед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ccff"/>
                </a:solidFill>
                <a:latin typeface="Tahoma"/>
              </a:rPr>
              <a:t>«ПЕШЕХОДНЫЙ ПЕРЕХОД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844280"/>
            <a:ext cx="3432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Это очень важный знак,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Он висит не просто так.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Будь внимательней, шофер!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Рядом садик, школьный двор.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ru-RU" sz="2400" spc="-1" strike="noStrike">
                <a:solidFill>
                  <a:srgbClr val="66ccff"/>
                </a:solidFill>
                <a:latin typeface="Tahoma"/>
              </a:rPr>
              <a:t>(Предупреждающий знак «Дети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vnimanie deti"/>
          <p:cNvPicPr/>
          <p:nvPr/>
        </p:nvPicPr>
        <p:blipFill>
          <a:blip r:embed="rId1"/>
          <a:srcRect l="6280" t="1598" r="4252" b="764"/>
          <a:stretch/>
        </p:blipFill>
        <p:spPr>
          <a:xfrm>
            <a:off x="3780000" y="620640"/>
            <a:ext cx="5113080" cy="446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etia-148"/>
          <p:cNvPicPr/>
          <p:nvPr/>
        </p:nvPicPr>
        <p:blipFill>
          <a:blip r:embed="rId2"/>
          <a:stretch/>
        </p:blipFill>
        <p:spPr>
          <a:xfrm>
            <a:off x="1187280" y="189000"/>
            <a:ext cx="156384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5:19:09Z</dcterms:created>
  <dc:creator>й</dc:creator>
  <dc:description/>
  <dc:language>en-US</dc:language>
  <cp:lastModifiedBy>PB</cp:lastModifiedBy>
  <dcterms:modified xsi:type="dcterms:W3CDTF">2020-11-22T09:57:49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