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0FB4-253C-43E6-93A5-35B6E72E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9F48-47FD-444E-8B86-0A1860B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289D-39B7-4096-A927-96E580F6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6220-7620-4A5F-B430-8655B062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E45-38B1-40F6-A04F-4A2814EA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19E-1917-42D8-8E69-9BF06143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5B7-D789-4A8F-8B24-F00D51F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9615-8884-4BF0-ABBD-B6B2CA1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8DB2-1191-435D-877A-2FE69A04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FD0F-B00B-43F3-A9CB-9ACE06DD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0D18-6069-4B11-A2EE-7E8B989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1504-A750-49BE-83CD-EBC8AAC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B9A-239C-44E2-A39D-56B31E0B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2373-57F1-4A8C-B5D6-C4221FE8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350A-0FB0-40B9-BCE2-AD79140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4307-37AC-44D4-9DAB-9712E25F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636-CC79-49D0-A63A-E991E66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E57E-E4AA-44B1-B8D3-3BD55F2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A940-8662-4D39-8E7E-8639B6D7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05A0-73BB-4473-B6A9-1D1E2415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4D47-1EDD-496B-8D76-A518E76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4853-7067-4990-8E23-13A0CC44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D4C2-EBE3-4C9E-9B6D-68CC2B05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4048-7F8B-45BB-8D6D-C01BCD9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96B-66EA-4B31-85CB-AE3D174507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A19-1429-4374-A934-B642AA4910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ыкальный сказочни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19640" y="4797000"/>
            <a:ext cx="4752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дготовила учитель музыки ГБОУ СОШ №5 Василеостровского района города Санкт-Петербурга Блинова Марин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о время революции 1905 года Римский-Корсаков уволился из консерватории в пользу бастующих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246240" y="1773360"/>
            <a:ext cx="8651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иколай Римский-Корсаков композитор-сказоч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0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.А. Римский-Корсаков сочинил 15 опер. Из них 9 созданы на сказочные сюжеты. Друзья называли его композитором-сказочн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p_F"/>
          <p:cNvPicPr/>
          <p:nvPr/>
        </p:nvPicPr>
        <p:blipFill>
          <a:blip r:embed="rId1"/>
          <a:stretch/>
        </p:blipFill>
        <p:spPr>
          <a:xfrm>
            <a:off x="4441680" y="1484280"/>
            <a:ext cx="365940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очь перед рождеств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12" descr="57d5170985f97ea36a3564f7615faa44_604x360"/>
          <p:cNvPicPr/>
          <p:nvPr/>
        </p:nvPicPr>
        <p:blipFill>
          <a:blip r:embed="rId1"/>
          <a:stretch/>
        </p:blipFill>
        <p:spPr>
          <a:xfrm>
            <a:off x="730080" y="1401840"/>
            <a:ext cx="76838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7"/>
          <p:cNvSpPr/>
          <p:nvPr/>
        </p:nvSpPr>
        <p:spPr>
          <a:xfrm>
            <a:off x="885240" y="333360"/>
            <a:ext cx="68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Сказке о царе Салтан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9" descr="0007-008-Opera-Skazka-o-tsare-Saltane-o-syne-ego-slavnom-i-moguchem-Gvidone"/>
          <p:cNvPicPr/>
          <p:nvPr/>
        </p:nvPicPr>
        <p:blipFill>
          <a:blip r:embed="rId1"/>
          <a:stretch/>
        </p:blipFill>
        <p:spPr>
          <a:xfrm>
            <a:off x="285840" y="1413000"/>
            <a:ext cx="8031240" cy="511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негуроч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15" descr="snegyroshka_01"/>
          <p:cNvPicPr/>
          <p:nvPr/>
        </p:nvPicPr>
        <p:blipFill>
          <a:blip r:embed="rId1"/>
          <a:stretch/>
        </p:blipFill>
        <p:spPr>
          <a:xfrm>
            <a:off x="755640" y="1789200"/>
            <a:ext cx="76327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Садко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11" descr="Chaliapin F. (&amp;SHcy;&amp;acy;&amp;lcy;&amp;yacy;&amp;pcy;&amp;icy;&amp;ncy; &amp;Fcy;. &amp;Icy;.) 1898 as varyag in Sadko.jpg"/>
          <p:cNvPicPr/>
          <p:nvPr/>
        </p:nvPicPr>
        <p:blipFill>
          <a:blip r:embed="rId1"/>
          <a:stretch/>
        </p:blipFill>
        <p:spPr>
          <a:xfrm>
            <a:off x="2463840" y="1268280"/>
            <a:ext cx="4060800" cy="5040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251160" cy="37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«Кащей Бессмертный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10" descr="&amp;Icy;&amp;vcy;&amp;acy;&amp;ncy; &amp;IEcy;&amp;rcy;&amp;shcy;&amp;ocy;&amp;vcy; &amp;vcy; &amp;rcy;&amp;ocy;&amp;lcy;&amp;icy; &amp;Kcy;&amp;acy;&amp;shchcy;&amp;iecy;&amp;yacy;.jpg"/>
          <p:cNvPicPr/>
          <p:nvPr/>
        </p:nvPicPr>
        <p:blipFill>
          <a:blip r:embed="rId1"/>
          <a:stretch/>
        </p:blipFill>
        <p:spPr>
          <a:xfrm>
            <a:off x="3924360" y="549360"/>
            <a:ext cx="4176720" cy="605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Arial"/>
              </a:rPr>
              <a:t>«Золотой петушо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13" descr="&amp;Ocy;&amp;pcy;&amp;iecy;&amp;rcy;&amp;acy; «&amp;Zcy;&amp;ocy;&amp;lcy;&amp;ocy;&amp;tcy;&amp;ocy;&amp;jcy; &amp;pcy;&amp;iecy;&amp;tcy;&amp;ucy;&amp;shcy;&amp;ocy;&amp;kcy;»"/>
          <p:cNvPicPr/>
          <p:nvPr/>
        </p:nvPicPr>
        <p:blipFill>
          <a:blip r:embed="rId1"/>
          <a:stretch/>
        </p:blipFill>
        <p:spPr>
          <a:xfrm>
            <a:off x="1584360" y="1700280"/>
            <a:ext cx="5975280" cy="4781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имфоническая сюита «Шехеразад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Рисунок 2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7451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kinopoisk"/>
          <p:cNvPicPr/>
          <p:nvPr/>
        </p:nvPicPr>
        <p:blipFill>
          <a:blip r:embed="rId1"/>
          <a:stretch/>
        </p:blipFill>
        <p:spPr>
          <a:xfrm>
            <a:off x="3924360" y="260280"/>
            <a:ext cx="5079960" cy="638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93400"/>
            <a:ext cx="3600720" cy="558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иколай Андреевич Римский-Корсаков (1844-1908) русский композитор, педагог, дирижер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имский-Корсаков родился в городе Тихвин в дворянской семь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596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17808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ольшое влияние на будущего композитора оказал его старший брат, Воин Андреевич (1822-1871), морской офицер и будущий контр-адмира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3924360" y="692280"/>
            <a:ext cx="5056200" cy="59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1856 году отец отдал мечтавшего о путешествиях Николая в Морской кадетский корпус в Санкт-Петербурге (Набережная лейтенанта Шмидта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1324080" y="2276640"/>
            <a:ext cx="64846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322800" cy="437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ардемарин Николай Римский-Корса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39859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0320" y="18864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иколай с отличием окончил Морской корпус и был принят на морскую службу. С 1862 по 1865 год он служил на клипере «Алмаз», участвовавшем в экспедиции к берегам Северной Амер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857160" y="1844640"/>
            <a:ext cx="7485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огучая кучк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Рисунок 2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3790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 1871 года стал профессором Санкт-Петербургской консерватории, где преподавал классы практического сочинения, инструментовки и оркестровки 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925560" y="1844640"/>
            <a:ext cx="72835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7:21:24Z</dcterms:created>
  <dc:creator>Tanechka</dc:creator>
  <dc:description/>
  <dc:language>en-US</dc:language>
  <cp:lastModifiedBy>mks</cp:lastModifiedBy>
  <dcterms:modified xsi:type="dcterms:W3CDTF">2020-11-22T14:38:54Z</dcterms:modified>
  <cp:revision>18</cp:revision>
  <dc:subject/>
  <dc:title>               Презентация по музыке                                 на тему:  «Николай Римский-Корсаков-композитор-сказочник».  ученицы 7 класса «Б» средней школы №635 Соловьёвой Александры</dc:title>
</cp:coreProperties>
</file>