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9C0-CA6A-41D8-AB7F-D5F2E1BA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516-0ED0-4098-B404-8788BA11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4C0-6097-4B38-A18F-FBCE8E27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4C4-0492-45A4-902A-3EC9B12F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33E6-FC52-43EC-924C-716F1D2D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5360-2E1B-47B9-A139-D48879EE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5804-7B5A-415C-BF1B-95E7C437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D68C-0400-4DDE-8D3E-B395C58E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F7EC-81CA-4443-BCCA-063789B9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AED6-96DD-4058-BB60-0B42952F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0771-ECE3-427A-B440-D12FB579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BD0-6F9D-4E56-8CA7-F578721D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7BF8-8DDB-434A-9C8F-D6EF8131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0881-E175-4108-91B3-6C37279B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7C21-49C1-4859-B4C0-E26DB5A7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C767-5452-40FA-A0D5-E8196881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3FD7-4852-4AC3-AC12-6CB66F39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0CA-7031-43DC-95F7-9E796B5A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521-146B-4387-A41B-FF0F7715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6F4-3150-4A0F-A4F2-714E60EA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103-3614-4974-B657-0A5CFC67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7CE-7CF4-43EC-B783-6026002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827-8A10-4E30-8600-2AF43046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60F-2136-40AD-AB86-EE6B5F10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91F4-9788-4584-9BD3-DD9D793DE0F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cc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cc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17D2-12B5-49A7-961E-97F1C7290A9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ГБОУ СОШ № 382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асносельского района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г. Санкт-Петербур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Разработчик: Воспитатель ГПД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Сидорова Валентина Петровн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нял кверху две руки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зял две жилы в кулаки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Дай дорогу, постов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бегу по мостовой!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676600" cy="1998720"/>
          </a:xfrm>
          <a:prstGeom prst="rect">
            <a:avLst/>
          </a:prstGeom>
          <a:ln w="0">
            <a:noFill/>
          </a:ln>
        </p:spPr>
      </p:pic>
      <p:sp>
        <p:nvSpPr>
          <p:cNvPr id="141" name="WordArt 5"/>
          <p:cNvSpPr txBox="1"/>
          <p:nvPr/>
        </p:nvSpPr>
        <p:spPr>
          <a:xfrm>
            <a:off x="1828800" y="5335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ли землетрясение застало вас на улице, нужно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жать домой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ойти на открытое место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сть в машин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 вести себя при смерче или урагане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ятаться в укрытие (подвал, погреб, под мостом)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терегаться оборванных электрических проводо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таться на открытом мест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838080" y="380880"/>
            <a:ext cx="7353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ные стихийные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дствия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79440" cy="669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7391520" y="4495680"/>
            <a:ext cx="379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ли вы оказались в завале, нужно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мотреть себя, убрать острые обломки, звать на помощь, когда слышны голоса спасателей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омко кричать, паниковать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чего не делать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то нужно сделать человеку, попавшему в снежную лавину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цепляться за неподвижные предметы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бросать лыжные палки, лыжи, рюкзаки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рыть нос и рот от снег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380880" y="3808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ные стихийные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дствия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8305920" y="1981080"/>
            <a:ext cx="379440" cy="66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7162920" y="5105520"/>
            <a:ext cx="379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 охраны и порядка, куда необходимо обратиться в случае опасности.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тический прибор для лечения близорукости у школьников.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дна из причин возникновения селей. Одна из причин возникновения лавин.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асает от усталости, лени, сонливости, улучшает работу мозга, помогает оставаться бодрым и сильным.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сокая волна на море.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2514600" y="3808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>
                    <a:alpha val="76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иц  турнир</a:t>
            </a:r>
            <a:endParaRPr b="0" lang="en-US" sz="1800" spc="1" strike="noStrike">
              <a:ln w="0">
                <a:noFill/>
              </a:ln>
              <a:solidFill>
                <a:srgbClr val="339966">
                  <a:alpha val="76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 Орган охраны и порядка, куда необходимо обратиться в случае опасности. 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М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илиц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 Оптический прибор для лечения близорукости у школьников.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О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чк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    Одна из причин возникновения селей.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Л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ивень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    Одна из причин возникновения лавин.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О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бвал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.   Спасает от усталости, лени, сонливости, улучшает работу мозга, помогает оставаться бодрым и сильным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Д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вижение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.     Высокая волна на море.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Ц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унам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8120" y="304920"/>
            <a:ext cx="32004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>
                    <a:alpha val="76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иц  турнир</a:t>
            </a:r>
            <a:endParaRPr b="0" lang="en-US" sz="1800" spc="1" strike="noStrike">
              <a:ln w="0">
                <a:noFill/>
              </a:ln>
              <a:solidFill>
                <a:srgbClr val="339966">
                  <a:alpha val="76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6477120" y="5105520"/>
            <a:ext cx="112392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1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143000" y="2819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99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380880" y="2057400"/>
            <a:ext cx="8305920" cy="16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6" descr="23"/>
          <p:cNvPicPr/>
          <p:nvPr/>
        </p:nvPicPr>
        <p:blipFill>
          <a:blip r:embed="rId1"/>
          <a:stretch/>
        </p:blipFill>
        <p:spPr>
          <a:xfrm>
            <a:off x="990720" y="533520"/>
            <a:ext cx="1330200" cy="1581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03"/>
          <p:cNvPicPr/>
          <p:nvPr/>
        </p:nvPicPr>
        <p:blipFill>
          <a:blip r:embed="rId2"/>
          <a:stretch/>
        </p:blipFill>
        <p:spPr>
          <a:xfrm>
            <a:off x="6095880" y="3809880"/>
            <a:ext cx="1317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3"/>
          <p:cNvSpPr txBox="1"/>
          <p:nvPr/>
        </p:nvSpPr>
        <p:spPr>
          <a:xfrm>
            <a:off x="1981080" y="129528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762120" y="2362320"/>
            <a:ext cx="7543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«Безопасность  и  мы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3" name="Picture 16" descr="e32"/>
          <p:cNvPicPr/>
          <p:nvPr/>
        </p:nvPicPr>
        <p:blipFill>
          <a:blip r:embed="rId1"/>
          <a:stretch/>
        </p:blipFill>
        <p:spPr>
          <a:xfrm>
            <a:off x="6477120" y="4267080"/>
            <a:ext cx="21906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37335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квартире прорвало трубу. Что ты будешь делать прежде всего?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ts val="3098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тавить все как есть до прихода родителей – это дело взрослы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ts val="3098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вернуть вентиль и позвонить родителям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ts val="3098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йти из квартиры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1752480" y="6094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ГОНЬ,  ВОДА  И  Г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3"/>
          <a:stretch/>
        </p:blipFill>
        <p:spPr>
          <a:xfrm>
            <a:off x="6095880" y="2819520"/>
            <a:ext cx="379440" cy="6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4"/>
          <a:stretch/>
        </p:blipFill>
        <p:spPr>
          <a:xfrm>
            <a:off x="6934320" y="5257800"/>
            <a:ext cx="379440" cy="669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2"/>
          <p:cNvSpPr/>
          <p:nvPr/>
        </p:nvSpPr>
        <p:spPr>
          <a:xfrm>
            <a:off x="457200" y="1219320"/>
            <a:ext cx="8153280" cy="20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Что необходимы сделать прежде всего, если в доме   неожиданно начался пожар?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ts val="3098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бежать;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ts val="3098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кричать, позвать на помощь;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ts val="3098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звать пожарников по телефону 01.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Что нужно сразу сделать, если ты почувствовал в доме запах газа?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рыть окно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вонить в газовую службу 04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жечь спичку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990720" y="533520"/>
            <a:ext cx="6781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ГОНЬ,  ВОДА  И  Г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379440" cy="669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3962520"/>
            <a:ext cx="79246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Что ты должен сделать, если почувствовал в доме дым?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ужно посмотреть, где и что горит, вызвать  пожарных по номеру 01; 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крыть дверь и заткнуть щели мокрыми тряпками;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обращать внимания.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4114800" y="5029200"/>
            <a:ext cx="379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-main-pic" descr="Картинка 28 из 12774"/>
          <p:cNvPicPr/>
          <p:nvPr/>
        </p:nvPicPr>
        <p:blipFill>
          <a:blip r:embed="rId1"/>
          <a:srcRect l="34613" t="9119" r="5371" b="29518"/>
          <a:stretch/>
        </p:blipFill>
        <p:spPr>
          <a:xfrm>
            <a:off x="5562720" y="2286000"/>
            <a:ext cx="2889000" cy="2227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 такое тротуар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рога для движения пешеход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 такое зебра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метка дороги, обозначающа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шеходный переход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609480" y="45720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1000"/>
                  </a:srgbClr>
                </a:solidFill>
                <a:latin typeface="Arial"/>
              </a:rPr>
              <a:t>Правила поведения на дорог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1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чему нельзя переходить улицу при желтом сигнале светофор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которые автомобили продолжают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вижение по перекрестк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 должен поступить пешеход, если он не успел закончить переход на разрешающий сигнал светофор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йти до середины проезжей части и ждать там, пока н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горится зеленый сигнал светофор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609480" y="45720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1000"/>
                  </a:srgbClr>
                </a:solidFill>
                <a:latin typeface="Arial"/>
              </a:rPr>
              <a:t>Правила поведения на дорог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29" name="Picture 7" descr="http://im8-tub.yandex.net/i?id=24331702&amp;tov=8"/>
          <p:cNvPicPr/>
          <p:nvPr/>
        </p:nvPicPr>
        <p:blipFill>
          <a:blip r:embed="rId1"/>
          <a:stretch/>
        </p:blipFill>
        <p:spPr>
          <a:xfrm>
            <a:off x="6705720" y="1828800"/>
            <a:ext cx="19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т по рельсам мчит машина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ржится за провод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 не надо ей бензина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бы мчать туда сюд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2438280" y="533520"/>
            <a:ext cx="434340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9048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j0197731"/>
          <p:cNvPicPr/>
          <p:nvPr/>
        </p:nvPicPr>
        <p:blipFill>
          <a:blip r:embed="rId1"/>
          <a:stretch/>
        </p:blipFill>
        <p:spPr>
          <a:xfrm>
            <a:off x="4495680" y="4183200"/>
            <a:ext cx="3861000" cy="18507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5"/>
          <p:cNvSpPr txBox="1"/>
          <p:nvPr/>
        </p:nvSpPr>
        <p:spPr>
          <a:xfrm>
            <a:off x="1981080" y="45720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 за чудо этот дом!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ассажиров много в нем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увь носит из резины,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 питается бензином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сется и стреляет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рчит скороговоркой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амваю не угнаться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 этой тараторкой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7" name="Picture 6" descr="j0251871"/>
          <p:cNvPicPr/>
          <p:nvPr/>
        </p:nvPicPr>
        <p:blipFill>
          <a:blip r:embed="rId1"/>
          <a:stretch/>
        </p:blipFill>
        <p:spPr>
          <a:xfrm>
            <a:off x="5105520" y="3687840"/>
            <a:ext cx="3581280" cy="23288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2362320" y="457200"/>
            <a:ext cx="4647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20-11-22T13:38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