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FDA-1852-4449-B0E9-9D0D19B9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7D3-F947-474B-9D1A-1B6A4A32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FEC-6804-405E-A437-2ABD2533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660-F263-4BBB-9BCA-918FEBD7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2605-0054-4F13-B5B9-CCFD7458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EC79-1848-48C0-BF99-88C335D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A5E1-008F-48BC-842D-5DCC7CCF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3273-43EC-4FF3-8610-D2BEC05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988-0F96-4681-B103-1F74EE53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3BB2-2E6E-4449-B65F-75BE1DF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83F3-3C4D-43F3-83C1-B59E05C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E87-3822-486C-BE00-28BE147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DD69-3602-450E-BACB-00DFB68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950B-096B-47B7-ACCD-91CB1B2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9A2E-63A0-4C07-94E9-FBC525CD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91B6-AD25-4938-9871-946FE3E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5826-33A5-42DA-A880-D5FD2CE9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9B1-6E53-45A1-8351-5CF77F4A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EBE-436B-4402-8C22-C0DFED2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3CB-A14F-4CE0-B466-F911B77E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95B-7A84-4489-96F0-70998DF0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7C6-E149-4235-B9D1-E5C24BD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FC2-F50E-4535-B025-C2AAB15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6BA-6EE7-446E-91FD-8BD4304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C76-5339-42D3-ABB6-B1EA26548A5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c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c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6CC-4299-466B-99F0-7AE914244BC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ГБОУ СОШ № 382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асносельского района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г. Санкт-Петербу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Разработчик: Воспитатель ГПД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Сидорова Валентина Петровн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нял кверху две руки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зял две жилы в кулаки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Дай дорогу, постов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бегу по мостовой!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676600" cy="19987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1828800" y="5335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ли землетрясение застало вас на улице, нужно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жать домо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ойти на открытое место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сть в машин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 вести себя при смерче или урагане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ятаться в укрытие (подвал, погреб, под мостом)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терегаться оборванных электрических проводов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таться на открытом месте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838080" y="380880"/>
            <a:ext cx="7353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ые стихийны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дствия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79440" cy="669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7391520" y="4495680"/>
            <a:ext cx="379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ли вы оказались в завале, нужно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мотреть себя, убрать острые обломки, звать на помощь, когда слышны голоса спасателей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омко кричать, паниковать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чего не делат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то нужно сделать человеку, попавшему в снежную лавину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цепляться за неподвижные предметы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бросать лыжные палки, лыжи, рюкзаки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рыть нос и рот от снег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380880" y="38088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ые стихийные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дствия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305920" y="1981080"/>
            <a:ext cx="379440" cy="66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7162920" y="5105520"/>
            <a:ext cx="379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 охраны и порядка, куда необходимо обратиться в случае опасности.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тический прибор для лечения близорукости у школьников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дна из причин возникновения селей. Одна из причин возникновения лавин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асает от усталости, лени, сонливости, улучшает работу мозга, помогает оставаться бодрым и сильным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cc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сокая волна на море.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2514600" y="3808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>
                    <a:alpha val="7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иц  турнир</a:t>
            </a:r>
            <a:endParaRPr b="0" lang="en-US" sz="1800" spc="1" strike="noStrike">
              <a:ln w="0">
                <a:noFill/>
              </a:ln>
              <a:solidFill>
                <a:srgbClr val="339966">
                  <a:alpha val="7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Орган охраны и порядка, куда необходимо обратиться в случае опасности. 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М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илиц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 Оптический прибор для лечения близорукости у школьников.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О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чк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    Одна из причин возникновения селей.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Л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ивень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    Одна из причин возникновения лавин.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О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бвал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.   Спасает от усталости, лени, сонливости, улучшает работу мозга, помогает оставаться бодрым и сильным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Д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вижение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.     Высокая волна на море.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cc00ff"/>
                </a:solidFill>
                <a:latin typeface="Tahoma"/>
              </a:rPr>
              <a:t>Ц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унам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8120" y="304920"/>
            <a:ext cx="32004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>
                    <a:alpha val="7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иц  турнир</a:t>
            </a:r>
            <a:endParaRPr b="0" lang="en-US" sz="1800" spc="1" strike="noStrike">
              <a:ln w="0">
                <a:noFill/>
              </a:ln>
              <a:solidFill>
                <a:srgbClr val="339966">
                  <a:alpha val="7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6477120" y="5105520"/>
            <a:ext cx="112392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143000" y="2819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380880" y="2057400"/>
            <a:ext cx="8305920" cy="16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6" descr="23"/>
          <p:cNvPicPr/>
          <p:nvPr/>
        </p:nvPicPr>
        <p:blipFill>
          <a:blip r:embed="rId1"/>
          <a:stretch/>
        </p:blipFill>
        <p:spPr>
          <a:xfrm>
            <a:off x="990720" y="533520"/>
            <a:ext cx="1330200" cy="1581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03"/>
          <p:cNvPicPr/>
          <p:nvPr/>
        </p:nvPicPr>
        <p:blipFill>
          <a:blip r:embed="rId2"/>
          <a:stretch/>
        </p:blipFill>
        <p:spPr>
          <a:xfrm>
            <a:off x="6095880" y="3809880"/>
            <a:ext cx="131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3"/>
          <p:cNvSpPr txBox="1"/>
          <p:nvPr/>
        </p:nvSpPr>
        <p:spPr>
          <a:xfrm>
            <a:off x="1981080" y="129528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762120" y="2362320"/>
            <a:ext cx="7543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«Безопасность  и  мы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3" name="Picture 16" descr="e32"/>
          <p:cNvPicPr/>
          <p:nvPr/>
        </p:nvPicPr>
        <p:blipFill>
          <a:blip r:embed="rId1"/>
          <a:stretch/>
        </p:blipFill>
        <p:spPr>
          <a:xfrm>
            <a:off x="6477120" y="4267080"/>
            <a:ext cx="21906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37335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квартире прорвало трубу. Что ты будешь делать прежде всего?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ts val="3098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тавить все как есть до прихода родителей – это дело взрослы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ts val="3098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вернуть вентиль и позвонить родителям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ts val="3098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йти из квартиры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1752480" y="6094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ГОНЬ,  ВОДА  И  Г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6095880" y="2819520"/>
            <a:ext cx="379440" cy="6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4"/>
          <a:stretch/>
        </p:blipFill>
        <p:spPr>
          <a:xfrm>
            <a:off x="6934320" y="5257800"/>
            <a:ext cx="379440" cy="669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457200" y="1219320"/>
            <a:ext cx="8153280" cy="20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то необходимы сделать прежде всего, если в доме   неожиданно начался пожар?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ts val="3098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бежать;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ts val="3098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кричать, позвать на помощь;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ts val="3098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звать пожарников по телефону 01.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то нужно сразу сделать, если ты почувствовал в доме запах газа?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рыть окно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вонить в газовую службу 04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жечь спичку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990720" y="533520"/>
            <a:ext cx="6781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ГОНЬ,  ВОДА  И  Г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379440" cy="669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3962520"/>
            <a:ext cx="79246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Что ты должен сделать, если почувствовал в доме дым?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ужно посмотреть, где и что горит, вызвать  пожарных по номеру 01; 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крыть дверь и заткнуть щели мокрыми тряпками;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 обращать внимания.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4114800" y="5029200"/>
            <a:ext cx="379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-main-pic" descr="Картинка 28 из 12774"/>
          <p:cNvPicPr/>
          <p:nvPr/>
        </p:nvPicPr>
        <p:blipFill>
          <a:blip r:embed="rId1"/>
          <a:srcRect l="34613" t="9119" r="5371" b="29518"/>
          <a:stretch/>
        </p:blipFill>
        <p:spPr>
          <a:xfrm>
            <a:off x="5562720" y="2286000"/>
            <a:ext cx="2889000" cy="2227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такое тротуар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рога для движения пешехо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такое зебра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метка дороги, обозначающа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шеходный переход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609480" y="4572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latin typeface="Arial"/>
              </a:rPr>
              <a:t>Правила поведения на дорог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чему нельзя переходить улицу при желтом сигнале светофор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которые автомобили продолжают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ижение по перекрестк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 должен поступить пешеход, если он не успел закончить переход на разрешающий сигнал светофор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йти до середины проезжей части и ждать там, пока н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орится зеленый сигнал светофор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609480" y="45720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latin typeface="Arial"/>
              </a:rPr>
              <a:t>Правила поведения на дорог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29" name="Picture 7" descr="http://im8-tub.yandex.net/i?id=24331702&amp;tov=8"/>
          <p:cNvPicPr/>
          <p:nvPr/>
        </p:nvPicPr>
        <p:blipFill>
          <a:blip r:embed="rId1"/>
          <a:stretch/>
        </p:blipFill>
        <p:spPr>
          <a:xfrm>
            <a:off x="6705720" y="1828800"/>
            <a:ext cx="19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т по рельсам мчит машина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ржится за прово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 не надо ей бензина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бы мчать туда сю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438280" y="533520"/>
            <a:ext cx="43434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9048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0197731"/>
          <p:cNvPicPr/>
          <p:nvPr/>
        </p:nvPicPr>
        <p:blipFill>
          <a:blip r:embed="rId1"/>
          <a:stretch/>
        </p:blipFill>
        <p:spPr>
          <a:xfrm>
            <a:off x="4495680" y="4183200"/>
            <a:ext cx="3861000" cy="18507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"/>
          <p:cNvSpPr txBox="1"/>
          <p:nvPr/>
        </p:nvSpPr>
        <p:spPr>
          <a:xfrm>
            <a:off x="1981080" y="4572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то за чудо этот дом!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ссажиров много в нем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увь носит из резины,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 питается бензином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сется и стреляет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рчит скороговоркой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амваю не угнаться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 этой тараторкой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7" name="Picture 6" descr="j0251871"/>
          <p:cNvPicPr/>
          <p:nvPr/>
        </p:nvPicPr>
        <p:blipFill>
          <a:blip r:embed="rId1"/>
          <a:stretch/>
        </p:blipFill>
        <p:spPr>
          <a:xfrm>
            <a:off x="5105520" y="3687840"/>
            <a:ext cx="3581280" cy="23288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2362320" y="45720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20-11-22T13:38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