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E2F8-AE53-4456-8CE7-93686BCC2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0385-18AB-4BD4-A94B-D666AC3F01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5E47-986D-42DF-BFEC-E57C36CD18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932D-DDCF-407F-ADE3-B72034E375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1389-BE1A-4B44-9DD8-3D94455E8D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FBD9-BF90-445A-81D4-AA1EBD12EC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71B2-40B6-4F1C-B3E2-2451BBD956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273C-0706-4659-B07A-2A4DF967FB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0479-9D22-4C9F-82F7-C8F9FF38D6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5780-021B-44FB-AA13-7271D63A77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1EF6-5D76-49A3-B7F9-B8A7E7F4D0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6ECF-A761-4C9C-AA34-315127AEBF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6AB9-F159-45F6-B80E-018B9B29CA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0DBB-746E-4C44-96BE-1AB87B12E1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Нормальны лишь те люди, которых мы не слишком хорошо знаем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1616"/>
                </a:solidFill>
                <a:uFillTx/>
                <a:latin typeface="Microsoft Sans Serif"/>
              </a:rPr>
              <a:t>Джо Ансис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   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В этом безумном мире всё нормально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1616"/>
                </a:solidFill>
                <a:uFillTx/>
                <a:latin typeface="Microsoft Sans Serif"/>
              </a:rPr>
              <a:t>Аркадий Давидович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  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Когда идиотизма становится слишком много, он становится нормой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1616"/>
                </a:solidFill>
                <a:uFillTx/>
                <a:latin typeface="Microsoft Sans Serif"/>
              </a:rPr>
              <a:t>Дмитрий Спивак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— 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Существуют нормы одежды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— 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А кто их устанавливает? Если б нормы предписывали вплетать в волосы живую селёдку, соблюдала бы ты их?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 </a:t>
            </a:r>
            <a:r>
              <a:rPr b="0" lang="ru-RU" sz="2000" spc="-1" strike="noStrike" u="sng">
                <a:solidFill>
                  <a:srgbClr val="161616"/>
                </a:solidFill>
                <a:uFillTx/>
                <a:latin typeface="Microsoft Sans Serif"/>
              </a:rPr>
              <a:t>Алиса в Стране Чудес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icrosoft Sans Serif"/>
              </a:rPr>
              <a:t>ОТКЛОНЯЮЩЕЕСЯ (ДЕВИАНТНОЕ) - ЭТО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67" name="Топ 10 Невероятных фактов о самом неприличном. Нормы поведения.mp4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icrosoft Sans Serif"/>
              </a:rPr>
              <a:t>ТЕСТ ПО ТЕМЕ «СОЦИАЛЬНЫЕ НОРМЫ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828800" y="14479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3a3a"/>
                </a:solidFill>
                <a:latin typeface="Microsoft Sans Serif"/>
              </a:rPr>
              <a:t>1. Что является примером моральной нормы?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1) Чистить зубы нужно два раза в день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 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2) Безбилетный проезд в общественном транспорте наказывается штрафом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 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3) На новоселье первой в квартиру должна зайти кошк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4) Нельзя бросать друга в трудной жизненной ситуации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a3a3a"/>
                </a:solidFill>
                <a:latin typeface="Microsoft Sans Serif"/>
              </a:rPr>
              <a:t>2. Соотнесите примеры социальных норм и их виды. Ответ запишите в виде последовательности цифр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52120" y="16002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a3a3a"/>
                </a:solidFill>
                <a:uFillTx/>
                <a:latin typeface="Microsoft Sans Serif"/>
              </a:rPr>
              <a:t>ПРИМЕРЫ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3a3a"/>
                </a:solidFill>
                <a:latin typeface="Microsoft Sans Serif"/>
              </a:rPr>
              <a:t>А)  </a:t>
            </a:r>
            <a:r>
              <a:rPr b="0" lang="ru-RU" sz="1800" spc="-1" strike="noStrike">
                <a:solidFill>
                  <a:srgbClr val="3a3a3a"/>
                </a:solidFill>
                <a:latin typeface="Microsoft Sans Serif"/>
              </a:rPr>
              <a:t>Старшеклассники помогли ученику первого класса найти потерянные вещи.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3a3a"/>
                </a:solidFill>
                <a:latin typeface="Microsoft Sans Serif"/>
              </a:rPr>
              <a:t>Б)  </a:t>
            </a:r>
            <a:r>
              <a:rPr b="0" lang="ru-RU" sz="1800" spc="-1" strike="noStrike">
                <a:solidFill>
                  <a:srgbClr val="3a3a3a"/>
                </a:solidFill>
                <a:latin typeface="Microsoft Sans Serif"/>
              </a:rPr>
              <a:t>Ежегодно в школе проходит театральный фестиваль.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3a3a"/>
                </a:solidFill>
                <a:latin typeface="Microsoft Sans Serif"/>
              </a:rPr>
              <a:t>В) </a:t>
            </a:r>
            <a:r>
              <a:rPr b="0" lang="ru-RU" sz="1800" spc="-1" strike="noStrike">
                <a:solidFill>
                  <a:srgbClr val="3a3a3a"/>
                </a:solidFill>
                <a:latin typeface="Microsoft Sans Serif"/>
              </a:rPr>
              <a:t>Несовершеннолетний К. устроился на работу в каникулы, чтобы помочь родителям собрать деньги на лечение сестры.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3a3a"/>
                </a:solidFill>
                <a:latin typeface="Microsoft Sans Serif"/>
              </a:rPr>
              <a:t>Г) </a:t>
            </a:r>
            <a:r>
              <a:rPr b="0" lang="ru-RU" sz="1800" spc="-1" strike="noStrike">
                <a:solidFill>
                  <a:srgbClr val="3a3a3a"/>
                </a:solidFill>
                <a:latin typeface="Microsoft Sans Serif"/>
              </a:rPr>
              <a:t>По выходным вся семья собирается на воскресный обед.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3a3a"/>
                </a:solidFill>
                <a:latin typeface="Microsoft Sans Serif"/>
              </a:rPr>
              <a:t>Д) </a:t>
            </a:r>
            <a:r>
              <a:rPr b="0" lang="ru-RU" sz="1800" spc="-1" strike="noStrike">
                <a:solidFill>
                  <a:srgbClr val="3a3a3a"/>
                </a:solidFill>
                <a:latin typeface="Microsoft Sans Serif"/>
              </a:rPr>
              <a:t>Школьники после уроков помогают пожилым людям по хозяйству.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451"/>
              </a:spcBef>
              <a:buClr>
                <a:srgbClr val="3a3a3a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943600" y="1600200"/>
            <a:ext cx="2819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a3a3a"/>
                </a:solidFill>
                <a:uFillTx/>
                <a:latin typeface="Microsoft Sans Serif"/>
              </a:rPr>
              <a:t>ВИДЫ СОЦИАЛЬНЫХ НОРМ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3a3a"/>
                </a:solidFill>
                <a:latin typeface="Microsoft Sans Serif"/>
              </a:rPr>
              <a:t>1) </a:t>
            </a:r>
            <a:r>
              <a:rPr b="0" lang="ru-RU" sz="2400" spc="-1" strike="noStrike">
                <a:solidFill>
                  <a:srgbClr val="3a3a3a"/>
                </a:solidFill>
                <a:latin typeface="Microsoft Sans Serif"/>
              </a:rPr>
              <a:t>нормы морали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3a3a"/>
                </a:solidFill>
                <a:latin typeface="Microsoft Sans Serif"/>
              </a:rPr>
              <a:t>2) </a:t>
            </a:r>
            <a:r>
              <a:rPr b="0" lang="ru-RU" sz="2400" spc="-1" strike="noStrike">
                <a:solidFill>
                  <a:srgbClr val="3a3a3a"/>
                </a:solidFill>
                <a:latin typeface="Microsoft Sans Serif"/>
              </a:rPr>
              <a:t>традиции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3a3a3a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3. Верны ли следующие суждения о социальных нормах?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66320" y="11430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Microsoft Sans Serif"/>
              </a:rPr>
              <a:t>А. Участие родителей в воспитании детей является социальной нормой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Microsoft Sans Serif"/>
              </a:rPr>
              <a:t>Б. Социальные нормы вырабатываются, как правило, экономической элитой общества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4. Верны ли следующие суждения?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Microsoft Sans Serif"/>
              </a:rPr>
              <a:t>А. Отклоняющееся поведение связано с несоблюдением общественных норм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Microsoft Sans Serif"/>
              </a:rPr>
              <a:t>Б. Одна из причин отклоняющегося поведения человека – негативное влияние ближайшего окружения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161616"/>
                </a:solidFill>
                <a:latin typeface="Microsoft Sans Serif"/>
              </a:rPr>
              <a:t>Учёные опросили 25-летних и 60-летних жителей страны Z. Им задавали вопрос: «С чем, по вашему мнению, связано отклоняющееся поведение людей?» </a:t>
            </a:r>
            <a:r>
              <a:rPr b="1" lang="ru-RU" sz="1600" spc="-1" strike="noStrike">
                <a:solidFill>
                  <a:srgbClr val="161616"/>
                </a:solidFill>
                <a:latin typeface="Microsoft Sans Serif"/>
              </a:rPr>
              <a:t>Результаты опроса (в % от числа опрошенных) представлены в таблице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371600"/>
          <a:ext cx="9144000" cy="5334120"/>
        </p:xfrm>
        <a:graphic>
          <a:graphicData uri="http://schemas.openxmlformats.org/drawingml/2006/table">
            <a:tbl>
              <a:tblPr/>
              <a:tblGrid>
                <a:gridCol w="6432480"/>
                <a:gridCol w="1473120"/>
                <a:gridCol w="12384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Причины отклоняющегося по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-лет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-лет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</a:tr>
              <a:tr h="11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a3a3a"/>
                          </a:solidFill>
                          <a:latin typeface="Microsoft Sans Serif"/>
                        </a:rPr>
                        <a:t>Некоторые люди генетически предрасположены к отклоняющемуся поведению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a3a3a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a3a3a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114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a3a3a"/>
                          </a:solidFill>
                          <a:latin typeface="Microsoft Sans Serif"/>
                        </a:rPr>
                        <a:t>Отклоняющееся поведение является следствием психологических качеств, черт характер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a3a3a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a3a3a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a3a3a"/>
                          </a:solidFill>
                          <a:latin typeface="Microsoft Sans Serif"/>
                        </a:rPr>
                        <a:t>Отклоняющееся поведение связано с социальными условиями жизни челове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a3a3a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a3a3a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a3a3a"/>
                          </a:solidFill>
                          <a:latin typeface="Microsoft Sans Serif"/>
                        </a:rPr>
                        <a:t>Человек случайно попадает в «плохую» компанию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a3a3a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a3a3a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5. Напишите номера правильных суждений, относящихся к таблице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33720" y="129528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1) Наименьшие доли опрошенных в обеих группах видит причину в случайном влиянии «плохой компании»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2) Наибольшие доли опрошенных каждой группы считает, что отклоняющееся поведение связано с социальными условиями жизни человек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3) Доля тех, кто видит генетические причины отклоняющегося поведения, выше среди 60-летних, чем среди 25-летних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4) Одинаковая доля опрошенных в обеих группах считает, что отклоняющееся поведение является следствием психологических черт характера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5) Доля тех, кто считает, что социальные условия определяют отклоняющееся поведение человека, выше среди 60-летних, чем среди 25-летних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6. Напишите номера правильных суждений, относящихся к таблице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904760" y="1371600"/>
            <a:ext cx="6933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a3a3a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1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Независимо от возраста большинство опрошенных связывают отклоняющееся  поведение с социальными факторами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2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Молодёжь считает отклоняющееся поведение случайным стечением обстоятельств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3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Люди старшего возраста считают, что социальное неравенство заставляет человека демонстрировать отклоняющееся поведение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4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Опрошенные обеих групп указывают на особую роль социальных условий в формировании поведения человек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5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Люди старшего возраста более, чем молодёжь, склонны объяснять отклоняющееся поведение генетической предрасположенностью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9250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7. Считается, что если молодожёны повесят на решетку моста замочек, то их брак будет счастливым. Во многих городах есть особые места, куда приезжают молодые пары в день свадьбы. Этот пример иллюстрирует действие норм:</a:t>
            </a:r>
            <a:br>
              <a:rPr sz="2400"/>
            </a:b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 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320040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1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этикета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2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морали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3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традиции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4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права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8. Верны ли следующие суждения об отклоняющемся поведении?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А. К возможным причинам отклоняющегося поведения относят особенности характера человека, его восприятие мира, жизненных целей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Б. К возможным причинам отклоняющегося поведения относят влияние ближайшего социального окружения, условия жизни человек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924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9. Родители учат сына: «Если при встрече тебя спросили: "Как дела?", – это не означает, что нужно подробно о них рассказывать». Так родители рассказывают сыну о правилах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6668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icrosoft Sans Serif"/>
              </a:rPr>
              <a:t>  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1)  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науки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2)  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религии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3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морали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4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этикета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990720" y="5867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47" name="Прямоугольник 5" descr=""/>
          <p:cNvPicPr/>
          <p:nvPr/>
        </p:nvPicPr>
        <p:blipFill>
          <a:blip r:embed="rId2"/>
          <a:stretch/>
        </p:blipFill>
        <p:spPr>
          <a:xfrm>
            <a:off x="281160" y="79200"/>
            <a:ext cx="874692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icrosoft Sans Serif"/>
              </a:rPr>
              <a:t>ОТВЕТЫ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828800" y="14479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3a3a"/>
                </a:solidFill>
                <a:latin typeface="Microsoft Sans Serif"/>
              </a:rPr>
              <a:t>1. Что является примером моральной нормы?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0" lang="ru-RU" sz="2000" spc="-1" strike="noStrike">
                <a:solidFill>
                  <a:srgbClr val="ff0000"/>
                </a:solidFill>
                <a:latin typeface="Microsoft Sans Serif"/>
              </a:rPr>
              <a:t> </a:t>
            </a:r>
            <a:r>
              <a:rPr b="0" lang="ru-RU" sz="2000" spc="-1" strike="noStrike">
                <a:solidFill>
                  <a:srgbClr val="ff0000"/>
                </a:solidFill>
                <a:latin typeface="Microsoft Sans Serif"/>
              </a:rPr>
              <a:t>4) Нельзя бросать друга в трудной жизненной ситуации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437920" y="1600200"/>
            <a:ext cx="6324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3a3a"/>
                </a:solidFill>
                <a:latin typeface="Microsoft Sans Serif"/>
              </a:rPr>
              <a:t>2. Соотнесите примеры социальных норм и их виды. Ответ запишите в виде последовательности цифр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Microsoft Sans Serif"/>
              </a:rPr>
              <a:t>12121</a:t>
            </a:r>
            <a:endParaRPr b="0" lang="en-US" sz="8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001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3. Верны ли следующие суждения о социальных нормах?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240" y="99072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А. Участие родителей в воспитании детей является социальной нормой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Б. Социальные нормы вырабатываются, как правило, экономической элитой обществ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icrosoft Sans Serif"/>
              </a:rPr>
              <a:t>ВЕРНО ТОЛЬКО А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4. Верны ли следующие суждения?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А. Отклоняющееся поведение связано с несоблюдением общественных норм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Б. Одна из причин отклоняющегося поведения человека – негативное влияние ближайшего окружения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icrosoft Sans Serif"/>
              </a:rPr>
              <a:t>ВЕРНЫ ОБА ОТВЕТА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Microsoft Sans Serif"/>
              </a:rPr>
              <a:t>5. Напишите номера правильных суждений, относящихся к таблице.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2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Наибольшие доли опрошенных каждой группы считает, что отклоняющееся поведение связано с социальными условиями жизни человек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3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Доля тех, кто видит генетические причины отклоняющегося поведения, выше среди 60-летних, чем среди 25-летних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4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Одинаковая доля опрошенных в обеих группах считает, что отклоняющееся поведение является следствием психологических черт характера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icrosoft Sans Serif"/>
              </a:rPr>
              <a:t>234</a:t>
            </a:r>
            <a:endParaRPr b="0" lang="en-US" sz="66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3a3a"/>
                </a:solidFill>
                <a:latin typeface="Microsoft Sans Serif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Microsoft Sans Serif"/>
              </a:rPr>
              <a:t>6. Напишите номера правильных суждений, относящихся к таблице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04760" y="1371600"/>
            <a:ext cx="6933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a3a3a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1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Независимо от возраста большинство опрошенных связывают отклоняющееся  поведение с социальными факторами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4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Опрошенные обеих групп указывают на особую роль социальных условий в формировании поведения человек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5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Люди старшего возраста более, чем молодёжь, склонны объяснять отклоняющееся поведение генетической предрасположенностью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icrosoft Sans Serif"/>
              </a:rPr>
              <a:t>145</a:t>
            </a:r>
            <a:endParaRPr b="0" lang="en-US" sz="6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9250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7. Считается, что если молодожёны повесят на решетку моста замочек, то их брак будет счастливым. Во многих городах есть особые места, куда приезжают молодые пары в день свадьбы. Этот пример иллюстрирует действие норм:</a:t>
            </a:r>
            <a:br>
              <a:rPr sz="2400"/>
            </a:b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 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320040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icrosoft Sans Serif"/>
              </a:rPr>
              <a:t>3) </a:t>
            </a:r>
            <a:r>
              <a:rPr b="0" lang="ru-RU" sz="2000" spc="-1" strike="noStrike">
                <a:solidFill>
                  <a:srgbClr val="ff0000"/>
                </a:solidFill>
                <a:latin typeface="Microsoft Sans Serif"/>
              </a:rPr>
              <a:t>традиции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8. Верны ли следующие суждения об отклоняющемся поведении?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А. К возможным причинам отклоняющегося поведения относят особенности характера человека, его восприятие мира, жизненных целей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Б. К возможным причинам отклоняющегося поведения относят влияние ближайшего социального окружения, условия жизни человек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icrosoft Sans Serif"/>
              </a:rPr>
              <a:t>ВЕРНЫ ОБА ОТВЕТА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924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9. Родители учат сына: «Если при встрече тебя спросили: "Как дела?", – это не означает, что нужно подробно о них рассказывать». Так родители рассказывают сыну о правилах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icrosoft Sans Serif"/>
              </a:rPr>
              <a:t>  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icrosoft Sans Serif"/>
              </a:rPr>
              <a:t>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 </a:t>
            </a:r>
            <a:r>
              <a:rPr b="1" lang="ru-RU" sz="2000" spc="-1" strike="noStrike">
                <a:solidFill>
                  <a:srgbClr val="ff0000"/>
                </a:solidFill>
                <a:latin typeface="Microsoft Sans Serif"/>
              </a:rPr>
              <a:t>4) </a:t>
            </a:r>
            <a:r>
              <a:rPr b="0" lang="ru-RU" sz="2000" spc="-1" strike="noStrike">
                <a:solidFill>
                  <a:srgbClr val="ff0000"/>
                </a:solidFill>
                <a:latin typeface="Microsoft Sans Serif"/>
              </a:rPr>
              <a:t>этикета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c2c2c"/>
                </a:solidFill>
                <a:latin typeface="Microsoft Sans Serif"/>
              </a:rPr>
              <a:t>АВТОР ПРЕЗЕНТАЦИИ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2c"/>
                </a:solidFill>
                <a:latin typeface="Microsoft Sans Serif"/>
              </a:rPr>
              <a:t>ЯКОВЛЕВА Н. В., 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2c"/>
                </a:solidFill>
                <a:latin typeface="Microsoft Sans Serif"/>
              </a:rPr>
              <a:t>учитель истории и обществознания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2c"/>
                </a:solidFill>
                <a:latin typeface="Microsoft Sans Serif"/>
              </a:rPr>
              <a:t>ГБОУ СОШ № 303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2c"/>
                </a:solidFill>
                <a:latin typeface="Microsoft Sans Serif"/>
              </a:rPr>
              <a:t>Фрунзенского района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2c"/>
                </a:solidFill>
                <a:latin typeface="Microsoft Sans Serif"/>
              </a:rPr>
              <a:t>Г. Санкт-Петербург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Microsoft Sans Serif"/>
              </a:rPr>
              <a:t>ПЛАН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1.  Понятие «социальные нормы»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2.  Виды социальных норм.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.  Сходства и различия моральных и правовых норм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4. Отклоняющееся поведение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icrosoft Sans Serif"/>
              </a:rPr>
              <a:t>СОЦИАЛЬНЫЕ НОРМЫ - ЭТО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514600" y="243828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Arial"/>
              </a:rPr>
              <a:t>это правила поведения человека в обществе, которые установились благодаря общественным отношениям и сознательной человеческ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55" name="Picture 2" descr="http://centr-intellect.ru/wp-content/uploads/2016/06/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icrosoft Sans Serif"/>
              </a:rPr>
              <a:t>МОРАЛЬНЫЕ  НОРМЫ - ЭТО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2514600" y="2438280"/>
            <a:ext cx="60199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Arial"/>
              </a:rPr>
              <a:t>это правила поведения, </a:t>
            </a:r>
            <a:r>
              <a:rPr b="0" lang="ru-RU" sz="2800" spc="-1" strike="noStrike">
                <a:solidFill>
                  <a:srgbClr val="3a3a3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a3a3a"/>
                </a:solidFill>
                <a:latin typeface="Arial"/>
              </a:rPr>
              <a:t>в которых выражаются представления людей о хорошем и плохом, добре и з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a3a3a"/>
                </a:solidFill>
                <a:uFillTx/>
                <a:latin typeface="Arial"/>
              </a:rPr>
              <a:t>Приведите при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a3a3a"/>
                </a:solidFill>
                <a:uFillTx/>
                <a:latin typeface="Arial"/>
              </a:rPr>
              <a:t>Золотое правило мора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icrosoft Sans Serif"/>
              </a:rPr>
              <a:t>ПРАВОВЫЕ  НОРМЫ - ЭТО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формально определенные правила поведения, установленные государством. закрепленные в письменном виде (законах), поддерживаемые силой государства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ttps://enter361.files.wordpress.com/2011/11/blacks.jpg"/>
          <p:cNvPicPr/>
          <p:nvPr/>
        </p:nvPicPr>
        <p:blipFill>
          <a:blip r:embed="rId2"/>
          <a:stretch/>
        </p:blipFill>
        <p:spPr>
          <a:xfrm>
            <a:off x="0" y="914400"/>
            <a:ext cx="502920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interesno.cc/uploads/title/201606/image_1487718578.jpg"/>
          <p:cNvPicPr/>
          <p:nvPr/>
        </p:nvPicPr>
        <p:blipFill>
          <a:blip r:embed="rId3"/>
          <a:stretch/>
        </p:blipFill>
        <p:spPr>
          <a:xfrm>
            <a:off x="3429000" y="3276720"/>
            <a:ext cx="556272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a3a3a"/>
                </a:solidFill>
                <a:uFillTx/>
                <a:latin typeface="Microsoft Sans Serif"/>
              </a:rPr>
              <a:t>ЧТО ОБЪЕДИНЯЕТ ЭТИ ИЗОБРАЖЕНИЯ?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icrosoft Sans Serif"/>
              </a:rPr>
              <a:t>ОТКЛОНЯЮЩЕЕСЯ (ДЕВИАНТНОЕ) - ЭТО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28800" y="16002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социальное поведение, не соответствующее имеющимся в обществе нормам, принятых значительной частью людей в группе или сообществе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Windows User</cp:lastModifiedBy>
  <dcterms:modified xsi:type="dcterms:W3CDTF">2019-04-20T16:22:20Z</dcterms:modified>
  <cp:revision>461</cp:revision>
  <dc:subject/>
  <dc:title>Name of presentation</dc:title>
</cp:coreProperties>
</file>