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7B81-7012-4DD4-A705-5AC798BBE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8C3-E69F-4A62-98DE-634EEC3300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5C42-BD5A-4039-A4FE-BA92A5F94F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D9DD-6435-4783-B41E-2EDBF94688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B525-0382-4492-AED8-99EFFC92A8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4020-F525-4182-AE1D-FAE75595C6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D139-8DAE-411B-8975-09137AC3D5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FB4A-60A8-4FBD-817C-C4081CBCC9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BE6C-ED7B-4907-85BC-3A3D6EF178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F7BD-F9E6-48FD-94FC-2304978F3F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E3BD-2327-495B-8575-37583C07E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B169-9606-405C-B55E-8EC66BEEA5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B461-CFCA-4D4D-9290-99C3B865B7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76D3-A204-4A9F-9876-A20FE50C0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ормальны лишь те люди, которых мы не слишком хорошо знаем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1616"/>
                </a:solidFill>
                <a:uFillTx/>
                <a:latin typeface="Microsoft Sans Serif"/>
              </a:rPr>
              <a:t>Джо Ансис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 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В этом безумном мире всё нормально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1616"/>
                </a:solidFill>
                <a:uFillTx/>
                <a:latin typeface="Microsoft Sans Serif"/>
              </a:rPr>
              <a:t>Аркадий Давидович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Когда идиотизма становится слишком много, он становится нормо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1616"/>
                </a:solidFill>
                <a:uFillTx/>
                <a:latin typeface="Microsoft Sans Serif"/>
              </a:rPr>
              <a:t>Дмитрий Спивак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—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Существуют нормы одежд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—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 кто их устанавливает? Если б нормы предписывали вплетать в волосы живую селёдку, соблюдала бы ты их?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</a:t>
            </a:r>
            <a:r>
              <a:rPr b="0" lang="ru-RU" sz="2000" spc="-1" strike="noStrike" u="sng">
                <a:solidFill>
                  <a:srgbClr val="161616"/>
                </a:solidFill>
                <a:uFillTx/>
                <a:latin typeface="Microsoft Sans Serif"/>
              </a:rPr>
              <a:t>Алиса в Стране Чудес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ОТКЛОНЯЮЩЕЕСЯ (ДЕВИАНТНОЕ)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67" name="Топ 10 Невероятных фактов о самом неприличном. Нормы поведения.mp4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ТЕСТ ПО ТЕМЕ «СОЦИАЛЬНЫЕ НОРМЫ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828800" y="14479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3a3a"/>
                </a:solidFill>
                <a:latin typeface="Microsoft Sans Serif"/>
              </a:rPr>
              <a:t>1. Что является примером моральной нормы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1) Чистить зубы нужно два раза в день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2) Безбилетный проезд в общественном транспорте наказывается штрафом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3) На новоселье первой в квартиру должна зайти кош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4) Нельзя бросать друга в трудной жизненной ситуации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a3a3a"/>
                </a:solidFill>
                <a:latin typeface="Microsoft Sans Serif"/>
              </a:rPr>
              <a:t>2. Соотнесите примеры социальных норм и их виды. Ответ запишите в виде последовательности цифр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120" y="16002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a3a3a"/>
                </a:solidFill>
                <a:uFillTx/>
                <a:latin typeface="Microsoft Sans Serif"/>
              </a:rPr>
              <a:t>ПРИМЕРЫ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А)  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Старшеклассники помогли ученику первого класса найти потерянные вещи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Б)  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Ежегодно в школе проходит театральный фестиваль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В) 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Несовершеннолетний К. устроился на работу в каникулы, чтобы помочь родителям собрать деньги на лечение сестры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Г) 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По выходным вся семья собирается на воскресный обед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3a3a"/>
                </a:solidFill>
                <a:latin typeface="Microsoft Sans Serif"/>
              </a:rPr>
              <a:t>Д) 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Школьники после уроков помогают пожилым людям по хозяйству.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451"/>
              </a:spcBef>
              <a:buClr>
                <a:srgbClr val="3a3a3a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943600" y="1600200"/>
            <a:ext cx="2819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a3a3a"/>
                </a:solidFill>
                <a:uFillTx/>
                <a:latin typeface="Microsoft Sans Serif"/>
              </a:rPr>
              <a:t>ВИДЫ СОЦИАЛЬНЫХ НОРМ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3a3a"/>
                </a:solidFill>
                <a:latin typeface="Microsoft Sans Serif"/>
              </a:rPr>
              <a:t>1) </a:t>
            </a:r>
            <a:r>
              <a:rPr b="0" lang="ru-RU" sz="2400" spc="-1" strike="noStrike">
                <a:solidFill>
                  <a:srgbClr val="3a3a3a"/>
                </a:solidFill>
                <a:latin typeface="Microsoft Sans Serif"/>
              </a:rPr>
              <a:t>нормы морали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3a3a"/>
                </a:solidFill>
                <a:latin typeface="Microsoft Sans Serif"/>
              </a:rPr>
              <a:t>2) </a:t>
            </a:r>
            <a:r>
              <a:rPr b="0" lang="ru-RU" sz="2400" spc="-1" strike="noStrike">
                <a:solidFill>
                  <a:srgbClr val="3a3a3a"/>
                </a:solidFill>
                <a:latin typeface="Microsoft Sans Serif"/>
              </a:rPr>
              <a:t>традиции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3a3a3a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3. Верны ли следующие суждения о социальных нормах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6320" y="11430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Microsoft Sans Serif"/>
              </a:rPr>
              <a:t>А. Участие родителей в воспитании детей является социальной нормой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Microsoft Sans Serif"/>
              </a:rPr>
              <a:t>Б. Социальные нормы вырабатываются, как правило, экономической элитой общества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4. Верны ли следующие суждения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Microsoft Sans Serif"/>
              </a:rPr>
              <a:t>А. Отклоняющееся поведение связано с несоблюдением общественных норм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Microsoft Sans Serif"/>
              </a:rPr>
              <a:t>Б. Одна из причин отклоняющегося поведения человека – негативное влияние ближайшего окружени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161616"/>
                </a:solidFill>
                <a:latin typeface="Microsoft Sans Serif"/>
              </a:rPr>
              <a:t>Учёные опросили 25-летних и 60-летних жителей страны Z. Им задавали вопрос: «С чем, по вашему мнению, связано отклоняющееся поведение людей?» </a:t>
            </a:r>
            <a:r>
              <a:rPr b="1" lang="ru-RU" sz="1600" spc="-1" strike="noStrike">
                <a:solidFill>
                  <a:srgbClr val="161616"/>
                </a:solidFill>
                <a:latin typeface="Microsoft Sans Serif"/>
              </a:rPr>
              <a:t>Результаты опроса (в % от числа опрошенных) представлены в таблице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371600"/>
          <a:ext cx="9144000" cy="5334120"/>
        </p:xfrm>
        <a:graphic>
          <a:graphicData uri="http://schemas.openxmlformats.org/drawingml/2006/table">
            <a:tbl>
              <a:tblPr/>
              <a:tblGrid>
                <a:gridCol w="6432480"/>
                <a:gridCol w="1473120"/>
                <a:gridCol w="12384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ричины отклоняющегося п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-лет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-лет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a3a3a"/>
                          </a:solidFill>
                          <a:latin typeface="Microsoft Sans Serif"/>
                        </a:rPr>
                        <a:t>Некоторые люди генетически предрасположены к отклоняющемуся поведени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a3a3a"/>
                          </a:solidFill>
                          <a:latin typeface="Microsoft Sans Serif"/>
                        </a:rPr>
                        <a:t>Отклоняющееся поведение является следствием психологических качеств, черт характер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a3a3a"/>
                          </a:solidFill>
                          <a:latin typeface="Microsoft Sans Serif"/>
                        </a:rPr>
                        <a:t>Отклоняющееся поведение связано с социальными условиями жизни челове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a3a3a"/>
                          </a:solidFill>
                          <a:latin typeface="Microsoft Sans Serif"/>
                        </a:rPr>
                        <a:t>Человек случайно попадает в «плохую» компани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a3a3a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5. Напишите номера правильных суждений, относящихся к таблице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3372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1) Наименьшие доли опрошенных в обеих группах видит причину в случайном влиянии «плохой компании»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2) Наибольшие доли опрошенных каждой группы считает, что отклоняющееся поведение связано с социальными условиями жизни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3) Доля тех, кто видит генетические причины отклоняющегося поведения, выше среди 60-летних, чем среди 25-летних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4) Одинаковая доля опрошенных в обеих группах считает, что отклоняющееся поведение является следствием психологических черт характера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5) Доля тех, кто считает, что социальные условия определяют отклоняющееся поведение человека, выше среди 60-летних, чем среди 25-летних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6. Напишите номера правильных суждений, относящихся к таблице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47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3a3a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1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езависимо от возраста большинство опрошенных связывают отклоняющееся  поведение с социальными факторами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2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Молодёжь считает отклоняющееся поведение случайным стечением обстоятельств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Люди старшего возраста считают, что социальное неравенство заставляет человека демонстрировать отклоняющееся поведение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Опрошенные обеих групп указывают на особую роль социальных условий в формировании поведения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5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Люди старшего возраста более, чем молодёжь, склонны объяснять отклоняющееся поведение генетической предрасположенностью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9250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7. Считается, что если молодожёны повесят на решетку моста замочек, то их брак будет счастливым. Во многих городах есть особые места, куда приезжают молодые пары в день свадьбы. Этот пример иллюстрирует действие норм: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32004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1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этикет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2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морал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традици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прав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8. Верны ли следующие суждения об отклоняющемся поведении?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. К возможным причинам отклоняющегося поведения относят особенности характера человека, его восприятие мира, жизненных целе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Б. К возможным причинам отклоняющегося поведения относят влияние ближайшего социального окружения, условия жизни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9. Родители учат сына: «Если при встрече тебя спросили: "Как дела?", – это не означает, что нужно подробно о них рассказывать». Так родители рассказывают сыну о правилах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6668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icrosoft Sans Serif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1) 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аук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2)  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религи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морал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этикет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990720" y="5867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47" name="Прямоугольник 5" descr=""/>
          <p:cNvPicPr/>
          <p:nvPr/>
        </p:nvPicPr>
        <p:blipFill>
          <a:blip r:embed="rId2"/>
          <a:stretch/>
        </p:blipFill>
        <p:spPr>
          <a:xfrm>
            <a:off x="281160" y="79200"/>
            <a:ext cx="874692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ОТВЕТЫ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28800" y="14479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3a3a"/>
                </a:solidFill>
                <a:latin typeface="Microsoft Sans Serif"/>
              </a:rPr>
              <a:t>1. Что является примером моральной нормы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ff0000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ff0000"/>
                </a:solidFill>
                <a:latin typeface="Microsoft Sans Serif"/>
              </a:rPr>
              <a:t>4) Нельзя бросать друга в трудной жизненной ситуации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437920" y="1600200"/>
            <a:ext cx="6324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3a3a"/>
                </a:solidFill>
                <a:latin typeface="Microsoft Sans Serif"/>
              </a:rPr>
              <a:t>2. Соотнесите примеры социальных норм и их виды. Ответ запишите в виде последовательности цифр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icrosoft Sans Serif"/>
              </a:rPr>
              <a:t>12121</a:t>
            </a:r>
            <a:endParaRPr b="0" lang="en-US" sz="8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3. Верны ли следующие суждения о социальных нормах?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. Участие родителей в воспитании детей является социальной нормо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Б. Социальные нормы вырабатываются, как правило, экономической элитой обществ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ВЕРНО ТОЛЬКО 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4. Верны ли следующие суждения?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. Отклоняющееся поведение связано с несоблюдением общественных норм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Б. Одна из причин отклоняющегося поведения человека – негативное влияние ближайшего окружения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ВЕРНЫ ОБА ОТВЕТ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Microsoft Sans Serif"/>
              </a:rPr>
              <a:t>5. Напишите номера правильных суждений, относящихся к таблице.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2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аибольшие доли опрошенных каждой группы считает, что отклоняющееся поведение связано с социальными условиями жизни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Доля тех, кто видит генетические причины отклоняющегося поведения, выше среди 60-летних, чем среди 25-летних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Одинаковая доля опрошенных в обеих группах считает, что отклоняющееся поведение является следствием психологических черт характера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icrosoft Sans Serif"/>
              </a:rPr>
              <a:t>234</a:t>
            </a:r>
            <a:endParaRPr b="0" lang="en-US" sz="6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3a3a"/>
                </a:solidFill>
                <a:latin typeface="Microsoft Sans Serif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Microsoft Sans Serif"/>
              </a:rPr>
              <a:t>6. Напишите номера правильных суждений, относящихся к таблице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47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3a3a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1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Независимо от возраста большинство опрошенных связывают отклоняющееся  поведение с социальными факторами.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Опрошенные обеих групп указывают на особую роль социальных условий в формировании поведения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Microsoft Sans Serif"/>
              </a:rPr>
              <a:t>5)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Люди старшего возраста более, чем молодёжь, склонны объяснять отклоняющееся поведение генетической предрасположенностью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icrosoft Sans Serif"/>
              </a:rPr>
              <a:t>145</a:t>
            </a:r>
            <a:endParaRPr b="0" lang="en-US" sz="6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9250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7. Считается, что если молодожёны повесят на решетку моста замочек, то их брак будет счастливым. Во многих городах есть особые места, куда приезжают молодые пары в день свадьбы. Этот пример иллюстрирует действие норм: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32004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icrosoft Sans Serif"/>
              </a:rPr>
              <a:t>3) </a:t>
            </a:r>
            <a:r>
              <a:rPr b="0" lang="ru-RU" sz="2000" spc="-1" strike="noStrike">
                <a:solidFill>
                  <a:srgbClr val="ff0000"/>
                </a:solidFill>
                <a:latin typeface="Microsoft Sans Serif"/>
              </a:rPr>
              <a:t>традици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8. Верны ли следующие суждения об отклоняющемся поведении?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А. К возможным причинам отклоняющегося поведения относят особенности характера человека, его восприятие мира, жизненных целе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Б. К возможным причинам отклоняющегося поведения относят влияние ближайшего социального окружения, условия жизни человек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icrosoft Sans Serif"/>
              </a:rPr>
              <a:t>ВЕРНЫ ОБА ОТВЕТ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9. Родители учат сына: «Если при встрече тебя спросили: "Как дела?", – это не означает, что нужно подробно о них рассказывать». Так родители рассказывают сыну о правилах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icrosoft Sans Serif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icrosoft Sans Serif"/>
              </a:rPr>
              <a:t> </a:t>
            </a:r>
            <a:r>
              <a:rPr b="0" lang="ru-RU" sz="2000" spc="-1" strike="noStrike">
                <a:solidFill>
                  <a:srgbClr val="161616"/>
                </a:solidFill>
                <a:latin typeface="Microsoft Sans Serif"/>
              </a:rPr>
              <a:t>  </a:t>
            </a:r>
            <a:r>
              <a:rPr b="1" lang="ru-RU" sz="2000" spc="-1" strike="noStrike">
                <a:solidFill>
                  <a:srgbClr val="ff0000"/>
                </a:solidFill>
                <a:latin typeface="Microsoft Sans Serif"/>
              </a:rPr>
              <a:t>4) </a:t>
            </a:r>
            <a:r>
              <a:rPr b="0" lang="ru-RU" sz="2000" spc="-1" strike="noStrike">
                <a:solidFill>
                  <a:srgbClr val="ff0000"/>
                </a:solidFill>
                <a:latin typeface="Microsoft Sans Serif"/>
              </a:rPr>
              <a:t>этикет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c2c2c"/>
                </a:solidFill>
                <a:latin typeface="Microsoft Sans Serif"/>
              </a:rPr>
              <a:t>АВТОР ПРЕЗЕНТАЦИИ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ЯКОВЛЕВА Н. В.,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учитель истории и обществознания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ГБОУ СОШ № 303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Фрунзенского район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2c"/>
                </a:solidFill>
                <a:latin typeface="Microsoft Sans Serif"/>
              </a:rPr>
              <a:t>Г. Санкт-Петербург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ПЛАН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1.  Понятие «социальные нормы»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2.  Виды социальных норм.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.  Сходства и различия моральных и правовых норм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4. Отклоняющееся поведение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СОЦИАЛЬНЫЕ НОРМЫ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514600" y="243828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Arial"/>
              </a:rPr>
              <a:t>это правила поведения человека в обществе, которые установились благодаря общественным отношениям и сознательной человеческ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5" name="Picture 2" descr="http://centr-intellect.ru/wp-content/uploads/2016/06/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МОРАЛЬНЫЕ  НОРМЫ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2514600" y="2438280"/>
            <a:ext cx="60199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Arial"/>
              </a:rPr>
              <a:t>это правила поведения, </a:t>
            </a:r>
            <a:r>
              <a:rPr b="0" lang="ru-RU" sz="2800" spc="-1" strike="noStrike">
                <a:solidFill>
                  <a:srgbClr val="3a3a3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a3a3a"/>
                </a:solidFill>
                <a:latin typeface="Arial"/>
              </a:rPr>
              <a:t>в которых выражаются представления людей о хорошем и плохом, добре и з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a3a3a"/>
                </a:solidFill>
                <a:uFillTx/>
                <a:latin typeface="Arial"/>
              </a:rPr>
              <a:t>Приведите 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a3a3a"/>
                </a:solidFill>
                <a:uFillTx/>
                <a:latin typeface="Arial"/>
              </a:rPr>
              <a:t>Золотое правило мора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ПРАВОВЫЕ  НОРМЫ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формально определенные правила поведения, установленные государством. закрепленные в письменном виде (законах), поддерживаемые силой государства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s://enter361.files.wordpress.com/2011/11/blacks.jpg"/>
          <p:cNvPicPr/>
          <p:nvPr/>
        </p:nvPicPr>
        <p:blipFill>
          <a:blip r:embed="rId2"/>
          <a:stretch/>
        </p:blipFill>
        <p:spPr>
          <a:xfrm>
            <a:off x="0" y="914400"/>
            <a:ext cx="502920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nteresno.cc/uploads/title/201606/image_1487718578.jpg"/>
          <p:cNvPicPr/>
          <p:nvPr/>
        </p:nvPicPr>
        <p:blipFill>
          <a:blip r:embed="rId3"/>
          <a:stretch/>
        </p:blipFill>
        <p:spPr>
          <a:xfrm>
            <a:off x="3429000" y="3276720"/>
            <a:ext cx="55627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a3a3a"/>
                </a:solidFill>
                <a:uFillTx/>
                <a:latin typeface="Microsoft Sans Serif"/>
              </a:rPr>
              <a:t>ЧТО ОБЪЕДИНЯЕТ ЭТИ ИЗОБРАЖЕНИЯ?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icrosoft Sans Serif"/>
              </a:rPr>
              <a:t>ОТКЛОНЯЮЩЕЕСЯ (ДЕВИАНТНОЕ) - ЭТО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28800" y="16002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социальное поведение, не соответствующее имеющимся в обществе нормам, принятых значительной частью людей в группе или сообществе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Windows User</cp:lastModifiedBy>
  <dcterms:modified xsi:type="dcterms:W3CDTF">2019-04-20T16:22:20Z</dcterms:modified>
  <cp:revision>461</cp:revision>
  <dc:subject/>
  <dc:title>Name of presentation</dc:title>
</cp:coreProperties>
</file>