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E61-993B-42EA-A6A4-0425296A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3B6-939B-45CB-A53C-A8158C6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B51-53CF-407D-BBC8-819A1FA6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C67-74B1-4291-B755-425475E3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42DC-B06B-46B9-B4BE-7E693212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FA20-A086-4305-887D-69BCF9CB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0E13-00C6-4D33-AD84-4438BC92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CBE-AFA1-4042-9996-98D042CB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B6EB-8A79-4104-85E1-A2150657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1815-F2AB-4AE3-8E50-D6EEE079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EBF-1B7D-4180-84E2-E39993C7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AEB-1994-4B90-861F-979EF9D3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5CEE-AD0D-47BC-B232-9033707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FE5-2E30-4577-89B0-0556EAB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822F-BA34-4B63-8B8E-6E77F63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4F6-A7A2-4424-8005-1BCCF35A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8E21-8799-4A21-A4EE-0474FFAF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B04-027F-4B7C-84E3-D32EB3F1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2C1-738E-41A8-9ACC-316C2B7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CB9-5266-4FB2-AB2D-9236996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3DD-CC77-4C12-8194-08057AB4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0D9-1D06-4EE2-918F-446C273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A11-77AA-4C5B-A72B-E46DDEC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F0C-F8E7-49A6-9970-E1569FA7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9640"/>
                <a:ext cx="1832760" cy="1670400"/>
                <a:chOff x="853560" y="4049640"/>
                <a:chExt cx="1832760" cy="16704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9080" y="3931200"/>
                  <a:ext cx="477360" cy="1252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4200" y="4978800"/>
                  <a:ext cx="110520" cy="513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3B69-0076-4101-A5AF-9DE95BF667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5600" y="61920"/>
              <a:ext cx="3644280" cy="6145920"/>
              <a:chOff x="5385600" y="61920"/>
              <a:chExt cx="3644280" cy="6145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6840" y="347760"/>
                <a:ext cx="2120040" cy="23580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0960" y="1970640"/>
                <a:ext cx="9079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18400" y="2589840"/>
                <a:ext cx="44028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680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3400" y="265500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4040" y="124272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5880" y="2945160"/>
                <a:ext cx="52452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268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404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304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008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2880" y="5195880"/>
              <a:ext cx="17622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8720" y="1032840"/>
              <a:ext cx="1017000" cy="1263240"/>
              <a:chOff x="4158720" y="103284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4520" y="1070640"/>
                <a:ext cx="285840" cy="379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9120" y="1603800"/>
                <a:ext cx="488880" cy="31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9120" y="196236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57760"/>
              <a:ext cx="894600" cy="825480"/>
              <a:chOff x="5645520" y="257760"/>
              <a:chExt cx="8946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480" y="7516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720" y="432000"/>
                <a:ext cx="306360" cy="30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1040" y="357120"/>
                <a:ext cx="31824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0920" y="5242320"/>
              <a:ext cx="1060200" cy="830520"/>
              <a:chOff x="970920" y="5242320"/>
              <a:chExt cx="106020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92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840" y="5717880"/>
                <a:ext cx="43056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920" y="5367240"/>
                <a:ext cx="45000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408960"/>
              <a:ext cx="1693080" cy="1146960"/>
              <a:chOff x="376920" y="408960"/>
              <a:chExt cx="1693080" cy="114696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960" y="1027080"/>
                <a:ext cx="35568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640" y="552240"/>
                <a:ext cx="608760" cy="44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66680"/>
                <a:ext cx="636120" cy="22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35080" y="3711960"/>
              <a:ext cx="1158120" cy="1608480"/>
              <a:chOff x="7435080" y="3711960"/>
              <a:chExt cx="115812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89800" y="4756680"/>
                <a:ext cx="356040" cy="530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41600" y="4455720"/>
                <a:ext cx="60948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33800" y="3781080"/>
                <a:ext cx="63720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5720" y="3240"/>
              <a:ext cx="137088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2240" y="160920"/>
              <a:ext cx="1083240" cy="94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5560" y="1361160"/>
              <a:ext cx="524520" cy="4406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736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98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6360" y="1964880"/>
              <a:ext cx="62496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BA9F-753F-4A4A-9C5A-5B47FB1BA6D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группах детского сад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14664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оловова Е.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7" descr="C:\Users\user\Desktop\b243aaca8a9bf516d71ff6b6fdb2f8b5.jpg"/>
          <p:cNvPicPr/>
          <p:nvPr/>
        </p:nvPicPr>
        <p:blipFill>
          <a:blip r:embed="rId1"/>
          <a:stretch/>
        </p:blipFill>
        <p:spPr>
          <a:xfrm>
            <a:off x="1285920" y="4286160"/>
            <a:ext cx="2286000" cy="185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Users\user\Desktop\f850c21b6aba2cd3b28bead3079e4765 — копия.jpg"/>
          <p:cNvPicPr/>
          <p:nvPr/>
        </p:nvPicPr>
        <p:blipFill>
          <a:blip r:embed="rId2"/>
          <a:stretch/>
        </p:blipFill>
        <p:spPr>
          <a:xfrm>
            <a:off x="6500880" y="214200"/>
            <a:ext cx="2143080" cy="189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Либеральный стиль (попустительски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безынициативен, недостаточно ответствен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реоценивает возможно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полнение своих требований не проверяе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решител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 вла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 учитывает взаимо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групп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еловек настро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2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8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2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8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2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8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8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8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20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Демократически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928800"/>
            <a:ext cx="8444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учитывает особенности возраста детей, оптимально делит функции между собой и дет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зучает и учитывает межличностные взаимоотнош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являет максимум требований, максимум ува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спытывает потребность 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братной связи от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меет признавать ошиб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едпочитает плодотворный разговор с ребенком наед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900"/>
                            </p:stCondLst>
                            <p:childTnLst>
                              <p:par>
                                <p:cTn id="4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8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900"/>
                            </p:stCondLst>
                            <p:childTnLst>
                              <p:par>
                                <p:cTn id="4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8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900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8900"/>
                            </p:stCondLst>
                            <p:childTnLst>
                              <p:par>
                                <p:cTn id="4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8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900"/>
                            </p:stCondLst>
                            <p:childTnLst>
                              <p:par>
                                <p:cTn id="4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8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8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 комфортная среда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3840" y="1500120"/>
            <a:ext cx="8643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рганизацию зоны для психологической разгруз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агрессивных детей способам выражения гнева в приемлемой фор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умению владеть собой в различных ситуациях, приемам саморегуляции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бесконфликтному общению с помощью эмоционально-развивающих игр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ышение самооценки тревожных, неуверенных в себе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бучение детей навыкам сотрудничества и согласованным действиям в коман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9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9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9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9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19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9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е речевые настрой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7160" y="1600200"/>
            <a:ext cx="8072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Verdana"/>
              </a:rPr>
              <a:t>Цель настроек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создание в группе положительного эмоционального фона, атмосферы доброжелательности и защищен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66"/>
                </a:solidFill>
                <a:uFillTx/>
                <a:latin typeface="Verdana"/>
              </a:rPr>
              <a:t>Предназначение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– установки на хорошее настро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5" descr="E:\Консультация для молодых педгогов\719dc78e59f1cf7d8fa73f3af712eac1.jpg"/>
          <p:cNvPicPr/>
          <p:nvPr/>
        </p:nvPicPr>
        <p:blipFill>
          <a:blip r:embed="rId1"/>
          <a:stretch/>
        </p:blipFill>
        <p:spPr>
          <a:xfrm>
            <a:off x="5857920" y="3071880"/>
            <a:ext cx="25718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1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доровь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Эмоцион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нтеллекту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Физическ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ухов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C:\Users\user\Desktop\b243aaca8a9bf516d71ff6b6fdb2f8b5 — копия.jpg"/>
          <p:cNvPicPr/>
          <p:nvPr/>
        </p:nvPicPr>
        <p:blipFill>
          <a:blip r:embed="rId1"/>
          <a:stretch/>
        </p:blipFill>
        <p:spPr>
          <a:xfrm>
            <a:off x="1857240" y="2428920"/>
            <a:ext cx="1676520" cy="1447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user\Desktop\b243aaca8a9bf516d71ff6b6fdb2f8b5 — копия (2).jpg"/>
          <p:cNvPicPr/>
          <p:nvPr/>
        </p:nvPicPr>
        <p:blipFill>
          <a:blip r:embed="rId2"/>
          <a:stretch/>
        </p:blipFill>
        <p:spPr>
          <a:xfrm>
            <a:off x="5357880" y="1357200"/>
            <a:ext cx="1706400" cy="12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Users\user\Desktop\b243aaca8a9bf516d71ff6b6fdb2f8b5 — копия (3).jpg"/>
          <p:cNvPicPr/>
          <p:nvPr/>
        </p:nvPicPr>
        <p:blipFill>
          <a:blip r:embed="rId3"/>
          <a:stretch/>
        </p:blipFill>
        <p:spPr>
          <a:xfrm>
            <a:off x="2143080" y="4714920"/>
            <a:ext cx="2060640" cy="1271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C:\Users\user\Desktop\istockphoto-165722690-1024x1024.jpg"/>
          <p:cNvPicPr/>
          <p:nvPr/>
        </p:nvPicPr>
        <p:blipFill>
          <a:blip r:embed="rId4"/>
          <a:stretch/>
        </p:blipFill>
        <p:spPr>
          <a:xfrm>
            <a:off x="5715000" y="3643200"/>
            <a:ext cx="15001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03320"/>
            <a:ext cx="88930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следствия психологического дискомфорт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явление фобий, страхов, тревожности, повышенной агрессивност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матические расстройст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сихологические травмы в детстве, психологическая защита в зрелом возрасте: позиция избегания, проявления агрессивных поведенческих реакц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5" descr="Анимашки Дети"/>
          <p:cNvPicPr/>
          <p:nvPr/>
        </p:nvPicPr>
        <p:blipFill>
          <a:blip r:embed="rId1"/>
          <a:stretch/>
        </p:blipFill>
        <p:spPr>
          <a:xfrm>
            <a:off x="712800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8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тмосфера в группе детского сада определяется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5840" y="1571400"/>
            <a:ext cx="8472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ми межд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телем 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ношениями межд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им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174960" indent="-17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7" descr="C:\Users\user\Desktop\b20f0d6053bf64aa65747c85bbff3d1d.jpg"/>
          <p:cNvPicPr/>
          <p:nvPr/>
        </p:nvPicPr>
        <p:blipFill>
          <a:blip r:embed="rId1"/>
          <a:stretch/>
        </p:blipFill>
        <p:spPr>
          <a:xfrm>
            <a:off x="6072120" y="1571760"/>
            <a:ext cx="2214720" cy="175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:\Users\user\Desktop\bae700e28b7811952750cec058e36927.jpg"/>
          <p:cNvPicPr/>
          <p:nvPr/>
        </p:nvPicPr>
        <p:blipFill>
          <a:blip r:embed="rId2"/>
          <a:stretch/>
        </p:blipFill>
        <p:spPr>
          <a:xfrm>
            <a:off x="5143680" y="4000680"/>
            <a:ext cx="2714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создания условий психологически комфортного пребывания ребёнка в детском саду необходимо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нимать каждого ребёнка таким, какой он е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ираться на добровольную помощь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Быть затейником и участником детских игр и заба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труднительных  для ребенка ситуациях  ориентироваться на возрастные и индивидуальные особенности: быть всегда вместе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кать родителей к образовательному процесс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6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6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6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26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мни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680" y="1071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ебенок вам ничего не долже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биваться соблюдения от ребенка социальных норм и правил с учетом его состояния и интере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е навязывать своих правил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еньше запретов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ихий, застенчивый ребенок также нуждается в помощи, как и отъявленный драчу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400"/>
                            </p:stCondLst>
                            <p:childTnLst>
                              <p:par>
                                <p:cTn id="1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400"/>
                            </p:stCondLst>
                            <p:childTnLst>
                              <p:par>
                                <p:cTn id="1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8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400"/>
                            </p:stCondLst>
                            <p:childTnLst>
                              <p:par>
                                <p:cTn id="1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8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40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лагоприятный клим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8760" y="121392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Атмосфера доброжелательност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заботы о кажд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оверие, требовате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ветствен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увство защищ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частность к происходящем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веренность в се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поднятое настрое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формированность ценностного отношения к личности, делу, ист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8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8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8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800"/>
                            </p:stCondLst>
                            <p:childTnLst>
                              <p:par>
                                <p:cTn id="2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8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800"/>
                            </p:stCondLst>
                            <p:childTnLst>
                              <p:par>
                                <p:cTn id="2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8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48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68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3285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лияние стилей педагогического общения на благоприятный психологический комфорт в групп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Авторитарны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3840" y="999720"/>
            <a:ext cx="85726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дагог – руководитель, организатор; дети – исполнители (несамостоятельные, безынициативны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нцип педагога: «Доверяй, но проверяй» (недостает уважения, доверия к личности ребенка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жидание беспрекословного послушания, повинов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учитывает отношения между деть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 признает ошиб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изко оценивает возможност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ублично указывает ребенку на его ошибки, недостатки пове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6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8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6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6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6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6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8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46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3:49:46Z</dcterms:created>
  <dc:creator>Customer</dc:creator>
  <dc:description/>
  <dc:language>en-US</dc:language>
  <cp:lastModifiedBy>Пользователь Windows</cp:lastModifiedBy>
  <dcterms:modified xsi:type="dcterms:W3CDTF">2020-11-16T03:36:35Z</dcterms:modified>
  <cp:revision>47</cp:revision>
  <dc:subject/>
  <dc:title>Создание психологического комфорта в группах детского сада</dc:title>
</cp:coreProperties>
</file>