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90F-8B10-4B95-9BFD-52F1981B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A946-502C-4F50-AF94-1C2530B9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2E9C-EA6A-4DC9-A2DD-3A740AE1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9C6D-3ECE-43ED-B3F4-C02E8A44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2223-F380-4F9A-8A3A-56CF1722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7EB5-1E93-4C94-BCA4-4B95DE27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BA7E-0A20-4B11-A65F-E83FCDE1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65E5-B5A7-492A-8987-32F9DF75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0A42-E9FB-4FDE-8E11-920538C7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5E90-2B13-4648-87EE-563B268A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9674-F083-4036-98BB-2C1B3C78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4B7-F9E1-403C-96BC-FCF8BC2D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99C3-193A-413B-8AF4-F3A97AD4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94BD-ECEF-46A0-A2DC-FE1DC223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BE8A-1D71-4460-AD63-124B264B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A093-F5C0-45DF-B342-62348C24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ACF2-2FA7-4613-B69D-CF869223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660-5C2D-4C14-8DDD-5398D427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317-918B-4DBC-9E70-818A234B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033B-158C-4B79-9C78-D252D34F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40E4-1741-4425-97B0-6487A791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51B5-21A5-46DD-9C93-AC852EB5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B683-BC6C-4913-BB5C-5E8CE47B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3F4F-58B1-49D0-B043-5D12EC15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9040"/>
              <a:chOff x="-1080" y="2601000"/>
              <a:chExt cx="268740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560" y="4049640"/>
                <a:ext cx="1832760" cy="1670400"/>
                <a:chOff x="853560" y="4049640"/>
                <a:chExt cx="1832760" cy="16704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9080" y="3931200"/>
                  <a:ext cx="477360" cy="12520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74200" y="4978800"/>
                  <a:ext cx="110520" cy="5137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040" y="5564880"/>
                  <a:ext cx="200880" cy="903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9624-C4B5-44FD-A56C-FD3E0BE01E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19800" y="0"/>
            <a:ext cx="9049680" cy="6858000"/>
            <a:chOff x="-19800" y="0"/>
            <a:chExt cx="904968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85600" y="61920"/>
              <a:ext cx="3644280" cy="6145920"/>
              <a:chOff x="5385600" y="61920"/>
              <a:chExt cx="3644280" cy="61459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76840" y="347760"/>
                <a:ext cx="2120040" cy="23580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10960" y="1970640"/>
                <a:ext cx="9079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18400" y="2589840"/>
                <a:ext cx="44028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46800" y="676800"/>
                <a:ext cx="38988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33400" y="265500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4040" y="1242720"/>
                <a:ext cx="19080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15880" y="2945160"/>
                <a:ext cx="52452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800"/>
              <a:ext cx="51336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7120" y="2000160"/>
              <a:ext cx="200268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404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7400" y="4532040"/>
              <a:ext cx="56304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70080" y="4728960"/>
              <a:ext cx="13824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92880" y="5195880"/>
              <a:ext cx="17622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8720" y="1032840"/>
              <a:ext cx="1017000" cy="1263240"/>
              <a:chOff x="4158720" y="103284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74520" y="1070640"/>
                <a:ext cx="285840" cy="379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9120" y="1603800"/>
                <a:ext cx="488880" cy="315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9120" y="1962360"/>
                <a:ext cx="511200" cy="160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57760"/>
              <a:ext cx="894600" cy="825480"/>
              <a:chOff x="5645520" y="257760"/>
              <a:chExt cx="894600" cy="8254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480" y="751680"/>
                <a:ext cx="179280" cy="362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720" y="432000"/>
                <a:ext cx="306360" cy="301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1040" y="357120"/>
                <a:ext cx="318240" cy="153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0920" y="5242320"/>
              <a:ext cx="1060200" cy="830520"/>
              <a:chOff x="970920" y="5242320"/>
              <a:chExt cx="1060200" cy="8305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3960" y="5506920"/>
                <a:ext cx="25164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840" y="5717880"/>
                <a:ext cx="43056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920" y="5367240"/>
                <a:ext cx="45000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6920" y="408960"/>
              <a:ext cx="1693080" cy="1146960"/>
              <a:chOff x="376920" y="408960"/>
              <a:chExt cx="1693080" cy="114696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8960" y="1027080"/>
                <a:ext cx="355680" cy="531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5640" y="552240"/>
                <a:ext cx="608760" cy="441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9720" y="1066680"/>
                <a:ext cx="636120" cy="224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35080" y="3711960"/>
              <a:ext cx="1158120" cy="1608480"/>
              <a:chOff x="7435080" y="3711960"/>
              <a:chExt cx="1158120" cy="160848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89800" y="4756680"/>
                <a:ext cx="356040" cy="530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41600" y="4455720"/>
                <a:ext cx="60948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33800" y="3781080"/>
                <a:ext cx="63720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5720" y="3240"/>
              <a:ext cx="137088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32240" y="160920"/>
              <a:ext cx="1083240" cy="94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75560" y="1361160"/>
              <a:ext cx="524520" cy="4406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7360" y="1281960"/>
              <a:ext cx="19584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9880" y="0"/>
              <a:ext cx="19728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56360" y="1964880"/>
              <a:ext cx="62496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6086-8BF6-483A-9BED-AEE7E72B1DBD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596880"/>
            <a:ext cx="803736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Создание психологического комфорта в группах детского сада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843280" y="4869000"/>
            <a:ext cx="6146640" cy="87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оловова Е.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7" descr="C:\Users\user\Desktop\b243aaca8a9bf516d71ff6b6fdb2f8b5.jpg"/>
          <p:cNvPicPr/>
          <p:nvPr/>
        </p:nvPicPr>
        <p:blipFill>
          <a:blip r:embed="rId1"/>
          <a:stretch/>
        </p:blipFill>
        <p:spPr>
          <a:xfrm>
            <a:off x="1285920" y="4286160"/>
            <a:ext cx="2286000" cy="1851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C:\Users\user\Desktop\f850c21b6aba2cd3b28bead3079e4765 — копия.jpg"/>
          <p:cNvPicPr/>
          <p:nvPr/>
        </p:nvPicPr>
        <p:blipFill>
          <a:blip r:embed="rId2"/>
          <a:stretch/>
        </p:blipFill>
        <p:spPr>
          <a:xfrm>
            <a:off x="6500880" y="214200"/>
            <a:ext cx="2143080" cy="189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1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aaa"/>
                </a:solidFill>
                <a:latin typeface="Verdana"/>
              </a:rPr>
              <a:t>Либеральный стиль (попустительский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едагог безынициативен, недостаточно ответственен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ереоценивает возможности детей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ыполнение своих требований не проверяет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ерешителен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о власти детей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е учитывает взаимоотнош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 групп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Человек настро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2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8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2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8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2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8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200"/>
                            </p:stCondLst>
                            <p:childTnLst>
                              <p:par>
                                <p:cTn id="3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8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2200"/>
                            </p:stCondLst>
                            <p:childTnLst>
                              <p:par>
                                <p:cTn id="3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8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4200"/>
                            </p:stCondLst>
                            <p:childTnLst>
                              <p:par>
                                <p:cTn id="3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8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8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6200"/>
                            </p:stCondLst>
                            <p:childTnLst>
                              <p:par>
                                <p:cTn id="3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8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aaa"/>
                </a:solidFill>
                <a:latin typeface="Verdana"/>
              </a:rPr>
              <a:t>Демократический стил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14200" y="928800"/>
            <a:ext cx="8444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едагог учитывает особенности возраста детей, оптимально делит функции между собой и детьм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зучает и учитывает межличностные взаимоотношения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оявляет максимум требований, максимум уважения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спытывает потребность в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братной связи от детей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меет признавать ошибк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едпочитает плодотворный разговор с ребенком наедин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900"/>
                            </p:stCondLst>
                            <p:childTnLst>
                              <p:par>
                                <p:cTn id="4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8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900"/>
                            </p:stCondLst>
                            <p:childTnLst>
                              <p:par>
                                <p:cTn id="4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8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6900"/>
                            </p:stCondLst>
                            <p:childTnLst>
                              <p:par>
                                <p:cTn id="4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8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8900"/>
                            </p:stCondLst>
                            <p:childTnLst>
                              <p:par>
                                <p:cTn id="4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8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9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900"/>
                            </p:stCondLst>
                            <p:childTnLst>
                              <p:par>
                                <p:cTn id="4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8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2900"/>
                            </p:stCondLst>
                            <p:childTnLst>
                              <p:par>
                                <p:cTn id="4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8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сихологически комфортная среда: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13840" y="1500120"/>
            <a:ext cx="86439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рганизацию зоны для психологической разгрузк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бучение агрессивных детей способам выражения гнева в приемлемой форме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бучение детей умению владеть собой в различных ситуациях, приемам саморегуляции; 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бучение детей бесконфликтному общению с помощью эмоционально-развивающих игр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вышение самооценки тревожных, неуверенных в себе дет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бучение детей навыкам сотрудничества и согласованным действиям в команд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900"/>
                            </p:stCondLst>
                            <p:childTnLst>
                              <p:par>
                                <p:cTn id="4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8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900"/>
                            </p:stCondLst>
                            <p:childTnLst>
                              <p:par>
                                <p:cTn id="4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8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7900"/>
                            </p:stCondLst>
                            <p:childTnLst>
                              <p:par>
                                <p:cTn id="4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8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9900"/>
                            </p:stCondLst>
                            <p:childTnLst>
                              <p:par>
                                <p:cTn id="4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8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1900"/>
                            </p:stCondLst>
                            <p:childTnLst>
                              <p:par>
                                <p:cTn id="4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8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3900"/>
                            </p:stCondLst>
                            <p:childTnLst>
                              <p:par>
                                <p:cTn id="4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8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сихологические речевые настройк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57160" y="1600200"/>
            <a:ext cx="80726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66"/>
                </a:solidFill>
                <a:uFillTx/>
                <a:latin typeface="Verdana"/>
              </a:rPr>
              <a:t>Цель настроек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– создание в группе положительного эмоционального фона, атмосферы доброжелательности и защищеннос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66"/>
                </a:solidFill>
                <a:uFillTx/>
                <a:latin typeface="Verdana"/>
              </a:rPr>
              <a:t>Предназначение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– установки на хорошее настроени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Picture 5" descr="E:\Консультация для молодых педгогов\719dc78e59f1cf7d8fa73f3af712eac1.jpg"/>
          <p:cNvPicPr/>
          <p:nvPr/>
        </p:nvPicPr>
        <p:blipFill>
          <a:blip r:embed="rId1"/>
          <a:stretch/>
        </p:blipFill>
        <p:spPr>
          <a:xfrm>
            <a:off x="5857920" y="3071880"/>
            <a:ext cx="25718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4100"/>
                            </p:stCondLst>
                            <p:childTnLst>
                              <p:par>
                                <p:cTn id="5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8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6100"/>
                            </p:stCondLst>
                            <p:childTnLst>
                              <p:par>
                                <p:cTn id="5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8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400" y="2000160"/>
            <a:ext cx="824364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Спасибо за внимание!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Здоровь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Эмоциональн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нтеллектуальн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Физическ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уховн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5" descr="C:\Users\user\Desktop\b243aaca8a9bf516d71ff6b6fdb2f8b5 — копия.jpg"/>
          <p:cNvPicPr/>
          <p:nvPr/>
        </p:nvPicPr>
        <p:blipFill>
          <a:blip r:embed="rId1"/>
          <a:stretch/>
        </p:blipFill>
        <p:spPr>
          <a:xfrm>
            <a:off x="1857240" y="2428920"/>
            <a:ext cx="1676520" cy="1447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C:\Users\user\Desktop\b243aaca8a9bf516d71ff6b6fdb2f8b5 — копия (2).jpg"/>
          <p:cNvPicPr/>
          <p:nvPr/>
        </p:nvPicPr>
        <p:blipFill>
          <a:blip r:embed="rId2"/>
          <a:stretch/>
        </p:blipFill>
        <p:spPr>
          <a:xfrm>
            <a:off x="5357880" y="1357200"/>
            <a:ext cx="1706400" cy="1292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C:\Users\user\Desktop\b243aaca8a9bf516d71ff6b6fdb2f8b5 — копия (3).jpg"/>
          <p:cNvPicPr/>
          <p:nvPr/>
        </p:nvPicPr>
        <p:blipFill>
          <a:blip r:embed="rId3"/>
          <a:stretch/>
        </p:blipFill>
        <p:spPr>
          <a:xfrm>
            <a:off x="2143080" y="4714920"/>
            <a:ext cx="2060640" cy="1271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C:\Users\user\Desktop\istockphoto-165722690-1024x1024.jpg"/>
          <p:cNvPicPr/>
          <p:nvPr/>
        </p:nvPicPr>
        <p:blipFill>
          <a:blip r:embed="rId4"/>
          <a:stretch/>
        </p:blipFill>
        <p:spPr>
          <a:xfrm>
            <a:off x="5715000" y="3643200"/>
            <a:ext cx="150012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103320"/>
            <a:ext cx="889308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оследствия психологического дискомфорта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явление фобий, страхов, тревожности, повышенной агрессивност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оматические расстройств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сихологические травмы в детстве, психологическая защита в зрелом возрасте: позиция избегания, проявления агрессивных поведенческих реакци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5" descr="Анимашки Дети"/>
          <p:cNvPicPr/>
          <p:nvPr/>
        </p:nvPicPr>
        <p:blipFill>
          <a:blip r:embed="rId1"/>
          <a:stretch/>
        </p:blipFill>
        <p:spPr>
          <a:xfrm>
            <a:off x="7128000" y="46530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8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8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8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Атмосфера в группе детского сада определяется: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85840" y="1571400"/>
            <a:ext cx="847224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тношениями между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74960" indent="-17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оспитателем и деть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74960" indent="-174960">
              <a:spcBef>
                <a:spcPts val="799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74960" indent="-174960">
              <a:spcBef>
                <a:spcPts val="799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74960" indent="-17496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тношениями между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74960" indent="-17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амими деть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74960" indent="-17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Picture 7" descr="C:\Users\user\Desktop\b20f0d6053bf64aa65747c85bbff3d1d.jpg"/>
          <p:cNvPicPr/>
          <p:nvPr/>
        </p:nvPicPr>
        <p:blipFill>
          <a:blip r:embed="rId1"/>
          <a:stretch/>
        </p:blipFill>
        <p:spPr>
          <a:xfrm>
            <a:off x="6072120" y="1571760"/>
            <a:ext cx="2214720" cy="1757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C:\Users\user\Desktop\bae700e28b7811952750cec058e36927.jpg"/>
          <p:cNvPicPr/>
          <p:nvPr/>
        </p:nvPicPr>
        <p:blipFill>
          <a:blip r:embed="rId2"/>
          <a:stretch/>
        </p:blipFill>
        <p:spPr>
          <a:xfrm>
            <a:off x="5143680" y="4000680"/>
            <a:ext cx="27144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8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8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000"/>
                            </p:stCondLst>
                            <p:childTnLst>
                              <p:par>
                                <p:cTn id="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8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8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Для создания условий психологически комфортного пребывания ребёнка в детском саду необходимо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14200" y="1600200"/>
            <a:ext cx="8715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инимать каждого ребёнка таким, какой он ест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пираться на добровольную помощь дете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Быть затейником и участником детских игр и заба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затруднительных  для ребенка ситуациях  ориентироваться на возрастные и индивидуальные особенности: быть всегда вместе с ним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ивлекать родителей к образовательному процесс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600"/>
                            </p:stCondLst>
                            <p:childTnLst>
                              <p:par>
                                <p:cTn id="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8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600"/>
                            </p:stCondLst>
                            <p:childTnLst>
                              <p:par>
                                <p:cTn id="1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8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600"/>
                            </p:stCondLst>
                            <p:childTnLst>
                              <p:par>
                                <p:cTn id="1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8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6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8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2600"/>
                            </p:stCondLst>
                            <p:childTnLst>
                              <p:par>
                                <p:cTn id="1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8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омнить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1680" y="10717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ебенок вам ничего не должен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Добиваться соблюдения от ребенка социальных норм и правил с учетом его состояния и интересо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е навязывать своих правил и требова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еньше запретов и требова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Тихий, застенчивый ребенок также нуждается в помощи, как и отъявленный драчун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400"/>
                            </p:stCondLst>
                            <p:childTnLst>
                              <p:par>
                                <p:cTn id="1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8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400"/>
                            </p:stCondLst>
                            <p:childTnLst>
                              <p:par>
                                <p:cTn id="1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8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400"/>
                            </p:stCondLst>
                            <p:childTnLst>
                              <p:par>
                                <p:cTn id="1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8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9400"/>
                            </p:stCondLst>
                            <p:childTnLst>
                              <p:par>
                                <p:cTn id="1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8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1400"/>
                            </p:stCondLst>
                            <p:childTnLst>
                              <p:par>
                                <p:cTn id="1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8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44000" cy="9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Благоприятный климат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8760" y="1213920"/>
            <a:ext cx="8229600" cy="44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Атмосфера доброжелательности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заботы о каждом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Доверие, требовательность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тветственность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Чувство защищенност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ичастность к происходящему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веренность в себ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иподнятое настроени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формированность ценностного отношения к личности, делу, истин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800"/>
                            </p:stCondLst>
                            <p:childTnLst>
                              <p:par>
                                <p:cTn id="1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8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8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800"/>
                            </p:stCondLst>
                            <p:childTnLst>
                              <p:par>
                                <p:cTn id="2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8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800"/>
                            </p:stCondLst>
                            <p:childTnLst>
                              <p:par>
                                <p:cTn id="2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8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800"/>
                            </p:stCondLst>
                            <p:childTnLst>
                              <p:par>
                                <p:cTn id="2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8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800"/>
                            </p:stCondLst>
                            <p:childTnLst>
                              <p:par>
                                <p:cTn id="2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8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2800"/>
                            </p:stCondLst>
                            <p:childTnLst>
                              <p:par>
                                <p:cTn id="2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8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4800"/>
                            </p:stCondLst>
                            <p:childTnLst>
                              <p:par>
                                <p:cTn id="2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8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6800"/>
                            </p:stCondLst>
                            <p:childTnLst>
                              <p:par>
                                <p:cTn id="2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8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328572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Влияние стилей педагогического общения на благоприятный психологический комфорт в групп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aaa"/>
                </a:solidFill>
                <a:latin typeface="Verdana"/>
              </a:rPr>
              <a:t>Авторитарный стил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13840" y="999720"/>
            <a:ext cx="857268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едагог – руководитель, организатор; дети – исполнители (несамостоятельные, безынициативные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инцип педагога: «Доверяй, но проверяй» (недостает уважения, доверия к личности ребенка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жидание беспрекословного послушания, повинове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е учитывает отношения между детьм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е признает ошибк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изко оценивает возможности дет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ублично указывает ребенку на его ошибки, недостатки поведе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6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8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6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8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6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8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6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8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6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8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26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8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46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8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3:49:46Z</dcterms:created>
  <dc:creator>Customer</dc:creator>
  <dc:description/>
  <dc:language>en-US</dc:language>
  <cp:lastModifiedBy>Пользователь Windows</cp:lastModifiedBy>
  <dcterms:modified xsi:type="dcterms:W3CDTF">2020-11-16T03:36:35Z</dcterms:modified>
  <cp:revision>47</cp:revision>
  <dc:subject/>
  <dc:title>Создание психологического комфорта в группах детского сада</dc:title>
</cp:coreProperties>
</file>