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2C6-BFE5-4FBB-AEA6-6EA8D981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A41-9BBB-42DD-8C9E-9E7A0B6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6A3-8446-4ABA-BFBB-297DC8DA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DC3-298B-4FAF-97E2-7F553A7B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043-B1D5-4402-815D-C3AE8C2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917-5527-4C45-A712-05FCB8E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A27-399C-4C93-AD9B-5D8903F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8C3-9C2A-46DC-B7A7-16C46E00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DB6-8C10-412A-AAAA-0003548B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894-B6EB-4135-8DF3-7A323C9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147-F776-4B62-81EF-AB6CD2C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180-776F-417E-99A3-CA3E220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C96-9119-469D-B9E8-26392BC6E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траничка для любозна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0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6" descr="Труба 2.gif"/>
          <p:cNvPicPr/>
          <p:nvPr/>
        </p:nvPicPr>
        <p:blipFill>
          <a:blip r:embed="rId1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45" name="TextBox 11"/>
          <p:cNvSpPr/>
          <p:nvPr/>
        </p:nvSpPr>
        <p:spPr>
          <a:xfrm>
            <a:off x="611280" y="1052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34 - 7 =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39640" y="184464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76 - 8 =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39640" y="270828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33 - 9 =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39640" y="364500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83-5  =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7" descr="Труба 2.gif"/>
          <p:cNvPicPr/>
          <p:nvPr/>
        </p:nvPicPr>
        <p:blipFill>
          <a:blip r:embed="rId2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0" name="Прямоугольник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24000" y="214200"/>
            <a:ext cx="849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читайте,  запишите 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2 0.05231 L -0.05712 0.61921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61921 L 0.58073 0.62986 E">
                                      <p:cBhvr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73 0.62998 L 0.46475 0.034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007 L -0.06094 0.50463 E">
                                      <p:cBhvr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0.50463 L 0.57691 0.51528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0.53562 L 0.46077 0.05504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3.7037E-007 L -0.06303 0.38842 E">
                                      <p:cBhvr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39004 L 0.57292 0.40069 E">
                                      <p:cBhvr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809 0.43062 L 0.46632 0.04441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6 -0.01852 L -0.06875 0.26505 E">
                                      <p:cBhvr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26504 L 0.5691 0.26504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028 0.29418 L 0.45851 0.034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85880" y="214200"/>
            <a:ext cx="3786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 ответы в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951200"/>
            <a:ext cx="4346640" cy="1504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3376440"/>
            <a:ext cx="435276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554040" y="4737240"/>
            <a:ext cx="4352760" cy="15048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4"/>
          <a:stretch/>
        </p:blipFill>
        <p:spPr>
          <a:xfrm>
            <a:off x="4406760" y="1951200"/>
            <a:ext cx="414684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5"/>
          <a:stretch/>
        </p:blipFill>
        <p:spPr>
          <a:xfrm>
            <a:off x="4406760" y="3376440"/>
            <a:ext cx="4146840" cy="15066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7" descr=""/>
          <p:cNvPicPr/>
          <p:nvPr/>
        </p:nvPicPr>
        <p:blipFill>
          <a:blip r:embed="rId6"/>
          <a:stretch/>
        </p:blipFill>
        <p:spPr>
          <a:xfrm>
            <a:off x="4479840" y="4809960"/>
            <a:ext cx="4146480" cy="15051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8" descr=""/>
          <p:cNvPicPr/>
          <p:nvPr/>
        </p:nvPicPr>
        <p:blipFill>
          <a:blip r:embed="rId7"/>
          <a:stretch/>
        </p:blipFill>
        <p:spPr>
          <a:xfrm>
            <a:off x="353880" y="665280"/>
            <a:ext cx="4346640" cy="15048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9" descr=""/>
          <p:cNvPicPr/>
          <p:nvPr/>
        </p:nvPicPr>
        <p:blipFill>
          <a:blip r:embed="rId8"/>
          <a:stretch/>
        </p:blipFill>
        <p:spPr>
          <a:xfrm>
            <a:off x="4206960" y="590400"/>
            <a:ext cx="4808520" cy="1506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93080" y="214200"/>
            <a:ext cx="7695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и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капусты, а моркови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 кг меньш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офеля столько, сколько капусты и моркови в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купили кг картоф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D:\клипарты\еда раст\87972f971285.png"/>
          <p:cNvPicPr/>
          <p:nvPr/>
        </p:nvPicPr>
        <p:blipFill>
          <a:blip r:embed="rId1"/>
          <a:stretch/>
        </p:blipFill>
        <p:spPr>
          <a:xfrm rot="18603600">
            <a:off x="2295000" y="3428640"/>
            <a:ext cx="2276640" cy="40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D:\клипарты\еда раст\87972f971285.png"/>
          <p:cNvPicPr/>
          <p:nvPr/>
        </p:nvPicPr>
        <p:blipFill>
          <a:blip r:embed="rId2"/>
          <a:stretch/>
        </p:blipFill>
        <p:spPr>
          <a:xfrm rot="18603600">
            <a:off x="1491840" y="4017960"/>
            <a:ext cx="147024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http://deto4ka.com/uploads/posts/2011-03/1299571644_1.jpg"/>
          <p:cNvPicPr/>
          <p:nvPr/>
        </p:nvPicPr>
        <p:blipFill>
          <a:blip r:embed="rId3"/>
          <a:stretch/>
        </p:blipFill>
        <p:spPr>
          <a:xfrm>
            <a:off x="6429240" y="400068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www.calorizator.ru/sites/default/files/product/heads-cabbage.jpg"/>
          <p:cNvPicPr/>
          <p:nvPr/>
        </p:nvPicPr>
        <p:blipFill>
          <a:blip r:embed="rId4"/>
          <a:stretch/>
        </p:blipFill>
        <p:spPr>
          <a:xfrm>
            <a:off x="0" y="41432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6" descr=""/>
          <p:cNvPicPr/>
          <p:nvPr/>
        </p:nvPicPr>
        <p:blipFill>
          <a:blip r:embed="rId5"/>
          <a:stretch/>
        </p:blipFill>
        <p:spPr>
          <a:xfrm>
            <a:off x="3578400" y="2932200"/>
            <a:ext cx="381600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6"/>
          <a:stretch/>
        </p:blipFill>
        <p:spPr>
          <a:xfrm>
            <a:off x="628560" y="1365120"/>
            <a:ext cx="7620120" cy="1506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24680" y="189000"/>
            <a:ext cx="35668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 периметр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071800" y="2000160"/>
            <a:ext cx="5072040" cy="2643120"/>
          </a:xfrm>
          <a:prstGeom prst="rect">
            <a:avLst/>
          </a:prstGeom>
          <a:solidFill>
            <a:srgbClr val="00b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3267000" y="804960"/>
            <a:ext cx="240840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3481560" y="4591080"/>
            <a:ext cx="2406600" cy="11509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3"/>
          <a:stretch/>
        </p:blipFill>
        <p:spPr>
          <a:xfrm>
            <a:off x="6765840" y="2657520"/>
            <a:ext cx="240840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4"/>
          <a:stretch/>
        </p:blipFill>
        <p:spPr>
          <a:xfrm>
            <a:off x="49320" y="2730600"/>
            <a:ext cx="240804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7" descr=""/>
          <p:cNvPicPr/>
          <p:nvPr/>
        </p:nvPicPr>
        <p:blipFill>
          <a:blip r:embed="rId5"/>
          <a:stretch/>
        </p:blipFill>
        <p:spPr>
          <a:xfrm>
            <a:off x="5492880" y="5376960"/>
            <a:ext cx="3590640" cy="1152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563760" y="333360"/>
            <a:ext cx="8120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Васи и Ко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арок. Вася подарил из них Кол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стало у них марок в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blogga.ru/image/days/2006/08/29/pixelstamps00.png"/>
          <p:cNvPicPr/>
          <p:nvPr/>
        </p:nvPicPr>
        <p:blipFill>
          <a:blip r:embed="rId1"/>
          <a:stretch/>
        </p:blipFill>
        <p:spPr>
          <a:xfrm>
            <a:off x="826920" y="3284640"/>
            <a:ext cx="4653000" cy="32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3828960" y="1468440"/>
            <a:ext cx="4503960" cy="1384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553320" y="260280"/>
            <a:ext cx="75355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оробке лежа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шарика: чёрных, белых и крас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ых шариков столько же, сколько белых и чё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. Сколько  красных шариков в короб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371680"/>
            <a:ext cx="6467760" cy="1152720"/>
          </a:xfrm>
          <a:prstGeom prst="rect">
            <a:avLst/>
          </a:prstGeom>
          <a:ln w="0">
            <a:noFill/>
          </a:ln>
        </p:spPr>
      </p:pic>
      <p:sp>
        <p:nvSpPr>
          <p:cNvPr id="80" name="Овал 3"/>
          <p:cNvSpPr/>
          <p:nvPr/>
        </p:nvSpPr>
        <p:spPr>
          <a:xfrm>
            <a:off x="1571760" y="4429080"/>
            <a:ext cx="1428480" cy="1428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3214800" y="4500720"/>
            <a:ext cx="142848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4857840" y="4500720"/>
            <a:ext cx="1428840" cy="1428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6643800" y="4429080"/>
            <a:ext cx="1428480" cy="1428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freem</cp:lastModifiedBy>
  <dcterms:modified xsi:type="dcterms:W3CDTF">2020-11-22T15:49:13Z</dcterms:modified>
  <cp:revision>34</cp:revision>
  <dc:subject/>
  <dc:title>Слайд 1</dc:title>
</cp:coreProperties>
</file>