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0AF-CAF1-4C22-BDA6-4B342C60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DF0-8E90-46DE-A943-C04D8667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77F-C3F8-4F74-B219-F92D6409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489-3791-48D6-84D5-F03D56AA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13E-FA53-466E-AA9E-EA04BD19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650-EE91-4E9C-B774-687FBC87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A68-74D3-4CCA-BA4D-24A54695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AB4-E837-4041-83DE-AF261184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8AF-7316-4BE5-960A-AD05DC7B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4E41-F27F-45DE-892B-1FDBFA31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AA8-EB14-4228-9E95-7531C443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D53-214E-4D8D-A685-4B4C69BF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F6CE-5A62-44F3-B65A-8A1B6CEB0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6840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по химии. 8 класс.</a:t>
            </a:r>
            <a:br>
              <a:rPr sz="2400"/>
            </a:br>
            <a:br>
              <a:rPr sz="24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кции разложения, реакции соеди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000" y="3885840"/>
            <a:ext cx="626436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гимназ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г. Сафоново Смолен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читель химии  Петрущенкова Л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604880" y="836640"/>
          <a:ext cx="6999480" cy="3303720"/>
        </p:xfrm>
        <a:graphic>
          <a:graphicData uri="http://schemas.openxmlformats.org/drawingml/2006/table">
            <a:tbl>
              <a:tblPr/>
              <a:tblGrid>
                <a:gridCol w="3498840"/>
                <a:gridCol w="3500640"/>
              </a:tblGrid>
              <a:tr h="477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г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з, два – руки в горизон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 руки в горизонтальной плоскости, одновременно вправо, вле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0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ри, четыре – руки по вертик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 руки резким движением поднимаются вверх и опускаются вни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7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мни, период – это горизонт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и на пояс, наклоны туловища вправо, влев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7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у а группа – это вертикаль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и на пояс, прыжки на мес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635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Разложение перманганата кал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SN\Desktop\Для Натальи Ивановны\img-161031164042-001.jpg"/>
          <p:cNvPicPr/>
          <p:nvPr/>
        </p:nvPicPr>
        <p:blipFill>
          <a:blip r:embed="rId1"/>
          <a:srcRect l="25264" t="49955" r="38756" b="30957"/>
          <a:stretch/>
        </p:blipFill>
        <p:spPr>
          <a:xfrm>
            <a:off x="2627280" y="1700280"/>
            <a:ext cx="5473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635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Разложение воды под действием электрического то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SN\Desktop\Для Натальи Ивановны\img-161031164107-001.jpg"/>
          <p:cNvPicPr/>
          <p:nvPr/>
        </p:nvPicPr>
        <p:blipFill>
          <a:blip r:embed="rId1"/>
          <a:srcRect l="66138" t="14431" r="4575" b="58377"/>
          <a:stretch/>
        </p:blipFill>
        <p:spPr>
          <a:xfrm>
            <a:off x="3203640" y="1484280"/>
            <a:ext cx="38894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635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Разложение гидроксида меди </a:t>
            </a:r>
            <a:r>
              <a:rPr b="1" i="1" lang="en-US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(II) </a:t>
            </a:r>
            <a:br>
              <a:rPr sz="2800"/>
            </a:b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при нагреван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765000"/>
            <a:ext cx="64785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еакции разл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87640" y="2421000"/>
            <a:ext cx="55418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72" name="Овал 3"/>
          <p:cNvSpPr/>
          <p:nvPr/>
        </p:nvSpPr>
        <p:spPr>
          <a:xfrm>
            <a:off x="2843280" y="2781360"/>
            <a:ext cx="482436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В = А +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4"/>
          <p:cNvSpPr/>
          <p:nvPr/>
        </p:nvSpPr>
        <p:spPr>
          <a:xfrm>
            <a:off x="2987640" y="4292640"/>
            <a:ext cx="4824360" cy="936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С  = АВ   +  СВ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908000" y="333360"/>
          <a:ext cx="6624720" cy="4824360"/>
        </p:xfrm>
        <a:graphic>
          <a:graphicData uri="http://schemas.openxmlformats.org/drawingml/2006/table">
            <a:tbl>
              <a:tblPr/>
              <a:tblGrid>
                <a:gridCol w="1866960"/>
                <a:gridCol w="4757760"/>
              </a:tblGrid>
              <a:tr h="600120">
                <a:tc gridSpan="2"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еси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24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химических реа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я реа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3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еди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O+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N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01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о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Cl</a:t>
                      </a:r>
                      <a:r>
                        <a:rPr b="1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Cl</a:t>
                      </a:r>
                      <a:r>
                        <a:rPr b="1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01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Na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2HCl =2 NaCl + C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83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+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01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2 Cu(N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2 Cu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4 N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67658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ишите уравнения химических реакций по следующим схем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626920" y="1844280"/>
            <a:ext cx="583092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71640" y="1413000"/>
          <a:ext cx="7632720" cy="307800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5760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. литий + кислород = оксид ли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2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. карбонат кальция = оксид кальция + оксид углерода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27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. Железо + кислород = железная окалина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00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. Гидроксид железа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= оксид железа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+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649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зменения, происходящие с веществ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евращения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11280" y="1599840"/>
            <a:ext cx="20844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я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716360" y="1599840"/>
            <a:ext cx="36720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 явления (химические реакци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5280" y="274680"/>
            <a:ext cx="685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изнаки химических реак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SN\Desktop\Для Натальи Ивановны\img-161031164149-001.jpg"/>
          <p:cNvPicPr/>
          <p:nvPr/>
        </p:nvPicPr>
        <p:blipFill>
          <a:blip r:embed="rId1"/>
          <a:srcRect l="20242" t="20685" r="63011" b="58637"/>
          <a:stretch/>
        </p:blipFill>
        <p:spPr>
          <a:xfrm>
            <a:off x="1573200" y="981000"/>
            <a:ext cx="1558800" cy="2720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SN\Desktop\Для Натальи Ивановны\img-161031164149-001.jpg"/>
          <p:cNvPicPr/>
          <p:nvPr/>
        </p:nvPicPr>
        <p:blipFill>
          <a:blip r:embed="rId2"/>
          <a:srcRect l="37113" t="21315" r="42888" b="59095"/>
          <a:stretch/>
        </p:blipFill>
        <p:spPr>
          <a:xfrm>
            <a:off x="6659640" y="1468440"/>
            <a:ext cx="1814400" cy="22446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"/>
          <p:cNvPicPr/>
          <p:nvPr/>
        </p:nvPicPr>
        <p:blipFill>
          <a:blip r:embed="rId3"/>
          <a:stretch/>
        </p:blipFill>
        <p:spPr>
          <a:xfrm>
            <a:off x="3564000" y="1841400"/>
            <a:ext cx="25956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680"/>
            <a:ext cx="68515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 реа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экзотермиче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эндотермиче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Вещ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71280" y="1599840"/>
            <a:ext cx="25210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ост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12000" y="1600200"/>
            <a:ext cx="26748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лож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692316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54061"/>
                </a:solidFill>
                <a:uFillTx/>
                <a:latin typeface="Times New Roman"/>
                <a:ea typeface="Times New Roman"/>
              </a:rPr>
              <a:t>Окисление меди в пламени спиртов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54061"/>
                </a:solidFill>
                <a:uFillTx/>
                <a:latin typeface="Times New Roman"/>
                <a:ea typeface="Times New Roman"/>
              </a:rPr>
              <a:t>Взаимодействие оксида кальция с вод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SN\Desktop\Для Натальи Ивановны\img-161031164232-001.jpg"/>
          <p:cNvPicPr/>
          <p:nvPr/>
        </p:nvPicPr>
        <p:blipFill>
          <a:blip r:embed="rId1"/>
          <a:srcRect l="33628" t="11956" r="19456" b="72657"/>
          <a:stretch/>
        </p:blipFill>
        <p:spPr>
          <a:xfrm>
            <a:off x="2084400" y="1773360"/>
            <a:ext cx="621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920" y="765000"/>
            <a:ext cx="64785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еакции соеди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987640" y="2421000"/>
            <a:ext cx="55418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62" name="Овал 3"/>
          <p:cNvSpPr/>
          <p:nvPr/>
        </p:nvSpPr>
        <p:spPr>
          <a:xfrm>
            <a:off x="2843280" y="2781360"/>
            <a:ext cx="482436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+ В = А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Овал 4"/>
          <p:cNvSpPr/>
          <p:nvPr/>
        </p:nvSpPr>
        <p:spPr>
          <a:xfrm>
            <a:off x="2987640" y="4292640"/>
            <a:ext cx="4824360" cy="936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 + СВ = АВ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6:10:27Z</dcterms:created>
  <dc:creator>Катенок</dc:creator>
  <dc:description/>
  <dc:language>en-US</dc:language>
  <cp:lastModifiedBy>Дед</cp:lastModifiedBy>
  <dcterms:modified xsi:type="dcterms:W3CDTF">2020-11-21T23:26:37Z</dcterms:modified>
  <cp:revision>33</cp:revision>
  <dc:subject/>
  <dc:title>Презентация PowerPoint</dc:title>
</cp:coreProperties>
</file>