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054-915E-4D0B-89B7-25D68564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7F3-6B76-4522-A987-87C7565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55F-B8E4-4EA1-A478-FE4DE264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8A7-0B70-40A6-9D98-37C17F7D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EFA-1145-4924-93CC-EB49433E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741-F0AD-4D10-A052-3A14E39C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A4C-F4AD-48E2-AA2A-1C664D24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4A6-3903-46FF-AC5C-BCA6916C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425-8D88-458C-A435-0831B45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F38-8DBE-42CF-9C10-BAEDCE3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C3D-5140-4738-AE4A-34DACBE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991-B6D9-4888-9F23-15423DBD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B0F-6749-4F81-9A03-6AD853639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286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Угол. Виды угло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artcity.lv/uploads/posts/2008-01/1200491667_xakep7.jpg"/>
          <p:cNvPicPr/>
          <p:nvPr/>
        </p:nvPicPr>
        <p:blipFill>
          <a:blip r:embed="rId1"/>
          <a:stretch/>
        </p:blipFill>
        <p:spPr>
          <a:xfrm>
            <a:off x="3214800" y="4713120"/>
            <a:ext cx="5510160" cy="1835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95280" y="189000"/>
            <a:ext cx="85345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орнамента взя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жёлтых пуговиц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ричнев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елых. На сколько больше пуговиц жёлтых, чем бел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ичневых в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158760" y="3170160"/>
            <a:ext cx="85471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981000" y="1573200"/>
            <a:ext cx="725508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83520" y="357120"/>
            <a:ext cx="22366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523800" y="738360"/>
            <a:ext cx="2365560" cy="1590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523800" y="1736640"/>
            <a:ext cx="2365560" cy="1592280"/>
          </a:xfrm>
          <a:prstGeom prst="rect">
            <a:avLst/>
          </a:prstGeom>
          <a:ln w="0">
            <a:noFill/>
          </a:ln>
        </p:spPr>
      </p:pic>
      <p:sp>
        <p:nvSpPr>
          <p:cNvPr id="50" name="Минус 4"/>
          <p:cNvSpPr/>
          <p:nvPr/>
        </p:nvSpPr>
        <p:spPr>
          <a:xfrm>
            <a:off x="571680" y="2000160"/>
            <a:ext cx="857160" cy="500040"/>
          </a:xfrm>
          <a:custGeom>
            <a:avLst/>
            <a:gdLst>
              <a:gd name="textAreaLeft" fmla="*/ 113400 w 857160"/>
              <a:gd name="textAreaRight" fmla="*/ 743760 w 85716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857250" h="500063">
                <a:moveTo>
                  <a:pt x="113628" y="191224"/>
                </a:moveTo>
                <a:lnTo>
                  <a:pt x="743622" y="191224"/>
                </a:lnTo>
                <a:lnTo>
                  <a:pt x="743622" y="308839"/>
                </a:lnTo>
                <a:lnTo>
                  <a:pt x="113628" y="308839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инус 5"/>
          <p:cNvSpPr/>
          <p:nvPr/>
        </p:nvSpPr>
        <p:spPr>
          <a:xfrm>
            <a:off x="642960" y="3071880"/>
            <a:ext cx="2000160" cy="500040"/>
          </a:xfrm>
          <a:custGeom>
            <a:avLst/>
            <a:gdLst>
              <a:gd name="textAreaLeft" fmla="*/ 264960 w 2000160"/>
              <a:gd name="textAreaRight" fmla="*/ 1735200 w 200016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2000250" h="500062">
                <a:moveTo>
                  <a:pt x="265133" y="191224"/>
                </a:moveTo>
                <a:lnTo>
                  <a:pt x="1735117" y="191224"/>
                </a:lnTo>
                <a:lnTo>
                  <a:pt x="1735117" y="308838"/>
                </a:lnTo>
                <a:lnTo>
                  <a:pt x="265133" y="308838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6" descr=""/>
          <p:cNvPicPr/>
          <p:nvPr/>
        </p:nvPicPr>
        <p:blipFill>
          <a:blip r:embed="rId3"/>
          <a:stretch/>
        </p:blipFill>
        <p:spPr>
          <a:xfrm>
            <a:off x="523800" y="2951280"/>
            <a:ext cx="2365560" cy="1590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4"/>
          <a:stretch/>
        </p:blipFill>
        <p:spPr>
          <a:xfrm>
            <a:off x="2809800" y="665280"/>
            <a:ext cx="2365560" cy="1590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5"/>
          <a:stretch/>
        </p:blipFill>
        <p:spPr>
          <a:xfrm>
            <a:off x="2876400" y="1736640"/>
            <a:ext cx="2365560" cy="1592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6"/>
          <a:stretch/>
        </p:blipFill>
        <p:spPr>
          <a:xfrm>
            <a:off x="2809800" y="2951280"/>
            <a:ext cx="2365560" cy="15904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0" descr=""/>
          <p:cNvPicPr/>
          <p:nvPr/>
        </p:nvPicPr>
        <p:blipFill>
          <a:blip r:embed="rId7"/>
          <a:stretch/>
        </p:blipFill>
        <p:spPr>
          <a:xfrm>
            <a:off x="5522760" y="665280"/>
            <a:ext cx="2365560" cy="15904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1" descr=""/>
          <p:cNvPicPr/>
          <p:nvPr/>
        </p:nvPicPr>
        <p:blipFill>
          <a:blip r:embed="rId8"/>
          <a:stretch/>
        </p:blipFill>
        <p:spPr>
          <a:xfrm>
            <a:off x="5595840" y="1663560"/>
            <a:ext cx="2365560" cy="15973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2" descr=""/>
          <p:cNvPicPr/>
          <p:nvPr/>
        </p:nvPicPr>
        <p:blipFill>
          <a:blip r:embed="rId9"/>
          <a:stretch/>
        </p:blipFill>
        <p:spPr>
          <a:xfrm>
            <a:off x="5595840" y="2876400"/>
            <a:ext cx="2365560" cy="1598760"/>
          </a:xfrm>
          <a:prstGeom prst="rect">
            <a:avLst/>
          </a:prstGeom>
          <a:ln w="0">
            <a:noFill/>
          </a:ln>
        </p:spPr>
      </p:pic>
      <p:sp>
        <p:nvSpPr>
          <p:cNvPr id="59" name="Минус 13"/>
          <p:cNvSpPr/>
          <p:nvPr/>
        </p:nvSpPr>
        <p:spPr>
          <a:xfrm>
            <a:off x="5286240" y="1928880"/>
            <a:ext cx="857520" cy="500040"/>
          </a:xfrm>
          <a:custGeom>
            <a:avLst/>
            <a:gdLst>
              <a:gd name="textAreaLeft" fmla="*/ 113400 w 857520"/>
              <a:gd name="textAreaRight" fmla="*/ 744120 w 85752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857250" h="500062">
                <a:moveTo>
                  <a:pt x="113628" y="191224"/>
                </a:moveTo>
                <a:lnTo>
                  <a:pt x="743622" y="191224"/>
                </a:lnTo>
                <a:lnTo>
                  <a:pt x="743622" y="308838"/>
                </a:lnTo>
                <a:lnTo>
                  <a:pt x="113628" y="308838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инус 14"/>
          <p:cNvSpPr/>
          <p:nvPr/>
        </p:nvSpPr>
        <p:spPr>
          <a:xfrm>
            <a:off x="2786040" y="2071800"/>
            <a:ext cx="857160" cy="500040"/>
          </a:xfrm>
          <a:custGeom>
            <a:avLst/>
            <a:gdLst>
              <a:gd name="textAreaLeft" fmla="*/ 113400 w 857160"/>
              <a:gd name="textAreaRight" fmla="*/ 743760 w 85716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857250" h="500062">
                <a:moveTo>
                  <a:pt x="113628" y="191224"/>
                </a:moveTo>
                <a:lnTo>
                  <a:pt x="743622" y="191224"/>
                </a:lnTo>
                <a:lnTo>
                  <a:pt x="743622" y="308838"/>
                </a:lnTo>
                <a:lnTo>
                  <a:pt x="113628" y="308838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инус 15"/>
          <p:cNvSpPr/>
          <p:nvPr/>
        </p:nvSpPr>
        <p:spPr>
          <a:xfrm rot="16200000">
            <a:off x="2750400" y="2107080"/>
            <a:ext cx="857160" cy="500040"/>
          </a:xfrm>
          <a:custGeom>
            <a:avLst/>
            <a:gdLst>
              <a:gd name="textAreaLeft" fmla="*/ 113400 w 857160"/>
              <a:gd name="textAreaRight" fmla="*/ 743760 w 857160"/>
              <a:gd name="textAreaTop" fmla="*/ 191160 h 500040"/>
              <a:gd name="textAreaBottom" fmla="*/ 308880 h 500040"/>
            </a:gdLst>
            <a:ahLst/>
            <a:rect l="textAreaLeft" t="textAreaTop" r="textAreaRight" b="textAreaBottom"/>
            <a:pathLst>
              <a:path w="857250" h="500062">
                <a:moveTo>
                  <a:pt x="113628" y="191224"/>
                </a:moveTo>
                <a:lnTo>
                  <a:pt x="743622" y="191224"/>
                </a:lnTo>
                <a:lnTo>
                  <a:pt x="743622" y="308838"/>
                </a:lnTo>
                <a:lnTo>
                  <a:pt x="113628" y="308838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инус 16"/>
          <p:cNvSpPr/>
          <p:nvPr/>
        </p:nvSpPr>
        <p:spPr>
          <a:xfrm>
            <a:off x="3071880" y="3071880"/>
            <a:ext cx="1714320" cy="571320"/>
          </a:xfrm>
          <a:custGeom>
            <a:avLst/>
            <a:gdLst>
              <a:gd name="textAreaLeft" fmla="*/ 227160 w 1714320"/>
              <a:gd name="textAreaRight" fmla="*/ 1487160 w 1714320"/>
              <a:gd name="textAreaTop" fmla="*/ 218520 h 571320"/>
              <a:gd name="textAreaBottom" fmla="*/ 352800 h 571320"/>
            </a:gdLst>
            <a:ahLst/>
            <a:rect l="textAreaLeft" t="textAreaTop" r="textAreaRight" b="textAreaBottom"/>
            <a:pathLst>
              <a:path w="1714500" h="571500">
                <a:moveTo>
                  <a:pt x="227257" y="218542"/>
                </a:moveTo>
                <a:lnTo>
                  <a:pt x="1487243" y="218542"/>
                </a:lnTo>
                <a:lnTo>
                  <a:pt x="1487243" y="352958"/>
                </a:lnTo>
                <a:lnTo>
                  <a:pt x="227257" y="352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инус 17"/>
          <p:cNvSpPr/>
          <p:nvPr/>
        </p:nvSpPr>
        <p:spPr>
          <a:xfrm>
            <a:off x="5929200" y="2928960"/>
            <a:ext cx="1714680" cy="571320"/>
          </a:xfrm>
          <a:custGeom>
            <a:avLst/>
            <a:gdLst>
              <a:gd name="textAreaLeft" fmla="*/ 227160 w 1714680"/>
              <a:gd name="textAreaRight" fmla="*/ 1487520 w 1714680"/>
              <a:gd name="textAreaTop" fmla="*/ 218520 h 571320"/>
              <a:gd name="textAreaBottom" fmla="*/ 352800 h 571320"/>
            </a:gdLst>
            <a:ahLst/>
            <a:rect l="textAreaLeft" t="textAreaTop" r="textAreaRight" b="textAreaBottom"/>
            <a:pathLst>
              <a:path w="1714500" h="571500">
                <a:moveTo>
                  <a:pt x="227257" y="218542"/>
                </a:moveTo>
                <a:lnTo>
                  <a:pt x="1487243" y="218542"/>
                </a:lnTo>
                <a:lnTo>
                  <a:pt x="1487243" y="352958"/>
                </a:lnTo>
                <a:lnTo>
                  <a:pt x="227257" y="352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14240" y="285840"/>
          <a:ext cx="8072640" cy="5429160"/>
        </p:xfrm>
        <a:graphic>
          <a:graphicData uri="http://schemas.openxmlformats.org/drawingml/2006/table">
            <a:tbl>
              <a:tblPr/>
              <a:tblGrid>
                <a:gridCol w="1152720"/>
                <a:gridCol w="1154160"/>
                <a:gridCol w="1152360"/>
                <a:gridCol w="1154160"/>
                <a:gridCol w="1152360"/>
                <a:gridCol w="1154160"/>
                <a:gridCol w="115272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" name="TextBox 2"/>
          <p:cNvSpPr/>
          <p:nvPr/>
        </p:nvSpPr>
        <p:spPr>
          <a:xfrm>
            <a:off x="714240" y="5857920"/>
            <a:ext cx="8001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каждого числа третьего столбца вычтит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результ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ньшите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писанный звук" descr=""/>
          <p:cNvPicPr/>
          <p:nvPr/>
        </p:nvPicPr>
        <p:blipFill>
          <a:blip r:embed="rId1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9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500120" y="285840"/>
            <a:ext cx="5786640" cy="5786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 rot="18893400">
            <a:off x="2395080" y="1153800"/>
            <a:ext cx="4129200" cy="4039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"/>
          <p:cNvSpPr/>
          <p:nvPr/>
        </p:nvSpPr>
        <p:spPr>
          <a:xfrm flipH="1">
            <a:off x="4428720" y="285840"/>
            <a:ext cx="71640" cy="571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53080" y="6215040"/>
            <a:ext cx="8675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читай треугольники,  квадраты. Какие ещё видишь фиг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857160" y="285840"/>
            <a:ext cx="6572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акие 2 группы можно разделить фиг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Хорда 2"/>
          <p:cNvSpPr/>
          <p:nvPr/>
        </p:nvSpPr>
        <p:spPr>
          <a:xfrm>
            <a:off x="642960" y="1071720"/>
            <a:ext cx="2357280" cy="192852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357437" h="1928812">
                <a:moveTo>
                  <a:pt x="1925127" y="1710815"/>
                </a:moveTo>
                <a:lnTo>
                  <a:pt x="1925127" y="1710815"/>
                </a:lnTo>
                <a:arcTo wR="1178719" hR="964406" stAng="2700000" swAng="13500004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араллелограмм 3"/>
          <p:cNvSpPr/>
          <p:nvPr/>
        </p:nvSpPr>
        <p:spPr>
          <a:xfrm>
            <a:off x="6429240" y="1643040"/>
            <a:ext cx="2000520" cy="2714760"/>
          </a:xfrm>
          <a:prstGeom prst="parallelogram">
            <a:avLst>
              <a:gd name="adj" fmla="val 25000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6215040" y="5000760"/>
            <a:ext cx="2500200" cy="14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1071720" y="4214880"/>
            <a:ext cx="3071520" cy="18572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ятиугольник 6"/>
          <p:cNvSpPr/>
          <p:nvPr/>
        </p:nvSpPr>
        <p:spPr>
          <a:xfrm>
            <a:off x="3929040" y="1571760"/>
            <a:ext cx="2214720" cy="142848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32" y="0"/>
                </a:lnTo>
                <a:lnTo>
                  <a:pt x="21600" y="10800"/>
                </a:lnTo>
                <a:lnTo>
                  <a:pt x="146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7"/>
          <p:cNvSpPr/>
          <p:nvPr/>
        </p:nvSpPr>
        <p:spPr>
          <a:xfrm>
            <a:off x="4357800" y="3429000"/>
            <a:ext cx="1428480" cy="1857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freem</cp:lastModifiedBy>
  <dcterms:modified xsi:type="dcterms:W3CDTF">2020-11-22T15:59:04Z</dcterms:modified>
  <cp:revision>28</cp:revision>
  <dc:subject/>
  <dc:title>Слайд 1</dc:title>
</cp:coreProperties>
</file>