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FAF-D840-4DF4-AE7B-E3A63ED0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868-1B4E-4D95-81A3-B827F28B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8EB-CF81-4AC7-8666-E4C3EFEA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26D-B777-45C3-A8EB-8BF92CDB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FAA-3731-4676-A0C5-81780126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F4D-F028-4531-962E-1E416699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4B5-89BE-4678-BF18-A9012CE1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BC5-E31F-471E-A614-2984070D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C3A-A294-40B6-97FB-6C74A4A1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09B-BB35-4C98-B1B3-6C450F0C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CC9-733F-44A0-9FF7-FF24C64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853-B783-4F53-A93E-5BE62BF8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214E-A8EE-4A31-95D6-7DE6C13A84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Умножение 2 на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19664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ди частно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ое число нужно умножить на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чтобы получит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ди произведени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6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скольк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76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ше, чем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8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 Найди частное чисел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6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 Делимо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делитель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5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Чему равно частн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 1 множитель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торой множител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извед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 Какое число умножили на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и получил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5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798840" y="285840"/>
            <a:ext cx="2288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иши 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1773360"/>
            <a:ext cx="3414600" cy="17319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328680" y="4913280"/>
            <a:ext cx="3414600" cy="17319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3"/>
          <a:stretch/>
        </p:blipFill>
        <p:spPr>
          <a:xfrm>
            <a:off x="5754600" y="3273480"/>
            <a:ext cx="3413160" cy="17319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4"/>
          <a:stretch/>
        </p:blipFill>
        <p:spPr>
          <a:xfrm>
            <a:off x="328680" y="3340080"/>
            <a:ext cx="3414600" cy="1731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5"/>
          <a:stretch/>
        </p:blipFill>
        <p:spPr>
          <a:xfrm>
            <a:off x="5754600" y="1700280"/>
            <a:ext cx="3413160" cy="1731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6"/>
          <a:stretch/>
        </p:blipFill>
        <p:spPr>
          <a:xfrm>
            <a:off x="2968560" y="3273480"/>
            <a:ext cx="3413160" cy="17319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7"/>
          <a:stretch/>
        </p:blipFill>
        <p:spPr>
          <a:xfrm>
            <a:off x="5619600" y="4913280"/>
            <a:ext cx="392616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" descr=""/>
          <p:cNvPicPr/>
          <p:nvPr/>
        </p:nvPicPr>
        <p:blipFill>
          <a:blip r:embed="rId8"/>
          <a:stretch/>
        </p:blipFill>
        <p:spPr>
          <a:xfrm>
            <a:off x="2968560" y="1773360"/>
            <a:ext cx="3413160" cy="17319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9" descr=""/>
          <p:cNvPicPr/>
          <p:nvPr/>
        </p:nvPicPr>
        <p:blipFill>
          <a:blip r:embed="rId9"/>
          <a:stretch/>
        </p:blipFill>
        <p:spPr>
          <a:xfrm>
            <a:off x="2968560" y="4913280"/>
            <a:ext cx="3413160" cy="1731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906120" y="404640"/>
            <a:ext cx="1877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ови от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71680" y="285840"/>
          <a:ext cx="8358120" cy="4143240"/>
        </p:xfrm>
        <a:graphic>
          <a:graphicData uri="http://schemas.openxmlformats.org/drawingml/2006/table">
            <a:tbl>
              <a:tblPr/>
              <a:tblGrid>
                <a:gridCol w="3627360"/>
                <a:gridCol w="1576440"/>
                <a:gridCol w="1655640"/>
                <a:gridCol w="1498680"/>
              </a:tblGrid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множите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?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ножите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?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еден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7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?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1" descr="D:\2 класс рабочая папка\математика\плакаты  материалы\гномы\64201005_1284869752_15[1].png"/>
          <p:cNvPicPr/>
          <p:nvPr/>
        </p:nvPicPr>
        <p:blipFill>
          <a:blip r:embed="rId1"/>
          <a:stretch/>
        </p:blipFill>
        <p:spPr>
          <a:xfrm>
            <a:off x="7143840" y="4745160"/>
            <a:ext cx="1631880" cy="2112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453600" y="214200"/>
            <a:ext cx="8288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рашая зал, школьники развесил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сных 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10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ёлт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аров. Сколько шаров им осталось развесить,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начально  был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ша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D:\клипарты\игрушкиа\2a1cc569832a.png"/>
          <p:cNvPicPr/>
          <p:nvPr/>
        </p:nvPicPr>
        <p:blipFill>
          <a:blip r:embed="rId1"/>
          <a:stretch/>
        </p:blipFill>
        <p:spPr>
          <a:xfrm>
            <a:off x="0" y="3214800"/>
            <a:ext cx="3036960" cy="32749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2"/>
          <a:stretch/>
        </p:blipFill>
        <p:spPr>
          <a:xfrm>
            <a:off x="1011240" y="1657440"/>
            <a:ext cx="705312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3"/>
          <a:stretch/>
        </p:blipFill>
        <p:spPr>
          <a:xfrm>
            <a:off x="4059360" y="4950000"/>
            <a:ext cx="4194000" cy="15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клипарты\игрушкиа\2a1cc569832a.png"/>
          <p:cNvPicPr/>
          <p:nvPr/>
        </p:nvPicPr>
        <p:blipFill>
          <a:blip r:embed="rId4"/>
          <a:stretch/>
        </p:blipFill>
        <p:spPr>
          <a:xfrm>
            <a:off x="928800" y="4392720"/>
            <a:ext cx="2286000" cy="246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39640" y="285840"/>
            <a:ext cx="78552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а мальчика нашли в лесу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грибов, оба поров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лько грибов нашёл в лесу каждый мальч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D:\клипарты\грибы\4dcbc5ab5cff.png"/>
          <p:cNvPicPr/>
          <p:nvPr/>
        </p:nvPicPr>
        <p:blipFill>
          <a:blip r:embed="rId1"/>
          <a:stretch/>
        </p:blipFill>
        <p:spPr>
          <a:xfrm>
            <a:off x="642960" y="2727360"/>
            <a:ext cx="3214800" cy="38066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3273480" y="5108400"/>
            <a:ext cx="5840280" cy="15051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3"/>
          <a:stretch/>
        </p:blipFill>
        <p:spPr>
          <a:xfrm>
            <a:off x="2620800" y="1268280"/>
            <a:ext cx="5937480" cy="1382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freem</cp:lastModifiedBy>
  <dcterms:modified xsi:type="dcterms:W3CDTF">2020-11-22T16:19:17Z</dcterms:modified>
  <cp:revision>27</cp:revision>
  <dc:subject/>
  <dc:title>Слайд 1</dc:title>
</cp:coreProperties>
</file>