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FE2-F924-4059-89D5-87E300B9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2B1-6441-4A51-A725-5A225239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80F-9645-400B-BFFF-79A30FA1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A66-9E68-4589-9224-9823E9A2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5BB-C0D5-45F3-8B97-620A89A6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67C-43EE-4147-B432-724C6A19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EBE-9E14-4B9D-AC98-9A333B37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302-A1E1-4383-AB92-1096E607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5E1-59E3-405D-A2C7-8914AC4D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2DB-006E-406A-95FC-E026F8E2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B2C-BEEA-47E1-80B1-89B85DE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BAD-CC5D-422D-A8A6-8D0B4B52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19CC-0A5A-49D5-B052-ED6813EAD09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Развитие психических процессов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льность внимания, его устойчивость и переключаем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ь, мышление, воображение, восприяти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зрительное, тактильное, слуховое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умственные спосо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координации, в том числе зрительно-моторн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Противопоказа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убокая умственная отстал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екцион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у учащегося частых эпилептических припад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ерактивные дети (ограничение по времен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неврологически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Методы работы в сенсорной комнате: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гры и игровые упражн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пециальное оборудование для развитие восприятия, внимания, мышле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ыхательные упражн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лаксационные упражн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еседы и сказкотерап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блюд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сочная терап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зыкотерапия со звуками природы и животных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го-конструирование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Проведение занятий в сенсорной комнате осуществляется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начению врача невролог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решению ПМПК и ПМПк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наблюдению педагогов и психолог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запросу р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Занятия имеют следующую структуру: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туал начала занят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рефлексия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е задание на развитие психических процесс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аксационное упражнение, позволяющее детям расслабиться, снять мышечное и психоэмоциональное напряж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туал окончания занят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рефлексия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родолжительность занятия: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тельность занятия – 20-25 мину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занятия может уменьшаться из-за психоэмоционального состояния воспитан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Возможности сенсорной комна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моциональное развитие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нятие психоэмоционального и телесного напряжения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(психоэмоциональная разгрузка)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витие навыков саморегуляции и самоконтрол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ренировка стрессоустойчивост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сихогимнастика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ммуникативные игры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витие позитивного отношения к себе и к окружающему миру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витие двигательной функ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витие психических и познавательных процесс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Impact"/>
              </a:rPr>
              <a:t>Рекомендации по проведению работы в сенсорной комнате с детьми, имеющими нарушения в развитии:</a:t>
            </a: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детей познакомить с правилами поведения и работы в сенсорной комна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ое число дет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внешних шумов во время проведения занят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ность и структурированность занят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Воздушно-пузырьковая колонна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ет сильную зрительную, тактильную, слуховую стимуляци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зырьковая трубка мягко меняет цвет по всей высоте распространения пузырь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коснувшись  к трубке, вы почувствуете мягкую вибрацию пузырь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опасное угловое зеркало создает  оптический эффект расширения простран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Мягкая форма «Остров»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ягкое бескаркасное кресло среднего размера в форме «острова», наполненное пенопластовыми гранул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идение служит идеальной опорой для сидящего или лежащего ребенка, принимая форму его тел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пользуется в целях снятия физического напряжения и чувства усталости. Гранулы, наполняющие пуфик, оказывают мягкое приятное воздействие, способствуя лучшему расслаблению за счёт лёгкого точечного массаж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енсорная комната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литературе встречаются другие назв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ната психологической разгруз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ната релакс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ната «Снузли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льтисенсорная комн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ухой бассейн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нижение уровня психоэмоционального напряже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нижение двигательного тонуса. Регуляция мышечного напряж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: кинестетической и тактильной чувствительности;образа тел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странственных восприятий и представлений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приоцептивной чувствите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ррекция уровня тревожности, агрессив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Зеркальный шар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жит для релаксации и зрительной стимуляции. С помощью источника света зеркальный шар наполняет все пространство комнаты яркими светящимися точками, которые медленно двигаются, меняют цвета и создают необыкновенный визуальный эфф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00519"/>
          <p:cNvPicPr/>
          <p:nvPr/>
        </p:nvPicPr>
        <p:blipFill>
          <a:blip r:embed="rId1"/>
          <a:stretch/>
        </p:blipFill>
        <p:spPr>
          <a:xfrm>
            <a:off x="4191120" y="3733920"/>
            <a:ext cx="44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роектор «Звездное небо»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тор воспроизводит проекцию ночного неба с россыпью звезд различной величины и плывущих туманностей, которые можно регулировать вручную, установив желаемый режи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58bc71bf5909464cdd7dc454e6eef47a"/>
          <p:cNvPicPr/>
          <p:nvPr/>
        </p:nvPicPr>
        <p:blipFill>
          <a:blip r:embed="rId1"/>
          <a:stretch/>
        </p:blipFill>
        <p:spPr>
          <a:xfrm>
            <a:off x="5029200" y="3124080"/>
            <a:ext cx="3505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Фиброоптический модуль «Тучка»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ствует развитию фантазии, восстановлению зрения, развивает тактиль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щущения и моторик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7264f04247418bbe69f730a31a27302e"/>
          <p:cNvPicPr/>
          <p:nvPr/>
        </p:nvPicPr>
        <p:blipFill>
          <a:blip r:embed="rId1"/>
          <a:stretch/>
        </p:blipFill>
        <p:spPr>
          <a:xfrm>
            <a:off x="4952880" y="2743200"/>
            <a:ext cx="38484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440" y="990720"/>
            <a:ext cx="762012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Impact"/>
              </a:rPr>
              <a:t>Сенсорная комната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– это комната где происходят самые настоящие чудеса, попадая в нее, попадаешь в сказку, получаешь море впечатлений и положительных эмоций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Результат работы в сенсорной комнате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ение навыков произвольной саморегуля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агрессивности, тревожнос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нность умения понимать и принимать эмоциональное состояние свое и окружающи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ие взаимодействовать в групп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состояния расслаб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«Мысленная картин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Выполняется с использованием воздушно-пузырьковой колонны, Панно «Звездное небо», тактильной панели любого вида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ль: создание хорошего настроения; тренировка зрительной памя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ей просят посмотреть на одно из вышеперечисленных изделий, закрыть глазки и попытаться удержать увиденное в памяти. Обсуждение: удалось ли удержать в памяти увиденное с закрытыми глазами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Упражнение «Сжимаем крепч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Это упражнение выполняется с помощью изделия на базе пучка фибероптических волокон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ли: развитие аналитического восприятия свойств и признаков предмета; развитие тактильных ощущений, мелкой моторик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Ход упражнения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дагог обращает внимание детей на светящиеся волокна, называя их признаки (мягкие, длинные и т.д.). Обращается к детям: «Так как волокна мягкие, их можно сгибать. Давайте соберем волокно в ручке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дагог показывает детям, как можно собрать волокно в ладошк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повторении упражнения следует усложнить задачу: количество волокон, включенное в одно задание должно постепенно увеличив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«Мои эмоци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Выполняется с использованием панели «Полет в Бесконечность»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ль: создание положительного эмоционального состояния; мотивирование детей на изучение эмоционального мира; способность осознавать эмо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и по очереди подходят к зеркалу и показывают эмоцию, которая ребенку на данный момент близка, а остальные дети отгадывают и называют ее. Далее ведется обсуждение, почему люди испытывают те или иные эмо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Упражнение «Поймай звездочку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ли: активизация зрительного восприятия; формирование фиксации взора, концентрации внимания, плавного прослеживания движения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Ход упражнения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едагог обращает внимание детей на крутящийся и создающий разноцветные блики - «мерцающие звезды» - зеркальный шар: «Смотрите, как много звезд! Заметьте, одна звездочка улыбается вам. Вон она полетела. Давайте поймаем ее глазками, - она хочет с вами поиграть»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ети ловят взглядом звездочк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нсорная комната – это среда, состоящая из множества различного рода стимуляторов, которые воздействуют на органы зрения, слуха, обоняния и вестибулярные рецепто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нсорная комната создает ощущение безопасности и защищенности, положительный эмоциональный фон, снижает беспокойство и агрессивность, снимает нервное возбуждение и тревожность, активизирует мозговую деятельность. Это комфортная обстановка, сохраняющая и укрепляющая здоровье де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«Золотая рыб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(Для игры используется воздушно-пузырьковая колонна с рыбками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ль игры: сплочение детского коллектива; зарядка положительными эмоциями; развитие коммуникативных навыков; стимуляция зрительных и тактильных анализаторов; развитие цветового восприятия; релаксационный эффект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ети устраиваются вокруг колонны, выбирают каждый себе рыбку по цвету и наблюдают за подъемом и спусканием рыбок под воздействием воздуха. Создается соревновательная обстановка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Упражнение «Звездное неб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ли: обогащение сенсорного опыта; развитие зрительного восприят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Ход упражн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и и педагог лежат на мягком модуле, любуясь Потолочной панелью «Звездное небо» или Плиткой «Звездное небо»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дагог спрашивает детей, в какое время суток могут гореть звездочк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и рассматривают небо, определяя цвет, форму, размер звездочек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«На космическом корабле</a:t>
            </a: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Выполняется с использованием панели «Полет в Бесконечность»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ль: тренировка и укрепление глазной мышцы, развитие глазо-двигательной координ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ям предлагается представить себя на космическом корабле, посмотреть в иллюминатор и представить, что там, где-то далеко, видна наша планета. Обязательное условие: смотрим на ближайший квадрат, а затем на отдаленный. Ведется разговор о том, что же дети смогли увидеть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У водопад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Выполняется при использовании модуля «Волшебный фонтан»; занятие сопровождается музыкальной композицией «Водопад» или «У ручья»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Цель: общая релаксация; развитие слуха, воображения и коммуникаци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ети полукругом размещаются у фонтана, принимают удобное положение и вслушиваются в шум стекающей воды. При этом необходимо закрыть глазки и включить воображение, для того чтобы оказаться на красивом острове у водопада. Представить, какой водопад, войти в него, поплескаться, почувствовать, какая вода, и пр. По окончании упражнения проводится обсуждение: кому удалось представить себе водопад? Рассказать, что он там видел, смог ли почувствовать воду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6840" y="304560"/>
            <a:ext cx="75438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первые понятие «сенсорная комната» было введено М. Монтессор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Maria-Montessori-home1"/>
          <p:cNvPicPr/>
          <p:nvPr/>
        </p:nvPicPr>
        <p:blipFill>
          <a:blip r:embed="rId1"/>
          <a:stretch/>
        </p:blipFill>
        <p:spPr>
          <a:xfrm>
            <a:off x="762120" y="2133720"/>
            <a:ext cx="6705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сорная комната предназначена для индивидуальной и подгрупповой коррекционно-развивающей работы с детьми, имеющих различные трудности в развитии и повед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В образовательном учреждении сенсорная комната используется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в следующих направлениях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рофилактические занятия для детей от 3-хлет и старш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занятия с детьми по уменьшению тревожного состоя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филактика эмоционального выгорания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Цели и задачи занятий в сенсорной комнате: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2" name="Объект 1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Развитие и гармонизация эмоционально-волевой сферы детей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нятие психоэмоционального напряж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аморегуляция и самоконтрол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ие управлять своим телом, дыхание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ие передавать свои ощущения в реч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ие расслабляться, освобождаться от напряж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ормирование представлений о положительных и отрицательных эмоция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ренность в себ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Развитие коммуникативной сферы воспитанников: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патические чувства, желание оказывать друг другу эмоциональную и физическую поддержк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мотивации к общению и развитие коммуникативных навы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одоление негативных эмоций по отношению к сверстника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агрессивность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6:48:10Z</dcterms:created>
  <dc:creator>Иван</dc:creator>
  <dc:description/>
  <dc:language>en-US</dc:language>
  <cp:lastModifiedBy>ОЛЕНЬ</cp:lastModifiedBy>
  <dcterms:modified xsi:type="dcterms:W3CDTF">2020-07-13T09:33:0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