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9126-24FD-4165-9492-7A67394CC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E2C5-5CD1-4A91-AD13-4DCEE0C84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D32B-D322-4C82-AAA4-6BE3CA246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524A-0689-4D49-9573-AB62084CC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D1F7-2FB8-4127-9B12-8E7CF3802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4CE5-A593-4147-A74A-273A9946D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0D4D-342A-4B32-8B51-422725F57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C0AA-CEC7-41A5-BEA1-30B089C03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50C7-F11C-4AD3-937C-557C6F3C3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2257-8E49-49EF-86FF-BD6E1710F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AD9D-8FBC-4347-8741-D247308C5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661B-7B83-4FCE-B828-A9CF7D9DA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6986C-14C5-4C10-A7A7-6594F275074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42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Impact"/>
              </a:rPr>
              <a:t>Развитие психических процессов: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извольность внимания, его устойчивость и переключаемост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амять, мышление, воображение, восприятие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(зрительное, тактильное, слуховое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умственные способност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витие координации, в том числе зрительно-моторной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Impact"/>
              </a:rPr>
              <a:t>Противопоказания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лубокая умственная отстал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фекционные заболев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личие у учащегося частых эпилептических припадк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иперактивные дети (ограничение по времени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сихоневрологические заболев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Impact"/>
              </a:rPr>
              <a:t>Методы работы в сенсорной комнате: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гры и игровые упражнения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пециальное оборудование для развитие восприятия, внимания, мышления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дыхательные упражнения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елаксационные упражнения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беседы и сказкотерапия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блюдения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есочная терапия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узыкотерапия со звуками природы и животных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лего-конструирование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Impact"/>
              </a:rPr>
              <a:t>Проведение занятий в сенсорной комнате осуществляется: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значению врача невролога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 решению ПМПК и ПМПк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 наблюдению педагогов и психолога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 запросу родителей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Impact"/>
              </a:rPr>
              <a:t>Занятия имеют следующую структуру: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итуал начала занятия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(рефлексия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гровое задание на развитие психических процессо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лаксационное упражнение, позволяющее детям расслабиться, снять мышечное и психоэмоциональное напряжени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итуал окончания занятия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(рефлексия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Impact"/>
              </a:rPr>
              <a:t>Продолжительность занятия: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ительность занятия – 20-25 минут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ремя занятия может уменьшаться из-за психоэмоционального состояния воспитанни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Impact"/>
              </a:rPr>
              <a:t>Возможности сенсорной комнат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Эмоциональное развитие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Снятие психоэмоционального и телесного напряжения </a:t>
            </a: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(психоэмоциональная разгрузка)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Развитие навыков саморегуляции и самоконтроля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Тренировка стрессоустойчивости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Психогимнастика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Коммуникативные игры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Развитие позитивного отношения к себе и к окружающему миру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Развитие двигательной функции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Развитие психических и познавательных процессов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85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Impact"/>
              </a:rPr>
              <a:t>Рекомендации по проведению работы в сенсорной комнате с детьми, имеющими нарушения в развитии:</a:t>
            </a:r>
            <a:br>
              <a:rPr sz="3200"/>
            </a:br>
            <a:endParaRPr b="0" lang="en-US" sz="25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обходимо детей познакомить с правилами поведения и работы в сенсорной комнат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граниченное число детей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сутствие внешних шумов во время проведения занятий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истемность и структурированность занятий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Impact"/>
              </a:rPr>
              <a:t>Воздушно-пузырьковая колонна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ает сильную зрительную, тактильную, слуховую стимуляцию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узырьковая трубка мягко меняет цвет по всей высоте распространения пузырьков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коснувшись  к трубке, вы почувствуете мягкую вибрацию пузырьк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езопасное угловое зеркало создает  оптический эффект расширения пространств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Impact"/>
              </a:rPr>
              <a:t>Мягкая форма «Остров» 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ягкое бескаркасное кресло среднего размера в форме «острова», наполненное пенопластовыми гранулам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идение служит идеальной опорой для сидящего или лежащего ребенка, принимая форму его тела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спользуется в целях снятия физического напряжения и чувства усталости. Гранулы, наполняющие пуфик, оказывают мягкое приятное воздействие, способствуя лучшему расслаблению за счёт лёгкого точечного массаж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Impact"/>
              </a:rPr>
              <a:t>Сенсорная комната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литературе встречаются другие названи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мната психологической разгруз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мната релакса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мната «Снузлин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ультисенсорная комна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Impact"/>
              </a:rPr>
              <a:t>Сухой бассейн 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нижение уровня психоэмоционального напряжения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нижение двигательного тонуса. Регуляция мышечного напряжения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азвитие: кинестетической и тактильной чувствительности;образа тела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остранственных восприятий и представлений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оприоцептивной чувствительност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ррекция уровня тревожности, агрессивност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Impact"/>
              </a:rPr>
              <a:t>Зеркальный шар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ужит для релаксации и зрительной стимуляции. С помощью источника света зеркальный шар наполняет все пространство комнаты яркими светящимися точками, которые медленно двигаются, меняют цвета и создают необыкновенный визуальный эффек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00519"/>
          <p:cNvPicPr/>
          <p:nvPr/>
        </p:nvPicPr>
        <p:blipFill>
          <a:blip r:embed="rId1"/>
          <a:stretch/>
        </p:blipFill>
        <p:spPr>
          <a:xfrm>
            <a:off x="4191120" y="3733920"/>
            <a:ext cx="441936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Impact"/>
              </a:rPr>
              <a:t>Проектор «Звездное небо»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ектор воспроизводит проекцию ночного неба с россыпью звезд различной величины и плывущих туманностей, которые можно регулировать вручную, установив желаемый режим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4" descr="58bc71bf5909464cdd7dc454e6eef47a"/>
          <p:cNvPicPr/>
          <p:nvPr/>
        </p:nvPicPr>
        <p:blipFill>
          <a:blip r:embed="rId1"/>
          <a:stretch/>
        </p:blipFill>
        <p:spPr>
          <a:xfrm>
            <a:off x="5029200" y="3124080"/>
            <a:ext cx="35053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Impact"/>
              </a:rPr>
              <a:t>Фиброоптический модуль «Тучка»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особствует развитию фантазии, восстановлению зрения, развивает тактильны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щущения и моторику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4" descr="7264f04247418bbe69f730a31a27302e"/>
          <p:cNvPicPr/>
          <p:nvPr/>
        </p:nvPicPr>
        <p:blipFill>
          <a:blip r:embed="rId1"/>
          <a:stretch/>
        </p:blipFill>
        <p:spPr>
          <a:xfrm>
            <a:off x="4952880" y="2743200"/>
            <a:ext cx="3848400" cy="36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685440" y="990720"/>
            <a:ext cx="7620120" cy="51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Impact"/>
              </a:rPr>
              <a:t>Сенсорная комната</a:t>
            </a:r>
            <a:r>
              <a:rPr b="0" lang="ru-RU" sz="3200" spc="-1" strike="noStrike">
                <a:solidFill>
                  <a:srgbClr val="000000"/>
                </a:solidFill>
                <a:latin typeface="Impact"/>
              </a:rPr>
              <a:t> – это комната где происходят самые настоящие чудеса, попадая в нее, попадаешь в сказку, получаешь море впечатлений и положительных эмоций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Impact"/>
              </a:rPr>
              <a:t>Результат работы в сенсорной комнате 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обретение навыков произвольной саморегуляции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нижение агрессивности, тревожности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формированность умения понимать и принимать эмоциональное состояние свое и окружающих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мение взаимодействовать в группе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стижение состояния расслабле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Impact"/>
              </a:rPr>
              <a:t>«Мысленная картина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(Выполняется с использованием воздушно-пузырьковой колонны, Панно «Звездное небо», тактильной панели любого вида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Цель: создание хорошего настроения; тренировка зрительной памят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Детей просят посмотреть на одно из вышеперечисленных изделий, закрыть глазки и попытаться удержать увиденное в памяти. Обсуждение: удалось ли удержать в памяти увиденное с закрытыми глазами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Impact"/>
              </a:rPr>
              <a:t>Упражнение «Сжимаем крепче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(Это упражнение выполняется с помощью изделия на базе пучка фибероптических волокон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Цели: развитие аналитического восприятия свойств и признаков предмета; развитие тактильных ощущений, мелкой моторик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Ход упражнения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едагог обращает внимание детей на светящиеся волокна, называя их признаки (мягкие, длинные и т.д.). Обращается к детям: «Так как волокна мягкие, их можно сгибать. Давайте соберем волокно в ручке»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едагог показывает детям, как можно собрать волокно в ладошке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и повторении упражнения следует усложнить задачу: количество волокон, включенное в одно задание должно постепенно увеличиваться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Impact"/>
              </a:rPr>
              <a:t>«Мои эмоции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(Выполняется с использованием панели «Полет в Бесконечность»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Цель: создание положительного эмоционального состояния; мотивирование детей на изучение эмоционального мира; способность осознавать эмоци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Дети по очереди подходят к зеркалу и показывают эмоцию, которая ребенку на данный момент близка, а остальные дети отгадывают и называют ее. Далее ведется обсуждение, почему люди испытывают те или иные эмоци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Impact"/>
              </a:rPr>
              <a:t>Упражнение «Поймай звездочку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Цели: активизация зрительного восприятия; формирование фиксации взора, концентрации внимания, плавного прослеживания движения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Ход упражнения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Педагог обращает внимание детей на крутящийся и создающий разноцветные блики - «мерцающие звезды» - зеркальный шар: «Смотрите, как много звезд! Заметьте, одна звездочка улыбается вам. Вон она полетела. Давайте поймаем ее глазками, - она хочет с вами поиграть»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Дети ловят взглядом звездочку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304560"/>
            <a:ext cx="8229600" cy="58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енсорная комната – это среда, состоящая из множества различного рода стимуляторов, которые воздействуют на органы зрения, слуха, обоняния и вестибулярные рецепторы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енсорная комната создает ощущение безопасности и защищенности, положительный эмоциональный фон, снижает беспокойство и агрессивность, снимает нервное возбуждение и тревожность, активизирует мозговую деятельность. Это комфортная обстановка, сохраняющая и укрепляющая здоровье детей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Impact"/>
              </a:rPr>
              <a:t>«Золотая рыбка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(Для игры используется воздушно-пузырьковая колонна с рыбками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Цель игры: сплочение детского коллектива; зарядка положительными эмоциями; развитие коммуникативных навыков; стимуляция зрительных и тактильных анализаторов; развитие цветового восприятия; релаксационный эффект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Дети устраиваются вокруг колонны, выбирают каждый себе рыбку по цвету и наблюдают за подъемом и спусканием рыбок под воздействием воздуха. Создается соревновательная обстановка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Impact"/>
              </a:rPr>
              <a:t>Упражнение «Звездное небо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Цели: обогащение сенсорного опыта; развитие зрительного восприятия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Ход упражнения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Дети и педагог лежат на мягком модуле, любуясь Потолочной панелью «Звездное небо» или Плиткой «Звездное небо»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едагог спрашивает детей, в какое время суток могут гореть звездочк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Дети рассматривают небо, определяя цвет, форму, размер звездочек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Impact"/>
              </a:rPr>
              <a:t>«На космическом корабле</a:t>
            </a:r>
            <a:r>
              <a:rPr b="0" lang="ru-RU" sz="4000" spc="-1" strike="noStrike">
                <a:solidFill>
                  <a:srgbClr val="000000"/>
                </a:solidFill>
                <a:latin typeface="Impact"/>
              </a:rPr>
              <a:t>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(Выполняется с использованием панели «Полет в Бесконечность»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Цель: тренировка и укрепление глазной мышцы, развитие глазо-двигательной координаци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Детям предлагается представить себя на космическом корабле, посмотреть в иллюминатор и представить, что там, где-то далеко, видна наша планета. Обязательное условие: смотрим на ближайший квадрат, а затем на отдаленный. Ведется разговор о том, что же дети смогли увидеть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Impact"/>
              </a:rPr>
              <a:t>У водопада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«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(Выполняется при использовании модуля «Волшебный фонтан»; занятие сопровождается музыкальной композицией «Водопад» или «У ручья»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Цель: общая релаксация; развитие слуха, воображения и коммуникации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Дети полукругом размещаются у фонтана, принимают удобное положение и вслушиваются в шум стекающей воды. При этом необходимо закрыть глазки и включить воображение, для того чтобы оказаться на красивом острове у водопада. Представить, какой водопад, войти в него, поплескаться, почувствовать, какая вода, и пр. По окончании упражнения проводится обсуждение: кому удалось представить себе водопад? Рассказать, что он там видел, смог ли почувствовать воду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Impact"/>
              </a:rPr>
              <a:t>Благодарю за внимание!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6840" y="304560"/>
            <a:ext cx="7543800" cy="58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первые понятие «сенсорная комната» было введено М. Монтессор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4" descr="Maria-Montessori-home1"/>
          <p:cNvPicPr/>
          <p:nvPr/>
        </p:nvPicPr>
        <p:blipFill>
          <a:blip r:embed="rId1"/>
          <a:stretch/>
        </p:blipFill>
        <p:spPr>
          <a:xfrm>
            <a:off x="762120" y="2133720"/>
            <a:ext cx="670536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151920"/>
            <a:ext cx="8229600" cy="597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енсорная комната предназначена для индивидуальной и подгрупповой коррекционно-развивающей работы с детьми, имеющих различные трудности в развитии и поведени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Impact"/>
              </a:rPr>
              <a:t>В образовательном учреждении сенсорная комната используется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Impact"/>
              </a:rPr>
              <a:t>в следующих направлениях: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213372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сихорофилактические занятия для детей от 3-хлет и старше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дивидуальные занятия с детьми по уменьшению тревожного состояни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филактика эмоционального выгорания педагог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Impact"/>
              </a:rPr>
              <a:t>Цели и задачи занятий в сенсорной комнате: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52" name="Объект 1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701028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Impact"/>
              </a:rPr>
              <a:t>Развитие и гармонизация эмоционально-волевой сферы детей: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нятие психоэмоционального напряжения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аморегуляция и самоконтроль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мение управлять своим телом, дыханием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мение передавать свои ощущения в речи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мение расслабляться, освобождаться от напряжения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формирование представлений о положительных и отрицательных эмоциях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веренность в себе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Impact"/>
              </a:rPr>
              <a:t>Развитие коммуникативной сферы воспитанников: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мпатические чувства, желание оказывать друг другу эмоциональную и физическую поддержку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ормирование мотивации к общению и развитие коммуникативных навыко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одоление негативных эмоций по отношению к сверстникам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(агрессивность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03T16:48:10Z</dcterms:created>
  <dc:creator>Иван</dc:creator>
  <dc:description/>
  <dc:language>en-US</dc:language>
  <cp:lastModifiedBy>ОЛЕНЬ</cp:lastModifiedBy>
  <dcterms:modified xsi:type="dcterms:W3CDTF">2020-07-13T09:33:04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