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56B-ABE1-4541-91A7-BEED8308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1AD-D28B-4F33-B7FF-616B4EB4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458-EAE9-44E5-9761-EBC6F550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7F8-0FD4-4EF9-BC8D-73A27574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162-024E-454D-BD5A-17F0B534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941-56AD-490E-A50C-44E988A4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B79-3998-47AB-BAC1-72E34BE8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93A-D708-413C-9AC7-DEF5FA99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7A0-E864-46FB-B4DF-AF948C12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B7C-4F88-4C1E-8FC6-06688EE0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F80-0E29-46C2-924C-A98E9F35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DC5-7EAE-40BE-A783-5648EBB3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716E-1215-4442-9DBD-C27152B827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Администратор\Desktop\577780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5"/>
          <p:cNvSpPr/>
          <p:nvPr/>
        </p:nvSpPr>
        <p:spPr>
          <a:xfrm>
            <a:off x="1476360" y="1413000"/>
            <a:ext cx="6264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ли</a:t>
            </a:r>
            <a:br>
              <a:rPr sz="7000"/>
            </a:br>
            <a:r>
              <a:rPr b="0" lang="ru-RU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0"/>
          <p:cNvSpPr/>
          <p:nvPr/>
        </p:nvSpPr>
        <p:spPr>
          <a:xfrm>
            <a:off x="2559600" y="12682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0"/>
          <p:cNvSpPr/>
          <p:nvPr/>
        </p:nvSpPr>
        <p:spPr>
          <a:xfrm>
            <a:off x="2559600" y="12682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2703960" y="321300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2559600" y="12682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2703960" y="321300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2487960" y="515772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>
            <a:off x="2559600" y="12682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2703960" y="321300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6592680" y="1268280"/>
            <a:ext cx="78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7"/>
          <p:cNvSpPr/>
          <p:nvPr/>
        </p:nvSpPr>
        <p:spPr>
          <a:xfrm>
            <a:off x="2487960" y="515772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0"/>
          <p:cNvSpPr/>
          <p:nvPr/>
        </p:nvSpPr>
        <p:spPr>
          <a:xfrm>
            <a:off x="2559600" y="12682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2703960" y="321300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2"/>
          <p:cNvSpPr/>
          <p:nvPr/>
        </p:nvSpPr>
        <p:spPr>
          <a:xfrm>
            <a:off x="6592680" y="1268280"/>
            <a:ext cx="78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6808680" y="3213000"/>
            <a:ext cx="78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7"/>
          <p:cNvSpPr/>
          <p:nvPr/>
        </p:nvSpPr>
        <p:spPr>
          <a:xfrm>
            <a:off x="2487960" y="515772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1835280" y="3500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012000" y="3645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169236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f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C:\Users\Администратор\Desktop\1234001960_book_010.jpg"/>
          <p:cNvPicPr/>
          <p:nvPr/>
        </p:nvPicPr>
        <p:blipFill>
          <a:blip r:embed="rId1"/>
          <a:stretch/>
        </p:blipFill>
        <p:spPr>
          <a:xfrm>
            <a:off x="250920" y="3213000"/>
            <a:ext cx="1538280" cy="10652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0"/>
          <p:cNvSpPr/>
          <p:nvPr/>
        </p:nvSpPr>
        <p:spPr>
          <a:xfrm>
            <a:off x="2559600" y="126828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2703960" y="321300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6592680" y="1268280"/>
            <a:ext cx="78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6808680" y="3213000"/>
            <a:ext cx="78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4"/>
          <p:cNvSpPr/>
          <p:nvPr/>
        </p:nvSpPr>
        <p:spPr>
          <a:xfrm>
            <a:off x="1619280" y="54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wo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7"/>
          <p:cNvSpPr/>
          <p:nvPr/>
        </p:nvSpPr>
        <p:spPr>
          <a:xfrm>
            <a:off x="2487960" y="5157720"/>
            <a:ext cx="46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6161040" y="4941720"/>
            <a:ext cx="78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543564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umbre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5830920" y="170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ap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1" descr="C:\Users\Администратор\Desktop\1000_mela-550x547.jpg"/>
          <p:cNvPicPr/>
          <p:nvPr/>
        </p:nvPicPr>
        <p:blipFill>
          <a:blip r:embed="rId2"/>
          <a:stretch/>
        </p:blipFill>
        <p:spPr>
          <a:xfrm>
            <a:off x="4427640" y="1341360"/>
            <a:ext cx="1251000" cy="1243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C:\Users\Администратор\Desktop\gay.jpg"/>
          <p:cNvPicPr/>
          <p:nvPr/>
        </p:nvPicPr>
        <p:blipFill>
          <a:blip r:embed="rId3"/>
          <a:stretch/>
        </p:blipFill>
        <p:spPr>
          <a:xfrm>
            <a:off x="4303800" y="5157720"/>
            <a:ext cx="1152360" cy="1150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C:\Users\Администратор\Desktop\normal_12573900018536.jpg"/>
          <p:cNvPicPr/>
          <p:nvPr/>
        </p:nvPicPr>
        <p:blipFill>
          <a:blip r:embed="rId4"/>
          <a:stretch/>
        </p:blipFill>
        <p:spPr>
          <a:xfrm>
            <a:off x="250920" y="5084640"/>
            <a:ext cx="1296720" cy="1268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C:\Users\Администратор\Desktop\fox_004.jpg"/>
          <p:cNvPicPr/>
          <p:nvPr/>
        </p:nvPicPr>
        <p:blipFill>
          <a:blip r:embed="rId5"/>
          <a:stretch/>
        </p:blipFill>
        <p:spPr>
          <a:xfrm>
            <a:off x="324000" y="1052640"/>
            <a:ext cx="1222200" cy="146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C:\Users\Администратор\Desktop\formiga01.jpg"/>
          <p:cNvPicPr/>
          <p:nvPr/>
        </p:nvPicPr>
        <p:blipFill>
          <a:blip r:embed="rId6"/>
          <a:stretch/>
        </p:blipFill>
        <p:spPr>
          <a:xfrm>
            <a:off x="4572000" y="321300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6"/>
          <p:cNvSpPr/>
          <p:nvPr/>
        </p:nvSpPr>
        <p:spPr>
          <a:xfrm>
            <a:off x="5543640" y="5805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octop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1835280" y="580536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ow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Администратор\Desktop\11.gif"/>
          <p:cNvPicPr/>
          <p:nvPr/>
        </p:nvPicPr>
        <p:blipFill>
          <a:blip r:embed="rId1"/>
          <a:stretch/>
        </p:blipFill>
        <p:spPr>
          <a:xfrm flipH="1">
            <a:off x="4356000" y="5445000"/>
            <a:ext cx="1224000" cy="1170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i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C:\Users\Администратор\Desktop\2859272-d2a9da2271768950.jpg"/>
          <p:cNvPicPr/>
          <p:nvPr/>
        </p:nvPicPr>
        <p:blipFill>
          <a:blip r:embed="rId2"/>
          <a:stretch/>
        </p:blipFill>
        <p:spPr>
          <a:xfrm>
            <a:off x="4356000" y="3408480"/>
            <a:ext cx="164016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Администратор\Desktop\76482860_3320012_Leones_foto_lvov_i_lvic_kartinki_lvi10.jpg"/>
          <p:cNvPicPr/>
          <p:nvPr/>
        </p:nvPicPr>
        <p:blipFill>
          <a:blip r:embed="rId3"/>
          <a:stretch/>
        </p:blipFill>
        <p:spPr>
          <a:xfrm>
            <a:off x="250920" y="3357720"/>
            <a:ext cx="1584360" cy="1533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:\Users\Администратор\Desktop\miller.jpg"/>
          <p:cNvPicPr/>
          <p:nvPr/>
        </p:nvPicPr>
        <p:blipFill>
          <a:blip r:embed="rId4"/>
          <a:stretch/>
        </p:blipFill>
        <p:spPr>
          <a:xfrm>
            <a:off x="250920" y="1268280"/>
            <a:ext cx="1636560" cy="1440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:\Users\Администратор\Desktop\item_6129_2_item_657_2_dekan2.jpg"/>
          <p:cNvPicPr/>
          <p:nvPr/>
        </p:nvPicPr>
        <p:blipFill>
          <a:blip r:embed="rId5"/>
          <a:stretch/>
        </p:blipFill>
        <p:spPr>
          <a:xfrm>
            <a:off x="4716360" y="1125360"/>
            <a:ext cx="1428840" cy="17272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3"/>
          <p:cNvSpPr/>
          <p:nvPr/>
        </p:nvSpPr>
        <p:spPr>
          <a:xfrm>
            <a:off x="1908000" y="1773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ins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4"/>
          <p:cNvSpPr/>
          <p:nvPr/>
        </p:nvSpPr>
        <p:spPr>
          <a:xfrm>
            <a:off x="5938920" y="4005360"/>
            <a:ext cx="360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elephan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5"/>
          <p:cNvSpPr/>
          <p:nvPr/>
        </p:nvSpPr>
        <p:spPr>
          <a:xfrm>
            <a:off x="6335640" y="1989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cha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6"/>
          <p:cNvSpPr/>
          <p:nvPr/>
        </p:nvSpPr>
        <p:spPr>
          <a:xfrm>
            <a:off x="1835280" y="3860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… l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1" descr="C:\Users\Администратор\Desktop\453474.jpg"/>
          <p:cNvPicPr/>
          <p:nvPr/>
        </p:nvPicPr>
        <p:blipFill>
          <a:blip r:embed="rId6"/>
          <a:stretch/>
        </p:blipFill>
        <p:spPr>
          <a:xfrm>
            <a:off x="250920" y="5445000"/>
            <a:ext cx="1520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предложения из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аринного свитка»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Администратор\Desktop\437693-c47659ad21e0ca20.jpg"/>
          <p:cNvPicPr/>
          <p:nvPr/>
        </p:nvPicPr>
        <p:blipFill>
          <a:blip r:embed="rId2"/>
          <a:stretch/>
        </p:blipFill>
        <p:spPr>
          <a:xfrm>
            <a:off x="971640" y="1484280"/>
            <a:ext cx="7381800" cy="5373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1116000" y="2421000"/>
            <a:ext cx="7488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b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t.       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l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.      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e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phant.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h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se.    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i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o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c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.         It’s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o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. </a:t>
            </a:r>
            <a:br>
              <a:rPr sz="50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Облако 4"/>
          <p:cNvSpPr/>
          <p:nvPr/>
        </p:nvSpPr>
        <p:spPr>
          <a:xfrm>
            <a:off x="468360" y="549360"/>
            <a:ext cx="8351640" cy="5975280"/>
          </a:xfrm>
          <a:prstGeom prst="pie">
            <a:avLst/>
          </a:prstGeom>
          <a:solidFill>
            <a:srgbClr val="20ec5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икль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/An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ошел  от древнеанглийского  слова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,  поэтому  дружит только  со  словами,  которые отвечают  на  вопросы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то? чт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 но при этом он ставит свои усло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блако 3"/>
          <p:cNvSpPr/>
          <p:nvPr/>
        </p:nvSpPr>
        <p:spPr>
          <a:xfrm>
            <a:off x="179280" y="476280"/>
            <a:ext cx="8713800" cy="6192720"/>
          </a:xfrm>
          <a:prstGeom prst="pie">
            <a:avLst/>
          </a:prstGeom>
          <a:solidFill>
            <a:srgbClr val="20ec5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икль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/An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ся  перед  названием  предмета, только  если  его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жно посчитать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 он  стоит  в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динственном   чис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дин)  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g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дна)  соб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e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дно)  яб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Облако 3"/>
          <p:cNvSpPr/>
          <p:nvPr/>
        </p:nvSpPr>
        <p:spPr>
          <a:xfrm>
            <a:off x="147600" y="0"/>
            <a:ext cx="8712360" cy="6858000"/>
          </a:xfrm>
          <a:prstGeom prst="pie">
            <a:avLst/>
          </a:prstGeom>
          <a:solidFill>
            <a:srgbClr val="20ec5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воду,  воздух,  песок, сахар  посчитать  нельзя,  да ещё  много  ч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ь  нельзя  сказать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дна вода,  один  песок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Облако 3"/>
          <p:cNvSpPr/>
          <p:nvPr/>
        </p:nvSpPr>
        <p:spPr>
          <a:xfrm>
            <a:off x="179280" y="318960"/>
            <a:ext cx="8425080" cy="6423120"/>
          </a:xfrm>
          <a:prstGeom prst="pie">
            <a:avLst/>
          </a:prstGeom>
          <a:solidFill>
            <a:srgbClr val="20ec5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икль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/An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дружит  со  словами,  которые  начинаются  с  большой  буквы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,  Tom,  Sasha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ишем прав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907920"/>
            <a:ext cx="8580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икль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или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вится только перед существительным в единственном числ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икль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вим перед словами, которые начинаютс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на согласный зву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a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Артикль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вим перед словами, которые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инаются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на гласный зву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pp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Эти артикли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нельзя стави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д словами,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начинающимися с заглавной букв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тетрадку сначала предложения с артиклем </a:t>
            </a:r>
            <a:r>
              <a:rPr b="1" i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–с артиклем </a:t>
            </a:r>
            <a:r>
              <a:rPr b="1" i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2133720"/>
            <a:ext cx="8893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 dog.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’s a rabbit. </a:t>
            </a:r>
            <a:br>
              <a:rPr sz="45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n apple.     5.It’s an igloo.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br>
              <a:rPr sz="45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 cat.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n elephant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39640" y="5516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Igloo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м (дом ха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лжно получиться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og. It’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t. It’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abbit. It’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le. It’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gloo. It’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leph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7:09:37Z</dcterms:created>
  <dc:creator>comp</dc:creator>
  <dc:description/>
  <dc:language>en-US</dc:language>
  <cp:lastModifiedBy>Пользователь Windows</cp:lastModifiedBy>
  <dcterms:modified xsi:type="dcterms:W3CDTF">2020-11-23T17:03:58Z</dcterms:modified>
  <cp:revision>48</cp:revision>
  <dc:subject/>
  <dc:title>Слайд 1</dc:title>
</cp:coreProperties>
</file>