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522-7DBE-4885-8508-ABDD3B4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680-6500-460A-A3BE-8163700A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A14-1212-4675-8E4B-93D7FF48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B05-6D17-443D-8D86-7865071F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FD5-FFB4-420F-B2D9-B677D23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250-B1BC-4671-8C2F-841D51A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1E6-188B-4203-9E36-5614525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C02-334D-4F3F-B07D-301893F9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AC9-D6DE-4B93-92E6-63BCADFB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503-5AC6-4FF5-AE82-2968ED2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F20-9FCB-4EC9-950C-EEF302F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349-74CC-4046-BA81-8BDFF95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45A-5B19-4341-AD90-9A7B321A7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Администратор\Desktop\577780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5"/>
          <p:cNvSpPr/>
          <p:nvPr/>
        </p:nvSpPr>
        <p:spPr>
          <a:xfrm>
            <a:off x="1476360" y="1413000"/>
            <a:ext cx="626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ли</a:t>
            </a:r>
            <a:br>
              <a:rPr sz="7000"/>
            </a:br>
            <a:r>
              <a:rPr b="0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808680" y="321300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6808680" y="321300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6161040" y="494172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5543640" y="580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octop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1835280" y="5805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ow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Администратор\Desktop\11.gif"/>
          <p:cNvPicPr/>
          <p:nvPr/>
        </p:nvPicPr>
        <p:blipFill>
          <a:blip r:embed="rId1"/>
          <a:stretch/>
        </p:blipFill>
        <p:spPr>
          <a:xfrm flipH="1">
            <a:off x="4356000" y="5445000"/>
            <a:ext cx="1224000" cy="1170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C:\Users\Администратор\Desktop\2859272-d2a9da2271768950.jpg"/>
          <p:cNvPicPr/>
          <p:nvPr/>
        </p:nvPicPr>
        <p:blipFill>
          <a:blip r:embed="rId2"/>
          <a:stretch/>
        </p:blipFill>
        <p:spPr>
          <a:xfrm>
            <a:off x="4356000" y="3408480"/>
            <a:ext cx="164016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Администратор\Desktop\76482860_3320012_Leones_foto_lvov_i_lvic_kartinki_lvi10.jpg"/>
          <p:cNvPicPr/>
          <p:nvPr/>
        </p:nvPicPr>
        <p:blipFill>
          <a:blip r:embed="rId3"/>
          <a:stretch/>
        </p:blipFill>
        <p:spPr>
          <a:xfrm>
            <a:off x="250920" y="3357720"/>
            <a:ext cx="1584360" cy="1533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Администратор\Desktop\miller.jpg"/>
          <p:cNvPicPr/>
          <p:nvPr/>
        </p:nvPicPr>
        <p:blipFill>
          <a:blip r:embed="rId4"/>
          <a:stretch/>
        </p:blipFill>
        <p:spPr>
          <a:xfrm>
            <a:off x="250920" y="1268280"/>
            <a:ext cx="163656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Администратор\Desktop\item_6129_2_item_657_2_dekan2.jpg"/>
          <p:cNvPicPr/>
          <p:nvPr/>
        </p:nvPicPr>
        <p:blipFill>
          <a:blip r:embed="rId5"/>
          <a:stretch/>
        </p:blipFill>
        <p:spPr>
          <a:xfrm>
            <a:off x="4716360" y="1125360"/>
            <a:ext cx="1428840" cy="1727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3"/>
          <p:cNvSpPr/>
          <p:nvPr/>
        </p:nvSpPr>
        <p:spPr>
          <a:xfrm>
            <a:off x="1908000" y="177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ins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4"/>
          <p:cNvSpPr/>
          <p:nvPr/>
        </p:nvSpPr>
        <p:spPr>
          <a:xfrm>
            <a:off x="5938920" y="4005360"/>
            <a:ext cx="360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elepha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>
            <a:off x="6335640" y="1989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c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1835280" y="3860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l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C:\Users\Администратор\Desktop\453474.jpg"/>
          <p:cNvPicPr/>
          <p:nvPr/>
        </p:nvPicPr>
        <p:blipFill>
          <a:blip r:embed="rId6"/>
          <a:stretch/>
        </p:blipFill>
        <p:spPr>
          <a:xfrm>
            <a:off x="250920" y="5445000"/>
            <a:ext cx="1520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едложения из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ринного свитка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Администратор\Desktop\437693-c47659ad21e0ca20.jpg"/>
          <p:cNvPicPr/>
          <p:nvPr/>
        </p:nvPicPr>
        <p:blipFill>
          <a:blip r:embed="rId2"/>
          <a:stretch/>
        </p:blipFill>
        <p:spPr>
          <a:xfrm>
            <a:off x="971640" y="1484280"/>
            <a:ext cx="7381800" cy="5373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116000" y="2421000"/>
            <a:ext cx="7488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t. 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l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.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e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hant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se.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o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.   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o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. </a:t>
            </a:r>
            <a:br>
              <a:rPr sz="50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блако 4"/>
          <p:cNvSpPr/>
          <p:nvPr/>
        </p:nvSpPr>
        <p:spPr>
          <a:xfrm>
            <a:off x="468360" y="549360"/>
            <a:ext cx="8351640" cy="597528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/An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ел  от древнеанглийского  слов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,  поэтому  дружит только  со  словами,  которые отвечают  на  вопросы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то? 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но при этом он ставит свои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блако 3"/>
          <p:cNvSpPr/>
          <p:nvPr/>
        </p:nvSpPr>
        <p:spPr>
          <a:xfrm>
            <a:off x="179280" y="476280"/>
            <a:ext cx="8713800" cy="619272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/An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ся  перед  названием  предмета, только  если  ег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жно посчитать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 он  стоит 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динственном   чи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дин)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g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дна)  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e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дно)  яб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блако 3"/>
          <p:cNvSpPr/>
          <p:nvPr/>
        </p:nvSpPr>
        <p:spPr>
          <a:xfrm>
            <a:off x="147600" y="0"/>
            <a:ext cx="8712360" cy="685800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воду,  воздух,  песок, сахар  посчитать  нельзя,  да ещё  много  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 нельзя  сказать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на вода,  один  песо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блако 3"/>
          <p:cNvSpPr/>
          <p:nvPr/>
        </p:nvSpPr>
        <p:spPr>
          <a:xfrm>
            <a:off x="179280" y="318960"/>
            <a:ext cx="8425080" cy="642312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/An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ружит  со  словами,  которые  начинаются  с  большой  буквы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,  Tom,  Sasha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ишем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907920"/>
            <a:ext cx="8580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или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тся только перед существительным в единственном чис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м перед словами, которые начинаю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 согласн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м перед словами, которые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ю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 гласн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Эти артикл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ельзя стави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словами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чинающимися с заглавной букв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етрадку сначала предложения с артиклем </a:t>
            </a:r>
            <a:r>
              <a:rPr b="1" i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–с артиклем </a:t>
            </a:r>
            <a:r>
              <a:rPr b="1" i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2133720"/>
            <a:ext cx="8893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dog.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’s a rabbit. </a:t>
            </a:r>
            <a:br>
              <a:rPr sz="45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n apple.     5.It’s an igloo.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br>
              <a:rPr sz="45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cat.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n elephant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39640" y="5516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gloo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 (дом ха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о получиться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g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bbit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le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gloo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leph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7:09:37Z</dcterms:created>
  <dc:creator>comp</dc:creator>
  <dc:description/>
  <dc:language>en-US</dc:language>
  <cp:lastModifiedBy>Пользователь Windows</cp:lastModifiedBy>
  <dcterms:modified xsi:type="dcterms:W3CDTF">2020-11-23T17:03:58Z</dcterms:modified>
  <cp:revision>48</cp:revision>
  <dc:subject/>
  <dc:title>Слайд 1</dc:title>
</cp:coreProperties>
</file>