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284C-0CB1-4B62-A2F5-11B79CE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DC3F-0FE8-42EE-BB6A-8A8FA158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0581-48C3-4B50-AA0F-D8D173C0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54B1-E3E8-4325-BD97-23FBED64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F8E-A11F-4712-A26D-BEE2DC56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2DAC-39A5-4912-87F2-6FA8436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3565-D176-4480-BF59-9BE759C6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EA1-B0A0-4E2A-B437-4211264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9807-C2D4-4970-BD44-3005563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C95-7D5D-4DA9-BDB3-8F9DEB04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D5C4-1467-4748-B1A8-1164DD4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27C3-C1BD-4286-B49B-9E5BEC7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5CB-3DE5-42BB-A750-071F64AE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5A80-C74B-4CDF-9478-0529A42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A5D-0E34-4966-B30F-EA91E6E4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01C-7629-4AD0-A6B7-68CB763D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C9AD-DD7C-4CFD-BE07-22E752A9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5C59-D29D-4F42-8C8C-779E39F3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623B-4990-4E0C-B292-DC8E8B1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71E3-78AD-4782-BCD3-F97DCAB9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2D36-F8E0-47B2-98C5-F500B01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2932-4BC3-4FD4-B9D4-869A23F8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3898-6AF6-4F5C-958E-EEA9F785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56BD-A0AA-4EBC-B9E9-AD787C98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713D-E82D-4587-9CE0-0478914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3F71-F074-4EBB-972F-AE52A97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64CD-2517-4B5C-B129-EC34F0A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5BC1-E798-4491-8DAE-9771EA6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067C-F99B-4CDC-8E9A-28BA8975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71E7-D44E-4C44-98FE-066132C5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76DA-6633-4337-8CC6-4C93ED9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4E29-EAF4-41C3-964D-8D85B1B4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D3E0-2675-497B-A1D3-6E2CC9C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433D-9B9D-4D83-934C-C84A7828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57C0-9678-468A-A259-DE6B9B3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BA6D-EAB3-4286-B64F-C68C346F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0D69-366A-4375-8ED0-D5A71EE635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3C3-4A89-4763-BE0A-98CAC6DF9D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A07-8EF6-4D94-A12D-E80FE2E98C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Война - она отпечаток в жизни людей!</a:t>
            </a:r>
            <a:endParaRPr b="0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ил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ючков Дмитрий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к 1а класса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2-Гавриловской сош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хеева Лариса Александровн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сле войны, уже в 50-х годах бабушка работала в Ленинграде. На строительстве железной дороги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1" name="Picture 2" descr="C:\Users\Admin\Desktop\Новая папка\IMG_0261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Бабушка с подругой. (Ленинград, она справа)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3" name="Picture 2" descr="C:\Users\Admin\Desktop\Новая папка\IMG_0259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 стройке бабушка была по 1954 год. Затем она вернулась домой, и вышла замуж за Летягина Николая Дмитриевича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5" name="Picture 2" descr="C:\Users\Admin\Desktop\Новая папка\IMG_0262.JPG"/>
          <p:cNvPicPr/>
          <p:nvPr/>
        </p:nvPicPr>
        <p:blipFill>
          <a:blip r:embed="rId1"/>
          <a:stretch/>
        </p:blipFill>
        <p:spPr>
          <a:xfrm>
            <a:off x="1643040" y="20718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ле замужества она переехала с 1-Пересыпкино в село Ивановка. Где они зажили дружной семьей. У них родились три дочери. Бабушка работала дояркой, а её муж трактористом. </a:t>
            </a:r>
            <a:endParaRPr b="0" lang="en-US" sz="36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Сейчас, она живет в селе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2 Гавриловка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8" name="Picture 2" descr="C:\Users\Admin\Desktop\Новая папка\SAM_0105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Каждый год бабушка ходит на встречу ветеранов 9 мая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10" name="Picture 2" descr="C:\Users\Admin\Desktop\Новая папка\006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е на рассвете мирно спал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очь таяла как - будто тень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И жители Земли ещё не знали 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акой рождался страшный день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е знали, что в двадцатом век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н станет самым чёрным днём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т крови покраснеют ре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Земля опалится огнём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Летягина Анастасия Алексеевна.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Родилась в 1931 году 6 марта в 1-Пересыпкино. Семья многодетная, 6 человек детей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Летягина (Репина) Анастасия Алексеевна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194" name="Picture 2" descr="C:\Users\Admin\Desktop\Новая папка\IMG_0263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тец — Репин Алексей Константинович. Ушел на войну в 1941 году, а в 1942 году был убит в Калининградской области. Жили очень плохо, бедно. Одежды и еды не было. Жили с дедушкой Константином Ивановичем. Как говорит бабушка: «Он не успевал плести лапти». 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 время начала войны она была в няньках в 1- Гавриловке в Озерках, у председателя колхоза. Нянчила девочку за брезентовые ботиночки. Заставляли полоть огород, сушить навоз. Известие о начале войны её застало здесь. Она в этот же день побежала домой, очень спешила. Прибежав домой застала всю семью встревоженной, но не застала отца, его уже забрали на фронт.  Она всю свою жизнь сожалеет о том, что не смогла с ним проститься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0 лет пошла, работать в колхоз. Он назывался «Борьба за урожай». Женщины пололи в поле, а дети вытаскивали сор. Зимой за дровами ездили в лес, это и дровами не назовешь — сучья и кора деревьев. Держали корову для молока. Летом сушили листья липы и кислянки. 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бирали желуди, разные травы все, что можно было съесть. Зимой из них пекли хлеб, пускали в молоко или в воду что было. Они там разбредутся, разбухнут потом пекут. Делали пересыпуху: сладкую свеклу варили, потом чистили и нарезали пластинами. Эти пластины выкладывали на сковороду сверху посыпали мукой (если была), потом следующий слой свеклы, и в печь. Вот такие у нас были конфеты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ртофель, был лакомством. Мама говорила: «Ты лупи, да смотри не съешь». Потом картофель отваливали на сковороду и в печь, чтобы зарумянился. На зиму солили в кадушках огурцы, помидоры и капусту. Вот так и выживали.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комп</cp:lastModifiedBy>
  <dcterms:modified xsi:type="dcterms:W3CDTF">2020-11-23T17:58:37Z</dcterms:modified>
  <cp:revision>11</cp:revision>
  <dc:subject/>
  <dc:title>PowerPoint Presentation</dc:title>
</cp:coreProperties>
</file>