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48C4-EEB0-4644-8D6D-CC73AC6B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D902-2655-48CE-8B09-7DB65629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F00E-0AC2-47A2-8AEF-A0CEBFAA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66D6-8878-4192-A78F-771B1ED3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1D08-01FC-4280-814F-CDE4FAB8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4DA-5C77-4F9E-A0B3-C4A05E22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1BC7-2382-4087-8067-03DE436B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1CA5-F146-44EA-A347-DCC5AE6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CC36-990E-493F-91A5-C12BED0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C85D-9CA2-42A9-A075-6A96A36C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6A80-4CDF-4302-BF97-FA077C8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D59B-855F-4037-B11D-C3059B1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FC67-CD83-4C15-9742-462C76B4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156D-AA18-4A77-B836-C91792E3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A9F-1238-4D46-A091-1856B17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5835-050F-4613-AC38-4E899659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3E4-7852-4E8E-8AA9-7C30290F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2314-EF2A-471E-A767-A442DC68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2538-49BE-4E6C-9A21-1828E9D5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EF9D-E349-4F7B-805F-7C7958E3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5009-A1D2-4D26-9BA9-BAF2955F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E86A-3383-49A4-85EA-90F6FEB7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9F4D-2412-4CD5-9BCE-5AD94C9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8666-C1A8-4783-8C9D-DF2C7E05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D28B-9837-4E90-8EE8-561EEEB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D493-E478-4C39-A5D9-E7D47E8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5BDB-64E7-4A37-92E8-2B87AD6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1B49-35BC-421E-9EFA-8F48EB29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B1BC-B625-4526-8C6B-D6056152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0004-E58C-4AAE-B2DD-819E2FBE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D98A-BFBC-4F7B-A220-D86C9C2D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08BA-5B0A-440F-9483-E2D5FFA8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81B5-B9B4-4E42-8E80-6F62877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BD20-3C91-44CC-9665-9559D01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0DE4-82D1-4B2C-A73B-5415552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CF31-9A8F-4C11-9C24-4362D06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Lucida San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DAB1-89A2-4FA5-9367-B1B19999BE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Lucida San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C7A3-0658-4FF4-8F08-60E4DA0BA7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Lucida San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8701-5CCB-4D00-991C-A1601D3659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Война - она отпечаток в жизни людей!</a:t>
            </a:r>
            <a:endParaRPr b="0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олнил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ючков Дмитрий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еник 1а класса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2-Гавриловской сош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ный руководитель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хеева Лариса Александровн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сле войны, уже в 50-х годах бабушка работала в Ленинграде. На строительстве железной дороги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1" name="Picture 2" descr="C:\Users\Admin\Desktop\Новая папка\IMG_0261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Бабушка с подругой. (Ленинград, она справа)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3" name="Picture 2" descr="C:\Users\Admin\Desktop\Новая папка\IMG_0259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 стройке бабушка была по 1954 год. Затем она вернулась домой, и вышла замуж за Летягина Николая Дмитриевича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5" name="Picture 2" descr="C:\Users\Admin\Desktop\Новая папка\IMG_0262.JPG"/>
          <p:cNvPicPr/>
          <p:nvPr/>
        </p:nvPicPr>
        <p:blipFill>
          <a:blip r:embed="rId1"/>
          <a:stretch/>
        </p:blipFill>
        <p:spPr>
          <a:xfrm>
            <a:off x="1643040" y="20718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ле замужества она переехала с 1-Пересыпкино в село Ивановка. Где они зажили дружной семьей. У них родились три дочери. Бабушка работала дояркой, а её муж трактористом. </a:t>
            </a:r>
            <a:endParaRPr b="0" lang="en-US" sz="36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Сейчас, она живет в селе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2 Гавриловка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08" name="Picture 2" descr="C:\Users\Admin\Desktop\Новая папка\SAM_0105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Каждый год бабушка ходит на встречу ветеранов 9 мая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210" name="Picture 2" descr="C:\Users\Admin\Desktop\Новая папка\006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е на рассвете мирно спал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очь таяла как - будто тень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И жители Земли ещё не знали 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Какой рождался страшный день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е знали, что в двадцатом век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н станет самым чёрным днём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т крови покраснеют рек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Земля опалится огнём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Летягина Анастасия Алексеевна.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Родилась в 1931 году 6 марта в 1-Пересыпкино. Семья многодетная, 6 человек детей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Летягина (Репина) Анастасия Алексеевна.</a:t>
            </a:r>
            <a:endParaRPr b="0" lang="en-US" sz="4200" spc="-1" strike="noStrike">
              <a:solidFill>
                <a:srgbClr val="ffffcc"/>
              </a:solidFill>
              <a:latin typeface="Lucida Sans"/>
            </a:endParaRPr>
          </a:p>
        </p:txBody>
      </p:sp>
      <p:pic>
        <p:nvPicPr>
          <p:cNvPr id="194" name="Picture 2" descr="C:\Users\Admin\Desktop\Новая папка\IMG_0263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тец — Репин Алексей Константинович. Ушел на войну в 1941 году, а в 1942 году был убит в Калининградской области. Жили очень плохо, бедно. Одежды и еды не было. Жили с дедушкой Константином Ивановичем. Как говорит бабушка: «Он не успевал плести лапти». 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 время начала войны она была в няньках в 1- Гавриловке в Озерках, у председателя колхоза. Нянчила девочку за брезентовые ботиночки. Заставляли полоть огород, сушить навоз. Известие о начале войны её застало здесь. Она в этот же день побежала домой, очень спешила. Прибежав домой застала всю семью встревоженной, но не застала отца, его уже забрали на фронт.  Она всю свою жизнь сожалеет о том, что не смогла с ним проститься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0 лет пошла, работать в колхоз. Он назывался «Борьба за урожай». Женщины пололи в поле, а дети вытаскивали сор. Зимой за дровами ездили в лес, это и дровами не назовешь — сучья и кора деревьев. Держали корову для молока. Летом сушили листья липы и кислянки. 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бирали желуди, разные травы все, что можно было съесть. Зимой из них пекли хлеб, пускали в молоко или в воду что было. Они там разбредутся, разбухнут потом пекут. Делали пересыпуху: сладкую свеклу варили, потом чистили и нарезали пластинами. Эти пластины выкладывали на сковороду сверху посыпали мукой (если была), потом следующий слой свеклы, и в печь. Вот такие у нас были конфеты.</a:t>
            </a: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артофель, был лакомством. Мама говорила: «Ты лупи, да смотри не съешь». Потом картофель отваливали на сковороду и в печь, чтобы зарумянился. На зиму солили в кадушках огурцы, помидоры и капусту. Вот так и выживали.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комп</cp:lastModifiedBy>
  <dcterms:modified xsi:type="dcterms:W3CDTF">2020-11-23T17:58:37Z</dcterms:modified>
  <cp:revision>11</cp:revision>
  <dc:subject/>
  <dc:title>PowerPoint Presentation</dc:title>
</cp:coreProperties>
</file>