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367200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77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1052640"/>
            <a:ext cx="77040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НЦИКЛОПЕДИЯ ОДНОГО СЛОВ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3573360"/>
            <a:ext cx="3744720" cy="180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ГО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25360"/>
            <a:ext cx="655308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АНТОНИМЫ</a:t>
            </a:r>
            <a:br>
              <a:rPr sz="3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Львов М. Р. Словарь антонимов русского языка. Св. 3000 антоним. пар / Под ред. Л. А. Новикова. — 8-е изд., стереотип. — М.: АСТ-ПРЕСС КНИГА, 2006.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5879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ГОНЬ</a:t>
            </a: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 -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ЛЁД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47040" y="3213000"/>
            <a:ext cx="2192040" cy="313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05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УПОТРЕБЛЕНИЕ В ПОСЛОВИЦАХ И ПОГОВОРКА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Маслом огонь не заливают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Дыма без огня не бывает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Из огня да в полым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Не играй с огнём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авде огонь не страшен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Днём с огнём (не сыщешь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Бежал от дыма и упал в огонь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ЭНЦИКЛОПЕДИЯ АФОРИЗМОВ</a:t>
            </a:r>
            <a:br>
              <a:rPr sz="32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БОРОХОВ Э. ЭНЦИКЛОПЕДИЯ АФОРИЗМОВ: МЫСЛЬ В СЛОВЕ.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М.: ИЗДАТЕЛЬСТВО АСТ, 2001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ВАШЕ ИМУЩЕСТВО В ОПАСНОСТИ, КОГДА ГОРИТ ДОМ СОСЕ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ГОРАЦИ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НЕ МОЖЕТ БЫТЬ БОЛЬШОГО ДЫМА, БЕЗ ХОТЯ БЫ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НЕБОЛЬШОГО ОГН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Д. ЛИЛ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ОГОНЬ НЕ ГАСНЕТ ОТТОГО, ЧТО ОТ НЕГО ЗАЖГУТ ДРУГ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ЛУКИАН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ВЕТЕР ПИТАЕТ ОГОНЬ, НО ВЕТЕР ЕГО ЖЕ И ТУШИТ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ОВИДИ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ЛУЧШЕ ОБЖЕЧЬСЯ НА МАЛЕНЬКОМ ОГНЕ, ЧЕМ СГОРЕТЬ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НА БОЛЬШ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Д. Р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5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50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500"/>
                            </p:stCondLst>
                            <p:childTnLst>
                              <p:par>
                                <p:cTn id="5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9500"/>
                            </p:stCondLst>
                            <p:childTnLst>
                              <p:par>
                                <p:cTn id="5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1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АВТОРЫ: ШАМУГИЯ АРЧИЛИ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ФОФОНОВА ЕКАТЕР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МАТВЕЕВА ДАРЬ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ЕГОРОВ МАКСИ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КУЛАКОВ ЕВГЕНИ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КАЗАКОВА НАТАЛЬ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З ИСТОРИИ СЛОВА</a:t>
            </a:r>
            <a:br>
              <a:rPr sz="2800"/>
            </a:b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ШАНСКИЙ Н.М. ШКОЛЬНЫЙ ЭТИМОЛОГИЧЕСКИЙ СЛОВАРЬ РУССКОГО ЯЗЫКА. ПРОИСХОЖДЕНИЕ СЛОВ.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Н.М. ШАНСКИЙ, Г.А. БОБРОВА – 7-Е ИЗД., СТЕРЕОТИПНОЕ - М.: ДРОФА,2004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Древнерусское – огнь (огонь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Общеславянское – ogn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Индоевропейское – ogni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Появление слова огонь в русском языке некоторые исследователи относят к V–VI вв., хотя появиться оно могло значительно раньш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Это слово происходит от общей индоевропейской основы agnis. Встречается во многих европейских и азиатских языках (древнеиндийское – agni, латинское – ignis, литовское – ugnis). В Древней Индии бога домашнего очага называли Агн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Родственными являются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Украинское – (в)огон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Белорусское – агон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Болгарское – огън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Словенское – ogenj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Польское – ogien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0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ЗНАЧЕНИЕ СЛОВА</a:t>
            </a:r>
            <a:br>
              <a:rPr sz="2800"/>
            </a:b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ЖЕГОВ С.И. СЛОВАРЬ РУССКОГО ЯЗЫКА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ПОД. РЕД. Н.Ю.ШВЕДОВОЙ.-М.: РУССКИЙ ЯЗЫК, 1988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ОГОНЬ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– 1. ГОРЯЩИЕ СВЕТЯЩИЕСЯ ГАЗЫ ВЫСОКОЙ ТЕМПЕРАТУРЫ,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ЛАМЯ.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ОГОНЬ В ПЕЧИ. СГОРЕТЬ В ОГНЕ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2. СВЕТ ОТ ОСВЕТИТЕЛЬНЫХ ПРИБОРОВ.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ОГНИ ФОНАРЕ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ОГНИ ГОРОД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3. СТРЕЛЬБА (РУЖЕЙНАЯ, АРТИЛЛЕРИЙСКАЯ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ОТКРЫТЬ ОГОНЬ. ПРЕКРАЩЕНИЕ ОГН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. ПЕРЕНОСНОЕ ЗНАЧЕНИЕ: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ГЛАЗА ГОРЯТ ОГНЁМ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(ВЫРАЖАЮТ СИЛЬНОЕ ЧУВСТВО);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ОГОНЬ ЖЕЛАНИЙ (О СИЛЬНОЙ СТРАСТИ);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ЮНОША-ОГОНЬ! (О ЖИВОМ, ПЫЛКОМ ЧЕЛОВЕКЕ);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БОЯТЬСЯ КАК ОГНЯ (ОЧЕНЬ БОЯТЬСЯ);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ВЕСЬ В ОГНЕ (В ЖАРУ, В ЛИХОРАДКЕ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5. УСТАРЕВШЕЕ ЗНАЧЕНИЕ: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АНТОНОВ ОГОНЬ (НАРОДНОЕ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НАЗВАНИЕ ГАНГРЕНЫ, ЗАРАЖЕНИЯ КРОВИ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2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ОДНОКОРЕННЫЕ СЛОВ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ОНЁК-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 УМЕНЬШ.(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ТЕПЛИТСЯ ОГОНЁК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ЯМОЕ ЗНАЧЕНИЕ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ЗАЙТИ НА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ОГОНЁК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ЗАЙТИ СЛУЧАЙНО, МИМОХОДОМ, УВИДЕВ СВЕТ В ОКНАХ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ОГОНЬКОМ РАБОТАТЬ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УВЛЕЧЁННО, ПРОЯВЛЯЯ ИНИЦИАТИВУ, ВЫДУМКУ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ВОЙ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1. СМ. ОГОНЬ 2.ПЕРЕН. СВЕРКАЮЩИЙ, ЖГУЧИЙ (О ГЛАЗАХ, ВЗГЛЯДЕ)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ОГНЕВОЙ ВЗОР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 3. ПЕРЕН. ПЫЛКИЙ, ЖИВОЙ, СТРАСТНЫЙ.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ХАРАКТЕР ОГНЕВОЙ. ОГНЕВАЯ РЕЧЬ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ДЫШАЩИЙ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(КНИЖН.) ИЗВЕРГАЮЩИЙ ОГОНЬ.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ОГНЕДЫШАЩАЯ ГОРА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МЁТ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ОРУЖИЕ БЛИЖНЕГО ДЕЙСТВИЯ ДЛЯ ПОРАЖЕНИЯ ПРОТИВНИКА СТРУЁЙ ГОРЯЩЕЙ СМЕСИ.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ИЛ. ОГНЕМЁТНЫЙ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ННЫЙ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1. СМ. ОГОНЬ 2. ЦВЕТА ОГНЯ, КРАСНЫЙ.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ОГНЕННЫЕ ВОЛОСЫ.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3. ПЕРЕН. ТО ЖЕ, ЧТО ОГНЕВОЙ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. ОГНЕННЫЕ ГЛАЗА. ОГНЕННАЯ РЕЧЬ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ОПАСНЫЙ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ЛЕГКО ВОСПЛАМЕНЯЮЩИЙСЯ. </a:t>
            </a:r>
            <a:r>
              <a:rPr b="0" i="1" lang="ru-RU" sz="1400" spc="-1" strike="noStrike">
                <a:solidFill>
                  <a:srgbClr val="4d4d4d"/>
                </a:solidFill>
                <a:latin typeface="Arial"/>
              </a:rPr>
              <a:t>ОГНЕОПАСНАЯ ЖИДКОСТЬ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ПОКЛОННИК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ЧЕЛОВЕК, ПОКЛОНЯЮЩИЙСЯ ОГНЮ КАК БОЖЕСТВУ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ПОКЛОННИЧЕСТВО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ОГНЕПОКЛОНСТВО –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РЕГИЛИОЗНОЕ ПОЧИТАНИЕ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ОГНЯ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ГНЕПРИПАСЫ –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 ОГНЕСТРЕЛЬНЫЕ ПРИПАСЫ (ПАТРОНЫ, СНАРЯДЫ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1264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ОДНОКОРЕННЫЕ СЛОВ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ЕСТОЙКИЙ –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ТРУДНО ПОДДАЮЩИЙСЯ ДЕЙСТВИЮ ОГНЯ, НЕСГОРАЕМЫЙ. </a:t>
            </a:r>
            <a:r>
              <a:rPr b="0" i="1" lang="en-US" sz="1600" spc="-1" strike="noStrike">
                <a:solidFill>
                  <a:srgbClr val="4d4d4d"/>
                </a:solidFill>
                <a:latin typeface="Arial"/>
              </a:rPr>
              <a:t>ОГНЕСТОЙКОЕ СООРУЖЕНИЕ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ЕСТРЕЛЬНЫЙ –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1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СТРЕЛЯЮЩИЙ ПОСРЕДСТВОМ ВОСПЛАМЕНЕНИЯ ПОРОХА. </a:t>
            </a:r>
            <a:r>
              <a:rPr b="0" i="1" lang="en-US" sz="1600" spc="-1" strike="noStrike">
                <a:solidFill>
                  <a:srgbClr val="4d4d4d"/>
                </a:solidFill>
                <a:latin typeface="Arial"/>
              </a:rPr>
              <a:t>ОГНЕСТРЕЛЬНОЕ ОРУЖИЕ.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2. ПРИЧИНЁННЫЙ ПУЛЕЙ, ОСКОЛКОМ СНАРЯДА. </a:t>
            </a:r>
            <a:r>
              <a:rPr b="0" i="1" lang="en-US" sz="1600" spc="-1" strike="noStrike">
                <a:solidFill>
                  <a:srgbClr val="4d4d4d"/>
                </a:solidFill>
                <a:latin typeface="Arial"/>
              </a:rPr>
              <a:t>ОГНЕСТРЕЛЬНАЯ РАНА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ЕТУШИТЕЛЬ –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СПЕЦИАЛЬНЫЙ АППАРАТ ДЛЯ ТУШЕНИЯ ПОЖАРА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ЕУПОРНЫЙ –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СПОСОБНЫЙ ВЫДЕРЖИВАТЬ, НЕ РАЗРУШАЯСЬ, ОЧЕНЬ СИЛЬНОЕ НАГРЕВАНИЕ. </a:t>
            </a:r>
            <a:r>
              <a:rPr b="0" i="1" lang="en-US" sz="1600" spc="-1" strike="noStrike">
                <a:solidFill>
                  <a:srgbClr val="4d4d4d"/>
                </a:solidFill>
                <a:latin typeface="Arial"/>
              </a:rPr>
              <a:t>ОГНЕУПОРНЫЙ КИРПИЧ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ЕУПОРЫ –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ОГНЕУПОРНЫЕ МАТЕРИАЛЫ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ИВО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– КУСОК КАМНЯ ИЛИ МЕТАЛЛА ДЛЯ ВЫСЕКАНИЯ ОГНЯ ИЗ КРЕМНИЯ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ОГНИЩЕ –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1. МЕСТО С ОСТАТКАМИ КОСТРА. 2. МЕСТО ИЗ-ПОД ВЫРУБЛЕННОГО И ПАЛЁНОГО ЛЕСА, ПРЕДНАЗНАЧЕННОЕ ДЛЯ РАСПАШКИ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ФРАЗЕОЛОГИЧЕСКИЙ СЛОВАРЬ РУССКОГО ЯЗЫКА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ОД. РЕД. А.И. МОЛОТКОВА. М.:РУССКИЙ ЯЗЫК, 1987.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МЕЖДУ ДВУХ ОГНЕЙ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В ТАКОМ ПОЛОЖЕНИИ, КОГДА ОПАСНОСТЬ ИЛИ НЕПРЯТНОСТЬ УГРОЖАЕТ С ДВУХ СТОРОН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ДНЁМ С ОГНЁМ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ЧЕНЬ ТРУДНО, С БОЛЬШИМ ТРУДОМ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ИГРАТЬ С ОГНЁ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ПОСТУПАТЬ НЕОСМОТРИТЕЛЬНО, НЕОСТОРОЖНО, НЕ ДУМАЯ О ПОСЛЕДСТВИЯХ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ОГНЁМ И МЕЧОМ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С БЕСПОЩАДНОЙ ЖЕСТКОСТЬЮ, ПРИМЕНЯЯ САМЫЕ КРАЙНИЕ МЕРЫ  НАСИЛИЯ, ПРИНУЖДЕ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ПРЕДАВАТЬ ОГНЮ И МЕЧУ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БЕСПОЩАДНО РАЗОРЯТЬ, УНИЧТОЖАЯ И СЖИГАЯ ВСЁ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ТАСКАТЬ КАШТАНЫ ИЗ ОГНЯ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ВЫПОЛНЯТЬ ОЧЕНЬ ТРУДНУЮ РАБОТУ, РЕЗУЛЬТАТАМИ КОТОРОЙ ПОЛЬЗУЕТСЯ ДРУГО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98100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ФРАЗЕОЛОГИЧЕСКИЕ ОБОРОТЫ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7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7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7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7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7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7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ФРАЗЕОЛОГИЧЕСКИЕ ОБОРОТ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2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НА ОГОНЁК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МИМОХОДОМ (ЗАЙТИ, ЗАГЛЯНУТЬ К КОМУ-НИБУДЬ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ИДТИ В ОГОНЬ И В ВОДУ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ИДТИ НА ВСЁ, НА ЛЮБЫЕ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САМООТВЕРЖЕННЫЕ ПОСТУПКИ, НЕ РАЗДУМЫВАЯ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ЖЕРТВУЯ ВСЕМ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ПОДЛИВАТЬ МАСЛА В ОГОНЬ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ОБОСТРЯТЬ ОТНОШЕНИЯ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УСУГУБЛЯТЬ КАКИЕ-ТО ЧУВСТВА, НАСТРОЕНИЯ И Т.П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ПРОЙТИ СКВОЗЬ ОГОНЬ, ВОДУ И МЕДНЫЕ ТРУБЫ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ИСПЫТАТЬ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ЕРЕНЕСТИ В ЖИЗНИ МНОГОЕ, ПОБЫВАТЬ В РАЗЛИЧНЫХ ТРУДНЫХ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ОЛОЖЕНИЯХ, ПЕРЕДЕЛКАХ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С ОГОНЬКО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С УВЛЕЧЕНИЕМ, ПОДЪЁМОМ ДЕЛАТЬ ЧТО-ЛИБО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ПРОМЕТЕЕВ ОГОНЬ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– НЕУГАСАЮЩЕЕ СТРЕМЛЕНИЕ К ДОСТИЖЕНИЮ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ВЫСОКИХ, БЛАГОРОДНЫХ ЦЕЛЕ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2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2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2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2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2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2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СИНОНИМЫ</a:t>
            </a:r>
            <a:br>
              <a:rPr sz="3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Словарь синонимов русского языка: В 2 т. / АН СССР, Институт русского языка; Под ред. А. П. Евгеньевой. Л.: Наука, Ленинградское отделение, 1970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2898720"/>
            <a:ext cx="4762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ГОНЬ</a:t>
            </a: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ЛАМ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16720" y="3068640"/>
            <a:ext cx="239220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2:17:02Z</dcterms:created>
  <dc:creator>Ольга Александровна</dc:creator>
  <dc:description/>
  <dc:language>en-US</dc:language>
  <cp:lastModifiedBy>OLGA</cp:lastModifiedBy>
  <dcterms:modified xsi:type="dcterms:W3CDTF">2013-12-05T10:52:54Z</dcterms:modified>
  <cp:revision>13</cp:revision>
  <dc:subject/>
  <dc:title>Слайд 1</dc:title>
</cp:coreProperties>
</file>