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</p:sldIdLst>
  <p:sldSz cx="9907588" cy="6858000"/>
  <p:notesSz cx="6789738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"/>
          <p:cNvSpPr/>
          <p:nvPr/>
        </p:nvSpPr>
        <p:spPr>
          <a:xfrm>
            <a:off x="0" y="0"/>
            <a:ext cx="67896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AutoShape 1"/>
          <p:cNvSpPr/>
          <p:nvPr/>
        </p:nvSpPr>
        <p:spPr>
          <a:xfrm>
            <a:off x="0" y="0"/>
            <a:ext cx="6789600" cy="9918720"/>
          </a:xfrm>
          <a:custGeom>
            <a:avLst/>
            <a:gdLst>
              <a:gd name="textAreaLeft" fmla="*/ 360 w 6789600"/>
              <a:gd name="textAreaRight" fmla="*/ 6789240 w 6789600"/>
              <a:gd name="textAreaTop" fmla="*/ 360 h 9918720"/>
              <a:gd name="textAreaBottom" fmla="*/ 9918360 h 9918720"/>
            </a:gdLst>
            <a:ahLst/>
            <a:rect l="textAreaLeft" t="textAreaTop" r="textAreaRight" b="textAreaBottom"/>
            <a:pathLst>
              <a:path w="21600" h="31554">
                <a:moveTo>
                  <a:pt x="5" y="0"/>
                </a:moveTo>
                <a:arcTo wR="5" hR="5" stAng="16200000" swAng="-5400000"/>
                <a:lnTo>
                  <a:pt x="0" y="31549"/>
                </a:lnTo>
                <a:arcTo wR="5" hR="5" stAng="10800000" swAng="-5400000"/>
                <a:lnTo>
                  <a:pt x="21595" y="3155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AutoShape 2"/>
          <p:cNvSpPr/>
          <p:nvPr/>
        </p:nvSpPr>
        <p:spPr>
          <a:xfrm>
            <a:off x="0" y="0"/>
            <a:ext cx="6789600" cy="9918720"/>
          </a:xfrm>
          <a:custGeom>
            <a:avLst/>
            <a:gdLst>
              <a:gd name="textAreaLeft" fmla="*/ 360 w 6789600"/>
              <a:gd name="textAreaRight" fmla="*/ 6789240 w 6789600"/>
              <a:gd name="textAreaTop" fmla="*/ 360 h 9918720"/>
              <a:gd name="textAreaBottom" fmla="*/ 9918360 h 9918720"/>
            </a:gdLst>
            <a:ahLst/>
            <a:rect l="textAreaLeft" t="textAreaTop" r="textAreaRight" b="textAreaBottom"/>
            <a:pathLst>
              <a:path w="21600" h="31554">
                <a:moveTo>
                  <a:pt x="5" y="0"/>
                </a:moveTo>
                <a:arcTo wR="5" hR="5" stAng="16200000" swAng="-5400000"/>
                <a:lnTo>
                  <a:pt x="0" y="31549"/>
                </a:lnTo>
                <a:arcTo wR="5" hR="5" stAng="10800000" swAng="-5400000"/>
                <a:lnTo>
                  <a:pt x="21595" y="3155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Text Box 3"/>
          <p:cNvSpPr/>
          <p:nvPr/>
        </p:nvSpPr>
        <p:spPr>
          <a:xfrm>
            <a:off x="0" y="0"/>
            <a:ext cx="29415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Text Box 4"/>
          <p:cNvSpPr/>
          <p:nvPr/>
        </p:nvSpPr>
        <p:spPr>
          <a:xfrm>
            <a:off x="3846600" y="0"/>
            <a:ext cx="2940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PlaceHolder 1"/>
          <p:cNvSpPr>
            <a:spLocks noGrp="1"/>
          </p:cNvSpPr>
          <p:nvPr>
            <p:ph type="sldImg"/>
          </p:nvPr>
        </p:nvSpPr>
        <p:spPr>
          <a:xfrm>
            <a:off x="711360" y="744120"/>
            <a:ext cx="536400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906120" y="4709880"/>
            <a:ext cx="4971960" cy="445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Text Box 7"/>
          <p:cNvSpPr/>
          <p:nvPr/>
        </p:nvSpPr>
        <p:spPr>
          <a:xfrm>
            <a:off x="0" y="9418680"/>
            <a:ext cx="29415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sldNum" idx="37"/>
          </p:nvPr>
        </p:nvSpPr>
        <p:spPr>
          <a:xfrm>
            <a:off x="3846600" y="9418320"/>
            <a:ext cx="29383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A224D0-AE32-4DB6-8B8D-BCBAF3672841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Rectangle 8"/>
          <p:cNvSpPr/>
          <p:nvPr/>
        </p:nvSpPr>
        <p:spPr>
          <a:xfrm>
            <a:off x="3846600" y="9418680"/>
            <a:ext cx="2938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2DD4FE-FFEC-4B9C-B723-6F833BCD1003}" type="slidenum">
              <a:rPr b="1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Text Box 1"/>
          <p:cNvSpPr/>
          <p:nvPr/>
        </p:nvSpPr>
        <p:spPr>
          <a:xfrm>
            <a:off x="3846600" y="9418680"/>
            <a:ext cx="2940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40338C-6BEA-47B6-AE83-4B44DAC5F2A4}" type="slidenum">
              <a:rPr b="1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Text Box 2"/>
          <p:cNvSpPr/>
          <p:nvPr/>
        </p:nvSpPr>
        <p:spPr>
          <a:xfrm>
            <a:off x="709560" y="744480"/>
            <a:ext cx="5370480" cy="371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PlaceHolder 1"/>
          <p:cNvSpPr>
            <a:spLocks noGrp="1"/>
          </p:cNvSpPr>
          <p:nvPr>
            <p:ph type="body"/>
          </p:nvPr>
        </p:nvSpPr>
        <p:spPr>
          <a:xfrm>
            <a:off x="906480" y="4709880"/>
            <a:ext cx="497376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Rectangle 8"/>
          <p:cNvSpPr/>
          <p:nvPr/>
        </p:nvSpPr>
        <p:spPr>
          <a:xfrm>
            <a:off x="3846600" y="9418680"/>
            <a:ext cx="2938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90CD61-6D3F-497B-B026-2E40293B1CC7}" type="slidenum">
              <a:rPr b="1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Text Box 1"/>
          <p:cNvSpPr/>
          <p:nvPr/>
        </p:nvSpPr>
        <p:spPr>
          <a:xfrm>
            <a:off x="3846600" y="9418680"/>
            <a:ext cx="2940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A30D6F-983D-4E3C-A0DC-A63405EEDA85}" type="slidenum">
              <a:rPr b="1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Text Box 2"/>
          <p:cNvSpPr/>
          <p:nvPr/>
        </p:nvSpPr>
        <p:spPr>
          <a:xfrm>
            <a:off x="709560" y="744480"/>
            <a:ext cx="5370480" cy="371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body"/>
          </p:nvPr>
        </p:nvSpPr>
        <p:spPr>
          <a:xfrm>
            <a:off x="906480" y="4709880"/>
            <a:ext cx="497376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Rectangle 8"/>
          <p:cNvSpPr/>
          <p:nvPr/>
        </p:nvSpPr>
        <p:spPr>
          <a:xfrm>
            <a:off x="3846600" y="9418680"/>
            <a:ext cx="2938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16F412-3633-432E-8BC3-2C57A76D9630}" type="slidenum">
              <a:rPr b="1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Text Box 1"/>
          <p:cNvSpPr/>
          <p:nvPr/>
        </p:nvSpPr>
        <p:spPr>
          <a:xfrm>
            <a:off x="3846600" y="9418680"/>
            <a:ext cx="2940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827723-D3BC-4D8A-BEAD-F49D9F3E552B}" type="slidenum">
              <a:rPr b="1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Text Box 2"/>
          <p:cNvSpPr/>
          <p:nvPr/>
        </p:nvSpPr>
        <p:spPr>
          <a:xfrm>
            <a:off x="709560" y="744480"/>
            <a:ext cx="5370480" cy="371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PlaceHolder 1"/>
          <p:cNvSpPr>
            <a:spLocks noGrp="1"/>
          </p:cNvSpPr>
          <p:nvPr>
            <p:ph type="body"/>
          </p:nvPr>
        </p:nvSpPr>
        <p:spPr>
          <a:xfrm>
            <a:off x="906480" y="4709880"/>
            <a:ext cx="497376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Rectangle 8"/>
          <p:cNvSpPr/>
          <p:nvPr/>
        </p:nvSpPr>
        <p:spPr>
          <a:xfrm>
            <a:off x="3846600" y="9418680"/>
            <a:ext cx="2938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323014-1552-420C-9B07-4E6C613D204C}" type="slidenum">
              <a:rPr b="1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Text Box 1"/>
          <p:cNvSpPr/>
          <p:nvPr/>
        </p:nvSpPr>
        <p:spPr>
          <a:xfrm>
            <a:off x="3846600" y="9418680"/>
            <a:ext cx="2940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A3AA78-EA7E-4CAC-92BE-C0E8329532D9}" type="slidenum">
              <a:rPr b="1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Text Box 2"/>
          <p:cNvSpPr/>
          <p:nvPr/>
        </p:nvSpPr>
        <p:spPr>
          <a:xfrm>
            <a:off x="709560" y="744480"/>
            <a:ext cx="5370480" cy="371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PlaceHolder 1"/>
          <p:cNvSpPr>
            <a:spLocks noGrp="1"/>
          </p:cNvSpPr>
          <p:nvPr>
            <p:ph type="body"/>
          </p:nvPr>
        </p:nvSpPr>
        <p:spPr>
          <a:xfrm>
            <a:off x="906480" y="4709880"/>
            <a:ext cx="497376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Rectangle 8"/>
          <p:cNvSpPr/>
          <p:nvPr/>
        </p:nvSpPr>
        <p:spPr>
          <a:xfrm>
            <a:off x="3846600" y="9418680"/>
            <a:ext cx="2938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EA724C-CFC7-48C8-8A87-089830080034}" type="slidenum">
              <a:rPr b="1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Text Box 1"/>
          <p:cNvSpPr/>
          <p:nvPr/>
        </p:nvSpPr>
        <p:spPr>
          <a:xfrm>
            <a:off x="3846600" y="9418680"/>
            <a:ext cx="2940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25B68B-9EA9-43FC-9517-82CBEA145F40}" type="slidenum">
              <a:rPr b="1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Text Box 2"/>
          <p:cNvSpPr/>
          <p:nvPr/>
        </p:nvSpPr>
        <p:spPr>
          <a:xfrm>
            <a:off x="709560" y="744480"/>
            <a:ext cx="5370480" cy="371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PlaceHolder 1"/>
          <p:cNvSpPr>
            <a:spLocks noGrp="1"/>
          </p:cNvSpPr>
          <p:nvPr>
            <p:ph type="body"/>
          </p:nvPr>
        </p:nvSpPr>
        <p:spPr>
          <a:xfrm>
            <a:off x="906480" y="4709880"/>
            <a:ext cx="497376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8"/>
          <p:cNvSpPr/>
          <p:nvPr/>
        </p:nvSpPr>
        <p:spPr>
          <a:xfrm>
            <a:off x="3846600" y="9418680"/>
            <a:ext cx="2938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E08E84-0FC6-4F89-883B-59DCE8AFB9D4}" type="slidenum">
              <a:rPr b="1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Text Box 1"/>
          <p:cNvSpPr/>
          <p:nvPr/>
        </p:nvSpPr>
        <p:spPr>
          <a:xfrm>
            <a:off x="3846600" y="9418680"/>
            <a:ext cx="2940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5D0915-D330-4104-BB7B-684577F590CC}" type="slidenum">
              <a:rPr b="1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Text Box 2"/>
          <p:cNvSpPr/>
          <p:nvPr/>
        </p:nvSpPr>
        <p:spPr>
          <a:xfrm>
            <a:off x="709560" y="744480"/>
            <a:ext cx="5370480" cy="371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body"/>
          </p:nvPr>
        </p:nvSpPr>
        <p:spPr>
          <a:xfrm>
            <a:off x="906480" y="4709880"/>
            <a:ext cx="497376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64000" cy="3714840"/>
          </a:xfrm>
          <a:prstGeom prst="rect">
            <a:avLst/>
          </a:prstGeom>
          <a:ln w="0">
            <a:noFill/>
          </a:ln>
        </p:spPr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906120" y="4709880"/>
            <a:ext cx="497196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Номер слайда 3"/>
          <p:cNvSpPr/>
          <p:nvPr/>
        </p:nvSpPr>
        <p:spPr>
          <a:xfrm>
            <a:off x="3846600" y="9418680"/>
            <a:ext cx="2938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683F98-48C5-4E33-8EA2-3CFE649976C9}" type="slidenum">
              <a:rPr b="1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16934-673E-418A-8142-BEEFA7C8001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81183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55560" y="3953880"/>
            <a:ext cx="81183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758E7-53BE-4DCE-8959-0235DE669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E0341D-EE66-4D82-B22E-ACDDD1C59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591A78-C2C4-47CE-B86C-2FC3A1495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1555560" y="144360"/>
            <a:ext cx="811836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4B8B97-67D9-4828-8B09-E4002CFF1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1555560" y="395388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4518E9-199D-49EF-83D7-2320DBD80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715360" y="395388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713EC3-9D03-4C98-BEFD-74D973513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555560" y="3953880"/>
            <a:ext cx="81183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A177E0-F743-4C97-9B5A-4DA09F9E9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81183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1555560" y="3953880"/>
            <a:ext cx="81183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2ACE4B-449C-448E-B6B2-2B4877ED4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1555560" y="395388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5715360" y="395388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5E793D-DBDA-4A97-B58E-40CD47287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300560" y="144792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7045560" y="144792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1555560" y="395388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4300560" y="395388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7045560" y="395388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410B7F-8E90-46CF-9ECD-F63F9A8698F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84F7D0-7D14-4113-AFC7-02BC5FE374F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555560" y="395388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715360" y="395388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ADFFF-4302-4069-9F30-926DD2D3C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1555560" y="1447920"/>
            <a:ext cx="811836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E5C01B-6D9B-46F2-A3A8-39529BC9E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81183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336BC0-DB82-450D-BD76-242EB51E5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D1BB21-7DBA-4DE8-8414-C45408439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38D2FB-9A73-40CA-B221-DDBB404A5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1555560" y="144360"/>
            <a:ext cx="811836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B62795-04E9-4391-A577-E5B621775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1555560" y="395388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4AF995-8D5F-4B1B-A3BF-40182664B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5715360" y="395388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490B19-4847-4BB8-9D0B-252AA09CD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1555560" y="3953880"/>
            <a:ext cx="81183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626E3F-E732-4650-9736-AD057A7A5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81183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1555560" y="3953880"/>
            <a:ext cx="81183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7FE7A8-218C-401C-985B-1E7F83795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1555560" y="395388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5715360" y="395388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C99EBC-B834-470B-82CF-E11394963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300560" y="144792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7045560" y="144792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555560" y="395388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4300560" y="395388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7045560" y="395388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68E8B-2188-46B6-A0F3-074C3AC8CDA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300560" y="144792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7045560" y="144792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1555560" y="395388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4300560" y="395388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7045560" y="395388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E7E543-E266-4958-89C7-E4D5C29F4DF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96D696D-B7F1-419D-8013-5901FC3E44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1555560" y="1447920"/>
            <a:ext cx="811836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65F3F3B-018B-4FDD-BFEE-567009C35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81183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45105B3-ACCF-4040-9E9F-DB460BA8C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51E2AA5-33EA-4EDC-AA76-5A9562F34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EF57E28-A3E9-47EC-8BD2-7A283CE3D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1555560" y="144360"/>
            <a:ext cx="811836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0BFD82B-41FB-428E-9DFA-06B24C767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1555560" y="395388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65953D8-8696-4740-B649-AAC64DFA4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715360" y="395388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3BD5570-D925-4038-9538-2B2EC63F5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1555560" y="3953880"/>
            <a:ext cx="81183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4CFDEF7-6C0B-4A50-9CD0-D76BFB389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ABF364-C1FF-430D-8932-C65C49B6671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81183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1555560" y="3953880"/>
            <a:ext cx="81183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668373E-3D27-4C91-A4A2-90DB6E3C6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1555560" y="395388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5715360" y="395388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2FF4F2D-D3F7-4E74-B6AE-A7C4F7552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300560" y="144792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7045560" y="144792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1555560" y="395388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4300560" y="395388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7045560" y="395388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B819BCA-2A9B-42A4-8B7A-60558FAFE49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DB7C3B-F6ED-4397-B177-B684D7DA189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1555560" y="1447920"/>
            <a:ext cx="811836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45923E-7206-4730-9E2D-1A5F90D4A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81183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AD17FA-1A11-4953-8315-30D247C65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FB7201-8386-44A9-BBEE-04058C796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23C191-EABB-40B3-920E-AC8415AD5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1555560" y="144360"/>
            <a:ext cx="811836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4AC459-7C33-40E2-AA41-A988AD505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1555560" y="395388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C78516-0C47-4BDA-823D-7B4190C97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555560" y="1447920"/>
            <a:ext cx="811836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81E05C-7CCF-477A-9C57-95518A052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5715360" y="395388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12765F-4A25-4C91-81EF-2F2A47843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1555560" y="3953880"/>
            <a:ext cx="81183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FB506B-D348-435D-916D-51DB317FE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81183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1555560" y="3953880"/>
            <a:ext cx="81183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C682C3-7EA1-48FB-AC32-5975FAE8D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555560" y="395388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5715360" y="395388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5CE4A8-D57B-4CF7-9D86-215D3D6DE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300560" y="144792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7045560" y="144792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1555560" y="395388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4300560" y="395388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7045560" y="395388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5B1FB0-28B6-4460-9DAB-9B0C2888BA9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7421D2B-9CF6-4A09-9EF5-6FF30B7B7C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subTitle"/>
          </p:nvPr>
        </p:nvSpPr>
        <p:spPr>
          <a:xfrm>
            <a:off x="1555560" y="1447920"/>
            <a:ext cx="811836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3216892-619F-4D21-B738-6EEA1D879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81183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856CFBC-C693-42B4-9FA0-D656952C0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201BA56-5B8D-45F0-9240-3F8ACC60D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03006B2-C83E-408B-A27D-7B11AE68E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81183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F0F73C-6C3A-4256-898B-B648BC12E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ubTitle"/>
          </p:nvPr>
        </p:nvSpPr>
        <p:spPr>
          <a:xfrm>
            <a:off x="1555560" y="144360"/>
            <a:ext cx="811836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553A365-94DD-46B8-819E-6819A3018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1555560" y="395388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9FA667B-779D-4753-BCF4-02745396E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5715360" y="395388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1FA78A1-4EAA-45F9-83A0-28A8F8374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1555560" y="3953880"/>
            <a:ext cx="81183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9D2DEBA-BBD4-4F9B-A0F1-8E111E333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81183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1555560" y="3953880"/>
            <a:ext cx="81183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0D620BD-B164-400D-8F88-4A69A901D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1555560" y="395388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715360" y="395388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5787EF8-262F-4F7F-A1BE-2BE7B490D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300560" y="144792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7045560" y="144792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1555560" y="395388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1" name="PlaceHolder 6"/>
          <p:cNvSpPr>
            <a:spLocks noGrp="1"/>
          </p:cNvSpPr>
          <p:nvPr>
            <p:ph/>
          </p:nvPr>
        </p:nvSpPr>
        <p:spPr>
          <a:xfrm>
            <a:off x="4300560" y="395388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2" name="PlaceHolder 7"/>
          <p:cNvSpPr>
            <a:spLocks noGrp="1"/>
          </p:cNvSpPr>
          <p:nvPr>
            <p:ph/>
          </p:nvPr>
        </p:nvSpPr>
        <p:spPr>
          <a:xfrm>
            <a:off x="7045560" y="395388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20B5D01-FA2C-4202-9BC3-E0E3927A872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143CA4-EDDB-41C6-B9C7-B8E9FAB395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subTitle"/>
          </p:nvPr>
        </p:nvSpPr>
        <p:spPr>
          <a:xfrm>
            <a:off x="1555560" y="1447920"/>
            <a:ext cx="811836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98A9A5-64EA-40E1-B1E8-CE9FB2C27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81183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86118E-4CF1-4612-AB3D-004DC6314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157B6E-F1DD-42D0-94C4-328C670D0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FCBF9B-C54C-4AD4-927D-FFE73DF18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0389A7-6733-4089-80D4-1CFE72050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ubTitle"/>
          </p:nvPr>
        </p:nvSpPr>
        <p:spPr>
          <a:xfrm>
            <a:off x="1555560" y="144360"/>
            <a:ext cx="811836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678122-D209-4409-8048-A85DEE778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1555560" y="395388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19FA2F-DC84-4235-8481-6F3D8F3CA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5715360" y="395388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A2A7DC-01CE-429F-BC3A-384FEE130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1555560" y="3953880"/>
            <a:ext cx="81183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AB5911-9B08-46D6-A253-56D05032A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81183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1555560" y="3953880"/>
            <a:ext cx="81183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2A9DD9-AF9D-473C-AC2B-604BF9991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1555560" y="395388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715360" y="395388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8B690D-4181-45AC-8A36-BD3B773BB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300560" y="144792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7045560" y="144792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1555560" y="395388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0" name="PlaceHolder 6"/>
          <p:cNvSpPr>
            <a:spLocks noGrp="1"/>
          </p:cNvSpPr>
          <p:nvPr>
            <p:ph/>
          </p:nvPr>
        </p:nvSpPr>
        <p:spPr>
          <a:xfrm>
            <a:off x="4300560" y="395388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1" name="PlaceHolder 7"/>
          <p:cNvSpPr>
            <a:spLocks noGrp="1"/>
          </p:cNvSpPr>
          <p:nvPr>
            <p:ph/>
          </p:nvPr>
        </p:nvSpPr>
        <p:spPr>
          <a:xfrm>
            <a:off x="7045560" y="395388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64D80E-F509-423D-881D-990E4F75274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B99BB3-6792-4A88-BAB9-7FF452D6C58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258326-F8B0-4F62-B065-3B60CA6F4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1555560" y="1447920"/>
            <a:ext cx="811836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14724B-186B-47E9-AF0E-5A993A279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81183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9CE7CF-5039-4E22-B233-31153CAAF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A2FDB8-6FD6-4092-AA3F-A3FCAB94E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45C5DA-1B3E-498A-9ECC-2D3A48EB7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ubTitle"/>
          </p:nvPr>
        </p:nvSpPr>
        <p:spPr>
          <a:xfrm>
            <a:off x="1555560" y="144360"/>
            <a:ext cx="811836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05F642-F23F-4364-89DA-B83D63D4D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1555560" y="395388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8C1D05-12D0-4617-916B-220E9D63F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5715360" y="395388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F86FB6-1712-457B-9989-5EF66F902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1555560" y="3953880"/>
            <a:ext cx="81183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989F93-29FC-4BAE-BED6-FB1AA5B97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81183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1555560" y="3953880"/>
            <a:ext cx="81183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32DCC6-1619-413F-9791-01A4B1378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555560" y="395388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5715360" y="395388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F4FF80-CE6C-48D7-8B3D-6D30CD371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55560" y="144360"/>
            <a:ext cx="811836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F3D326-504E-409B-8570-8B29E6416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300560" y="144792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7045560" y="144792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1555560" y="395388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9" name="PlaceHolder 6"/>
          <p:cNvSpPr>
            <a:spLocks noGrp="1"/>
          </p:cNvSpPr>
          <p:nvPr>
            <p:ph/>
          </p:nvPr>
        </p:nvSpPr>
        <p:spPr>
          <a:xfrm>
            <a:off x="4300560" y="395388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0" name="PlaceHolder 7"/>
          <p:cNvSpPr>
            <a:spLocks noGrp="1"/>
          </p:cNvSpPr>
          <p:nvPr>
            <p:ph/>
          </p:nvPr>
        </p:nvSpPr>
        <p:spPr>
          <a:xfrm>
            <a:off x="7045560" y="395388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3FE4AF-1191-4ACF-A31A-FD3EA21F3A1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A3D69B5-354A-476B-80DA-47AF1DF4959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subTitle"/>
          </p:nvPr>
        </p:nvSpPr>
        <p:spPr>
          <a:xfrm>
            <a:off x="1555560" y="1447920"/>
            <a:ext cx="811836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6777F72-6EEB-4E6B-908C-D0D230884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81183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D54953D-B598-47AA-AECF-A0560C368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0911129-7AB6-4FA6-A136-EDE42B71B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3FD5B6B-A88B-4D74-BE21-36F93058F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ubTitle"/>
          </p:nvPr>
        </p:nvSpPr>
        <p:spPr>
          <a:xfrm>
            <a:off x="1555560" y="144360"/>
            <a:ext cx="811836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67169BD-94AE-4747-9118-79FE4DB95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1555560" y="395388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751D927-96D4-4A0A-BE45-1D1999696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5715360" y="395388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AF9FEDF-C1B6-4ADA-970B-B0B534002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1555560" y="3953880"/>
            <a:ext cx="81183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A123FAB-81E5-46E1-A841-BB0AFBFCD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555560" y="395388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C3662D-F66C-41E0-9777-AAFBBAD09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81183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1555560" y="3953880"/>
            <a:ext cx="81183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F67425B-FAAB-4F39-83C3-977C437A1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1555560" y="395388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5715360" y="395388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36CD922-7D48-4C8C-A717-8D078F629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300560" y="144792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7045560" y="144792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1555560" y="395388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8" name="PlaceHolder 6"/>
          <p:cNvSpPr>
            <a:spLocks noGrp="1"/>
          </p:cNvSpPr>
          <p:nvPr>
            <p:ph/>
          </p:nvPr>
        </p:nvSpPr>
        <p:spPr>
          <a:xfrm>
            <a:off x="4300560" y="395388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9" name="PlaceHolder 7"/>
          <p:cNvSpPr>
            <a:spLocks noGrp="1"/>
          </p:cNvSpPr>
          <p:nvPr>
            <p:ph/>
          </p:nvPr>
        </p:nvSpPr>
        <p:spPr>
          <a:xfrm>
            <a:off x="7045560" y="395388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A1ED504-DB9C-4A2E-9E92-807280C2273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552146-EE0E-44F8-8720-3E608EAEFB3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1555560" y="1447920"/>
            <a:ext cx="811836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D3B923-831D-4E99-9B5A-304619194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81183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3AF70B-CB93-4F17-BA60-F2EE773BC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0D5768-08AB-40A0-9AE9-352D70E77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52F530-2093-43E2-BE90-660DFD320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1555560" y="144360"/>
            <a:ext cx="811836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5A435E-5425-4C88-B22B-A279C4B69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1555560" y="395388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D729B3-42C3-4EBA-832B-6687C669A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555560" y="1447920"/>
            <a:ext cx="811836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A4A2E-C35E-4729-AF01-7AA2245AF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715360" y="395388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2D3A58-F17F-4C8A-8961-BBA8FE788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5715360" y="395388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73E340-6708-49D0-9FB9-2F4A1F008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1555560" y="3953880"/>
            <a:ext cx="81183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CD4225-4FC6-4BCC-BB31-24EFA62D7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81183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1555560" y="3953880"/>
            <a:ext cx="81183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11FA22-BFD6-4CB2-A305-C9FB96694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1555560" y="395388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5715360" y="395388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185490-1BF3-4438-BBF4-A529FF916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300560" y="144792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7045560" y="144792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1555560" y="395388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4300560" y="395388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7045560" y="395388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ECDAC8-055B-40AD-82E9-C95D0740C4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82A520-A134-4883-8579-5865A2C4A7A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subTitle"/>
          </p:nvPr>
        </p:nvSpPr>
        <p:spPr>
          <a:xfrm>
            <a:off x="1555560" y="1447920"/>
            <a:ext cx="811836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4BB365-069A-4AAB-A03E-4828DCF64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81183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33AF9F-1C37-4AF6-B0C1-4651AF8A4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9B5351-63C1-4FBF-8506-58E6C6C77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B5A593-C93A-4041-87E2-8695E0885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555560" y="3953880"/>
            <a:ext cx="81183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33BE5F-6EF6-46C9-BF51-147398C62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ubTitle"/>
          </p:nvPr>
        </p:nvSpPr>
        <p:spPr>
          <a:xfrm>
            <a:off x="1555560" y="144360"/>
            <a:ext cx="811836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D33480-B0DA-4707-8113-EAAA51A3C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1555560" y="395388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B7E8CE-76D5-414E-BCC2-A829A2B3D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5715360" y="395388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282555-75B3-4572-9CFF-F6ADBF212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1555560" y="3953880"/>
            <a:ext cx="81183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B23C1F-143C-41CC-8F82-BCF0A5E9D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81183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1555560" y="3953880"/>
            <a:ext cx="81183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864B2D-F236-4757-97D4-6EA4DEFC8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1555560" y="395388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/>
          </p:nvPr>
        </p:nvSpPr>
        <p:spPr>
          <a:xfrm>
            <a:off x="5715360" y="395388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05CACA-F084-405E-AFAC-92A8AF42B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300560" y="144792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7045560" y="144792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/>
          </p:nvPr>
        </p:nvSpPr>
        <p:spPr>
          <a:xfrm>
            <a:off x="1555560" y="395388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8" name="PlaceHolder 6"/>
          <p:cNvSpPr>
            <a:spLocks noGrp="1"/>
          </p:cNvSpPr>
          <p:nvPr>
            <p:ph/>
          </p:nvPr>
        </p:nvSpPr>
        <p:spPr>
          <a:xfrm>
            <a:off x="4300560" y="395388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9" name="PlaceHolder 7"/>
          <p:cNvSpPr>
            <a:spLocks noGrp="1"/>
          </p:cNvSpPr>
          <p:nvPr>
            <p:ph/>
          </p:nvPr>
        </p:nvSpPr>
        <p:spPr>
          <a:xfrm>
            <a:off x="7045560" y="395388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FACAC9-118F-4F1D-BAD6-6932C0AAF04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81183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555560" y="3953880"/>
            <a:ext cx="81183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2E3F93-E625-4DBF-80A4-2468837E0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555560" y="395388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715360" y="395388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071AA9-EE36-47E5-8B2F-91A2B6602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300560" y="144792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7045560" y="144792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555560" y="395388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4300560" y="395388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7045560" y="395388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3BA0D8-F0D2-4D5F-A84B-3D3E165948D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CD531-F6FD-4A4B-959A-F2C6E9625F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555560" y="1447920"/>
            <a:ext cx="811836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B7BF7-E487-438F-AB6E-34C0B20C2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81183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6A549-2FA8-42E3-850E-DC4CDEB19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C3536-F655-40F8-A4F4-CA9061A01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1535F-5F07-4730-8E82-104C83692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81183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0DBD9-30E7-4A7A-B5CC-9FB4D79BB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555560" y="144360"/>
            <a:ext cx="811836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8968C-4A5B-4E5E-A97B-7658915D7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555560" y="395388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4D433-4EFB-4301-9A5F-4DDA449EB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715360" y="395388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B7A8B-CBB0-4169-8EE3-F137500BD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555560" y="3953880"/>
            <a:ext cx="81183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6F32D-8BD2-4A06-8BBB-317EF69C5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81183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555560" y="3953880"/>
            <a:ext cx="81183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9EEAF-C34F-4FA7-A770-165E2D3FE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555560" y="395388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715360" y="395388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F17F7-06C4-4200-99C4-8D93C94F8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300560" y="144792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045560" y="144792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555560" y="395388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4300560" y="395388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7045560" y="395388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639A2-3098-4CF4-A6C8-B00E05317FA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388E46-9FE8-40DE-A08A-A82A39BA417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555560" y="1447920"/>
            <a:ext cx="811836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08A3A2-3B1F-4895-841A-0C1338B44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81183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393022-E00D-4BFD-9020-CA1937DD3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57F96-B3FD-4004-A25B-010620C81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9F3141-BA73-445C-B3C9-E13EB1795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0738F5-8E03-4A81-BCA2-A6F630574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555560" y="144360"/>
            <a:ext cx="811836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5B2E99-0551-4B06-9F34-90F766967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555560" y="395388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B261D2-15DF-4798-9EE5-24E0B7B1E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715360" y="395388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75C0C6-3A3B-4788-8ED4-9947D10EE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555560" y="3953880"/>
            <a:ext cx="81183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251757-336D-4B00-B7FB-120224A0E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81183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555560" y="3953880"/>
            <a:ext cx="81183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BE37B2-A380-45E6-B1CE-BA1B04970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555560" y="395388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715360" y="395388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6CB76C-229A-4503-B346-EFBFAD0B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300560" y="144792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7045560" y="144792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555560" y="395388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300560" y="395388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7045560" y="395388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6AC7D0-0D71-4BFB-81EF-BA89BB0E56E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E74BC7-3C12-46F1-A2DB-5686CEFF63B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FA516-EC0A-495D-99EC-B6E714F8B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555560" y="1447920"/>
            <a:ext cx="811836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C3922A-04D4-48E5-B506-6712EABFC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81183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2B255B-9A24-4781-BBB3-429A6AD7B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C34EA4-36BF-4DB4-878D-EA13BD6D0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9A629E-69C8-4E43-ABAF-0B450F998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1555560" y="144360"/>
            <a:ext cx="811836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E4B8A0-CC4B-4AE6-8C9F-66D1E5C66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1555560" y="395388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AB5511-7898-45DC-96EA-1F7A6BD46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715360" y="395388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C6FDBA-BDE1-41E5-B3B4-A4B728457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555560" y="3953880"/>
            <a:ext cx="81183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89CE54-10D0-43BB-8198-E09848335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81183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1555560" y="3953880"/>
            <a:ext cx="81183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8F8F45-5694-4DF5-8C12-8C4BD6CBA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555560" y="395388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5715360" y="395388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8FE057-43C1-4CB7-8F34-37CD5EE3E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555560" y="144360"/>
            <a:ext cx="811836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294CA-022C-4FBC-9B5D-D5B1E1BAE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300560" y="144792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7045560" y="144792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1555560" y="395388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4300560" y="395388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7045560" y="395388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95E9CC-378E-4C02-9573-B1EB53EEA06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75A23-DA63-4228-A95C-3CB90700656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1555560" y="1447920"/>
            <a:ext cx="811836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EB58E-90BE-4A93-A057-931B95372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81183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18642-139D-4F4D-98EA-7C5B4A9EC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C0D36-8611-4CB9-B1C8-7B56A4EC3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13D80-F272-410F-9B4F-A21853DDF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1555560" y="144360"/>
            <a:ext cx="811836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2F905-5098-40F5-AEED-ECC92FF6C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555560" y="395388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75633-B21C-4A9E-BD72-6932D3E62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715360" y="395388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32761F-994F-411B-B3DF-C74675115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1555560" y="3953880"/>
            <a:ext cx="81183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76B05-363A-4077-852A-B9ABBEC9F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55560" y="395388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E88FF-7845-446F-B3A0-07A96AAA5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81183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1555560" y="3953880"/>
            <a:ext cx="81183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2D9DDD-EFFF-437B-B7AB-323376193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555560" y="395388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715360" y="395388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66DFF-6696-4634-A2E5-FF0125883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300560" y="144792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7045560" y="144792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1555560" y="395388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4300560" y="395388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7045560" y="395388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D2074-D51C-44BB-B777-DA660FF2D2C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B69CDB-6DB4-455E-9541-5E93A454E78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1555560" y="1447920"/>
            <a:ext cx="811836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B397B1-39E5-4D89-9480-19850C052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81183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56CA13-FDBD-43C0-AC4F-F0386B6D1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C405D3-197F-4EFC-91AC-56532172A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F2E95D-A9E1-4568-ABFE-40593F401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1555560" y="144360"/>
            <a:ext cx="811836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07A0D9-1201-44BC-8DB4-1C6144DEB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555560" y="395388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264D0B-3E3B-4E8B-BDD6-AF8E5E165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715360" y="395388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ADCAD-3291-4977-911A-889CC8917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715360" y="395388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F4CAA2-8C8C-4A0A-A147-4AEC31EBB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1555560" y="3953880"/>
            <a:ext cx="81183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F72149-6D08-495B-B701-E53DE6997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81183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1555560" y="3953880"/>
            <a:ext cx="81183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13075A-F424-4EFC-A1AE-045B908F9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1555560" y="395388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5715360" y="395388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D3E9BC-EAA9-429F-AEB8-166FA121B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300560" y="144792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7045560" y="144792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1555560" y="395388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4300560" y="395388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7045560" y="395388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C359B7-39D0-465D-9A3E-C6A944B93CE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EFCF61E-6845-4038-AF4E-B167D211F5A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1555560" y="1447920"/>
            <a:ext cx="811836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69387D5-AA75-4864-901B-8370CE200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81183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038E4FF-AADB-4C6A-96EF-684FEB816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15F9C10-3BEC-43F9-8B08-4B0C8FEC8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F3DCEB1-59D2-4234-84CC-68AB3D42F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55560" y="3953880"/>
            <a:ext cx="81183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BEE59-3731-4CF2-A3DF-232B7A485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1555560" y="144360"/>
            <a:ext cx="811836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1F57DBE-8BC5-4C92-A69D-75D145139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1555560" y="395388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3947F04-620F-4416-BF04-3728CAC0B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5715360" y="395388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3FC6A4D-038B-47F3-9279-1A2E47A6A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1555560" y="3953880"/>
            <a:ext cx="81183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5C14E0F-67AD-4EA1-9707-3B7D7A0F2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81183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1555560" y="3953880"/>
            <a:ext cx="81183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B7C6274-4A6D-4445-A450-5A994A24A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555560" y="395388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5715360" y="395388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09F5A50-8CE2-463D-AC4A-E94FAB52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300560" y="144792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7045560" y="144792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1555560" y="395388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4300560" y="395388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7045560" y="395388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B211C59-9B76-44BC-B346-10E30ECA71E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558038-528D-4DE5-94D3-53F8C4E10C4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1555560" y="1447920"/>
            <a:ext cx="811836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889EF3-C96C-49DA-B01B-9006EB1B0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81183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39CAD3-DF9A-486A-8937-5E4EEAF7B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-884160" y="-816120"/>
            <a:ext cx="1776240" cy="1638360"/>
          </a:xfrm>
          <a:custGeom>
            <a:avLst/>
            <a:gdLst>
              <a:gd name="textAreaLeft" fmla="*/ 259920 w 1776240"/>
              <a:gd name="textAreaRight" fmla="*/ 1516320 w 177624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776413" h="1638300">
                <a:moveTo>
                  <a:pt x="1776413" y="819150"/>
                </a:moveTo>
                <a:lnTo>
                  <a:pt x="1776413" y="819150"/>
                </a:lnTo>
                <a:cubicBezTo>
                  <a:pt x="1776413" y="1271554"/>
                  <a:pt x="1378749" y="1638300"/>
                  <a:pt x="888206" y="1638300"/>
                </a:cubicBezTo>
                <a:cubicBezTo>
                  <a:pt x="888037" y="1638300"/>
                  <a:pt x="887868" y="1638299"/>
                  <a:pt x="887700" y="1638299"/>
                </a:cubicBezTo>
                <a:lnTo>
                  <a:pt x="888207" y="819150"/>
                </a:lnTo>
                <a:lnTo>
                  <a:pt x="1776413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Oval 2"/>
          <p:cNvSpPr/>
          <p:nvPr/>
        </p:nvSpPr>
        <p:spPr>
          <a:xfrm>
            <a:off x="182520" y="20520"/>
            <a:ext cx="1844640" cy="1703520"/>
          </a:xfrm>
          <a:prstGeom prst="ellipse">
            <a:avLst/>
          </a:prstGeom>
          <a:noFill/>
          <a:ln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Group 3"/>
          <p:cNvGrpSpPr/>
          <p:nvPr/>
        </p:nvGrpSpPr>
        <p:grpSpPr>
          <a:xfrm>
            <a:off x="195120" y="1017720"/>
            <a:ext cx="1229040" cy="1204920"/>
            <a:chOff x="195120" y="1017720"/>
            <a:chExt cx="1229040" cy="1204920"/>
          </a:xfrm>
        </p:grpSpPr>
        <p:pic>
          <p:nvPicPr>
            <p:cNvPr id="3" name="Picture 4" descr=""/>
            <p:cNvPicPr/>
            <p:nvPr/>
          </p:nvPicPr>
          <p:blipFill>
            <a:blip r:embed="rId2"/>
            <a:stretch/>
          </p:blipFill>
          <p:spPr>
            <a:xfrm>
              <a:off x="195120" y="1017720"/>
              <a:ext cx="1229040" cy="12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Text Box 5"/>
            <p:cNvSpPr/>
            <p:nvPr/>
          </p:nvSpPr>
          <p:spPr>
            <a:xfrm rot="2340000">
              <a:off x="377280" y="1212120"/>
              <a:ext cx="860760" cy="77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" name="Rectangle 6"/>
          <p:cNvSpPr/>
          <p:nvPr/>
        </p:nvSpPr>
        <p:spPr>
          <a:xfrm>
            <a:off x="1096920" y="0"/>
            <a:ext cx="880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555560" y="1447920"/>
            <a:ext cx="81183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879720" y="6303960"/>
            <a:ext cx="230832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rPr>
              <a:t>03.05.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Text Box 10"/>
          <p:cNvSpPr/>
          <p:nvPr/>
        </p:nvSpPr>
        <p:spPr>
          <a:xfrm>
            <a:off x="6191280" y="6303960"/>
            <a:ext cx="313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9330840" y="6303960"/>
            <a:ext cx="49212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91376B-BC2F-4353-A473-7F350FF46CDB}" type="slidenum">
              <a: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2"/>
          <p:cNvSpPr/>
          <p:nvPr/>
        </p:nvSpPr>
        <p:spPr>
          <a:xfrm>
            <a:off x="1100160" y="0"/>
            <a:ext cx="7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Line 13"/>
          <p:cNvSpPr/>
          <p:nvPr/>
        </p:nvSpPr>
        <p:spPr>
          <a:xfrm>
            <a:off x="247680" y="609480"/>
            <a:ext cx="9410760" cy="1800"/>
          </a:xfrm>
          <a:prstGeom prst="line">
            <a:avLst/>
          </a:prstGeom>
          <a:ln w="7632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AutoShape 1"/>
          <p:cNvSpPr/>
          <p:nvPr/>
        </p:nvSpPr>
        <p:spPr>
          <a:xfrm>
            <a:off x="-884160" y="-816120"/>
            <a:ext cx="1776240" cy="1638360"/>
          </a:xfrm>
          <a:custGeom>
            <a:avLst/>
            <a:gdLst>
              <a:gd name="textAreaLeft" fmla="*/ 259920 w 1776240"/>
              <a:gd name="textAreaRight" fmla="*/ 1516320 w 177624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776413" h="1638300">
                <a:moveTo>
                  <a:pt x="1776413" y="819150"/>
                </a:moveTo>
                <a:lnTo>
                  <a:pt x="1776413" y="819150"/>
                </a:lnTo>
                <a:cubicBezTo>
                  <a:pt x="1776413" y="1271554"/>
                  <a:pt x="1378749" y="1638300"/>
                  <a:pt x="888206" y="1638300"/>
                </a:cubicBezTo>
                <a:cubicBezTo>
                  <a:pt x="888037" y="1638300"/>
                  <a:pt x="887868" y="1638299"/>
                  <a:pt x="887700" y="1638299"/>
                </a:cubicBezTo>
                <a:lnTo>
                  <a:pt x="888207" y="819150"/>
                </a:lnTo>
                <a:lnTo>
                  <a:pt x="1776413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Oval 2"/>
          <p:cNvSpPr/>
          <p:nvPr/>
        </p:nvSpPr>
        <p:spPr>
          <a:xfrm>
            <a:off x="182520" y="20520"/>
            <a:ext cx="1844640" cy="1703520"/>
          </a:xfrm>
          <a:prstGeom prst="ellipse">
            <a:avLst/>
          </a:prstGeom>
          <a:noFill/>
          <a:ln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5" name="Group 3"/>
          <p:cNvGrpSpPr/>
          <p:nvPr/>
        </p:nvGrpSpPr>
        <p:grpSpPr>
          <a:xfrm>
            <a:off x="195120" y="1017720"/>
            <a:ext cx="1229040" cy="1204920"/>
            <a:chOff x="195120" y="1017720"/>
            <a:chExt cx="1229040" cy="1204920"/>
          </a:xfrm>
        </p:grpSpPr>
        <p:pic>
          <p:nvPicPr>
            <p:cNvPr id="456" name="Picture 4" descr=""/>
            <p:cNvPicPr/>
            <p:nvPr/>
          </p:nvPicPr>
          <p:blipFill>
            <a:blip r:embed="rId2"/>
            <a:stretch/>
          </p:blipFill>
          <p:spPr>
            <a:xfrm>
              <a:off x="195120" y="1017720"/>
              <a:ext cx="1229040" cy="12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Text Box 5"/>
            <p:cNvSpPr/>
            <p:nvPr/>
          </p:nvSpPr>
          <p:spPr>
            <a:xfrm rot="2340000">
              <a:off x="377280" y="1212120"/>
              <a:ext cx="860760" cy="77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8" name="Rectangle 6"/>
          <p:cNvSpPr/>
          <p:nvPr/>
        </p:nvSpPr>
        <p:spPr>
          <a:xfrm>
            <a:off x="1096920" y="0"/>
            <a:ext cx="880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Rectangle 7"/>
          <p:cNvSpPr/>
          <p:nvPr/>
        </p:nvSpPr>
        <p:spPr>
          <a:xfrm>
            <a:off x="1100160" y="0"/>
            <a:ext cx="7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Line 8"/>
          <p:cNvSpPr/>
          <p:nvPr/>
        </p:nvSpPr>
        <p:spPr>
          <a:xfrm>
            <a:off x="247680" y="609480"/>
            <a:ext cx="9410760" cy="1800"/>
          </a:xfrm>
          <a:prstGeom prst="line">
            <a:avLst/>
          </a:prstGeom>
          <a:ln w="7632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1" name="Group 9"/>
          <p:cNvGrpSpPr/>
          <p:nvPr/>
        </p:nvGrpSpPr>
        <p:grpSpPr>
          <a:xfrm>
            <a:off x="706320" y="969840"/>
            <a:ext cx="5184720" cy="4799160"/>
            <a:chOff x="706320" y="969840"/>
            <a:chExt cx="5184720" cy="4799160"/>
          </a:xfrm>
        </p:grpSpPr>
        <p:pic>
          <p:nvPicPr>
            <p:cNvPr id="462" name="Picture 10" descr=""/>
            <p:cNvPicPr/>
            <p:nvPr/>
          </p:nvPicPr>
          <p:blipFill>
            <a:blip r:embed="rId3"/>
            <a:stretch/>
          </p:blipFill>
          <p:spPr>
            <a:xfrm>
              <a:off x="706320" y="969840"/>
              <a:ext cx="5184720" cy="479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Text Box 11"/>
            <p:cNvSpPr/>
            <p:nvPr/>
          </p:nvSpPr>
          <p:spPr>
            <a:xfrm>
              <a:off x="825120" y="1066320"/>
              <a:ext cx="4949640" cy="456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4" name="AutoShape 12"/>
          <p:cNvSpPr/>
          <p:nvPr/>
        </p:nvSpPr>
        <p:spPr>
          <a:xfrm rot="19440000">
            <a:off x="430200" y="957240"/>
            <a:ext cx="74304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AutoShape 13"/>
          <p:cNvSpPr/>
          <p:nvPr/>
        </p:nvSpPr>
        <p:spPr>
          <a:xfrm flipH="1" rot="2100000">
            <a:off x="5420520" y="939960"/>
            <a:ext cx="703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1555560" y="1447920"/>
            <a:ext cx="81183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dt" idx="19"/>
          </p:nvPr>
        </p:nvSpPr>
        <p:spPr>
          <a:xfrm>
            <a:off x="3879720" y="6303960"/>
            <a:ext cx="230832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rPr>
              <a:t>03.05.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 Box 17"/>
          <p:cNvSpPr/>
          <p:nvPr/>
        </p:nvSpPr>
        <p:spPr>
          <a:xfrm>
            <a:off x="6191280" y="6303960"/>
            <a:ext cx="313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sldNum" idx="20"/>
          </p:nvPr>
        </p:nvSpPr>
        <p:spPr>
          <a:xfrm>
            <a:off x="9330840" y="6303960"/>
            <a:ext cx="49212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048DBC6-6FF6-49EE-8D17-4C46F57779BC}" type="slidenum">
              <a: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AutoShape 1"/>
          <p:cNvSpPr/>
          <p:nvPr/>
        </p:nvSpPr>
        <p:spPr>
          <a:xfrm>
            <a:off x="-884160" y="-816120"/>
            <a:ext cx="1776240" cy="1638360"/>
          </a:xfrm>
          <a:custGeom>
            <a:avLst/>
            <a:gdLst>
              <a:gd name="textAreaLeft" fmla="*/ 259920 w 1776240"/>
              <a:gd name="textAreaRight" fmla="*/ 1516320 w 177624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776413" h="1638300">
                <a:moveTo>
                  <a:pt x="1776413" y="819150"/>
                </a:moveTo>
                <a:lnTo>
                  <a:pt x="1776413" y="819150"/>
                </a:lnTo>
                <a:cubicBezTo>
                  <a:pt x="1776413" y="1271554"/>
                  <a:pt x="1378749" y="1638300"/>
                  <a:pt x="888206" y="1638300"/>
                </a:cubicBezTo>
                <a:cubicBezTo>
                  <a:pt x="888037" y="1638300"/>
                  <a:pt x="887868" y="1638299"/>
                  <a:pt x="887700" y="1638299"/>
                </a:cubicBezTo>
                <a:lnTo>
                  <a:pt x="888207" y="819150"/>
                </a:lnTo>
                <a:lnTo>
                  <a:pt x="1776413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Oval 2"/>
          <p:cNvSpPr/>
          <p:nvPr/>
        </p:nvSpPr>
        <p:spPr>
          <a:xfrm>
            <a:off x="182520" y="20520"/>
            <a:ext cx="1844640" cy="1703520"/>
          </a:xfrm>
          <a:prstGeom prst="ellipse">
            <a:avLst/>
          </a:prstGeom>
          <a:noFill/>
          <a:ln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9" name="Group 3"/>
          <p:cNvGrpSpPr/>
          <p:nvPr/>
        </p:nvGrpSpPr>
        <p:grpSpPr>
          <a:xfrm>
            <a:off x="195120" y="1017720"/>
            <a:ext cx="1229040" cy="1204920"/>
            <a:chOff x="195120" y="1017720"/>
            <a:chExt cx="1229040" cy="1204920"/>
          </a:xfrm>
        </p:grpSpPr>
        <p:pic>
          <p:nvPicPr>
            <p:cNvPr id="510" name="Picture 4" descr=""/>
            <p:cNvPicPr/>
            <p:nvPr/>
          </p:nvPicPr>
          <p:blipFill>
            <a:blip r:embed="rId2"/>
            <a:stretch/>
          </p:blipFill>
          <p:spPr>
            <a:xfrm>
              <a:off x="195120" y="1017720"/>
              <a:ext cx="1229040" cy="12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1" name="Text Box 5"/>
            <p:cNvSpPr/>
            <p:nvPr/>
          </p:nvSpPr>
          <p:spPr>
            <a:xfrm rot="2340000">
              <a:off x="377280" y="1212120"/>
              <a:ext cx="860760" cy="77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2" name="Rectangle 6"/>
          <p:cNvSpPr/>
          <p:nvPr/>
        </p:nvSpPr>
        <p:spPr>
          <a:xfrm>
            <a:off x="1096920" y="0"/>
            <a:ext cx="880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1100160" y="0"/>
            <a:ext cx="7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Line 8"/>
          <p:cNvSpPr/>
          <p:nvPr/>
        </p:nvSpPr>
        <p:spPr>
          <a:xfrm>
            <a:off x="247680" y="609480"/>
            <a:ext cx="9410760" cy="1800"/>
          </a:xfrm>
          <a:prstGeom prst="line">
            <a:avLst/>
          </a:prstGeom>
          <a:ln w="7632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1555560" y="1447920"/>
            <a:ext cx="81183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21"/>
          </p:nvPr>
        </p:nvSpPr>
        <p:spPr>
          <a:xfrm>
            <a:off x="3879720" y="6303960"/>
            <a:ext cx="230832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rPr>
              <a:t>03.05.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 Box 12"/>
          <p:cNvSpPr/>
          <p:nvPr/>
        </p:nvSpPr>
        <p:spPr>
          <a:xfrm>
            <a:off x="6191280" y="6303960"/>
            <a:ext cx="313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sldNum" idx="22"/>
          </p:nvPr>
        </p:nvSpPr>
        <p:spPr>
          <a:xfrm>
            <a:off x="9330840" y="6303960"/>
            <a:ext cx="49212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D3F58B8-E7C5-4133-9D3A-6100E8D702B5}" type="slidenum">
              <a: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AutoShape 1"/>
          <p:cNvSpPr/>
          <p:nvPr/>
        </p:nvSpPr>
        <p:spPr>
          <a:xfrm>
            <a:off x="-884160" y="-816120"/>
            <a:ext cx="1776240" cy="1638360"/>
          </a:xfrm>
          <a:custGeom>
            <a:avLst/>
            <a:gdLst>
              <a:gd name="textAreaLeft" fmla="*/ 259920 w 1776240"/>
              <a:gd name="textAreaRight" fmla="*/ 1516320 w 177624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776413" h="1638300">
                <a:moveTo>
                  <a:pt x="1776413" y="819150"/>
                </a:moveTo>
                <a:lnTo>
                  <a:pt x="1776413" y="819150"/>
                </a:lnTo>
                <a:cubicBezTo>
                  <a:pt x="1776413" y="1271554"/>
                  <a:pt x="1378749" y="1638300"/>
                  <a:pt x="888206" y="1638300"/>
                </a:cubicBezTo>
                <a:cubicBezTo>
                  <a:pt x="888037" y="1638300"/>
                  <a:pt x="887868" y="1638299"/>
                  <a:pt x="887700" y="1638299"/>
                </a:cubicBezTo>
                <a:lnTo>
                  <a:pt x="888207" y="819150"/>
                </a:lnTo>
                <a:lnTo>
                  <a:pt x="1776413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Oval 2"/>
          <p:cNvSpPr/>
          <p:nvPr/>
        </p:nvSpPr>
        <p:spPr>
          <a:xfrm>
            <a:off x="182520" y="20520"/>
            <a:ext cx="1844640" cy="1703520"/>
          </a:xfrm>
          <a:prstGeom prst="ellipse">
            <a:avLst/>
          </a:prstGeom>
          <a:noFill/>
          <a:ln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8" name="Group 3"/>
          <p:cNvGrpSpPr/>
          <p:nvPr/>
        </p:nvGrpSpPr>
        <p:grpSpPr>
          <a:xfrm>
            <a:off x="195120" y="1017720"/>
            <a:ext cx="1229040" cy="1204920"/>
            <a:chOff x="195120" y="1017720"/>
            <a:chExt cx="1229040" cy="1204920"/>
          </a:xfrm>
        </p:grpSpPr>
        <p:pic>
          <p:nvPicPr>
            <p:cNvPr id="559" name="Picture 4" descr=""/>
            <p:cNvPicPr/>
            <p:nvPr/>
          </p:nvPicPr>
          <p:blipFill>
            <a:blip r:embed="rId2"/>
            <a:stretch/>
          </p:blipFill>
          <p:spPr>
            <a:xfrm>
              <a:off x="195120" y="1017720"/>
              <a:ext cx="1229040" cy="12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0" name="Text Box 5"/>
            <p:cNvSpPr/>
            <p:nvPr/>
          </p:nvSpPr>
          <p:spPr>
            <a:xfrm rot="2340000">
              <a:off x="377280" y="1212120"/>
              <a:ext cx="860760" cy="77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1" name="Rectangle 6"/>
          <p:cNvSpPr/>
          <p:nvPr/>
        </p:nvSpPr>
        <p:spPr>
          <a:xfrm>
            <a:off x="1096920" y="0"/>
            <a:ext cx="880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Rectangle 7"/>
          <p:cNvSpPr/>
          <p:nvPr/>
        </p:nvSpPr>
        <p:spPr>
          <a:xfrm>
            <a:off x="1100160" y="0"/>
            <a:ext cx="7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Line 8"/>
          <p:cNvSpPr/>
          <p:nvPr/>
        </p:nvSpPr>
        <p:spPr>
          <a:xfrm>
            <a:off x="247680" y="609480"/>
            <a:ext cx="9410760" cy="1800"/>
          </a:xfrm>
          <a:prstGeom prst="line">
            <a:avLst/>
          </a:prstGeom>
          <a:ln w="7632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1555560" y="1447920"/>
            <a:ext cx="81183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23"/>
          </p:nvPr>
        </p:nvSpPr>
        <p:spPr>
          <a:xfrm>
            <a:off x="3879720" y="6303960"/>
            <a:ext cx="230832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rPr>
              <a:t>03.05.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12"/>
          <p:cNvSpPr/>
          <p:nvPr/>
        </p:nvSpPr>
        <p:spPr>
          <a:xfrm>
            <a:off x="6191280" y="6303960"/>
            <a:ext cx="313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sldNum" idx="24"/>
          </p:nvPr>
        </p:nvSpPr>
        <p:spPr>
          <a:xfrm>
            <a:off x="9330840" y="6303960"/>
            <a:ext cx="49212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51E8F77-D3EA-4B71-9743-57E4CAB837A8}" type="slidenum">
              <a: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AutoShape 1"/>
          <p:cNvSpPr/>
          <p:nvPr/>
        </p:nvSpPr>
        <p:spPr>
          <a:xfrm>
            <a:off x="-884160" y="-816120"/>
            <a:ext cx="1776240" cy="1638360"/>
          </a:xfrm>
          <a:custGeom>
            <a:avLst/>
            <a:gdLst>
              <a:gd name="textAreaLeft" fmla="*/ 259920 w 1776240"/>
              <a:gd name="textAreaRight" fmla="*/ 1516320 w 177624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776413" h="1638300">
                <a:moveTo>
                  <a:pt x="1776413" y="819150"/>
                </a:moveTo>
                <a:lnTo>
                  <a:pt x="1776413" y="819150"/>
                </a:lnTo>
                <a:cubicBezTo>
                  <a:pt x="1776413" y="1271554"/>
                  <a:pt x="1378749" y="1638300"/>
                  <a:pt x="888206" y="1638300"/>
                </a:cubicBezTo>
                <a:cubicBezTo>
                  <a:pt x="888037" y="1638300"/>
                  <a:pt x="887868" y="1638299"/>
                  <a:pt x="887700" y="1638299"/>
                </a:cubicBezTo>
                <a:lnTo>
                  <a:pt x="888207" y="819150"/>
                </a:lnTo>
                <a:lnTo>
                  <a:pt x="1776413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Oval 2"/>
          <p:cNvSpPr/>
          <p:nvPr/>
        </p:nvSpPr>
        <p:spPr>
          <a:xfrm>
            <a:off x="182520" y="20520"/>
            <a:ext cx="1844640" cy="1703520"/>
          </a:xfrm>
          <a:prstGeom prst="ellipse">
            <a:avLst/>
          </a:prstGeom>
          <a:noFill/>
          <a:ln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7" name="Group 3"/>
          <p:cNvGrpSpPr/>
          <p:nvPr/>
        </p:nvGrpSpPr>
        <p:grpSpPr>
          <a:xfrm>
            <a:off x="195120" y="1017720"/>
            <a:ext cx="1229040" cy="1204920"/>
            <a:chOff x="195120" y="1017720"/>
            <a:chExt cx="1229040" cy="1204920"/>
          </a:xfrm>
        </p:grpSpPr>
        <p:pic>
          <p:nvPicPr>
            <p:cNvPr id="608" name="Picture 4" descr=""/>
            <p:cNvPicPr/>
            <p:nvPr/>
          </p:nvPicPr>
          <p:blipFill>
            <a:blip r:embed="rId2"/>
            <a:stretch/>
          </p:blipFill>
          <p:spPr>
            <a:xfrm>
              <a:off x="195120" y="1017720"/>
              <a:ext cx="1229040" cy="12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9" name="Text Box 5"/>
            <p:cNvSpPr/>
            <p:nvPr/>
          </p:nvSpPr>
          <p:spPr>
            <a:xfrm rot="2340000">
              <a:off x="377280" y="1212120"/>
              <a:ext cx="860760" cy="77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0" name="Rectangle 6"/>
          <p:cNvSpPr/>
          <p:nvPr/>
        </p:nvSpPr>
        <p:spPr>
          <a:xfrm>
            <a:off x="1096920" y="0"/>
            <a:ext cx="880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Rectangle 7"/>
          <p:cNvSpPr/>
          <p:nvPr/>
        </p:nvSpPr>
        <p:spPr>
          <a:xfrm>
            <a:off x="1100160" y="0"/>
            <a:ext cx="7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Line 8"/>
          <p:cNvSpPr/>
          <p:nvPr/>
        </p:nvSpPr>
        <p:spPr>
          <a:xfrm>
            <a:off x="247680" y="609480"/>
            <a:ext cx="9410760" cy="1800"/>
          </a:xfrm>
          <a:prstGeom prst="line">
            <a:avLst/>
          </a:prstGeom>
          <a:ln w="7632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1555560" y="1447920"/>
            <a:ext cx="81183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dt" idx="25"/>
          </p:nvPr>
        </p:nvSpPr>
        <p:spPr>
          <a:xfrm>
            <a:off x="3879720" y="6303960"/>
            <a:ext cx="230832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rPr>
              <a:t>03.05.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 type="sldNum" idx="26"/>
          </p:nvPr>
        </p:nvSpPr>
        <p:spPr>
          <a:xfrm>
            <a:off x="9330840" y="6303960"/>
            <a:ext cx="49212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521E34B-0485-4490-BD25-B3A8742FD23B}" type="slidenum">
              <a: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AutoShape 1"/>
          <p:cNvSpPr/>
          <p:nvPr/>
        </p:nvSpPr>
        <p:spPr>
          <a:xfrm>
            <a:off x="-884160" y="-816120"/>
            <a:ext cx="1776240" cy="1638360"/>
          </a:xfrm>
          <a:custGeom>
            <a:avLst/>
            <a:gdLst>
              <a:gd name="textAreaLeft" fmla="*/ 259920 w 1776240"/>
              <a:gd name="textAreaRight" fmla="*/ 1516320 w 177624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776413" h="1638300">
                <a:moveTo>
                  <a:pt x="1776413" y="819150"/>
                </a:moveTo>
                <a:lnTo>
                  <a:pt x="1776413" y="819150"/>
                </a:lnTo>
                <a:cubicBezTo>
                  <a:pt x="1776413" y="1271554"/>
                  <a:pt x="1378749" y="1638300"/>
                  <a:pt x="888206" y="1638300"/>
                </a:cubicBezTo>
                <a:cubicBezTo>
                  <a:pt x="888037" y="1638300"/>
                  <a:pt x="887868" y="1638299"/>
                  <a:pt x="887700" y="1638299"/>
                </a:cubicBezTo>
                <a:lnTo>
                  <a:pt x="888207" y="819150"/>
                </a:lnTo>
                <a:lnTo>
                  <a:pt x="1776413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Oval 2"/>
          <p:cNvSpPr/>
          <p:nvPr/>
        </p:nvSpPr>
        <p:spPr>
          <a:xfrm>
            <a:off x="182520" y="20520"/>
            <a:ext cx="1844640" cy="1703520"/>
          </a:xfrm>
          <a:prstGeom prst="ellipse">
            <a:avLst/>
          </a:prstGeom>
          <a:noFill/>
          <a:ln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5" name="Group 3"/>
          <p:cNvGrpSpPr/>
          <p:nvPr/>
        </p:nvGrpSpPr>
        <p:grpSpPr>
          <a:xfrm>
            <a:off x="195120" y="1017720"/>
            <a:ext cx="1229040" cy="1204920"/>
            <a:chOff x="195120" y="1017720"/>
            <a:chExt cx="1229040" cy="1204920"/>
          </a:xfrm>
        </p:grpSpPr>
        <p:pic>
          <p:nvPicPr>
            <p:cNvPr id="656" name="Picture 4" descr=""/>
            <p:cNvPicPr/>
            <p:nvPr/>
          </p:nvPicPr>
          <p:blipFill>
            <a:blip r:embed="rId2"/>
            <a:stretch/>
          </p:blipFill>
          <p:spPr>
            <a:xfrm>
              <a:off x="195120" y="1017720"/>
              <a:ext cx="1229040" cy="12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7" name="Text Box 5"/>
            <p:cNvSpPr/>
            <p:nvPr/>
          </p:nvSpPr>
          <p:spPr>
            <a:xfrm rot="2340000">
              <a:off x="377280" y="1212120"/>
              <a:ext cx="860760" cy="77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8" name="Rectangle 6"/>
          <p:cNvSpPr/>
          <p:nvPr/>
        </p:nvSpPr>
        <p:spPr>
          <a:xfrm>
            <a:off x="1096920" y="0"/>
            <a:ext cx="880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Rectangle 7"/>
          <p:cNvSpPr/>
          <p:nvPr/>
        </p:nvSpPr>
        <p:spPr>
          <a:xfrm>
            <a:off x="1100160" y="0"/>
            <a:ext cx="7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Line 8"/>
          <p:cNvSpPr/>
          <p:nvPr/>
        </p:nvSpPr>
        <p:spPr>
          <a:xfrm>
            <a:off x="247680" y="609480"/>
            <a:ext cx="9410760" cy="1800"/>
          </a:xfrm>
          <a:prstGeom prst="line">
            <a:avLst/>
          </a:prstGeom>
          <a:ln w="7632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1555560" y="1447920"/>
            <a:ext cx="81183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 type="dt" idx="27"/>
          </p:nvPr>
        </p:nvSpPr>
        <p:spPr>
          <a:xfrm>
            <a:off x="3879720" y="6303960"/>
            <a:ext cx="230832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rPr>
              <a:t>03.05.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 Box 12"/>
          <p:cNvSpPr/>
          <p:nvPr/>
        </p:nvSpPr>
        <p:spPr>
          <a:xfrm>
            <a:off x="6191280" y="6303960"/>
            <a:ext cx="313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 type="sldNum" idx="28"/>
          </p:nvPr>
        </p:nvSpPr>
        <p:spPr>
          <a:xfrm>
            <a:off x="9330840" y="6303960"/>
            <a:ext cx="49212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372BB60-47CB-4A44-83B8-9A1059B1B52D}" type="slidenum">
              <a: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AutoShape 1"/>
          <p:cNvSpPr/>
          <p:nvPr/>
        </p:nvSpPr>
        <p:spPr>
          <a:xfrm>
            <a:off x="-884160" y="-816120"/>
            <a:ext cx="1776240" cy="1638360"/>
          </a:xfrm>
          <a:custGeom>
            <a:avLst/>
            <a:gdLst>
              <a:gd name="textAreaLeft" fmla="*/ 259920 w 1776240"/>
              <a:gd name="textAreaRight" fmla="*/ 1516320 w 177624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776413" h="1638300">
                <a:moveTo>
                  <a:pt x="1776413" y="819150"/>
                </a:moveTo>
                <a:lnTo>
                  <a:pt x="1776413" y="819150"/>
                </a:lnTo>
                <a:cubicBezTo>
                  <a:pt x="1776413" y="1271554"/>
                  <a:pt x="1378749" y="1638300"/>
                  <a:pt x="888206" y="1638300"/>
                </a:cubicBezTo>
                <a:cubicBezTo>
                  <a:pt x="888037" y="1638300"/>
                  <a:pt x="887868" y="1638299"/>
                  <a:pt x="887700" y="1638299"/>
                </a:cubicBezTo>
                <a:lnTo>
                  <a:pt x="888207" y="819150"/>
                </a:lnTo>
                <a:lnTo>
                  <a:pt x="1776413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Oval 2"/>
          <p:cNvSpPr/>
          <p:nvPr/>
        </p:nvSpPr>
        <p:spPr>
          <a:xfrm>
            <a:off x="182520" y="20520"/>
            <a:ext cx="1844640" cy="1703520"/>
          </a:xfrm>
          <a:prstGeom prst="ellipse">
            <a:avLst/>
          </a:prstGeom>
          <a:noFill/>
          <a:ln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4" name="Group 3"/>
          <p:cNvGrpSpPr/>
          <p:nvPr/>
        </p:nvGrpSpPr>
        <p:grpSpPr>
          <a:xfrm>
            <a:off x="195120" y="1017720"/>
            <a:ext cx="1229040" cy="1204920"/>
            <a:chOff x="195120" y="1017720"/>
            <a:chExt cx="1229040" cy="1204920"/>
          </a:xfrm>
        </p:grpSpPr>
        <p:pic>
          <p:nvPicPr>
            <p:cNvPr id="705" name="Picture 4" descr=""/>
            <p:cNvPicPr/>
            <p:nvPr/>
          </p:nvPicPr>
          <p:blipFill>
            <a:blip r:embed="rId2"/>
            <a:stretch/>
          </p:blipFill>
          <p:spPr>
            <a:xfrm>
              <a:off x="195120" y="1017720"/>
              <a:ext cx="1229040" cy="12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6" name="Text Box 5"/>
            <p:cNvSpPr/>
            <p:nvPr/>
          </p:nvSpPr>
          <p:spPr>
            <a:xfrm rot="2340000">
              <a:off x="377280" y="1212120"/>
              <a:ext cx="860760" cy="77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7" name="Rectangle 6"/>
          <p:cNvSpPr/>
          <p:nvPr/>
        </p:nvSpPr>
        <p:spPr>
          <a:xfrm>
            <a:off x="1096920" y="0"/>
            <a:ext cx="880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Rectangle 7"/>
          <p:cNvSpPr/>
          <p:nvPr/>
        </p:nvSpPr>
        <p:spPr>
          <a:xfrm>
            <a:off x="1100160" y="0"/>
            <a:ext cx="7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Line 8"/>
          <p:cNvSpPr/>
          <p:nvPr/>
        </p:nvSpPr>
        <p:spPr>
          <a:xfrm>
            <a:off x="247680" y="609480"/>
            <a:ext cx="9410760" cy="1800"/>
          </a:xfrm>
          <a:prstGeom prst="line">
            <a:avLst/>
          </a:prstGeom>
          <a:ln w="7632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1555560" y="1447920"/>
            <a:ext cx="81183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 type="dt" idx="29"/>
          </p:nvPr>
        </p:nvSpPr>
        <p:spPr>
          <a:xfrm>
            <a:off x="3879720" y="6303960"/>
            <a:ext cx="230832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rPr>
              <a:t>03.05.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Text Box 12"/>
          <p:cNvSpPr/>
          <p:nvPr/>
        </p:nvSpPr>
        <p:spPr>
          <a:xfrm>
            <a:off x="6191280" y="6303960"/>
            <a:ext cx="313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sldNum" idx="30"/>
          </p:nvPr>
        </p:nvSpPr>
        <p:spPr>
          <a:xfrm>
            <a:off x="9330840" y="6303960"/>
            <a:ext cx="49212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7826E75-4FED-443B-9CC5-129E70D54DD5}" type="slidenum">
              <a: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AutoShape 1"/>
          <p:cNvSpPr/>
          <p:nvPr/>
        </p:nvSpPr>
        <p:spPr>
          <a:xfrm>
            <a:off x="-884160" y="-816120"/>
            <a:ext cx="1776240" cy="1638360"/>
          </a:xfrm>
          <a:custGeom>
            <a:avLst/>
            <a:gdLst>
              <a:gd name="textAreaLeft" fmla="*/ 259920 w 1776240"/>
              <a:gd name="textAreaRight" fmla="*/ 1516320 w 177624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776413" h="1638300">
                <a:moveTo>
                  <a:pt x="1776413" y="819150"/>
                </a:moveTo>
                <a:lnTo>
                  <a:pt x="1776413" y="819150"/>
                </a:lnTo>
                <a:cubicBezTo>
                  <a:pt x="1776413" y="1271554"/>
                  <a:pt x="1378749" y="1638300"/>
                  <a:pt x="888206" y="1638300"/>
                </a:cubicBezTo>
                <a:cubicBezTo>
                  <a:pt x="888037" y="1638300"/>
                  <a:pt x="887868" y="1638299"/>
                  <a:pt x="887700" y="1638299"/>
                </a:cubicBezTo>
                <a:lnTo>
                  <a:pt x="888207" y="819150"/>
                </a:lnTo>
                <a:lnTo>
                  <a:pt x="1776413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Oval 2"/>
          <p:cNvSpPr/>
          <p:nvPr/>
        </p:nvSpPr>
        <p:spPr>
          <a:xfrm>
            <a:off x="182520" y="20520"/>
            <a:ext cx="1844640" cy="1703520"/>
          </a:xfrm>
          <a:prstGeom prst="ellipse">
            <a:avLst/>
          </a:prstGeom>
          <a:noFill/>
          <a:ln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3" name="Group 3"/>
          <p:cNvGrpSpPr/>
          <p:nvPr/>
        </p:nvGrpSpPr>
        <p:grpSpPr>
          <a:xfrm>
            <a:off x="195120" y="1017720"/>
            <a:ext cx="1229040" cy="1204920"/>
            <a:chOff x="195120" y="1017720"/>
            <a:chExt cx="1229040" cy="1204920"/>
          </a:xfrm>
        </p:grpSpPr>
        <p:pic>
          <p:nvPicPr>
            <p:cNvPr id="754" name="Picture 4" descr=""/>
            <p:cNvPicPr/>
            <p:nvPr/>
          </p:nvPicPr>
          <p:blipFill>
            <a:blip r:embed="rId2"/>
            <a:stretch/>
          </p:blipFill>
          <p:spPr>
            <a:xfrm>
              <a:off x="195120" y="1017720"/>
              <a:ext cx="1229040" cy="12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5" name="Text Box 5"/>
            <p:cNvSpPr/>
            <p:nvPr/>
          </p:nvSpPr>
          <p:spPr>
            <a:xfrm rot="2340000">
              <a:off x="377280" y="1212120"/>
              <a:ext cx="860760" cy="77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6" name="Rectangle 6"/>
          <p:cNvSpPr/>
          <p:nvPr/>
        </p:nvSpPr>
        <p:spPr>
          <a:xfrm>
            <a:off x="1096920" y="0"/>
            <a:ext cx="880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Rectangle 7"/>
          <p:cNvSpPr/>
          <p:nvPr/>
        </p:nvSpPr>
        <p:spPr>
          <a:xfrm>
            <a:off x="1100160" y="0"/>
            <a:ext cx="7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Line 8"/>
          <p:cNvSpPr/>
          <p:nvPr/>
        </p:nvSpPr>
        <p:spPr>
          <a:xfrm>
            <a:off x="247680" y="609480"/>
            <a:ext cx="9410760" cy="1800"/>
          </a:xfrm>
          <a:prstGeom prst="line">
            <a:avLst/>
          </a:prstGeom>
          <a:ln w="7632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1555560" y="1447920"/>
            <a:ext cx="81183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 type="dt" idx="31"/>
          </p:nvPr>
        </p:nvSpPr>
        <p:spPr>
          <a:xfrm>
            <a:off x="3879720" y="6303960"/>
            <a:ext cx="230832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rPr>
              <a:t>03.05.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Text Box 12"/>
          <p:cNvSpPr/>
          <p:nvPr/>
        </p:nvSpPr>
        <p:spPr>
          <a:xfrm>
            <a:off x="6191280" y="6303960"/>
            <a:ext cx="313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 type="sldNum" idx="32"/>
          </p:nvPr>
        </p:nvSpPr>
        <p:spPr>
          <a:xfrm>
            <a:off x="9330840" y="6303960"/>
            <a:ext cx="49212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33A2444-E65F-4F62-A8F3-462835C67A7C}" type="slidenum">
              <a: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AutoShape 1"/>
          <p:cNvSpPr/>
          <p:nvPr/>
        </p:nvSpPr>
        <p:spPr>
          <a:xfrm>
            <a:off x="-884160" y="-816120"/>
            <a:ext cx="1776240" cy="1638360"/>
          </a:xfrm>
          <a:custGeom>
            <a:avLst/>
            <a:gdLst>
              <a:gd name="textAreaLeft" fmla="*/ 259920 w 1776240"/>
              <a:gd name="textAreaRight" fmla="*/ 1516320 w 177624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776413" h="1638300">
                <a:moveTo>
                  <a:pt x="1776413" y="819150"/>
                </a:moveTo>
                <a:lnTo>
                  <a:pt x="1776413" y="819150"/>
                </a:lnTo>
                <a:cubicBezTo>
                  <a:pt x="1776413" y="1271554"/>
                  <a:pt x="1378749" y="1638300"/>
                  <a:pt x="888206" y="1638300"/>
                </a:cubicBezTo>
                <a:cubicBezTo>
                  <a:pt x="888037" y="1638300"/>
                  <a:pt x="887868" y="1638299"/>
                  <a:pt x="887700" y="1638299"/>
                </a:cubicBezTo>
                <a:lnTo>
                  <a:pt x="888207" y="819150"/>
                </a:lnTo>
                <a:lnTo>
                  <a:pt x="1776413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Oval 2"/>
          <p:cNvSpPr/>
          <p:nvPr/>
        </p:nvSpPr>
        <p:spPr>
          <a:xfrm>
            <a:off x="182520" y="20520"/>
            <a:ext cx="1844640" cy="1703520"/>
          </a:xfrm>
          <a:prstGeom prst="ellipse">
            <a:avLst/>
          </a:prstGeom>
          <a:noFill/>
          <a:ln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2" name="Group 3"/>
          <p:cNvGrpSpPr/>
          <p:nvPr/>
        </p:nvGrpSpPr>
        <p:grpSpPr>
          <a:xfrm>
            <a:off x="195120" y="1017720"/>
            <a:ext cx="1229040" cy="1204920"/>
            <a:chOff x="195120" y="1017720"/>
            <a:chExt cx="1229040" cy="1204920"/>
          </a:xfrm>
        </p:grpSpPr>
        <p:pic>
          <p:nvPicPr>
            <p:cNvPr id="803" name="Picture 4" descr=""/>
            <p:cNvPicPr/>
            <p:nvPr/>
          </p:nvPicPr>
          <p:blipFill>
            <a:blip r:embed="rId2"/>
            <a:stretch/>
          </p:blipFill>
          <p:spPr>
            <a:xfrm>
              <a:off x="195120" y="1017720"/>
              <a:ext cx="1229040" cy="12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4" name="Text Box 5"/>
            <p:cNvSpPr/>
            <p:nvPr/>
          </p:nvSpPr>
          <p:spPr>
            <a:xfrm rot="2340000">
              <a:off x="377280" y="1212120"/>
              <a:ext cx="860760" cy="77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05" name="Rectangle 6"/>
          <p:cNvSpPr/>
          <p:nvPr/>
        </p:nvSpPr>
        <p:spPr>
          <a:xfrm>
            <a:off x="1096920" y="0"/>
            <a:ext cx="880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Rectangle 7"/>
          <p:cNvSpPr/>
          <p:nvPr/>
        </p:nvSpPr>
        <p:spPr>
          <a:xfrm>
            <a:off x="1100160" y="0"/>
            <a:ext cx="7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Line 8"/>
          <p:cNvSpPr/>
          <p:nvPr/>
        </p:nvSpPr>
        <p:spPr>
          <a:xfrm>
            <a:off x="247680" y="609480"/>
            <a:ext cx="9410760" cy="1800"/>
          </a:xfrm>
          <a:prstGeom prst="line">
            <a:avLst/>
          </a:prstGeom>
          <a:ln w="7632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1555560" y="1447920"/>
            <a:ext cx="81183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33"/>
          </p:nvPr>
        </p:nvSpPr>
        <p:spPr>
          <a:xfrm>
            <a:off x="3879720" y="6303960"/>
            <a:ext cx="230832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rPr>
              <a:t>03.05.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Text Box 12"/>
          <p:cNvSpPr/>
          <p:nvPr/>
        </p:nvSpPr>
        <p:spPr>
          <a:xfrm>
            <a:off x="6191280" y="6303960"/>
            <a:ext cx="313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 type="sldNum" idx="34"/>
          </p:nvPr>
        </p:nvSpPr>
        <p:spPr>
          <a:xfrm>
            <a:off x="9330840" y="6303960"/>
            <a:ext cx="49212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2A1B8C4-A2B8-4CD7-81AA-08BD36C1ADE6}" type="slidenum">
              <a: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AutoShape 1"/>
          <p:cNvSpPr/>
          <p:nvPr/>
        </p:nvSpPr>
        <p:spPr>
          <a:xfrm>
            <a:off x="-884160" y="-816120"/>
            <a:ext cx="1776240" cy="1638360"/>
          </a:xfrm>
          <a:custGeom>
            <a:avLst/>
            <a:gdLst>
              <a:gd name="textAreaLeft" fmla="*/ 259920 w 1776240"/>
              <a:gd name="textAreaRight" fmla="*/ 1516320 w 177624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776413" h="1638300">
                <a:moveTo>
                  <a:pt x="1776413" y="819150"/>
                </a:moveTo>
                <a:lnTo>
                  <a:pt x="1776413" y="819150"/>
                </a:lnTo>
                <a:cubicBezTo>
                  <a:pt x="1776413" y="1271554"/>
                  <a:pt x="1378749" y="1638300"/>
                  <a:pt x="888206" y="1638300"/>
                </a:cubicBezTo>
                <a:cubicBezTo>
                  <a:pt x="888037" y="1638300"/>
                  <a:pt x="887868" y="1638299"/>
                  <a:pt x="887700" y="1638299"/>
                </a:cubicBezTo>
                <a:lnTo>
                  <a:pt x="888207" y="819150"/>
                </a:lnTo>
                <a:lnTo>
                  <a:pt x="1776413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Oval 2"/>
          <p:cNvSpPr/>
          <p:nvPr/>
        </p:nvSpPr>
        <p:spPr>
          <a:xfrm>
            <a:off x="182520" y="20520"/>
            <a:ext cx="1844640" cy="1703520"/>
          </a:xfrm>
          <a:prstGeom prst="ellipse">
            <a:avLst/>
          </a:prstGeom>
          <a:noFill/>
          <a:ln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1" name="Group 3"/>
          <p:cNvGrpSpPr/>
          <p:nvPr/>
        </p:nvGrpSpPr>
        <p:grpSpPr>
          <a:xfrm>
            <a:off x="195120" y="1017720"/>
            <a:ext cx="1229040" cy="1204920"/>
            <a:chOff x="195120" y="1017720"/>
            <a:chExt cx="1229040" cy="1204920"/>
          </a:xfrm>
        </p:grpSpPr>
        <p:pic>
          <p:nvPicPr>
            <p:cNvPr id="852" name="Picture 4" descr=""/>
            <p:cNvPicPr/>
            <p:nvPr/>
          </p:nvPicPr>
          <p:blipFill>
            <a:blip r:embed="rId2"/>
            <a:stretch/>
          </p:blipFill>
          <p:spPr>
            <a:xfrm>
              <a:off x="195120" y="1017720"/>
              <a:ext cx="1229040" cy="12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3" name="Text Box 5"/>
            <p:cNvSpPr/>
            <p:nvPr/>
          </p:nvSpPr>
          <p:spPr>
            <a:xfrm rot="2340000">
              <a:off x="377280" y="1212120"/>
              <a:ext cx="860760" cy="77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4" name="Rectangle 6"/>
          <p:cNvSpPr/>
          <p:nvPr/>
        </p:nvSpPr>
        <p:spPr>
          <a:xfrm>
            <a:off x="1096920" y="0"/>
            <a:ext cx="880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Rectangle 7"/>
          <p:cNvSpPr/>
          <p:nvPr/>
        </p:nvSpPr>
        <p:spPr>
          <a:xfrm>
            <a:off x="1100160" y="0"/>
            <a:ext cx="7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Line 8"/>
          <p:cNvSpPr/>
          <p:nvPr/>
        </p:nvSpPr>
        <p:spPr>
          <a:xfrm>
            <a:off x="247680" y="609480"/>
            <a:ext cx="9410760" cy="1800"/>
          </a:xfrm>
          <a:prstGeom prst="line">
            <a:avLst/>
          </a:prstGeom>
          <a:ln w="7632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Rectangle 9"/>
          <p:cNvSpPr/>
          <p:nvPr/>
        </p:nvSpPr>
        <p:spPr>
          <a:xfrm>
            <a:off x="1100160" y="0"/>
            <a:ext cx="88059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Rectangle 10"/>
          <p:cNvSpPr/>
          <p:nvPr/>
        </p:nvSpPr>
        <p:spPr>
          <a:xfrm>
            <a:off x="1100160" y="0"/>
            <a:ext cx="7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1555560" y="1447920"/>
            <a:ext cx="81183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 type="dt" idx="35"/>
          </p:nvPr>
        </p:nvSpPr>
        <p:spPr>
          <a:xfrm>
            <a:off x="3879720" y="6303960"/>
            <a:ext cx="230832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rPr>
              <a:t>03.05.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Text Box 14"/>
          <p:cNvSpPr/>
          <p:nvPr/>
        </p:nvSpPr>
        <p:spPr>
          <a:xfrm>
            <a:off x="6191280" y="6303960"/>
            <a:ext cx="313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 type="sldNum" idx="36"/>
          </p:nvPr>
        </p:nvSpPr>
        <p:spPr>
          <a:xfrm>
            <a:off x="9330840" y="6303960"/>
            <a:ext cx="49212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E48192C-2C2F-43A1-A667-0781704638E2}" type="slidenum">
              <a: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AutoShape 1"/>
          <p:cNvSpPr/>
          <p:nvPr/>
        </p:nvSpPr>
        <p:spPr>
          <a:xfrm>
            <a:off x="-884160" y="-816120"/>
            <a:ext cx="1776240" cy="1638360"/>
          </a:xfrm>
          <a:custGeom>
            <a:avLst/>
            <a:gdLst>
              <a:gd name="textAreaLeft" fmla="*/ 259920 w 1776240"/>
              <a:gd name="textAreaRight" fmla="*/ 1516320 w 177624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776413" h="1638300">
                <a:moveTo>
                  <a:pt x="1776413" y="819150"/>
                </a:moveTo>
                <a:lnTo>
                  <a:pt x="1776413" y="819150"/>
                </a:lnTo>
                <a:cubicBezTo>
                  <a:pt x="1776413" y="1271554"/>
                  <a:pt x="1378749" y="1638300"/>
                  <a:pt x="888206" y="1638300"/>
                </a:cubicBezTo>
                <a:cubicBezTo>
                  <a:pt x="888037" y="1638300"/>
                  <a:pt x="887868" y="1638299"/>
                  <a:pt x="887700" y="1638299"/>
                </a:cubicBezTo>
                <a:lnTo>
                  <a:pt x="888207" y="819150"/>
                </a:lnTo>
                <a:lnTo>
                  <a:pt x="1776413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Oval 2"/>
          <p:cNvSpPr/>
          <p:nvPr/>
        </p:nvSpPr>
        <p:spPr>
          <a:xfrm>
            <a:off x="182520" y="20520"/>
            <a:ext cx="1844640" cy="1703520"/>
          </a:xfrm>
          <a:prstGeom prst="ellipse">
            <a:avLst/>
          </a:prstGeom>
          <a:noFill/>
          <a:ln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" name="Group 3"/>
          <p:cNvGrpSpPr/>
          <p:nvPr/>
        </p:nvGrpSpPr>
        <p:grpSpPr>
          <a:xfrm>
            <a:off x="195120" y="1017720"/>
            <a:ext cx="1229040" cy="1204920"/>
            <a:chOff x="195120" y="1017720"/>
            <a:chExt cx="1229040" cy="1204920"/>
          </a:xfrm>
        </p:grpSpPr>
        <p:pic>
          <p:nvPicPr>
            <p:cNvPr id="52" name="Picture 4" descr=""/>
            <p:cNvPicPr/>
            <p:nvPr/>
          </p:nvPicPr>
          <p:blipFill>
            <a:blip r:embed="rId2"/>
            <a:stretch/>
          </p:blipFill>
          <p:spPr>
            <a:xfrm>
              <a:off x="195120" y="1017720"/>
              <a:ext cx="1229040" cy="12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Text Box 5"/>
            <p:cNvSpPr/>
            <p:nvPr/>
          </p:nvSpPr>
          <p:spPr>
            <a:xfrm rot="2340000">
              <a:off x="377280" y="1212120"/>
              <a:ext cx="860760" cy="77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" name="Rectangle 6"/>
          <p:cNvSpPr/>
          <p:nvPr/>
        </p:nvSpPr>
        <p:spPr>
          <a:xfrm>
            <a:off x="1096920" y="0"/>
            <a:ext cx="880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1100160" y="0"/>
            <a:ext cx="7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8"/>
          <p:cNvSpPr/>
          <p:nvPr/>
        </p:nvSpPr>
        <p:spPr>
          <a:xfrm>
            <a:off x="247680" y="609480"/>
            <a:ext cx="9410760" cy="1800"/>
          </a:xfrm>
          <a:prstGeom prst="line">
            <a:avLst/>
          </a:prstGeom>
          <a:ln w="7632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" name="Group 9"/>
          <p:cNvGrpSpPr/>
          <p:nvPr/>
        </p:nvGrpSpPr>
        <p:grpSpPr>
          <a:xfrm>
            <a:off x="993600" y="1407960"/>
            <a:ext cx="241560" cy="222480"/>
            <a:chOff x="993600" y="1407960"/>
            <a:chExt cx="241560" cy="222480"/>
          </a:xfrm>
        </p:grpSpPr>
        <p:pic>
          <p:nvPicPr>
            <p:cNvPr id="58" name="Picture 10" descr=""/>
            <p:cNvPicPr/>
            <p:nvPr/>
          </p:nvPicPr>
          <p:blipFill>
            <a:blip r:embed="rId3"/>
            <a:stretch/>
          </p:blipFill>
          <p:spPr>
            <a:xfrm>
              <a:off x="993600" y="1407960"/>
              <a:ext cx="241560" cy="2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Text Box 11"/>
            <p:cNvSpPr/>
            <p:nvPr/>
          </p:nvSpPr>
          <p:spPr>
            <a:xfrm>
              <a:off x="1031400" y="1444320"/>
              <a:ext cx="157680" cy="14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" name="Oval 12"/>
          <p:cNvSpPr/>
          <p:nvPr/>
        </p:nvSpPr>
        <p:spPr>
          <a:xfrm>
            <a:off x="1254240" y="1344600"/>
            <a:ext cx="68040" cy="65160"/>
          </a:xfrm>
          <a:prstGeom prst="ellipse">
            <a:avLst/>
          </a:prstGeom>
          <a:noFill/>
          <a:ln w="12600">
            <a:solidFill>
              <a:srgbClr val="307f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555560" y="1447920"/>
            <a:ext cx="81183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3"/>
          </p:nvPr>
        </p:nvSpPr>
        <p:spPr>
          <a:xfrm>
            <a:off x="3879720" y="6303960"/>
            <a:ext cx="230832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rPr>
              <a:t>03.05.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6191280" y="6303960"/>
            <a:ext cx="313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4"/>
          </p:nvPr>
        </p:nvSpPr>
        <p:spPr>
          <a:xfrm>
            <a:off x="9330840" y="6303960"/>
            <a:ext cx="49212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B487413-6A67-45AE-8792-4FF120EC7942}" type="slidenum">
              <a: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1"/>
          <p:cNvSpPr/>
          <p:nvPr/>
        </p:nvSpPr>
        <p:spPr>
          <a:xfrm>
            <a:off x="-884160" y="-816120"/>
            <a:ext cx="1776240" cy="1638360"/>
          </a:xfrm>
          <a:custGeom>
            <a:avLst/>
            <a:gdLst>
              <a:gd name="textAreaLeft" fmla="*/ 259920 w 1776240"/>
              <a:gd name="textAreaRight" fmla="*/ 1516320 w 177624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776413" h="1638300">
                <a:moveTo>
                  <a:pt x="1776413" y="819150"/>
                </a:moveTo>
                <a:lnTo>
                  <a:pt x="1776413" y="819150"/>
                </a:lnTo>
                <a:cubicBezTo>
                  <a:pt x="1776413" y="1271554"/>
                  <a:pt x="1378749" y="1638300"/>
                  <a:pt x="888206" y="1638300"/>
                </a:cubicBezTo>
                <a:cubicBezTo>
                  <a:pt x="888037" y="1638300"/>
                  <a:pt x="887868" y="1638299"/>
                  <a:pt x="887700" y="1638299"/>
                </a:cubicBezTo>
                <a:lnTo>
                  <a:pt x="888207" y="819150"/>
                </a:lnTo>
                <a:lnTo>
                  <a:pt x="1776413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Oval 2"/>
          <p:cNvSpPr/>
          <p:nvPr/>
        </p:nvSpPr>
        <p:spPr>
          <a:xfrm>
            <a:off x="182520" y="20520"/>
            <a:ext cx="1844640" cy="1703520"/>
          </a:xfrm>
          <a:prstGeom prst="ellipse">
            <a:avLst/>
          </a:prstGeom>
          <a:noFill/>
          <a:ln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Group 3"/>
          <p:cNvGrpSpPr/>
          <p:nvPr/>
        </p:nvGrpSpPr>
        <p:grpSpPr>
          <a:xfrm>
            <a:off x="195120" y="1017720"/>
            <a:ext cx="1229040" cy="1204920"/>
            <a:chOff x="195120" y="1017720"/>
            <a:chExt cx="1229040" cy="1204920"/>
          </a:xfrm>
        </p:grpSpPr>
        <p:pic>
          <p:nvPicPr>
            <p:cNvPr id="105" name="Picture 4" descr=""/>
            <p:cNvPicPr/>
            <p:nvPr/>
          </p:nvPicPr>
          <p:blipFill>
            <a:blip r:embed="rId2"/>
            <a:stretch/>
          </p:blipFill>
          <p:spPr>
            <a:xfrm>
              <a:off x="195120" y="1017720"/>
              <a:ext cx="1229040" cy="12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5"/>
            <p:cNvSpPr/>
            <p:nvPr/>
          </p:nvSpPr>
          <p:spPr>
            <a:xfrm rot="2340000">
              <a:off x="377280" y="1212120"/>
              <a:ext cx="860760" cy="77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" name="Rectangle 6"/>
          <p:cNvSpPr/>
          <p:nvPr/>
        </p:nvSpPr>
        <p:spPr>
          <a:xfrm>
            <a:off x="1096920" y="0"/>
            <a:ext cx="880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1100160" y="0"/>
            <a:ext cx="7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8"/>
          <p:cNvSpPr/>
          <p:nvPr/>
        </p:nvSpPr>
        <p:spPr>
          <a:xfrm>
            <a:off x="247680" y="609480"/>
            <a:ext cx="9410760" cy="1800"/>
          </a:xfrm>
          <a:prstGeom prst="line">
            <a:avLst/>
          </a:prstGeom>
          <a:ln w="7632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555560" y="1447920"/>
            <a:ext cx="81183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5"/>
          </p:nvPr>
        </p:nvSpPr>
        <p:spPr>
          <a:xfrm>
            <a:off x="3879720" y="6303960"/>
            <a:ext cx="230832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rPr>
              <a:t>03.05.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6191280" y="6303960"/>
            <a:ext cx="313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9330840" y="6303960"/>
            <a:ext cx="49212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009DEF2-FFE2-4726-B8FB-02D2BAC83711}" type="slidenum">
              <a: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AutoShape 1"/>
          <p:cNvSpPr/>
          <p:nvPr/>
        </p:nvSpPr>
        <p:spPr>
          <a:xfrm>
            <a:off x="-884160" y="-816120"/>
            <a:ext cx="1776240" cy="1638360"/>
          </a:xfrm>
          <a:custGeom>
            <a:avLst/>
            <a:gdLst>
              <a:gd name="textAreaLeft" fmla="*/ 259920 w 1776240"/>
              <a:gd name="textAreaRight" fmla="*/ 1516320 w 177624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776413" h="1638300">
                <a:moveTo>
                  <a:pt x="1776413" y="819150"/>
                </a:moveTo>
                <a:lnTo>
                  <a:pt x="1776413" y="819150"/>
                </a:lnTo>
                <a:cubicBezTo>
                  <a:pt x="1776413" y="1271554"/>
                  <a:pt x="1378749" y="1638300"/>
                  <a:pt x="888206" y="1638300"/>
                </a:cubicBezTo>
                <a:cubicBezTo>
                  <a:pt x="888037" y="1638300"/>
                  <a:pt x="887868" y="1638299"/>
                  <a:pt x="887700" y="1638299"/>
                </a:cubicBezTo>
                <a:lnTo>
                  <a:pt x="888207" y="819150"/>
                </a:lnTo>
                <a:lnTo>
                  <a:pt x="1776413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Oval 2"/>
          <p:cNvSpPr/>
          <p:nvPr/>
        </p:nvSpPr>
        <p:spPr>
          <a:xfrm>
            <a:off x="182520" y="20520"/>
            <a:ext cx="1844640" cy="1703520"/>
          </a:xfrm>
          <a:prstGeom prst="ellipse">
            <a:avLst/>
          </a:prstGeom>
          <a:noFill/>
          <a:ln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3" name="Group 3"/>
          <p:cNvGrpSpPr/>
          <p:nvPr/>
        </p:nvGrpSpPr>
        <p:grpSpPr>
          <a:xfrm>
            <a:off x="195120" y="1017720"/>
            <a:ext cx="1229040" cy="1204920"/>
            <a:chOff x="195120" y="1017720"/>
            <a:chExt cx="1229040" cy="1204920"/>
          </a:xfrm>
        </p:grpSpPr>
        <p:pic>
          <p:nvPicPr>
            <p:cNvPr id="154" name="Picture 4" descr=""/>
            <p:cNvPicPr/>
            <p:nvPr/>
          </p:nvPicPr>
          <p:blipFill>
            <a:blip r:embed="rId2"/>
            <a:stretch/>
          </p:blipFill>
          <p:spPr>
            <a:xfrm>
              <a:off x="195120" y="1017720"/>
              <a:ext cx="1229040" cy="12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5"/>
            <p:cNvSpPr/>
            <p:nvPr/>
          </p:nvSpPr>
          <p:spPr>
            <a:xfrm rot="2340000">
              <a:off x="377280" y="1212120"/>
              <a:ext cx="860760" cy="77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6" name="Rectangle 6"/>
          <p:cNvSpPr/>
          <p:nvPr/>
        </p:nvSpPr>
        <p:spPr>
          <a:xfrm>
            <a:off x="1096920" y="0"/>
            <a:ext cx="880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1100160" y="0"/>
            <a:ext cx="7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8"/>
          <p:cNvSpPr/>
          <p:nvPr/>
        </p:nvSpPr>
        <p:spPr>
          <a:xfrm>
            <a:off x="247680" y="609480"/>
            <a:ext cx="9410760" cy="1800"/>
          </a:xfrm>
          <a:prstGeom prst="line">
            <a:avLst/>
          </a:prstGeom>
          <a:ln w="7632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9"/>
          <p:cNvSpPr/>
          <p:nvPr/>
        </p:nvSpPr>
        <p:spPr>
          <a:xfrm>
            <a:off x="2473200" y="0"/>
            <a:ext cx="7429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10"/>
          <p:cNvSpPr/>
          <p:nvPr/>
        </p:nvSpPr>
        <p:spPr>
          <a:xfrm>
            <a:off x="2476440" y="0"/>
            <a:ext cx="824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1" name="Group 11"/>
          <p:cNvGrpSpPr/>
          <p:nvPr/>
        </p:nvGrpSpPr>
        <p:grpSpPr>
          <a:xfrm>
            <a:off x="2346480" y="2809800"/>
            <a:ext cx="241200" cy="222480"/>
            <a:chOff x="2346480" y="2809800"/>
            <a:chExt cx="241200" cy="222480"/>
          </a:xfrm>
        </p:grpSpPr>
        <p:pic>
          <p:nvPicPr>
            <p:cNvPr id="162" name="Picture 12" descr=""/>
            <p:cNvPicPr/>
            <p:nvPr/>
          </p:nvPicPr>
          <p:blipFill>
            <a:blip r:embed="rId3"/>
            <a:stretch/>
          </p:blipFill>
          <p:spPr>
            <a:xfrm>
              <a:off x="2346480" y="2809800"/>
              <a:ext cx="241200" cy="2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Text Box 13"/>
            <p:cNvSpPr/>
            <p:nvPr/>
          </p:nvSpPr>
          <p:spPr>
            <a:xfrm>
              <a:off x="2385720" y="2844360"/>
              <a:ext cx="159120" cy="14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4" name="Oval 14"/>
          <p:cNvSpPr/>
          <p:nvPr/>
        </p:nvSpPr>
        <p:spPr>
          <a:xfrm>
            <a:off x="2608200" y="2746440"/>
            <a:ext cx="69840" cy="63360"/>
          </a:xfrm>
          <a:prstGeom prst="ellipse">
            <a:avLst/>
          </a:prstGeom>
          <a:noFill/>
          <a:ln w="12600">
            <a:solidFill>
              <a:srgbClr val="307f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555560" y="1447920"/>
            <a:ext cx="81183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3879720" y="6303960"/>
            <a:ext cx="230832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rPr>
              <a:t>03.05.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18"/>
          <p:cNvSpPr/>
          <p:nvPr/>
        </p:nvSpPr>
        <p:spPr>
          <a:xfrm>
            <a:off x="6191280" y="6303960"/>
            <a:ext cx="313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sldNum" idx="8"/>
          </p:nvPr>
        </p:nvSpPr>
        <p:spPr>
          <a:xfrm>
            <a:off x="9330840" y="6303960"/>
            <a:ext cx="49212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0EFAA04-A910-42E7-AC50-6EBC1F1E58D8}" type="slidenum">
              <a: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AutoShape 1"/>
          <p:cNvSpPr/>
          <p:nvPr/>
        </p:nvSpPr>
        <p:spPr>
          <a:xfrm>
            <a:off x="-884160" y="-816120"/>
            <a:ext cx="1776240" cy="1638360"/>
          </a:xfrm>
          <a:custGeom>
            <a:avLst/>
            <a:gdLst>
              <a:gd name="textAreaLeft" fmla="*/ 259920 w 1776240"/>
              <a:gd name="textAreaRight" fmla="*/ 1516320 w 177624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776413" h="1638300">
                <a:moveTo>
                  <a:pt x="1776413" y="819150"/>
                </a:moveTo>
                <a:lnTo>
                  <a:pt x="1776413" y="819150"/>
                </a:lnTo>
                <a:cubicBezTo>
                  <a:pt x="1776413" y="1271554"/>
                  <a:pt x="1378749" y="1638300"/>
                  <a:pt x="888206" y="1638300"/>
                </a:cubicBezTo>
                <a:cubicBezTo>
                  <a:pt x="888037" y="1638300"/>
                  <a:pt x="887868" y="1638299"/>
                  <a:pt x="887700" y="1638299"/>
                </a:cubicBezTo>
                <a:lnTo>
                  <a:pt x="888207" y="819150"/>
                </a:lnTo>
                <a:lnTo>
                  <a:pt x="1776413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Oval 2"/>
          <p:cNvSpPr/>
          <p:nvPr/>
        </p:nvSpPr>
        <p:spPr>
          <a:xfrm>
            <a:off x="182520" y="20520"/>
            <a:ext cx="1844640" cy="1703520"/>
          </a:xfrm>
          <a:prstGeom prst="ellipse">
            <a:avLst/>
          </a:prstGeom>
          <a:noFill/>
          <a:ln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195120" y="1017720"/>
            <a:ext cx="1229040" cy="1204920"/>
            <a:chOff x="195120" y="1017720"/>
            <a:chExt cx="1229040" cy="1204920"/>
          </a:xfrm>
        </p:grpSpPr>
        <p:pic>
          <p:nvPicPr>
            <p:cNvPr id="209" name="Picture 4" descr=""/>
            <p:cNvPicPr/>
            <p:nvPr/>
          </p:nvPicPr>
          <p:blipFill>
            <a:blip r:embed="rId2"/>
            <a:stretch/>
          </p:blipFill>
          <p:spPr>
            <a:xfrm>
              <a:off x="195120" y="1017720"/>
              <a:ext cx="1229040" cy="12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Text Box 5"/>
            <p:cNvSpPr/>
            <p:nvPr/>
          </p:nvSpPr>
          <p:spPr>
            <a:xfrm rot="2340000">
              <a:off x="377280" y="1212120"/>
              <a:ext cx="860760" cy="77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1" name="Rectangle 6"/>
          <p:cNvSpPr/>
          <p:nvPr/>
        </p:nvSpPr>
        <p:spPr>
          <a:xfrm>
            <a:off x="1096920" y="0"/>
            <a:ext cx="880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1100160" y="0"/>
            <a:ext cx="7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Line 8"/>
          <p:cNvSpPr/>
          <p:nvPr/>
        </p:nvSpPr>
        <p:spPr>
          <a:xfrm>
            <a:off x="247680" y="609480"/>
            <a:ext cx="9410760" cy="1800"/>
          </a:xfrm>
          <a:prstGeom prst="line">
            <a:avLst/>
          </a:prstGeom>
          <a:ln w="7632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1555560" y="1447920"/>
            <a:ext cx="81183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9"/>
          </p:nvPr>
        </p:nvSpPr>
        <p:spPr>
          <a:xfrm>
            <a:off x="3879720" y="6303960"/>
            <a:ext cx="230832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rPr>
              <a:t>03.05.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2"/>
          <p:cNvSpPr/>
          <p:nvPr/>
        </p:nvSpPr>
        <p:spPr>
          <a:xfrm>
            <a:off x="6191280" y="6303960"/>
            <a:ext cx="313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0"/>
          </p:nvPr>
        </p:nvSpPr>
        <p:spPr>
          <a:xfrm>
            <a:off x="9330840" y="6303960"/>
            <a:ext cx="49212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9EA9D40-6B04-455E-8DBC-4AE4DD8F4E8C}" type="slidenum">
              <a: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AutoShape 1"/>
          <p:cNvSpPr/>
          <p:nvPr/>
        </p:nvSpPr>
        <p:spPr>
          <a:xfrm>
            <a:off x="-884160" y="-816120"/>
            <a:ext cx="1776240" cy="1638360"/>
          </a:xfrm>
          <a:custGeom>
            <a:avLst/>
            <a:gdLst>
              <a:gd name="textAreaLeft" fmla="*/ 259920 w 1776240"/>
              <a:gd name="textAreaRight" fmla="*/ 1516320 w 177624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776413" h="1638300">
                <a:moveTo>
                  <a:pt x="1776413" y="819150"/>
                </a:moveTo>
                <a:lnTo>
                  <a:pt x="1776413" y="819150"/>
                </a:lnTo>
                <a:cubicBezTo>
                  <a:pt x="1776413" y="1271554"/>
                  <a:pt x="1378749" y="1638300"/>
                  <a:pt x="888206" y="1638300"/>
                </a:cubicBezTo>
                <a:cubicBezTo>
                  <a:pt x="888037" y="1638300"/>
                  <a:pt x="887868" y="1638299"/>
                  <a:pt x="887700" y="1638299"/>
                </a:cubicBezTo>
                <a:lnTo>
                  <a:pt x="888207" y="819150"/>
                </a:lnTo>
                <a:lnTo>
                  <a:pt x="1776413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Oval 2"/>
          <p:cNvSpPr/>
          <p:nvPr/>
        </p:nvSpPr>
        <p:spPr>
          <a:xfrm>
            <a:off x="182520" y="20520"/>
            <a:ext cx="1844640" cy="1703520"/>
          </a:xfrm>
          <a:prstGeom prst="ellipse">
            <a:avLst/>
          </a:prstGeom>
          <a:noFill/>
          <a:ln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7" name="Group 3"/>
          <p:cNvGrpSpPr/>
          <p:nvPr/>
        </p:nvGrpSpPr>
        <p:grpSpPr>
          <a:xfrm>
            <a:off x="195120" y="1017720"/>
            <a:ext cx="1229040" cy="1204920"/>
            <a:chOff x="195120" y="1017720"/>
            <a:chExt cx="1229040" cy="1204920"/>
          </a:xfrm>
        </p:grpSpPr>
        <p:pic>
          <p:nvPicPr>
            <p:cNvPr id="258" name="Picture 4" descr=""/>
            <p:cNvPicPr/>
            <p:nvPr/>
          </p:nvPicPr>
          <p:blipFill>
            <a:blip r:embed="rId2"/>
            <a:stretch/>
          </p:blipFill>
          <p:spPr>
            <a:xfrm>
              <a:off x="195120" y="1017720"/>
              <a:ext cx="1229040" cy="12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Text Box 5"/>
            <p:cNvSpPr/>
            <p:nvPr/>
          </p:nvSpPr>
          <p:spPr>
            <a:xfrm rot="2340000">
              <a:off x="377280" y="1212120"/>
              <a:ext cx="860760" cy="77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0" name="Rectangle 6"/>
          <p:cNvSpPr/>
          <p:nvPr/>
        </p:nvSpPr>
        <p:spPr>
          <a:xfrm>
            <a:off x="1096920" y="0"/>
            <a:ext cx="880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1100160" y="0"/>
            <a:ext cx="7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Line 8"/>
          <p:cNvSpPr/>
          <p:nvPr/>
        </p:nvSpPr>
        <p:spPr>
          <a:xfrm>
            <a:off x="247680" y="609480"/>
            <a:ext cx="9410760" cy="1800"/>
          </a:xfrm>
          <a:prstGeom prst="line">
            <a:avLst/>
          </a:prstGeom>
          <a:ln w="7632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1555560" y="1447920"/>
            <a:ext cx="81183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1"/>
          </p:nvPr>
        </p:nvSpPr>
        <p:spPr>
          <a:xfrm>
            <a:off x="3879720" y="6303960"/>
            <a:ext cx="230832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rPr>
              <a:t>03.05.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12"/>
          <p:cNvSpPr/>
          <p:nvPr/>
        </p:nvSpPr>
        <p:spPr>
          <a:xfrm>
            <a:off x="6191280" y="6303960"/>
            <a:ext cx="313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sldNum" idx="12"/>
          </p:nvPr>
        </p:nvSpPr>
        <p:spPr>
          <a:xfrm>
            <a:off x="9330840" y="6303960"/>
            <a:ext cx="49212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878AB77-F61C-4F52-85E4-C51461BCA5E4}" type="slidenum">
              <a: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AutoShape 1"/>
          <p:cNvSpPr/>
          <p:nvPr/>
        </p:nvSpPr>
        <p:spPr>
          <a:xfrm>
            <a:off x="-884160" y="-816120"/>
            <a:ext cx="1776240" cy="1638360"/>
          </a:xfrm>
          <a:custGeom>
            <a:avLst/>
            <a:gdLst>
              <a:gd name="textAreaLeft" fmla="*/ 259920 w 1776240"/>
              <a:gd name="textAreaRight" fmla="*/ 1516320 w 177624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776413" h="1638300">
                <a:moveTo>
                  <a:pt x="1776413" y="819150"/>
                </a:moveTo>
                <a:lnTo>
                  <a:pt x="1776413" y="819150"/>
                </a:lnTo>
                <a:cubicBezTo>
                  <a:pt x="1776413" y="1271554"/>
                  <a:pt x="1378749" y="1638300"/>
                  <a:pt x="888206" y="1638300"/>
                </a:cubicBezTo>
                <a:cubicBezTo>
                  <a:pt x="888037" y="1638300"/>
                  <a:pt x="887868" y="1638299"/>
                  <a:pt x="887700" y="1638299"/>
                </a:cubicBezTo>
                <a:lnTo>
                  <a:pt x="888207" y="819150"/>
                </a:lnTo>
                <a:lnTo>
                  <a:pt x="1776413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Oval 2"/>
          <p:cNvSpPr/>
          <p:nvPr/>
        </p:nvSpPr>
        <p:spPr>
          <a:xfrm>
            <a:off x="182520" y="20520"/>
            <a:ext cx="1844640" cy="1703520"/>
          </a:xfrm>
          <a:prstGeom prst="ellipse">
            <a:avLst/>
          </a:prstGeom>
          <a:noFill/>
          <a:ln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6" name="Group 3"/>
          <p:cNvGrpSpPr/>
          <p:nvPr/>
        </p:nvGrpSpPr>
        <p:grpSpPr>
          <a:xfrm>
            <a:off x="195120" y="1017720"/>
            <a:ext cx="1229040" cy="1204920"/>
            <a:chOff x="195120" y="1017720"/>
            <a:chExt cx="1229040" cy="1204920"/>
          </a:xfrm>
        </p:grpSpPr>
        <p:pic>
          <p:nvPicPr>
            <p:cNvPr id="307" name="Picture 4" descr=""/>
            <p:cNvPicPr/>
            <p:nvPr/>
          </p:nvPicPr>
          <p:blipFill>
            <a:blip r:embed="rId2"/>
            <a:stretch/>
          </p:blipFill>
          <p:spPr>
            <a:xfrm>
              <a:off x="195120" y="1017720"/>
              <a:ext cx="1229040" cy="12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Text Box 5"/>
            <p:cNvSpPr/>
            <p:nvPr/>
          </p:nvSpPr>
          <p:spPr>
            <a:xfrm rot="2340000">
              <a:off x="377280" y="1212120"/>
              <a:ext cx="860760" cy="77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9" name="Rectangle 6"/>
          <p:cNvSpPr/>
          <p:nvPr/>
        </p:nvSpPr>
        <p:spPr>
          <a:xfrm>
            <a:off x="1096920" y="0"/>
            <a:ext cx="880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100160" y="0"/>
            <a:ext cx="7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Line 8"/>
          <p:cNvSpPr/>
          <p:nvPr/>
        </p:nvSpPr>
        <p:spPr>
          <a:xfrm>
            <a:off x="247680" y="609480"/>
            <a:ext cx="9410760" cy="1800"/>
          </a:xfrm>
          <a:prstGeom prst="line">
            <a:avLst/>
          </a:prstGeom>
          <a:ln w="7632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1555560" y="1447920"/>
            <a:ext cx="81183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13"/>
          </p:nvPr>
        </p:nvSpPr>
        <p:spPr>
          <a:xfrm>
            <a:off x="3879720" y="6303960"/>
            <a:ext cx="230832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rPr>
              <a:t>03.05.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12"/>
          <p:cNvSpPr/>
          <p:nvPr/>
        </p:nvSpPr>
        <p:spPr>
          <a:xfrm>
            <a:off x="6191280" y="6303960"/>
            <a:ext cx="313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sldNum" idx="14"/>
          </p:nvPr>
        </p:nvSpPr>
        <p:spPr>
          <a:xfrm>
            <a:off x="9330840" y="6303960"/>
            <a:ext cx="49212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076C9FF-B302-4F0E-B1E1-D4FE10568644}" type="slidenum">
              <a: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AutoShape 1"/>
          <p:cNvSpPr/>
          <p:nvPr/>
        </p:nvSpPr>
        <p:spPr>
          <a:xfrm>
            <a:off x="-884160" y="-816120"/>
            <a:ext cx="1776240" cy="1638360"/>
          </a:xfrm>
          <a:custGeom>
            <a:avLst/>
            <a:gdLst>
              <a:gd name="textAreaLeft" fmla="*/ 259920 w 1776240"/>
              <a:gd name="textAreaRight" fmla="*/ 1516320 w 177624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776413" h="1638300">
                <a:moveTo>
                  <a:pt x="1776413" y="819150"/>
                </a:moveTo>
                <a:lnTo>
                  <a:pt x="1776413" y="819150"/>
                </a:lnTo>
                <a:cubicBezTo>
                  <a:pt x="1776413" y="1271554"/>
                  <a:pt x="1378749" y="1638300"/>
                  <a:pt x="888206" y="1638300"/>
                </a:cubicBezTo>
                <a:cubicBezTo>
                  <a:pt x="888037" y="1638300"/>
                  <a:pt x="887868" y="1638299"/>
                  <a:pt x="887700" y="1638299"/>
                </a:cubicBezTo>
                <a:lnTo>
                  <a:pt x="888207" y="819150"/>
                </a:lnTo>
                <a:lnTo>
                  <a:pt x="1776413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Oval 2"/>
          <p:cNvSpPr/>
          <p:nvPr/>
        </p:nvSpPr>
        <p:spPr>
          <a:xfrm>
            <a:off x="182520" y="20520"/>
            <a:ext cx="1844640" cy="1703520"/>
          </a:xfrm>
          <a:prstGeom prst="ellipse">
            <a:avLst/>
          </a:prstGeom>
          <a:noFill/>
          <a:ln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5" name="Group 3"/>
          <p:cNvGrpSpPr/>
          <p:nvPr/>
        </p:nvGrpSpPr>
        <p:grpSpPr>
          <a:xfrm>
            <a:off x="195120" y="1017720"/>
            <a:ext cx="1229040" cy="1204920"/>
            <a:chOff x="195120" y="1017720"/>
            <a:chExt cx="1229040" cy="1204920"/>
          </a:xfrm>
        </p:grpSpPr>
        <p:pic>
          <p:nvPicPr>
            <p:cNvPr id="356" name="Picture 4" descr=""/>
            <p:cNvPicPr/>
            <p:nvPr/>
          </p:nvPicPr>
          <p:blipFill>
            <a:blip r:embed="rId2"/>
            <a:stretch/>
          </p:blipFill>
          <p:spPr>
            <a:xfrm>
              <a:off x="195120" y="1017720"/>
              <a:ext cx="1229040" cy="12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Text Box 5"/>
            <p:cNvSpPr/>
            <p:nvPr/>
          </p:nvSpPr>
          <p:spPr>
            <a:xfrm rot="2340000">
              <a:off x="377280" y="1212120"/>
              <a:ext cx="860760" cy="77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8" name="Rectangle 6"/>
          <p:cNvSpPr/>
          <p:nvPr/>
        </p:nvSpPr>
        <p:spPr>
          <a:xfrm>
            <a:off x="1096920" y="0"/>
            <a:ext cx="880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Rectangle 7"/>
          <p:cNvSpPr/>
          <p:nvPr/>
        </p:nvSpPr>
        <p:spPr>
          <a:xfrm>
            <a:off x="1100160" y="0"/>
            <a:ext cx="7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Line 8"/>
          <p:cNvSpPr/>
          <p:nvPr/>
        </p:nvSpPr>
        <p:spPr>
          <a:xfrm>
            <a:off x="247680" y="609480"/>
            <a:ext cx="9410760" cy="1800"/>
          </a:xfrm>
          <a:prstGeom prst="line">
            <a:avLst/>
          </a:prstGeom>
          <a:ln w="7632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Rectangle 9"/>
          <p:cNvSpPr/>
          <p:nvPr/>
        </p:nvSpPr>
        <p:spPr>
          <a:xfrm>
            <a:off x="1100160" y="0"/>
            <a:ext cx="88059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Rectangle 10"/>
          <p:cNvSpPr/>
          <p:nvPr/>
        </p:nvSpPr>
        <p:spPr>
          <a:xfrm>
            <a:off x="1100160" y="0"/>
            <a:ext cx="7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1555560" y="1447920"/>
            <a:ext cx="81183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15"/>
          </p:nvPr>
        </p:nvSpPr>
        <p:spPr>
          <a:xfrm>
            <a:off x="3879720" y="6303960"/>
            <a:ext cx="230832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rPr>
              <a:t>03.05.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14"/>
          <p:cNvSpPr/>
          <p:nvPr/>
        </p:nvSpPr>
        <p:spPr>
          <a:xfrm>
            <a:off x="6191280" y="6303960"/>
            <a:ext cx="313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sldNum" idx="16"/>
          </p:nvPr>
        </p:nvSpPr>
        <p:spPr>
          <a:xfrm>
            <a:off x="9330840" y="6303960"/>
            <a:ext cx="49212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F9DBCC4-A65F-45DC-910F-B38120F69A10}" type="slidenum">
              <a: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AutoShape 1"/>
          <p:cNvSpPr/>
          <p:nvPr/>
        </p:nvSpPr>
        <p:spPr>
          <a:xfrm>
            <a:off x="-884160" y="-816120"/>
            <a:ext cx="1776240" cy="1638360"/>
          </a:xfrm>
          <a:custGeom>
            <a:avLst/>
            <a:gdLst>
              <a:gd name="textAreaLeft" fmla="*/ 259920 w 1776240"/>
              <a:gd name="textAreaRight" fmla="*/ 1516320 w 177624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776413" h="1638300">
                <a:moveTo>
                  <a:pt x="1776413" y="819150"/>
                </a:moveTo>
                <a:lnTo>
                  <a:pt x="1776413" y="819150"/>
                </a:lnTo>
                <a:cubicBezTo>
                  <a:pt x="1776413" y="1271554"/>
                  <a:pt x="1378749" y="1638300"/>
                  <a:pt x="888206" y="1638300"/>
                </a:cubicBezTo>
                <a:cubicBezTo>
                  <a:pt x="888037" y="1638300"/>
                  <a:pt x="887868" y="1638299"/>
                  <a:pt x="887700" y="1638299"/>
                </a:cubicBezTo>
                <a:lnTo>
                  <a:pt x="888207" y="819150"/>
                </a:lnTo>
                <a:lnTo>
                  <a:pt x="1776413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Oval 2"/>
          <p:cNvSpPr/>
          <p:nvPr/>
        </p:nvSpPr>
        <p:spPr>
          <a:xfrm>
            <a:off x="182520" y="20520"/>
            <a:ext cx="1844640" cy="1703520"/>
          </a:xfrm>
          <a:prstGeom prst="ellipse">
            <a:avLst/>
          </a:prstGeom>
          <a:noFill/>
          <a:ln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6" name="Group 3"/>
          <p:cNvGrpSpPr/>
          <p:nvPr/>
        </p:nvGrpSpPr>
        <p:grpSpPr>
          <a:xfrm>
            <a:off x="195120" y="1017720"/>
            <a:ext cx="1229040" cy="1204920"/>
            <a:chOff x="195120" y="1017720"/>
            <a:chExt cx="1229040" cy="1204920"/>
          </a:xfrm>
        </p:grpSpPr>
        <p:pic>
          <p:nvPicPr>
            <p:cNvPr id="407" name="Picture 4" descr=""/>
            <p:cNvPicPr/>
            <p:nvPr/>
          </p:nvPicPr>
          <p:blipFill>
            <a:blip r:embed="rId2"/>
            <a:stretch/>
          </p:blipFill>
          <p:spPr>
            <a:xfrm>
              <a:off x="195120" y="1017720"/>
              <a:ext cx="1229040" cy="12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Text Box 5"/>
            <p:cNvSpPr/>
            <p:nvPr/>
          </p:nvSpPr>
          <p:spPr>
            <a:xfrm rot="2340000">
              <a:off x="377280" y="1212120"/>
              <a:ext cx="860760" cy="77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9" name="Rectangle 6"/>
          <p:cNvSpPr/>
          <p:nvPr/>
        </p:nvSpPr>
        <p:spPr>
          <a:xfrm>
            <a:off x="1096920" y="0"/>
            <a:ext cx="880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Rectangle 7"/>
          <p:cNvSpPr/>
          <p:nvPr/>
        </p:nvSpPr>
        <p:spPr>
          <a:xfrm>
            <a:off x="1100160" y="0"/>
            <a:ext cx="7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Line 8"/>
          <p:cNvSpPr/>
          <p:nvPr/>
        </p:nvSpPr>
        <p:spPr>
          <a:xfrm>
            <a:off x="247680" y="609480"/>
            <a:ext cx="9410760" cy="1800"/>
          </a:xfrm>
          <a:prstGeom prst="line">
            <a:avLst/>
          </a:prstGeom>
          <a:ln w="7632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1555560" y="1447920"/>
            <a:ext cx="81183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17"/>
          </p:nvPr>
        </p:nvSpPr>
        <p:spPr>
          <a:xfrm>
            <a:off x="3879720" y="6303960"/>
            <a:ext cx="230832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rPr>
              <a:t>03.05.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12"/>
          <p:cNvSpPr/>
          <p:nvPr/>
        </p:nvSpPr>
        <p:spPr>
          <a:xfrm>
            <a:off x="6191280" y="6303960"/>
            <a:ext cx="313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sldNum" idx="18"/>
          </p:nvPr>
        </p:nvSpPr>
        <p:spPr>
          <a:xfrm>
            <a:off x="9330840" y="6303960"/>
            <a:ext cx="49212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F2A3759-110F-4F92-885A-979741EFF67F}" type="slidenum">
              <a: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9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0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6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8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Text Box 1"/>
          <p:cNvSpPr/>
          <p:nvPr/>
        </p:nvSpPr>
        <p:spPr>
          <a:xfrm>
            <a:off x="1959120" y="946080"/>
            <a:ext cx="7699320" cy="5454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omic Sans MS"/>
              </a:rPr>
              <a:t>Развитие и формирование игровой деятельности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Text Box 3"/>
          <p:cNvSpPr/>
          <p:nvPr/>
        </p:nvSpPr>
        <p:spPr>
          <a:xfrm>
            <a:off x="9331200" y="6305400"/>
            <a:ext cx="495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5C217F-088B-444E-AF43-2CD066515963}" type="slidenum">
              <a:rPr b="1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Прямоугольник 2"/>
          <p:cNvSpPr/>
          <p:nvPr/>
        </p:nvSpPr>
        <p:spPr>
          <a:xfrm>
            <a:off x="2523960" y="571680"/>
            <a:ext cx="6216840" cy="11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Arial"/>
                <a:ea typeface="Arial"/>
              </a:rPr>
              <a:t>третий этап (4,5 – 7 лет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Усвоение способов построения сюжета (сюжетосложение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2" name="Рисунок 4" descr="19-06-09_1042"/>
          <p:cNvPicPr/>
          <p:nvPr/>
        </p:nvPicPr>
        <p:blipFill>
          <a:blip r:embed="rId1"/>
          <a:stretch/>
        </p:blipFill>
        <p:spPr>
          <a:xfrm>
            <a:off x="6597720" y="2428920"/>
            <a:ext cx="2975040" cy="3143160"/>
          </a:xfrm>
          <a:prstGeom prst="rect">
            <a:avLst/>
          </a:prstGeom>
          <a:ln w="0">
            <a:noFill/>
          </a:ln>
        </p:spPr>
      </p:pic>
      <p:sp>
        <p:nvSpPr>
          <p:cNvPr id="953" name="Прямоугольник 4"/>
          <p:cNvSpPr/>
          <p:nvPr/>
        </p:nvSpPr>
        <p:spPr>
          <a:xfrm>
            <a:off x="1523880" y="2000160"/>
            <a:ext cx="52880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16165d"/>
                </a:solidFill>
                <a:latin typeface="Arial"/>
              </a:rPr>
              <a:t>Характер игры-придумывания   воспитателя с детьми: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16165d"/>
                </a:solidFill>
                <a:latin typeface="Arial"/>
              </a:rPr>
              <a:t>совместное «вспоминание» (пересказ) известной сказки;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16165d"/>
                </a:solidFill>
                <a:latin typeface="Arial"/>
              </a:rPr>
              <a:t>частичное преобразование известной сказки;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16165d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16165d"/>
                </a:solidFill>
                <a:latin typeface="Arial"/>
              </a:rPr>
              <a:t>придумывание новой сказки с соединением сказочных и реалистических элементов;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16165d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16165d"/>
                </a:solidFill>
                <a:latin typeface="Arial"/>
              </a:rPr>
              <a:t>развертывание нового сюжета с разноконтекстными ролями в процессе «телефонных разговоров»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16165d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16165d"/>
                </a:solidFill>
                <a:latin typeface="Arial"/>
              </a:rPr>
              <a:t>придумывание новых историй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569960" y="404280"/>
            <a:ext cx="8118720" cy="16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Corbel"/>
              </a:rPr>
              <a:t>Возрастная диагностика становления игры        дошкольника </a:t>
            </a:r>
            <a:endParaRPr b="0" lang="en-US" sz="3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55" name=""/>
          <p:cNvSpPr txBox="1"/>
          <p:nvPr/>
        </p:nvSpPr>
        <p:spPr>
          <a:xfrm>
            <a:off x="1569960" y="1844640"/>
            <a:ext cx="811872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Основные параметры, определяющие развитие ролевой игры, в соответствии с концепцией Д. Б. Эльконин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1.  распределение ролей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2.  основное содержание игры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3.  ролевое поведение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4.  игровые действия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5.  использование атрибутики и предметов-заместителей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6.  использование ролевой речи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7.  выполнение правил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6" name="Дата 3"/>
          <p:cNvSpPr/>
          <p:nvPr/>
        </p:nvSpPr>
        <p:spPr>
          <a:xfrm>
            <a:off x="3879720" y="6303960"/>
            <a:ext cx="2308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b5a788"/>
                </a:solidFill>
                <a:latin typeface="Arial"/>
                <a:ea typeface="Arial Unicode MS"/>
              </a:rPr>
              <a:t>03.05.09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"/>
          <p:cNvSpPr txBox="1"/>
          <p:nvPr/>
        </p:nvSpPr>
        <p:spPr>
          <a:xfrm>
            <a:off x="1496880" y="836640"/>
            <a:ext cx="81187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Каждый критерий оценивается по 4 уровням. При этом, несмотря на то, что не существует жесткой зависимости между возрастом и уровнем развития игровой деятельности, представляется целесообразным установить следующие возраст­ные рамки для каждого уровня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1 уровень — от 2,0 до 3,5 лет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2 уровень — от 3,5 до 4,5 лет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3 уровень — от 4,5 до 5,5 лет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4 уровень — старше 5,5 лет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Эти возрастные рамки позволяют как планировать работу с детьми того или иного возраста по формированию игровых навыков, так и отслеживать эффективность этой работы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8" name="Дата 3"/>
          <p:cNvSpPr/>
          <p:nvPr/>
        </p:nvSpPr>
        <p:spPr>
          <a:xfrm>
            <a:off x="3879720" y="6303960"/>
            <a:ext cx="2308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b5a788"/>
                </a:solidFill>
                <a:latin typeface="Arial"/>
                <a:ea typeface="Arial Unicode MS"/>
              </a:rPr>
              <a:t>03.05.09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Дата 3"/>
          <p:cNvSpPr/>
          <p:nvPr/>
        </p:nvSpPr>
        <p:spPr>
          <a:xfrm>
            <a:off x="3879720" y="6303960"/>
            <a:ext cx="2308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b5a788"/>
                </a:solidFill>
                <a:latin typeface="Arial"/>
                <a:ea typeface="Arial Unicode MS"/>
              </a:rPr>
              <a:t>03.05.09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0" name=""/>
          <p:cNvGraphicFramePr/>
          <p:nvPr/>
        </p:nvGraphicFramePr>
        <p:xfrm>
          <a:off x="1641600" y="2997360"/>
          <a:ext cx="6605640" cy="3143160"/>
        </p:xfrm>
        <a:graphic>
          <a:graphicData uri="http://schemas.openxmlformats.org/drawingml/2006/table">
            <a:tbl>
              <a:tblPr/>
              <a:tblGrid>
                <a:gridCol w="733320"/>
                <a:gridCol w="735120"/>
                <a:gridCol w="733320"/>
                <a:gridCol w="733320"/>
                <a:gridCol w="735120"/>
                <a:gridCol w="733320"/>
                <a:gridCol w="733680"/>
                <a:gridCol w="734760"/>
                <a:gridCol w="733680"/>
              </a:tblGrid>
              <a:tr h="1862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Имя,ф. ребенка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Возраст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Распред-е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ролей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Осн. содерж-ие игры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Ролевое поведение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Игровые действия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Испол-ие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атрибутики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Ролевая речь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Выполнение правил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Ира К.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5,3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Саша И.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5,5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1" name="Прямоугольник 8"/>
          <p:cNvSpPr/>
          <p:nvPr/>
        </p:nvSpPr>
        <p:spPr>
          <a:xfrm>
            <a:off x="2001960" y="836640"/>
            <a:ext cx="777708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Уровень сформированности игровых навыков</a:t>
            </a: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Группа_________________   Дата наблюдения____</a:t>
            </a: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Возраст детей от____  до______</a:t>
            </a: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Воспитатель____________________________________</a:t>
            </a: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300" spc="-1" strike="noStrike">
                <a:solidFill>
                  <a:srgbClr val="c00000"/>
                </a:solidFill>
                <a:latin typeface="Corbel"/>
              </a:rPr>
              <a:t>Список литературы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963" name=""/>
          <p:cNvGraphicFramePr/>
          <p:nvPr/>
        </p:nvGraphicFramePr>
        <p:xfrm>
          <a:off x="990720" y="1413000"/>
          <a:ext cx="8916840" cy="5530680"/>
        </p:xfrm>
        <a:graphic>
          <a:graphicData uri="http://schemas.openxmlformats.org/drawingml/2006/table">
            <a:tbl>
              <a:tblPr/>
              <a:tblGrid>
                <a:gridCol w="8916840"/>
              </a:tblGrid>
              <a:tr h="6422760">
                <a:tc>
                  <a:txBody>
                    <a:bodyPr lIns="123840" rIns="123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.Михайленко Н.Я., Короткова Н.А., Организация сюжетной игры в детском саду. Москва, 2001 год;</a:t>
                      </a:r>
                      <a:endParaRPr b="1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. Калинина Р.Р. Психолого-педагогическая диагностика в детском саду / Р.Р. Калинина. - СПб.: Речь, 2003. - 144 с 3.Потапова  Л.М.. методические рекомендации по организации и проведению сюжетно-ролевых игр в старшей группе. Ярославль, 1997 год;</a:t>
                      </a:r>
                      <a:endParaRPr b="1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. Эльконин Д.Б. Психология игры / Д.Б. Эльконин. - М.: Владос, 1999. - 360 с.</a:t>
                      </a:r>
                      <a:endParaRPr b="1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 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23840" marR="123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300" spc="-1" strike="noStrike">
                <a:solidFill>
                  <a:srgbClr val="00cc99"/>
                </a:solidFill>
                <a:latin typeface="Corbel"/>
              </a:rPr>
              <a:t>план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12" name=""/>
          <p:cNvSpPr txBox="1"/>
          <p:nvPr/>
        </p:nvSpPr>
        <p:spPr>
          <a:xfrm>
            <a:off x="1555560" y="1447920"/>
            <a:ext cx="81183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Corbel"/>
              </a:rPr>
              <a:t>1.Зарубежные теории игры.</a:t>
            </a:r>
            <a:r>
              <a:rPr b="0" lang="ru-RU" sz="2700" spc="-1" strike="noStrike">
                <a:solidFill>
                  <a:srgbClr val="002060"/>
                </a:solidFill>
                <a:latin typeface="Corbel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Corbel"/>
              </a:rPr>
              <a:t>2.Классификация  детских игр, их своеобразие и характеристика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Corbel"/>
              </a:rPr>
              <a:t>3. Этапы игровой деятельности ребёнка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Corbel"/>
              </a:rPr>
              <a:t>4. Методика руководства играми в разных возрастных группах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Corbel"/>
              </a:rPr>
              <a:t>5. Возрастная диагностика игры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Corbel"/>
              </a:rPr>
              <a:t>	</a:t>
            </a:r>
            <a:r>
              <a:rPr b="0" lang="ru-RU" sz="2700" spc="-1" strike="noStrike">
                <a:solidFill>
                  <a:srgbClr val="002060"/>
                </a:solidFill>
                <a:latin typeface="Corbel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3" name="Дата 3"/>
          <p:cNvSpPr/>
          <p:nvPr/>
        </p:nvSpPr>
        <p:spPr>
          <a:xfrm>
            <a:off x="3879720" y="6303960"/>
            <a:ext cx="2308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rPr>
              <a:t>03.05.09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Text Box 1"/>
          <p:cNvSpPr/>
          <p:nvPr/>
        </p:nvSpPr>
        <p:spPr>
          <a:xfrm>
            <a:off x="355680" y="-19080"/>
            <a:ext cx="955044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orbel"/>
              </a:rPr>
              <a:t>ТЕОРИИ  ПРОИСХОЖДЕНИЯ  ИГРЫ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Text Box 2"/>
          <p:cNvSpPr/>
          <p:nvPr/>
        </p:nvSpPr>
        <p:spPr>
          <a:xfrm>
            <a:off x="9331200" y="6305400"/>
            <a:ext cx="495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FA86BD-F130-48DE-944C-C62C2E4930B5}" type="slidenum">
              <a:rPr b="1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Rectangle 3"/>
          <p:cNvSpPr/>
          <p:nvPr/>
        </p:nvSpPr>
        <p:spPr>
          <a:xfrm>
            <a:off x="425520" y="581040"/>
            <a:ext cx="920736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36000" bIns="36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1447920" y="627120"/>
            <a:ext cx="79135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d2db9"/>
                </a:solidFill>
                <a:latin typeface="Arial"/>
              </a:rPr>
              <a:t>1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Rectangle 5"/>
          <p:cNvSpPr/>
          <p:nvPr/>
        </p:nvSpPr>
        <p:spPr>
          <a:xfrm>
            <a:off x="1490760" y="1450800"/>
            <a:ext cx="8346960" cy="471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Aft>
                <a:spcPts val="87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0" i="1" lang="ru-RU" sz="2000" spc="-1" strike="noStrike">
                <a:solidFill>
                  <a:srgbClr val="16165d"/>
                </a:solidFill>
                <a:latin typeface="Arial"/>
                <a:ea typeface="Arial"/>
              </a:rPr>
              <a:t>Игра как деятельность по природе инстинктивно-биологическая, выражающая в символической форме подавленные влечения ребёнка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2.Теория рекапитуляции С.Холл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i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(сокращенное повторение основных этапов развития человечества)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3.Теория «Избытка жизненных сил» И.Ф. Шиллер, Г. Спенсер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Corbel"/>
                <a:ea typeface="Arial"/>
              </a:rPr>
              <a:t>У ребёнка много энергии(ему мало что приходится делать, о нём заботятся взрослые</a:t>
            </a:r>
            <a:r>
              <a:rPr b="0" i="1" lang="ru-RU" sz="2000" spc="-1" strike="noStrike">
                <a:solidFill>
                  <a:srgbClr val="16165d"/>
                </a:solidFill>
                <a:latin typeface="Corbel"/>
                <a:ea typeface="Arial"/>
              </a:rPr>
              <a:t>) </a:t>
            </a:r>
            <a:r>
              <a:rPr b="0" i="1" lang="ru-RU" sz="2000" spc="-1" strike="noStrike">
                <a:solidFill>
                  <a:srgbClr val="16165d"/>
                </a:solidFill>
                <a:latin typeface="Corbel"/>
              </a:rPr>
              <a:t>–необходимость в разгрузке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16165d"/>
                </a:solidFill>
                <a:latin typeface="Corbel"/>
              </a:rPr>
              <a:t>4.Теория «Предупреждения» К. Гросс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16165d"/>
                </a:solidFill>
                <a:latin typeface="Corbel"/>
              </a:rPr>
              <a:t>Источник игры- инстинкты. Игра- бессознательная подготовка ребёнка, к жизни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Text Box 4"/>
          <p:cNvSpPr/>
          <p:nvPr/>
        </p:nvSpPr>
        <p:spPr>
          <a:xfrm>
            <a:off x="1665360" y="741240"/>
            <a:ext cx="791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87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16165d"/>
                </a:solidFill>
                <a:latin typeface="Arial"/>
                <a:ea typeface="Arial"/>
              </a:rPr>
              <a:t>Теория З. Фрейда : игра как проявление вытесненных желаний, стремлений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9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9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3000" fill="hold"/>
                                        <p:tgtEl>
                                          <p:spTgt spid="9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9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3000" fill="hold"/>
                                        <p:tgtEl>
                                          <p:spTgt spid="9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9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9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9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9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9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9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9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Text Box 1"/>
          <p:cNvSpPr/>
          <p:nvPr/>
        </p:nvSpPr>
        <p:spPr>
          <a:xfrm>
            <a:off x="1557360" y="-90360"/>
            <a:ext cx="8123040" cy="1160280"/>
          </a:xfrm>
          <a:prstGeom prst="rect">
            <a:avLst/>
          </a:prstGeom>
          <a:solidFill>
            <a:srgbClr val="fff1ce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ru-RU" sz="25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r>
              <a:rPr b="1" lang="ru-RU" sz="25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r>
              <a:rPr b="1" lang="ru-RU" sz="2500" spc="-1" strike="noStrike">
                <a:solidFill>
                  <a:srgbClr val="c00000"/>
                </a:solidFill>
                <a:latin typeface="Arial"/>
                <a:ea typeface="Arial"/>
              </a:rPr>
              <a:t>КЛАССИФИКАЦИЯ ИГР</a:t>
            </a:r>
            <a:br>
              <a:rPr sz="2500"/>
            </a:br>
            <a:r>
              <a:rPr b="1" lang="ru-RU" sz="2000" spc="-1" strike="noStrike">
                <a:solidFill>
                  <a:srgbClr val="595959"/>
                </a:solidFill>
                <a:latin typeface="Arial"/>
                <a:ea typeface="Arial"/>
              </a:rPr>
              <a:t>1. ТРАДИЦИОННАЯ: </a:t>
            </a:r>
            <a:r>
              <a:rPr b="1" lang="ru-RU" sz="1800" spc="-1" strike="noStrike">
                <a:solidFill>
                  <a:srgbClr val="595959"/>
                </a:solidFill>
                <a:latin typeface="Arial"/>
                <a:ea typeface="Arial"/>
              </a:rPr>
              <a:t>ПО ЦЕНТРАЛЬНОМУ ЭЛЕМЕНТУ СТРУКТУРЫ</a:t>
            </a:r>
            <a:br>
              <a:rPr sz="2500"/>
            </a:b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Text Box 2"/>
          <p:cNvSpPr/>
          <p:nvPr/>
        </p:nvSpPr>
        <p:spPr>
          <a:xfrm>
            <a:off x="1555920" y="1523880"/>
            <a:ext cx="3962160" cy="4907160"/>
          </a:xfrm>
          <a:prstGeom prst="rect">
            <a:avLst/>
          </a:prstGeom>
          <a:solidFill>
            <a:srgbClr val="fff1ce"/>
          </a:solidFill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180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3600"/>
                <a:tab algn="l" pos="8110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16165d"/>
                </a:solidFill>
                <a:latin typeface="Corbel"/>
              </a:rPr>
              <a:t>ТВОРЧЕСКИ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18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Font typeface="Wingdings 2" charset="2"/>
              <a:buChar char=""/>
              <a:tabLst>
                <a:tab algn="l" pos="363600"/>
                <a:tab algn="l" pos="8110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orbel"/>
              </a:rPr>
              <a:t>СЮЖЕТНО-РОЛЕВЫЕ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Font typeface="Wingdings 2" charset="2"/>
              <a:buChar char=""/>
              <a:tabLst>
                <a:tab algn="l" pos="363600"/>
                <a:tab algn="l" pos="8110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orbel"/>
              </a:rPr>
              <a:t>СТРОИТЕЛЬНЫЕ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Font typeface="Wingdings 2" charset="2"/>
              <a:buChar char=""/>
              <a:tabLst>
                <a:tab algn="l" pos="363600"/>
                <a:tab algn="l" pos="8110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orbel"/>
              </a:rPr>
              <a:t>ИГРЫ-ДРАМАТИЗАЦИИ ТЕАТРАЛИЗОВАННЫЕ         РЕЖИССЕРСКИЕ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3600"/>
                <a:tab algn="l" pos="8110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3600"/>
                <a:tab algn="l" pos="8110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  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СТРУКТУРА: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3600"/>
                <a:tab algn="l" pos="8110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РОЛЬ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3600"/>
                <a:tab algn="l" pos="8110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СЮЖЕТ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3600"/>
                <a:tab algn="l" pos="8110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ЗАМЫСЕЛ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3600"/>
                <a:tab algn="l" pos="8110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ИГРУШКА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3600"/>
                <a:tab algn="l" pos="8110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Text Box 3"/>
          <p:cNvSpPr/>
          <p:nvPr/>
        </p:nvSpPr>
        <p:spPr>
          <a:xfrm>
            <a:off x="5715000" y="1523880"/>
            <a:ext cx="3962520" cy="4905360"/>
          </a:xfrm>
          <a:prstGeom prst="rect">
            <a:avLst/>
          </a:prstGeom>
          <a:solidFill>
            <a:srgbClr val="fff1ce"/>
          </a:solidFill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180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3600"/>
                <a:tab algn="l" pos="8110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16165d"/>
                </a:solidFill>
                <a:latin typeface="Corbel"/>
              </a:rPr>
              <a:t>ИГРЫ С ПРАВИЛАМ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18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Font typeface="Wingdings 2" charset="2"/>
              <a:buChar char=""/>
              <a:tabLst>
                <a:tab algn="l" pos="363600"/>
                <a:tab algn="l" pos="8110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orbel"/>
              </a:rPr>
              <a:t>ДИДАКТИЧЕСКИЕ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Font typeface="Wingdings 2" charset="2"/>
              <a:buChar char=""/>
              <a:tabLst>
                <a:tab algn="l" pos="363600"/>
                <a:tab algn="l" pos="8110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orbel"/>
              </a:rPr>
              <a:t>ПОДВИЖНЫЕ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3600"/>
                <a:tab algn="l" pos="8110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3600"/>
                <a:tab algn="l" pos="8110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3600"/>
                <a:tab algn="l" pos="8110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3600"/>
                <a:tab algn="l" pos="8110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3600"/>
                <a:tab algn="l" pos="8110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СТРУКТУРА: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3600"/>
                <a:tab algn="l" pos="8110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ИГРОВАЯ ЗАДАЧА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3600"/>
                <a:tab algn="l" pos="8110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ИГРОВЫЕ ДЕЙСТВИЯ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3600"/>
                <a:tab algn="l" pos="8110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ПРАВИЛА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3600"/>
                <a:tab algn="l" pos="8110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РЕЗУЛЬТАТ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Text Box 5"/>
          <p:cNvSpPr/>
          <p:nvPr/>
        </p:nvSpPr>
        <p:spPr>
          <a:xfrm>
            <a:off x="9331200" y="6305400"/>
            <a:ext cx="495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0B3CA6-B74C-4B6A-815A-9C0FD9DEEBE9}" type="slidenum">
              <a:rPr b="1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9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9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9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9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Text Box 1"/>
          <p:cNvSpPr/>
          <p:nvPr/>
        </p:nvSpPr>
        <p:spPr>
          <a:xfrm>
            <a:off x="3879720" y="63054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b5a788"/>
                </a:solidFill>
                <a:latin typeface="Arial"/>
              </a:rPr>
              <a:t>03.05.09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Text Box 2"/>
          <p:cNvSpPr/>
          <p:nvPr/>
        </p:nvSpPr>
        <p:spPr>
          <a:xfrm>
            <a:off x="9331200" y="6305400"/>
            <a:ext cx="495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67A044-30A4-43C9-9A5D-FDF22772E2E1}" type="slidenum">
              <a:rPr b="1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Text Box 3"/>
          <p:cNvSpPr/>
          <p:nvPr/>
        </p:nvSpPr>
        <p:spPr>
          <a:xfrm>
            <a:off x="3879720" y="63054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b5a788"/>
                </a:solidFill>
                <a:latin typeface="Arial"/>
              </a:rPr>
              <a:t>03.05.09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Text Box 4"/>
          <p:cNvSpPr/>
          <p:nvPr/>
        </p:nvSpPr>
        <p:spPr>
          <a:xfrm>
            <a:off x="9331200" y="6305400"/>
            <a:ext cx="495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25BAC1-1DCD-4586-BF38-A6308101D588}" type="slidenum">
              <a:rPr b="1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Text Box 5"/>
          <p:cNvSpPr/>
          <p:nvPr/>
        </p:nvSpPr>
        <p:spPr>
          <a:xfrm>
            <a:off x="1119240" y="0"/>
            <a:ext cx="8786880" cy="544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orbel"/>
              </a:rPr>
              <a:t> </a:t>
            </a:r>
            <a:r>
              <a:rPr b="1" lang="ru-RU" sz="2400" spc="-1" strike="noStrike">
                <a:solidFill>
                  <a:srgbClr val="cc3300"/>
                </a:solidFill>
                <a:latin typeface="Corbel"/>
              </a:rPr>
              <a:t>КЛАССИФИКАЦИЯ ИГР  </a:t>
            </a:r>
            <a:r>
              <a:rPr b="1" lang="ru-RU" sz="2400" spc="-1" strike="noStrike">
                <a:solidFill>
                  <a:srgbClr val="16165d"/>
                </a:solidFill>
                <a:latin typeface="Corbel"/>
              </a:rPr>
              <a:t>Автор </a:t>
            </a:r>
            <a:r>
              <a:rPr b="1" i="1" lang="ru-RU" sz="2400" spc="-1" strike="noStrike">
                <a:solidFill>
                  <a:srgbClr val="16165d"/>
                </a:solidFill>
                <a:latin typeface="Arial"/>
                <a:ea typeface="Arial"/>
              </a:rPr>
              <a:t>Новоселова С.Л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Text Box 6"/>
          <p:cNvSpPr/>
          <p:nvPr/>
        </p:nvSpPr>
        <p:spPr>
          <a:xfrm>
            <a:off x="9331200" y="6305400"/>
            <a:ext cx="495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A08215-1E02-4C1A-B89D-A9AB629939E9}" type="slidenum">
              <a:rPr b="1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Rectangle 7"/>
          <p:cNvSpPr/>
          <p:nvPr/>
        </p:nvSpPr>
        <p:spPr>
          <a:xfrm>
            <a:off x="-158760" y="142920"/>
            <a:ext cx="920736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36000" bIns="36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Text Box 8"/>
          <p:cNvSpPr/>
          <p:nvPr/>
        </p:nvSpPr>
        <p:spPr>
          <a:xfrm>
            <a:off x="1155600" y="507960"/>
            <a:ext cx="7913880" cy="703800"/>
          </a:xfrm>
          <a:prstGeom prst="rect">
            <a:avLst/>
          </a:prstGeom>
          <a:solidFill>
            <a:srgbClr val="d4eb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Критерий: по инициативности адресата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3 класса игр: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Rectangle 9"/>
          <p:cNvSpPr/>
          <p:nvPr/>
        </p:nvSpPr>
        <p:spPr>
          <a:xfrm>
            <a:off x="1119240" y="1143000"/>
            <a:ext cx="8690040" cy="5715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144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1 класс: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по инициативе детей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108000">
              <a:buClr>
                <a:srgbClr val="990000"/>
              </a:buClr>
              <a:buFont typeface="Arial"/>
              <a:buChar char="•"/>
              <a:tabLst>
                <a:tab algn="l" pos="144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игры-экспериментирован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44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общение с животными,  игрушками и др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108000">
              <a:buClr>
                <a:srgbClr val="990000"/>
              </a:buClr>
              <a:buFont typeface="Arial"/>
              <a:buChar char="•"/>
              <a:tabLst>
                <a:tab algn="l" pos="144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сюжетные самодеятельны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44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сюжетно-отобразительные, сюжетно-ролевые и др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44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                                 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144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2 класс: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по инициативе взрослых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108000">
              <a:buClr>
                <a:srgbClr val="990000"/>
              </a:buClr>
              <a:buFont typeface="Arial"/>
              <a:buChar char="•"/>
              <a:tabLst>
                <a:tab algn="l" pos="144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обучающи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  <a:ea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108000">
              <a:buClr>
                <a:srgbClr val="990000"/>
              </a:buClr>
              <a:buFont typeface="Arial"/>
              <a:buChar char="•"/>
              <a:tabLst>
                <a:tab algn="l" pos="144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дидактические, подвижные, музыкальные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108000">
              <a:buClr>
                <a:srgbClr val="990000"/>
              </a:buClr>
              <a:buFont typeface="Arial"/>
              <a:buChar char="•"/>
              <a:tabLst>
                <a:tab algn="l" pos="144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досуговые</a:t>
            </a: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: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забавы, развлечения,  театральные,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           компьютерные др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144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3 класс: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по инициативе детей или  взрослых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108000">
              <a:buClr>
                <a:srgbClr val="990000"/>
              </a:buClr>
              <a:buFont typeface="Arial"/>
              <a:buChar char="•"/>
              <a:tabLst>
                <a:tab algn="l" pos="144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обрядовы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(культовые, семейные, сезонные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108000">
              <a:buClr>
                <a:srgbClr val="990000"/>
              </a:buClr>
              <a:buFont typeface="Arial"/>
              <a:buChar char="•"/>
              <a:tabLst>
                <a:tab algn="l" pos="144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треннинговые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(сенсомоторные, адаптивные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108000">
              <a:buClr>
                <a:srgbClr val="990000"/>
              </a:buClr>
              <a:buFont typeface="Arial"/>
              <a:buChar char="•"/>
              <a:tabLst>
                <a:tab algn="l" pos="144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досуговые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(игрища, забавляющие, развлекающие)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Text Box 2"/>
          <p:cNvSpPr/>
          <p:nvPr/>
        </p:nvSpPr>
        <p:spPr>
          <a:xfrm>
            <a:off x="9331200" y="6305400"/>
            <a:ext cx="495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5710F3-49AF-4E9C-8C2E-C4F633442431}" type="slidenum">
              <a:rPr b="1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Text Box 3"/>
          <p:cNvSpPr/>
          <p:nvPr/>
        </p:nvSpPr>
        <p:spPr>
          <a:xfrm>
            <a:off x="1812960" y="0"/>
            <a:ext cx="8093160" cy="544680"/>
          </a:xfrm>
          <a:prstGeom prst="rect">
            <a:avLst/>
          </a:prstGeom>
          <a:solidFill>
            <a:srgbClr val="ffe3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orbel"/>
              </a:rPr>
              <a:t>КОНЦЕПЦИЯ  Д.Б. ЭЛЬКОНИНА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Text Box 4"/>
          <p:cNvSpPr/>
          <p:nvPr/>
        </p:nvSpPr>
        <p:spPr>
          <a:xfrm>
            <a:off x="9331200" y="6305400"/>
            <a:ext cx="495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2757C6-52CC-4214-8F21-DCEC63F2DFD9}" type="slidenum">
              <a:rPr b="1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Rectangle 5"/>
          <p:cNvSpPr/>
          <p:nvPr/>
        </p:nvSpPr>
        <p:spPr>
          <a:xfrm>
            <a:off x="425520" y="581040"/>
            <a:ext cx="920736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36000" bIns="36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Text Box 6"/>
          <p:cNvSpPr/>
          <p:nvPr/>
        </p:nvSpPr>
        <p:spPr>
          <a:xfrm>
            <a:off x="1992240" y="763560"/>
            <a:ext cx="7913880" cy="703800"/>
          </a:xfrm>
          <a:prstGeom prst="rect">
            <a:avLst/>
          </a:prstGeom>
          <a:solidFill>
            <a:srgbClr val="fff1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1e190d"/>
                </a:solidFill>
                <a:latin typeface="Arial"/>
              </a:rPr>
              <a:t>ЭТАПЫ СТАНОВЛЕНИЯ ИГРЫ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32d2e"/>
                </a:solidFill>
                <a:latin typeface="Arial"/>
              </a:rPr>
              <a:t>По критерию: </a:t>
            </a:r>
            <a:r>
              <a:rPr b="1" lang="ru-RU" sz="2000" spc="-1" strike="noStrike" u="sng">
                <a:solidFill>
                  <a:srgbClr val="c32d2e"/>
                </a:solidFill>
                <a:uFillTx/>
                <a:latin typeface="Arial"/>
              </a:rPr>
              <a:t>изменения роли в игре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Rectangle 7"/>
          <p:cNvSpPr/>
          <p:nvPr/>
        </p:nvSpPr>
        <p:spPr>
          <a:xfrm>
            <a:off x="1558800" y="1749600"/>
            <a:ext cx="8347320" cy="42717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1-й этап </a:t>
            </a:r>
            <a:r>
              <a:rPr b="1" lang="ru-RU" sz="2000" spc="-1" strike="noStrike" u="sng">
                <a:solidFill>
                  <a:srgbClr val="c32d2e"/>
                </a:solidFill>
                <a:uFillTx/>
                <a:latin typeface="Arial"/>
                <a:ea typeface="Arial"/>
              </a:rPr>
              <a:t>Подступ к роли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ПРЕДМЕТНАЯ ИГРА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(до 3-х лет)</a:t>
            </a:r>
            <a:r>
              <a:rPr b="1" i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Основное содержание – действия с предметам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Aft>
                <a:spcPts val="87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2-й этап </a:t>
            </a:r>
            <a:r>
              <a:rPr b="1" lang="ru-RU" sz="2000" spc="-1" strike="noStrike" u="sng">
                <a:solidFill>
                  <a:srgbClr val="c32d2e"/>
                </a:solidFill>
                <a:uFillTx/>
                <a:latin typeface="Arial"/>
                <a:ea typeface="Arial"/>
              </a:rPr>
              <a:t>Расцвет роли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РОЛЕВАЯ ИГРА (от 3-х до 7 лет)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Основное содержание – отражение взаимоотношений между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      людьм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3-й этап </a:t>
            </a:r>
            <a:r>
              <a:rPr b="1" lang="ru-RU" sz="2000" spc="-1" strike="noStrike" u="sng">
                <a:solidFill>
                  <a:srgbClr val="c32d2e"/>
                </a:solidFill>
                <a:uFillTx/>
                <a:latin typeface="Arial"/>
                <a:ea typeface="Arial"/>
              </a:rPr>
              <a:t>Вырождение роли до чистого правила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i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ИГРЫ С ПРАВИЛАМИ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(6 - 7 лет)</a:t>
            </a:r>
            <a:r>
              <a:rPr b="1" lang="ru-RU" sz="2000" spc="-1" strike="noStrike" u="sng">
                <a:solidFill>
                  <a:srgbClr val="c32d2e"/>
                </a:solidFill>
                <a:uFillTx/>
                <a:latin typeface="Arial"/>
                <a:ea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Основное содержание – Подчинение правилам общественного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    поведения и отношений между людьм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87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87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30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0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3000" fill="hold"/>
                                        <p:tgtEl>
                                          <p:spTgt spid="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000" fill="hold"/>
                                        <p:tgtEl>
                                          <p:spTgt spid="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3000" fill="hold"/>
                                        <p:tgtEl>
                                          <p:spTgt spid="9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3000" fill="hold"/>
                                        <p:tgtEl>
                                          <p:spTgt spid="9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3000" fill="hold"/>
                                        <p:tgtEl>
                                          <p:spTgt spid="9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3000" fill="hold"/>
                                        <p:tgtEl>
                                          <p:spTgt spid="9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3000" fill="hold"/>
                                        <p:tgtEl>
                                          <p:spTgt spid="9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000" fill="hold"/>
                                        <p:tgtEl>
                                          <p:spTgt spid="9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3000" fill="hold"/>
                                        <p:tgtEl>
                                          <p:spTgt spid="9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3000" fill="hold"/>
                                        <p:tgtEl>
                                          <p:spTgt spid="9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3000" fill="hold"/>
                                        <p:tgtEl>
                                          <p:spTgt spid="9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3000" fill="hold"/>
                                        <p:tgtEl>
                                          <p:spTgt spid="9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3000" fill="hold"/>
                                        <p:tgtEl>
                                          <p:spTgt spid="9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3000" fill="hold"/>
                                        <p:tgtEl>
                                          <p:spTgt spid="9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3000" fill="hold"/>
                                        <p:tgtEl>
                                          <p:spTgt spid="9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3000" fill="hold"/>
                                        <p:tgtEl>
                                          <p:spTgt spid="9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3000" fill="hold"/>
                                        <p:tgtEl>
                                          <p:spTgt spid="9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3000" fill="hold"/>
                                        <p:tgtEl>
                                          <p:spTgt spid="9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Text Box 1"/>
          <p:cNvSpPr/>
          <p:nvPr/>
        </p:nvSpPr>
        <p:spPr>
          <a:xfrm>
            <a:off x="1555920" y="0"/>
            <a:ext cx="8121600" cy="1055520"/>
          </a:xfrm>
          <a:prstGeom prst="rect">
            <a:avLst/>
          </a:prstGeom>
          <a:solidFill>
            <a:srgbClr val="fff1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orbel"/>
              </a:rPr>
              <a:t>Технология руководства игрой</a:t>
            </a:r>
            <a:br>
              <a:rPr sz="2800"/>
            </a:br>
            <a:r>
              <a:rPr b="1" lang="ru-RU" sz="2800" spc="-1" strike="noStrike">
                <a:solidFill>
                  <a:srgbClr val="cc3300"/>
                </a:solidFill>
                <a:latin typeface="Corbel"/>
              </a:rPr>
              <a:t>Н.Я.Михайленко и Н.А.Коротковой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Text Box 2"/>
          <p:cNvSpPr/>
          <p:nvPr/>
        </p:nvSpPr>
        <p:spPr>
          <a:xfrm>
            <a:off x="1082520" y="946080"/>
            <a:ext cx="870588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orbel"/>
              </a:rPr>
              <a:t>МЕХАНИЗМ ФОРМИРОВАНИЯ РОЛЕВОГО ПОВЕДЕНИЯ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Corbel"/>
              </a:rPr>
              <a:t>Руководство - как процесс постепенной передачи ребенку способов построения игры по этапам  ее формирования 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orbel"/>
              </a:rPr>
              <a:t>В современных педагогических исследованиях показано, что игра не возникает у ребёнка спонтанно, а передаётся другими людьми, которые уже владеют её- умеют играть.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Text Box 4"/>
          <p:cNvSpPr/>
          <p:nvPr/>
        </p:nvSpPr>
        <p:spPr>
          <a:xfrm>
            <a:off x="9331200" y="6305400"/>
            <a:ext cx="495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4F7E5D-43BC-45E4-8126-5A3EAA671504}" type="slidenum">
              <a:rPr b="1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2" name="Рисунок 4" descr="19-06-09_1041"/>
          <p:cNvPicPr/>
          <p:nvPr/>
        </p:nvPicPr>
        <p:blipFill>
          <a:blip r:embed="rId1"/>
          <a:stretch/>
        </p:blipFill>
        <p:spPr>
          <a:xfrm>
            <a:off x="3657600" y="4437000"/>
            <a:ext cx="3168720" cy="18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Дата 1"/>
          <p:cNvSpPr/>
          <p:nvPr/>
        </p:nvSpPr>
        <p:spPr>
          <a:xfrm>
            <a:off x="3879720" y="6303960"/>
            <a:ext cx="2308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Прямоугольник 2"/>
          <p:cNvSpPr/>
          <p:nvPr/>
        </p:nvSpPr>
        <p:spPr>
          <a:xfrm>
            <a:off x="2809800" y="1500120"/>
            <a:ext cx="495324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700" spc="-1" strike="noStrike">
                <a:solidFill>
                  <a:srgbClr val="c00000"/>
                </a:solidFill>
                <a:latin typeface="Arial"/>
                <a:ea typeface="Arial"/>
              </a:rPr>
              <a:t>первый этап (1- 2,5 года)</a:t>
            </a:r>
            <a:endParaRPr b="1" lang="en-US" sz="2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rbel"/>
              </a:rPr>
              <a:t>  </a:t>
            </a:r>
            <a:r>
              <a:rPr b="1" lang="ru-RU" sz="2400" spc="-1" strike="noStrike">
                <a:solidFill>
                  <a:srgbClr val="002060"/>
                </a:solidFill>
                <a:latin typeface="Corbel"/>
              </a:rPr>
              <a:t>Усвоение условных действий с игрушками и предметами-заместителями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5" name="Picture 6" descr="http://teddyclub.org/user_uploads/images/deti-igrayut1.jpg"/>
          <p:cNvPicPr/>
          <p:nvPr/>
        </p:nvPicPr>
        <p:blipFill>
          <a:blip r:embed="rId1"/>
          <a:stretch/>
        </p:blipFill>
        <p:spPr>
          <a:xfrm>
            <a:off x="3024360" y="3571920"/>
            <a:ext cx="44290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Дата 1"/>
          <p:cNvSpPr/>
          <p:nvPr/>
        </p:nvSpPr>
        <p:spPr>
          <a:xfrm flipH="1">
            <a:off x="3809880" y="6858000"/>
            <a:ext cx="6984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Прямоугольник 2"/>
          <p:cNvSpPr/>
          <p:nvPr/>
        </p:nvSpPr>
        <p:spPr>
          <a:xfrm>
            <a:off x="2023920" y="1071720"/>
            <a:ext cx="6716880" cy="58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Arial"/>
                <a:ea typeface="Arial"/>
              </a:rPr>
              <a:t>второй этап (2,5 – 4,5 года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Усвоение ролевого поведения, отношений и взаимодействий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8" name="Рисунок 3" descr="19-06-09_1040"/>
          <p:cNvPicPr/>
          <p:nvPr/>
        </p:nvPicPr>
        <p:blipFill>
          <a:blip r:embed="rId1"/>
          <a:stretch/>
        </p:blipFill>
        <p:spPr>
          <a:xfrm>
            <a:off x="2952720" y="2286000"/>
            <a:ext cx="4430880" cy="2357280"/>
          </a:xfrm>
          <a:prstGeom prst="rect">
            <a:avLst/>
          </a:prstGeom>
          <a:ln w="0">
            <a:noFill/>
          </a:ln>
        </p:spPr>
      </p:pic>
      <p:sp>
        <p:nvSpPr>
          <p:cNvPr id="949" name="Rectangle 5"/>
          <p:cNvSpPr/>
          <p:nvPr/>
        </p:nvSpPr>
        <p:spPr>
          <a:xfrm>
            <a:off x="784800" y="360"/>
            <a:ext cx="2619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1) совместная игра взрослого с детьми, где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взрослый демонстрирует образцы ролевого взаимодействия в его наиболее специфическом виде — в виде ролевого диалога;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Прямоугольник 5"/>
          <p:cNvSpPr/>
          <p:nvPr/>
        </p:nvSpPr>
        <p:spPr>
          <a:xfrm>
            <a:off x="2666880" y="4714920"/>
            <a:ext cx="5978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  <a:ea typeface="Times New Roman"/>
              </a:rPr>
              <a:t>Экспериментально доказано, что переходу детей к совместной ролевой игре способствует </a:t>
            </a:r>
            <a:r>
              <a:rPr b="1" lang="ru-RU" sz="1800" spc="-1" strike="noStrike">
                <a:solidFill>
                  <a:srgbClr val="16165d"/>
                </a:solidFill>
                <a:latin typeface="Arial"/>
              </a:rPr>
              <a:t>совместная игра взрослого с детьми, где взрослый демонстрирует образцы ролевого взаимодействия в его наиболее специфическом виде — в виде ролевого диалога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5T14:40:58Z</dcterms:created>
  <dc:creator>Балыкин</dc:creator>
  <dc:description/>
  <dc:language>en-US</dc:language>
  <cp:lastModifiedBy>User</cp:lastModifiedBy>
  <dcterms:modified xsi:type="dcterms:W3CDTF">2014-11-16T10:57:56Z</dcterms:modified>
  <cp:revision>837</cp:revision>
  <dc:subject/>
  <dc:title>Презентация PowerPoint</dc:title>
</cp:coreProperties>
</file>