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907588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AutoShape 1"/>
          <p:cNvSpPr/>
          <p:nvPr/>
        </p:nvSpPr>
        <p:spPr>
          <a:xfrm>
            <a:off x="0" y="0"/>
            <a:ext cx="6789600" cy="991872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Shape 2"/>
          <p:cNvSpPr/>
          <p:nvPr/>
        </p:nvSpPr>
        <p:spPr>
          <a:xfrm>
            <a:off x="0" y="0"/>
            <a:ext cx="6789600" cy="9918720"/>
          </a:xfrm>
          <a:custGeom>
            <a:avLst/>
            <a:gdLst>
              <a:gd name="textAreaLeft" fmla="*/ 360 w 6789600"/>
              <a:gd name="textAreaRight" fmla="*/ 6789240 w 6789600"/>
              <a:gd name="textAreaTop" fmla="*/ 360 h 9918720"/>
              <a:gd name="textAreaBottom" fmla="*/ 9918360 h 991872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3"/>
          <p:cNvSpPr/>
          <p:nvPr/>
        </p:nvSpPr>
        <p:spPr>
          <a:xfrm>
            <a:off x="0" y="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3846600" y="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711360" y="744120"/>
            <a:ext cx="536400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06120" y="4709880"/>
            <a:ext cx="497196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0" y="94186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37"/>
          </p:nvPr>
        </p:nvSpPr>
        <p:spPr>
          <a:xfrm>
            <a:off x="3846600" y="941832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3996-5AA2-414D-99E3-9E09623854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85480-25F4-41FE-9DD4-D77350720716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A87A9-9F13-4BA0-B9BB-3600E2C998FE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34748-5B01-4B4D-A37F-BE5625CC005B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9B26B-FB2E-4895-B882-C05F78E93749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511E-7266-4484-A582-78730E251ADD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7364-2313-435F-9B32-26BFE8E851EC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5126-8846-45A4-B2BD-90E88CB06C30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2FBD6-55B9-44D7-8D1F-01E6AACD575E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D18FC-A828-42F2-8830-139030C75112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5248-BFC5-4B12-AD43-F73788B59094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8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69F5-5C62-4DEB-9513-F28225A8EAC0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"/>
          <p:cNvSpPr/>
          <p:nvPr/>
        </p:nvSpPr>
        <p:spPr>
          <a:xfrm>
            <a:off x="3846600" y="941868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2049-E4E7-44B8-83C1-48F420335B20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"/>
          <p:cNvSpPr/>
          <p:nvPr/>
        </p:nvSpPr>
        <p:spPr>
          <a:xfrm>
            <a:off x="709560" y="744480"/>
            <a:ext cx="5370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64000" cy="37148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06120" y="4709880"/>
            <a:ext cx="4971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Номер слайда 3"/>
          <p:cNvSpPr/>
          <p:nvPr/>
        </p:nvSpPr>
        <p:spPr>
          <a:xfrm>
            <a:off x="3846600" y="941868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DB493-0E03-487F-93A5-12B778BA7ED1}" type="slidenum">
              <a:rPr b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AAAE-E6F6-40F1-9508-A12FC8707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C864-A57B-4F3B-894C-5D760EFC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307D-6C3C-45D6-B3A1-C267B49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19D5-6044-4860-818E-1F6F331A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66EB4-3AAE-4674-AA57-93AB3798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E59A4-6F56-4B2C-88CB-A7EFB99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3AE5-B686-4B10-B7E2-8D3D57B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1E268-7406-42C1-B152-7CEBA040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0D943-53D5-4BE4-8F2F-963EF6CC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7E92-50BA-4A33-A35C-34325CD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2E57-3A02-42CB-99D6-61AA90142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C1715-A0C6-446C-BF4E-8C4AE22DD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DF7A-C6E2-457F-88B1-6F14A95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AAA90-62CB-4C99-8818-994C7CA3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179AE-047E-4F44-AD1F-C64CD3DF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152E9-DC23-4258-BDAD-CA4D366C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29D1C-7D48-4E33-A023-94FE0525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2081A-7B53-4BEE-AF28-9FB1891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994A2-A13D-4F69-891E-1933CB0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A8C7C-5EA0-4002-A614-CA4B46A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D53B3-1B32-462A-BF5F-025A5E36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E0490-78A1-4E95-BF9C-BFEB39E9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18102-6649-4CDF-904D-CBADB4B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0A56-E88D-47CC-B1CF-2C0398B3E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ECB2A-9FB2-4E29-9D08-DE6F3DAE7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AD1F2-29C4-4E1A-B6E2-190EE594E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A9454-0FBA-4CE6-A17B-06C909B2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01ED9C-0850-4B67-9B74-5BA0016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2CF86-E8F3-48FB-9B81-53D1D22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6CB5B8-0794-4E7D-94F8-61BD2D2E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6622E-7BBA-4340-A058-C67BF3E4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7217F9-9E2B-4F05-AB06-E4D9E18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C8A40-DBFF-4F72-91B5-7AA12B7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E6505-7F9F-4D31-9BD4-FA6FB470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23CDD-6EE4-4467-9056-21FD6D0E3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958F40-C0A5-4925-B169-F1E3973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20140-C571-4E59-85CD-5E94F900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EFFCF-3D64-4627-928C-E4709F77B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5EBC-8757-426D-B7B3-B365592A4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A817F-E1FB-4B6F-8F56-DA2D846A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80E5-97CA-4176-878D-5A46096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77AF5-B1B0-4D8B-A4C8-727D232D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6AA08-DF65-4CA9-ACD6-F2284117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DDEA-C600-4C5B-9662-77BB5DFE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F643-12CD-447D-937E-104E0C73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BA4E-0F1A-4B60-A73B-435FBCA6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CD40-2B8F-44B6-A658-EACF8BD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04381-0A89-4E35-B632-F6E7CE62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9F7A-9F80-499C-AE8F-20A0C551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2C8C-4D59-4787-9CEB-7EE543B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3DE34-CE38-4E16-BCC9-1092BB701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61014-54F2-47A9-9C79-E1D6BD1D4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D4598-008C-410C-88B5-04B07FF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85F39-9263-44BD-8851-DC87218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70F15-32A1-42FB-ADA3-013CB23D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D00D0-C922-42B6-A9F7-33357A61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C098-B68C-4FAC-AF39-AE8EEABA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F3DA8-18CE-46DF-A7ED-B7878E09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635FD-55EA-49DD-9BBC-4E799F6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FBED2-7024-43C5-86F4-9DA9B4BB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CF6E7-3863-4D90-8B2B-3E51E7C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FE6C9-D90C-4D9A-8F84-0E7D230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A2EC0-D131-468D-8E25-7A0C25C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48CDC-C082-4F64-8291-8DCBA4E9E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1B980-FF47-4613-842A-86D8AF1BD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BD15F-0DD7-4D54-8F32-8339DF7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717E1-D9E7-48AA-A47C-F95E3CE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CE56-E5C9-4EA2-A6CD-5646074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852B2-4420-4426-B159-0395CA45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E7691-AAE9-47C9-AF3C-4DD9D44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873D7-C4A8-4A8E-AD89-95812A6F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E50C9-E0A4-49ED-8036-C1B2FC5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167FB-AF5D-49ED-A308-43348DC8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A7BDC-5436-4BA2-A040-89F378B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A7414-534F-4EB2-BEA4-CD3E97F7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E93D5-7E56-4557-BF68-62C6EAA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A5E90-38A5-4300-A0D7-E6F3BC17FC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E9A7-8C15-45EA-8502-9BCFE5211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4E27-384C-4E7F-8666-F72E3327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B0BFD-0D6C-4409-82DC-6C441EF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EC5ED-4618-46DC-B6E6-D0337C60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9D462-F5E6-495C-AA40-0AB26E46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AD597-BD36-4CEB-BBFA-CB357098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BA132-1705-4C56-B783-BFCB6D60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E922E-49A0-4D83-9A9D-2CA9B1E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29747-3A24-4505-885C-24FD0F7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4B19E-762A-444C-893B-73D2CDD8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7BDE1-CCFC-442C-9287-D7D4475C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2DA86-87E7-47F7-BF81-27249C2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BBD1D-2F60-4BF3-8C3C-91454FCB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78B26-8E79-4F54-B715-07326BECB2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C9FBF8-5D86-4B73-9392-E999EAE8C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01EE82-71A8-41D3-9449-1B93E517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919A57-0CC8-4C8E-A88F-3C19A1E2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B3B63-D73A-4FF0-B2AF-7A2EB5FE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484E4F-2ADF-4231-A345-AA1E8EAE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29CB22-C57B-4411-A8B5-E149C0CD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BB9E82-CA92-4AF2-B3B9-2356B24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7B173C-1BB5-4482-A5F7-95AE4EB1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59255C-2DE1-4298-8CA1-ED79F24B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853AD-2A26-4B61-8DD6-13B2A50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C2112B-2BA6-467B-9A2F-07AC798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FBA1A9-B017-4DB4-8696-68E2FA8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4C3CC9-6948-4A32-AD61-BFD221607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839D1-B5CE-4A62-8856-88BD0E0AA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E75F7-F4FC-4EB5-B983-BF9D111A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C00DE-93A8-46AA-B923-0CDAEBB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B6897-AF73-4E16-B9EE-0882B66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391A5-D630-43A2-BC6C-B4B8C538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0F528-5235-439C-9EDC-5E56D71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802AC-6B2C-4BB7-82A2-F10D095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09F4-9BCC-4DC7-9D5E-0B80EDAC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B99F9-14F8-4E58-AE71-6CD596FC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5E1DA-96D7-4B0F-ADF9-6A760F7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CDD6D-8715-4E48-A31D-C72E1C41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9B50C-349A-4B16-AAE6-24E891B0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CF544-630F-4AD9-903A-13863A9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8B166-88E4-4C8B-B987-D0A0AE4B9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D86B9-907A-4E18-99C5-E1C4E5FC1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B0191-32CF-4EFD-A2E5-C4AC5F76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F6595-573D-445D-98EC-02B56232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CC058-C347-41EA-A727-E35105CC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F1873-9EBF-4CDA-B6D0-9B566B2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4912-DBB9-4771-8FD9-32E26E36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4E41F-DD62-4B83-845F-7F7DA69B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3813-9090-44E5-AE92-8FB584D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CB2E6-B7AC-45B4-90BD-78DCDB8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DF6CB-D80B-4067-BDC7-59B986C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0F430-2F6C-4822-80C2-E0BBA2F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79DB-4EC8-4084-895B-71548EC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CB27F-245C-48F1-8279-E50FE2625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7D3D-FBD4-4B00-AE7A-1E05651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9879B-C689-4972-8EF0-BD634BF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11F1E-F8DC-479C-84EC-B9EC25817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5198-5B2C-4CDB-9030-C496E4CA5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826E-D2B4-4AD0-89B5-566AE4D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283-D93B-4677-87E3-B3B3514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8C8-86BC-4D58-910B-90457236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32B-D2B7-4837-8ACE-8F04DC7E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0588-92F3-48A7-AE41-AD308F2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E6A0-077E-4A35-8717-E288813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AEC4-5BA5-41B3-B041-83D180D0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0AF7-1C09-45BD-8B0B-B2F0F2F5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40B3-ACD1-48A5-8586-916D211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46C-F4E9-4334-B5DA-73B4F5E4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7B8-5C13-4AB8-AEF6-5084A56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1104-17CE-47AE-88CF-E0134B633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585C5-ABA2-49D4-B03F-3FEA62F96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6893C-93C8-4E29-93BB-FB0ED382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29E38-4675-497F-86C2-2280D16A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E309-ABC9-43AB-88D8-9120E80D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73850-9D43-43AA-BB28-F647F6D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28959-21C0-4A2C-93CD-6C391718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276E7-4D54-4403-B397-92E0E21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8EE75-3210-4FC6-ACFF-F97B5C0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74DE9-5A86-4004-8733-AE2DCD2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179C2-0B0C-47D0-8EAC-1EF7A8C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F32A7-A8CB-4902-8F8B-BC7CC9B5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62181-C413-48B1-B311-11D90EA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B380F-DA86-4208-80C3-AAFC0F513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DD455-1D3A-49A7-99AE-D8E23DA7B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642C-3421-4310-9C9E-E60C5B40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BDE08-FFD9-4A46-B32C-4AD1545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3971A-A0FE-4B65-B2C4-60EEC7A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34867-5A44-472C-8388-362F8406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32498-8AAC-453B-81ED-95AD9575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12693-FFA1-465F-B548-52D1EDAD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0DFD1-D464-4636-BEEB-BB2B2C1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50044-656F-4F12-B610-AF77DAA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CE4C7-8539-45CA-BDB7-8C49FF0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B89B0-D8C9-48B2-9FED-7D3014F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F9AD2-2964-4EF9-8518-30827D87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0846-A82E-4533-8500-639F7412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98D88-4E05-4B7C-B25F-2FA3C67BB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4029-7CC9-4220-848E-EF15B591A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3655-9A1F-487E-A6DB-2527769E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6968-D1F1-4468-A367-94BC7079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DAC6F-48B8-41C5-B707-05A2DA50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5AD6-BCE0-472B-9A55-77EECA45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6BB3-B3A2-450C-A862-E20F1613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FE18-2FAC-4C51-AFE6-F5BBC50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BF67-160F-45C6-AECD-1293D61F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EBF0-6088-4BE4-98E2-745BE0F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C29D-91EF-46B4-9413-49571A13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6E2F-FC29-4372-8F25-CEE87C1C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9998-6F97-41DB-AF78-AFE457B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F598-E2C0-476A-8418-9594AB7C7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A0874-98CE-4117-89EE-6A5EA94F4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5676F-E8CA-4AF7-AB56-4DC13F3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1E3FE-6FB4-41BE-AFCC-7102EA6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38B74-32CB-4CE8-8552-79AB9D0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DE194-0E08-4DDC-B71E-4D87ABFC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2513C-7834-4BDD-B677-531315CD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7A6A4-4AFD-4507-8938-7A1B2414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B0E3-8EA6-4BB5-B42F-8D52B8F6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4812B-78D1-4D6C-9553-BE72377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B0A75-C4E4-4B17-BF08-9FEEA1D8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5122D-1701-44D8-B471-3D164A1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2168A-FD8A-443A-BDF7-5E0F97C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DB134-B621-4A22-8B57-5C27E50980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2C58F-2B2D-4464-AC4C-1E5355832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D395E-78A6-4D4D-8860-5F8516A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EDA3F-F49E-426E-A560-3085D4A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304F0-BEFD-498F-9229-E9A0210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C6D52-2F18-4605-88FF-976FFC50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6232-11EC-4582-B5A4-643A6AAB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55560" y="144360"/>
            <a:ext cx="811836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F0B4C-472B-47AD-8486-D137E41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99620-53E5-471D-90FD-BED5273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B8007B-09DD-44A2-8A2F-7515F8C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32A8A-C5C8-4EBD-87DC-7FF4014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555560" y="3953880"/>
            <a:ext cx="81183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D44E4-9C5B-4151-AEE0-F6AE5B4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5360" y="144792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555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715360" y="3953880"/>
            <a:ext cx="3961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AFD80-7235-43BF-BF2C-9D6E461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00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045560" y="144792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55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300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7045560" y="3953880"/>
            <a:ext cx="2613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A6590-AEE0-4B38-9735-11EA0976A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3972-A1AF-4E3F-9CFD-6AFB84B161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3500-4DC6-4274-B1E5-74E8E5C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5B7F3-A5A7-4642-9B74-5090C75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75BA-28E1-4E83-BB6B-618C5BBE385B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Line 13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4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706320" y="969840"/>
            <a:ext cx="5184720" cy="4799160"/>
            <a:chOff x="706320" y="969840"/>
            <a:chExt cx="5184720" cy="4799160"/>
          </a:xfrm>
        </p:grpSpPr>
        <p:pic>
          <p:nvPicPr>
            <p:cNvPr id="462" name="Picture 10" descr=""/>
            <p:cNvPicPr/>
            <p:nvPr/>
          </p:nvPicPr>
          <p:blipFill>
            <a:blip r:embed="rId3"/>
            <a:stretch/>
          </p:blipFill>
          <p:spPr>
            <a:xfrm>
              <a:off x="706320" y="969840"/>
              <a:ext cx="518472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11"/>
            <p:cNvSpPr/>
            <p:nvPr/>
          </p:nvSpPr>
          <p:spPr>
            <a:xfrm>
              <a:off x="825120" y="1066320"/>
              <a:ext cx="494964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AutoShape 12"/>
          <p:cNvSpPr/>
          <p:nvPr/>
        </p:nvSpPr>
        <p:spPr>
          <a:xfrm rot="19440000">
            <a:off x="430200" y="957240"/>
            <a:ext cx="7430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 flipH="1" rot="2100000">
            <a:off x="5420520" y="939960"/>
            <a:ext cx="703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BC1973-75FA-461E-80F3-DF947D7397C1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10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4A80D6-6CFA-42C9-8C1D-58E777E5F6B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59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3C8B91-65DF-4CB7-8310-D4DBE9E9AEE3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608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AD57C9-EE56-4472-B5D1-1B909A8D6E4B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6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2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022156-6F46-43AB-BF4E-FE5ABF61BCD3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705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1FEC75-E025-402B-B797-4F47CD6D2CC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754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3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082A4B-F9B6-43B5-A611-22C98B48F23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803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3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D2A1EE-6676-4CA9-9732-F2D4B873B63A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852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9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3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4C22F-AD6B-416E-B8E2-75A4FC334064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993600" y="1407960"/>
            <a:ext cx="241560" cy="222480"/>
            <a:chOff x="993600" y="1407960"/>
            <a:chExt cx="241560" cy="222480"/>
          </a:xfrm>
        </p:grpSpPr>
        <p:pic>
          <p:nvPicPr>
            <p:cNvPr id="58" name="Picture 10" descr=""/>
            <p:cNvPicPr/>
            <p:nvPr/>
          </p:nvPicPr>
          <p:blipFill>
            <a:blip r:embed="rId3"/>
            <a:stretch/>
          </p:blipFill>
          <p:spPr>
            <a:xfrm>
              <a:off x="993600" y="1407960"/>
              <a:ext cx="2415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"/>
            <p:cNvSpPr/>
            <p:nvPr/>
          </p:nvSpPr>
          <p:spPr>
            <a:xfrm>
              <a:off x="1031400" y="1444320"/>
              <a:ext cx="15768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Oval 12"/>
          <p:cNvSpPr/>
          <p:nvPr/>
        </p:nvSpPr>
        <p:spPr>
          <a:xfrm>
            <a:off x="1254240" y="1344600"/>
            <a:ext cx="6804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6268E-99F1-4334-B04B-4735AA6BB5D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105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D92AFB-6FD0-4C07-997A-79DAB8C4395F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473200" y="0"/>
            <a:ext cx="7429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476440" y="0"/>
            <a:ext cx="82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2346480" y="2809800"/>
            <a:ext cx="241200" cy="222480"/>
            <a:chOff x="2346480" y="2809800"/>
            <a:chExt cx="241200" cy="222480"/>
          </a:xfrm>
        </p:grpSpPr>
        <p:pic>
          <p:nvPicPr>
            <p:cNvPr id="162" name="Picture 12" descr=""/>
            <p:cNvPicPr/>
            <p:nvPr/>
          </p:nvPicPr>
          <p:blipFill>
            <a:blip r:embed="rId3"/>
            <a:stretch/>
          </p:blipFill>
          <p:spPr>
            <a:xfrm>
              <a:off x="2346480" y="2809800"/>
              <a:ext cx="2412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/>
            <p:cNvSpPr/>
            <p:nvPr/>
          </p:nvSpPr>
          <p:spPr>
            <a:xfrm>
              <a:off x="2385720" y="2844360"/>
              <a:ext cx="1591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Oval 14"/>
          <p:cNvSpPr/>
          <p:nvPr/>
        </p:nvSpPr>
        <p:spPr>
          <a:xfrm>
            <a:off x="2608200" y="2746440"/>
            <a:ext cx="6984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AC1ECC-6E67-48E8-89C2-EF5F57AC892F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209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0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F9E464-C273-48EF-9B92-402428EF627F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98D42D-422C-438D-9AE3-1556C651AE4D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07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4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B6921-D267-4C49-986C-2050261A38AC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356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100160" y="0"/>
            <a:ext cx="8805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5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AE1413-2B87-444D-9D76-8DC219F5304E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1"/>
          <p:cNvSpPr/>
          <p:nvPr/>
        </p:nvSpPr>
        <p:spPr>
          <a:xfrm>
            <a:off x="-884160" y="-816120"/>
            <a:ext cx="1776240" cy="1638360"/>
          </a:xfrm>
          <a:custGeom>
            <a:avLst/>
            <a:gdLst>
              <a:gd name="textAreaLeft" fmla="*/ 259920 w 1776240"/>
              <a:gd name="textAreaRight" fmla="*/ 1516320 w 177624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776413" h="1638300">
                <a:moveTo>
                  <a:pt x="1776413" y="819150"/>
                </a:moveTo>
                <a:lnTo>
                  <a:pt x="1776413" y="819150"/>
                </a:lnTo>
                <a:cubicBezTo>
                  <a:pt x="1776413" y="1271554"/>
                  <a:pt x="1378749" y="1638300"/>
                  <a:pt x="888206" y="1638300"/>
                </a:cubicBezTo>
                <a:cubicBezTo>
                  <a:pt x="888037" y="1638300"/>
                  <a:pt x="887868" y="1638299"/>
                  <a:pt x="887700" y="1638299"/>
                </a:cubicBezTo>
                <a:lnTo>
                  <a:pt x="888207" y="819150"/>
                </a:lnTo>
                <a:lnTo>
                  <a:pt x="1776413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"/>
          <p:cNvSpPr/>
          <p:nvPr/>
        </p:nvSpPr>
        <p:spPr>
          <a:xfrm>
            <a:off x="182520" y="20520"/>
            <a:ext cx="184464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195120" y="1017720"/>
            <a:ext cx="1229040" cy="1204920"/>
            <a:chOff x="195120" y="1017720"/>
            <a:chExt cx="1229040" cy="1204920"/>
          </a:xfrm>
        </p:grpSpPr>
        <p:pic>
          <p:nvPicPr>
            <p:cNvPr id="407" name="Picture 4" descr=""/>
            <p:cNvPicPr/>
            <p:nvPr/>
          </p:nvPicPr>
          <p:blipFill>
            <a:blip r:embed="rId2"/>
            <a:stretch/>
          </p:blipFill>
          <p:spPr>
            <a:xfrm>
              <a:off x="195120" y="1017720"/>
              <a:ext cx="122904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5"/>
            <p:cNvSpPr/>
            <p:nvPr/>
          </p:nvSpPr>
          <p:spPr>
            <a:xfrm rot="2340000">
              <a:off x="377280" y="1212120"/>
              <a:ext cx="860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Rectangle 6"/>
          <p:cNvSpPr/>
          <p:nvPr/>
        </p:nvSpPr>
        <p:spPr>
          <a:xfrm>
            <a:off x="1096920" y="0"/>
            <a:ext cx="88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100160" y="0"/>
            <a:ext cx="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247680" y="609480"/>
            <a:ext cx="9410760" cy="1800"/>
          </a:xfrm>
          <a:prstGeom prst="line">
            <a:avLst/>
          </a:prstGeom>
          <a:ln w="7632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7"/>
          </p:nvPr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6191280" y="6303960"/>
            <a:ext cx="313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8"/>
          </p:nvPr>
        </p:nvSpPr>
        <p:spPr>
          <a:xfrm>
            <a:off x="9330840" y="6303960"/>
            <a:ext cx="492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B1D6DB-FBBB-4023-8DF8-FFDA5C2AF629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1"/>
          <p:cNvSpPr/>
          <p:nvPr/>
        </p:nvSpPr>
        <p:spPr>
          <a:xfrm>
            <a:off x="1959120" y="946080"/>
            <a:ext cx="7699320" cy="545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Развитие и формирование игровой деятель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879C7-941C-4483-9F3A-E6B1F8BFC816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Прямоугольник 2"/>
          <p:cNvSpPr/>
          <p:nvPr/>
        </p:nvSpPr>
        <p:spPr>
          <a:xfrm>
            <a:off x="2523960" y="571680"/>
            <a:ext cx="6216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третий этап (4,5 – 7 лет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воение способов построения сюжета (сюжетосложени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Рисунок 4" descr="19-06-09_1042"/>
          <p:cNvPicPr/>
          <p:nvPr/>
        </p:nvPicPr>
        <p:blipFill>
          <a:blip r:embed="rId1"/>
          <a:stretch/>
        </p:blipFill>
        <p:spPr>
          <a:xfrm>
            <a:off x="6597720" y="2428920"/>
            <a:ext cx="2975040" cy="3143160"/>
          </a:xfrm>
          <a:prstGeom prst="rect">
            <a:avLst/>
          </a:prstGeom>
          <a:ln w="0">
            <a:noFill/>
          </a:ln>
        </p:spPr>
      </p:pic>
      <p:sp>
        <p:nvSpPr>
          <p:cNvPr id="953" name="Прямоугольник 4"/>
          <p:cNvSpPr/>
          <p:nvPr/>
        </p:nvSpPr>
        <p:spPr>
          <a:xfrm>
            <a:off x="1523880" y="2000160"/>
            <a:ext cx="5288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Характер игры-придумывания   воспитателя с детьми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совместное «вспоминание» (пересказ) известной сказки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частичное преобразование известной сказки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придумывание новой сказки с соединением сказочных и реалистических элементов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развертывание нового сюжета с разноконтекстными ролями в процессе «телефонных разговоров»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6165d"/>
                </a:solidFill>
                <a:latin typeface="Arial"/>
              </a:rPr>
              <a:t>придумывание новых истор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69960" y="404280"/>
            <a:ext cx="81187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Возрастная диагностика становления игры        дошкольника 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569960" y="1844640"/>
            <a:ext cx="811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ные параметры, определяющие развитие ролевой игры, в соответствии с концепцией Д. Б. Элькони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  распределение роле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  основное содержание игры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  ролевое поведени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  игровые действи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5.  использование атрибутики и предметов-заместителе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6.  использование ролевой речи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7.  выполнение прави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1496880" y="836640"/>
            <a:ext cx="811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ждый критерий оценивается по 4 уровням. При этом, несмотря на то, что не существует жесткой зависимости между возрастом и уровнем развития игровой деятельности, представляется целесообразным установить следующие возраст­ные рамки для каждого уровн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 уровень — от 2,0 до 3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уровень — от 3,5 до 4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 уровень — от 4,5 до 5,5 ле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 уровень — старше 5,5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и возрастные рамки позволяют как планировать работу с детьми того или иного возраста по формированию игровых навыков, так и отслеживать эффективность этой рабо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1641600" y="2997360"/>
          <a:ext cx="6605640" cy="3143160"/>
        </p:xfrm>
        <a:graphic>
          <a:graphicData uri="http://schemas.openxmlformats.org/drawingml/2006/table">
            <a:tbl>
              <a:tblPr/>
              <a:tblGrid>
                <a:gridCol w="733320"/>
                <a:gridCol w="735120"/>
                <a:gridCol w="733320"/>
                <a:gridCol w="733320"/>
                <a:gridCol w="735120"/>
                <a:gridCol w="733320"/>
                <a:gridCol w="733680"/>
                <a:gridCol w="734760"/>
                <a:gridCol w="733680"/>
              </a:tblGrid>
              <a:tr h="186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мя,ф. ребенк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раст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спред-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. содерж-ие игр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вое поведен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гровые действия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-ие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трибути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левая речь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полнение прави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ра К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аша И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Прямоугольник 8"/>
          <p:cNvSpPr/>
          <p:nvPr/>
        </p:nvSpPr>
        <p:spPr>
          <a:xfrm>
            <a:off x="2001960" y="836640"/>
            <a:ext cx="7777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ровень сформированности игровых навыков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руппа_________________   Дата наблюдения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зраст детей от____  до__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спитатель____________________________________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990720" y="1413000"/>
          <a:ext cx="8916840" cy="5530680"/>
        </p:xfrm>
        <a:graphic>
          <a:graphicData uri="http://schemas.openxmlformats.org/drawingml/2006/table">
            <a:tbl>
              <a:tblPr/>
              <a:tblGrid>
                <a:gridCol w="8916840"/>
              </a:tblGrid>
              <a:tr h="6422760">
                <a:tc>
                  <a:txBody>
                    <a:bodyPr lIns="123840" rIns="12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Михайленко Н.Я., Короткова Н.А., Организация сюжетной игры в детском саду. Москва, 2001 год;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Калинина Р.Р. Психолого-педагогическая диагностика в детском саду / Р.Р. Калинина. - СПб.: Речь, 2003. - 144 с 3.Потапова  Л.М.. методические рекомендации по организации и проведению сюжетно-ролевых игр в старшей группе. Ярославль, 1997 год;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 Эльконин Д.Б. Психология игры / Д.Б. Эльконин. - М.: Владос, 1999. - 360 с.</a:t>
                      </a:r>
                      <a:endParaRPr b="1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23840" marR="123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55560" y="144360"/>
            <a:ext cx="81183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300" spc="-1" strike="noStrike">
                <a:solidFill>
                  <a:srgbClr val="00cc99"/>
                </a:solidFill>
                <a:latin typeface="Corbel"/>
              </a:rPr>
              <a:t>пла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555560" y="1447920"/>
            <a:ext cx="811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1.Зарубежные теории игры.</a:t>
            </a: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2.Классификация  детских игр, их своеобразие и характеристи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3. Этапы игровой деятельности ребён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4. Методика руководства играми в разных возрастных группах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5. Возрастная диагностика игр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3" name="Дата 3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1"/>
          <p:cNvSpPr/>
          <p:nvPr/>
        </p:nvSpPr>
        <p:spPr>
          <a:xfrm>
            <a:off x="355680" y="-19080"/>
            <a:ext cx="9550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ТЕОРИИ  ПРОИСХОЖДЕНИЯ  ИГР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13A01-2665-4398-8D43-5FC41EC99C4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425520" y="58104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447920" y="627120"/>
            <a:ext cx="7913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490760" y="1450800"/>
            <a:ext cx="8346960" cy="471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16165d"/>
                </a:solidFill>
                <a:latin typeface="Arial"/>
                <a:ea typeface="Arial"/>
              </a:rPr>
              <a:t>Игра как деятельность по природе инстинктивно-биологическая, выражающая в символической форме подавленные влечения ребёнк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Теория рекапитуляции С.Хол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сокращенное повторение основных этапов развития человечества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Теория «Избытка жизненных сил» И.Ф. Шиллер, Г. Спенсе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У ребёнка много энергии(ему мало что приходится делать, о нём заботятся взрослые</a:t>
            </a:r>
            <a:r>
              <a:rPr b="0" i="1" lang="ru-RU" sz="2000" spc="-1" strike="noStrike">
                <a:solidFill>
                  <a:srgbClr val="16165d"/>
                </a:solidFill>
                <a:latin typeface="Corbel"/>
                <a:ea typeface="Arial"/>
              </a:rPr>
              <a:t>) </a:t>
            </a:r>
            <a:r>
              <a:rPr b="0" i="1" lang="ru-RU" sz="2000" spc="-1" strike="noStrike">
                <a:solidFill>
                  <a:srgbClr val="16165d"/>
                </a:solidFill>
                <a:latin typeface="Corbel"/>
              </a:rPr>
              <a:t>–необходимость в разгруз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Corbel"/>
              </a:rPr>
              <a:t>4.Теория «Предупреждения» К. Грос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16165d"/>
                </a:solidFill>
                <a:latin typeface="Corbel"/>
              </a:rPr>
              <a:t>Источник игры- инстинкты. Игра- бессознательная подготовка ребёнка, к жизн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1665360" y="741240"/>
            <a:ext cx="79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  <a:ea typeface="Arial"/>
              </a:rPr>
              <a:t>Теория З. Фрейда : игра как проявление вытесненных желаний, стремлений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1"/>
          <p:cNvSpPr/>
          <p:nvPr/>
        </p:nvSpPr>
        <p:spPr>
          <a:xfrm>
            <a:off x="1557360" y="-90360"/>
            <a:ext cx="8123040" cy="1160280"/>
          </a:xfrm>
          <a:prstGeom prst="rect">
            <a:avLst/>
          </a:prstGeom>
          <a:solidFill>
            <a:srgbClr val="fff1ce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КЛАССИФИКАЦИЯ ИГР</a:t>
            </a:r>
            <a:br>
              <a:rPr sz="2500"/>
            </a:b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1. ТРАДИЦИОННАЯ: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ПО ЦЕНТРАЛЬНОМУ ЭЛЕМЕНТУ СТРУКТУРЫ</a:t>
            </a:r>
            <a:br>
              <a:rPr sz="25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"/>
          <p:cNvSpPr/>
          <p:nvPr/>
        </p:nvSpPr>
        <p:spPr>
          <a:xfrm>
            <a:off x="1555920" y="1523880"/>
            <a:ext cx="3962160" cy="4907160"/>
          </a:xfrm>
          <a:prstGeom prst="rect">
            <a:avLst/>
          </a:prstGeom>
          <a:solidFill>
            <a:srgbClr val="fff1ce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rbel"/>
              </a:rPr>
              <a:t>ТВОРЧЕСК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ЮЖЕТНО-РОЛЕВ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СТРОИТ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ИГРЫ-ДРАМАТИЗАЦИИ ТЕАТРАЛИЗОВАННЫЕ         РЕЖИССЕРСК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ТРУКТУРА: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О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ЮЖ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МЫСЕ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УШК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5715000" y="1523880"/>
            <a:ext cx="3962520" cy="4905360"/>
          </a:xfrm>
          <a:prstGeom prst="rect">
            <a:avLst/>
          </a:prstGeom>
          <a:solidFill>
            <a:srgbClr val="fff1ce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Corbel"/>
              </a:rPr>
              <a:t>ИГРЫ С ПРАВИЛ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ДИДАКТИЧЕСК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</a:rPr>
              <a:t>ПОДВИЖ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ТРУКТУР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ОВАЯ ЗАДАЧ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ГРОВЫЕ ДЕЙСТВ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АВИ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ЕЗУЛЬТА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C4C3-FC64-42DF-BE8D-DF85D862F6F8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 Box 1"/>
          <p:cNvSpPr/>
          <p:nvPr/>
        </p:nvSpPr>
        <p:spPr>
          <a:xfrm>
            <a:off x="3879720" y="63054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B2A3-C733-4DFC-A004-E5B456C89DCC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3"/>
          <p:cNvSpPr/>
          <p:nvPr/>
        </p:nvSpPr>
        <p:spPr>
          <a:xfrm>
            <a:off x="3879720" y="63054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b5a788"/>
                </a:solidFill>
                <a:latin typeface="Arial"/>
              </a:rPr>
              <a:t>03.05.0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C34D2-E9BB-4579-B874-05949630F9C6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1119240" y="0"/>
            <a:ext cx="8786880" cy="54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КЛАССИФИКАЦИЯ ИГР  </a:t>
            </a:r>
            <a:r>
              <a:rPr b="1" lang="ru-RU" sz="2400" spc="-1" strike="noStrike">
                <a:solidFill>
                  <a:srgbClr val="16165d"/>
                </a:solidFill>
                <a:latin typeface="Corbel"/>
              </a:rPr>
              <a:t>Автор </a:t>
            </a:r>
            <a:r>
              <a:rPr b="1" i="1" lang="ru-RU" sz="2400" spc="-1" strike="noStrike">
                <a:solidFill>
                  <a:srgbClr val="16165d"/>
                </a:solidFill>
                <a:latin typeface="Arial"/>
                <a:ea typeface="Arial"/>
              </a:rPr>
              <a:t>Новоселова С.Л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E071-037D-4E00-979B-A4C8186833E1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-158760" y="14292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1155600" y="507960"/>
            <a:ext cx="7913880" cy="70380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Критерий: по инициативности адресат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 класса игр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1119240" y="1143000"/>
            <a:ext cx="8690040" cy="571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дете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гры-экспериментир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щение с животными,  игрушками и др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южетные самодея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южетно-отобразительные, сюжетно-ролевые и др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взрослы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учающ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идактические, подвижные, музыка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суговые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: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забавы, развлечения,  театральные,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компьютерные др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класс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о инициативе детей или  взрослы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рядов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культовые, семейные, сезонны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ннинговы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сенсомоторные, адаптивные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08000">
              <a:buClr>
                <a:srgbClr val="990000"/>
              </a:buClr>
              <a:buFont typeface="Arial"/>
              <a:buChar char="•"/>
              <a:tabLst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суговы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игрища, забавляющие, развлекающие)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2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1A44A-D486-4C7B-A7E3-44D88F92684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1812960" y="0"/>
            <a:ext cx="8093160" cy="5446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rbel"/>
              </a:rPr>
              <a:t>КОНЦЕПЦИЯ  Д.Б. ЭЛЬКОНИ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A14BA-BA5D-4877-ACC7-6CC011B7C217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425520" y="581040"/>
            <a:ext cx="9207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1992240" y="763560"/>
            <a:ext cx="7913880" cy="7038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190d"/>
                </a:solidFill>
                <a:latin typeface="Arial"/>
              </a:rPr>
              <a:t>ЭТАПЫ СТАНОВЛЕНИЯ ИГРЫ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32d2e"/>
                </a:solidFill>
                <a:latin typeface="Arial"/>
              </a:rPr>
              <a:t>По критерию: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</a:rPr>
              <a:t>изменения роли в игр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1558800" y="1749600"/>
            <a:ext cx="8347320" cy="42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Подступ к ро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АЯ ИГР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до 3-х лет)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действия с предмета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Расцвет ро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ОЛЕВАЯ ИГРА (от 3-х до 7 лет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отражение взаимоотношений между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людь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-й этап 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Вырождение роли до чистого правил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ГРЫ С ПРАВИЛАМ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6 - 7 лет)</a:t>
            </a:r>
            <a:r>
              <a:rPr b="1" lang="ru-RU" sz="2000" spc="-1" strike="noStrike" u="sng">
                <a:solidFill>
                  <a:srgbClr val="c32d2e"/>
                </a:solidFill>
                <a:uFillTx/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содержание – Подчинение правилам общественного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поведения и отношений между людьм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87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1"/>
          <p:cNvSpPr/>
          <p:nvPr/>
        </p:nvSpPr>
        <p:spPr>
          <a:xfrm>
            <a:off x="1555920" y="0"/>
            <a:ext cx="8121600" cy="105552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Технология руководства игрой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Н.Я.Михайленко и Н.А.Коротков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1082520" y="946080"/>
            <a:ext cx="87058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МЕХАНИЗМ ФОРМИРОВАНИЯ РОЛЕВОГО ПОВЕДЕН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rbel"/>
              </a:rPr>
              <a:t>Руководство - как процесс постепенной передачи ребенку способов построения игры по этапам  ее формирования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В современных педагогических исследованиях показано, что игра не возникает у ребёнка спонтанно, а передаётся другими людьми, которые уже владеют её- умеют играть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9331200" y="6305400"/>
            <a:ext cx="495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95D51-194C-4E18-887F-810198FE8609}" type="slidenum">
              <a:rPr b="1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Рисунок 4" descr="19-06-09_1041"/>
          <p:cNvPicPr/>
          <p:nvPr/>
        </p:nvPicPr>
        <p:blipFill>
          <a:blip r:embed="rId1"/>
          <a:stretch/>
        </p:blipFill>
        <p:spPr>
          <a:xfrm>
            <a:off x="3657600" y="443700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Дата 1"/>
          <p:cNvSpPr/>
          <p:nvPr/>
        </p:nvSpPr>
        <p:spPr>
          <a:xfrm>
            <a:off x="3879720" y="6303960"/>
            <a:ext cx="2308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Прямоугольник 2"/>
          <p:cNvSpPr/>
          <p:nvPr/>
        </p:nvSpPr>
        <p:spPr>
          <a:xfrm>
            <a:off x="2809800" y="1500120"/>
            <a:ext cx="495324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  <a:ea typeface="Arial"/>
              </a:rPr>
              <a:t>первый этап (1- 2,5 года)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Усвоение условных действий с игрушками и предметами-заместителям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6" descr="http://teddyclub.org/user_uploads/images/deti-igrayut1.jpg"/>
          <p:cNvPicPr/>
          <p:nvPr/>
        </p:nvPicPr>
        <p:blipFill>
          <a:blip r:embed="rId1"/>
          <a:stretch/>
        </p:blipFill>
        <p:spPr>
          <a:xfrm>
            <a:off x="3024360" y="3571920"/>
            <a:ext cx="44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Дата 1"/>
          <p:cNvSpPr/>
          <p:nvPr/>
        </p:nvSpPr>
        <p:spPr>
          <a:xfrm flipH="1">
            <a:off x="3809880" y="6858000"/>
            <a:ext cx="69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Прямоугольник 2"/>
          <p:cNvSpPr/>
          <p:nvPr/>
        </p:nvSpPr>
        <p:spPr>
          <a:xfrm>
            <a:off x="2023920" y="1071720"/>
            <a:ext cx="671688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второй этап (2,5 – 4,5 года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воение ролевого поведения, отношений и взаимодействи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Рисунок 3" descr="19-06-09_1040"/>
          <p:cNvPicPr/>
          <p:nvPr/>
        </p:nvPicPr>
        <p:blipFill>
          <a:blip r:embed="rId1"/>
          <a:stretch/>
        </p:blipFill>
        <p:spPr>
          <a:xfrm>
            <a:off x="2952720" y="2286000"/>
            <a:ext cx="4430880" cy="23572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5"/>
          <p:cNvSpPr/>
          <p:nvPr/>
        </p:nvSpPr>
        <p:spPr>
          <a:xfrm>
            <a:off x="784800" y="360"/>
            <a:ext cx="261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) совместная игра взрослого с детьми, где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ый демонстрирует образцы ролевого взаимодействия в его наиболее специфическом виде — в виде ролевого диалога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Прямоугольник 5"/>
          <p:cNvSpPr/>
          <p:nvPr/>
        </p:nvSpPr>
        <p:spPr>
          <a:xfrm>
            <a:off x="2666880" y="4714920"/>
            <a:ext cx="59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Экспериментально доказано, что переходу детей к совместной ролевой игре способствует </a:t>
            </a:r>
            <a:r>
              <a:rPr b="1" lang="ru-RU" sz="1800" spc="-1" strike="noStrike">
                <a:solidFill>
                  <a:srgbClr val="16165d"/>
                </a:solidFill>
                <a:latin typeface="Arial"/>
              </a:rPr>
              <a:t>совместная игра взрослого с детьми, где взрослый демонстрирует образцы ролевого взаимодействия в его наиболее специфическом виде — в виде ролевого диалога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40:58Z</dcterms:created>
  <dc:creator>Балыкин</dc:creator>
  <dc:description/>
  <dc:language>en-US</dc:language>
  <cp:lastModifiedBy>User</cp:lastModifiedBy>
  <dcterms:modified xsi:type="dcterms:W3CDTF">2014-11-16T10:57:56Z</dcterms:modified>
  <cp:revision>837</cp:revision>
  <dc:subject/>
  <dc:title>Презентация PowerPoint</dc:title>
</cp:coreProperties>
</file>