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696-0098-44BB-8E2F-7DE62C6B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5D7-74CE-4FFA-8D03-90FB3813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597-F34E-4979-A327-2F047743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A11-E7C0-45CE-B67C-F627B75A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2C2-AABD-40DA-91CA-B9605E6A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FF0-05D3-48BD-B4EA-6F6D1384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3AA-5039-4B8A-BE1B-82703489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75A-6F6F-48FE-8574-2E0F3B4A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495-6B2F-4D78-88C6-925BE66F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879-155E-4E17-B76A-C33B20BC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EC2-C094-4A60-A3CA-2F04F69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EDE-594D-4E12-92A1-3D35469A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22F7-D05D-4431-81C7-0DC1F40186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50920" y="620640"/>
            <a:ext cx="86421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 </a:t>
            </a:r>
            <a:r>
              <a:rPr b="1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"Навечно </a:t>
            </a:r>
            <a:endParaRPr b="1" i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 </a:t>
            </a:r>
            <a:r>
              <a:rPr b="1" i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в памяти народной"</a:t>
            </a:r>
            <a:endParaRPr b="1" i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26560" y="4076640"/>
            <a:ext cx="75567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Monotype Corsiva"/>
              </a:rPr>
              <a:t>Улицы родного города, названные в честь балашовцев – Героев Советского Союза.</a:t>
            </a:r>
            <a:r>
              <a:rPr b="0" i="1" lang="ru-RU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7" descr="КрЗв"/>
          <p:cNvPicPr/>
          <p:nvPr/>
        </p:nvPicPr>
        <p:blipFill>
          <a:blip r:embed="rId1"/>
          <a:srcRect l="0" t="2016" r="0" b="0"/>
          <a:stretch/>
        </p:blipFill>
        <p:spPr>
          <a:xfrm>
            <a:off x="0" y="260280"/>
            <a:ext cx="2556000" cy="235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260280"/>
            <a:ext cx="856908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На Руси издавна помнили тех, кто положил на алтарь Отечества самое дорогое – ЖИЗНЬ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Никакие потрясения не способны уничтожить народную память о героических подвигах наших дедов и прадедов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Эта память объединяет народ и рождает в нем чувство гордости за свое прошлое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0200" y="0"/>
            <a:ext cx="5761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Прочти!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515960"/>
            <a:ext cx="87138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акина Л. Как зовешься, улица?// Балашовская правда -1988 г.-18 октябр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Китанина М. Защищая небо родины // Балашовская правда -1972 г.-23 февра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Кулаков А. Это был отважный летчик // Балашовская правда -1999 г.-6 сентябр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Линская В.В. Это было в Белоруссии // Балашовская правда -1990 г.-4 сентябр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ицепа О. названы их именами // Балашовская правда -1990 г.-21 ию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умянцев Н.М. Люди легендарного подвига // Саратов, 1968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Фролов П. В боях за свободу // Балашовская правда – 1989 г.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9 ию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189000"/>
            <a:ext cx="8820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Автор: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раснов Артём,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ченик 7 «А» класса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ОУ СОШ №12 г.Балашова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уководитель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рагун Елена Геннадьевна,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читель русского языка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   литературы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ОУ СОШ №12 г.Балашова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.Балашов -2020 г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4120" y="0"/>
            <a:ext cx="8915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30-летию Побед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Великой Отечественной войн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в 1975 году) семи улицам г.Балашова были присвоены имена балашовцев – Героев Советского Союз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асилия Дмитриевича Ревяк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етра Григорьевича Агее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лександра Ивановича Исип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иколая Александровича Белозерце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асилия Афанасьевича Зюльков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асилия Михайловича Обух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итрофана Кузьмича Захар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50-летию Побе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Великой Отечественной войне ул.М.Пионерской было присвоено и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иколая Ивановича Фом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8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4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94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22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26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3:32:52Z</dcterms:created>
  <dc:creator>Саша</dc:creator>
  <dc:description/>
  <dc:language>en-US</dc:language>
  <cp:lastModifiedBy>кц</cp:lastModifiedBy>
  <dcterms:modified xsi:type="dcterms:W3CDTF">2020-11-23T20:27:07Z</dcterms:modified>
  <cp:revision>12</cp:revision>
  <dc:subject/>
  <dc:title>Слайд 1</dc:title>
</cp:coreProperties>
</file>